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C16-8D51-44F1-88E3-BE38027C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18A-29EA-4656-BA37-627B8E83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2C9-91DE-431B-B32B-0D7D8990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A27-FA27-40FB-BF2D-0FD2E641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978C-7019-4E96-B533-D7BC72E8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8165-17A8-4F44-9307-F3C2C360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E6B0-9538-43D1-91F4-F6DDED29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4932-C35B-490D-A708-385D9D3F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DEC7-C522-42F0-A246-CD1CE23D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9C13-7923-4DE7-A630-CFEB870B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8917-7FC8-431C-9740-7AB0F2A9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891-5A9A-45A7-B33D-20A79491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D4E7-4F98-4C21-BC8B-BA0F44BA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8405-215D-4A68-BF72-261E3943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06A3-4C83-4E4B-AB0C-D4D729E6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1281-6A36-45BC-82B6-999693FF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0045-3EF2-48E3-9D86-847B8815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A30-6ED4-4E31-871F-CA86BE5F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A9D-C6C2-44DE-9221-4C1E162F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C6A-A806-415B-BAB0-A0E0FDBB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8F2-1C67-45FD-AF45-124747A4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BCA4-4245-408F-AE34-89C6D255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4DB-2D68-4539-B2FA-BDB6A4CD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BDA-7D35-469F-9CDC-14CA63BF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6528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5A57-9490-443D-98A5-FAE6AD6BCFBD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D8A7-6FC7-4D9B-8B88-535A2D363D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6360" y="2188800"/>
            <a:ext cx="8532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七一建党节幻灯片在线打包下载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150920"/>
            <a:ext cx="86868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配色方案在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格式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幻灯片设计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配色方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编辑配色方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下调整。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LOGO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添加修改在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视图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母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幻灯片母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下调整。直接选择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图片删除或修改。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括标题和文本格式的设置在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视图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母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幻灯片母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下调整。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默认设置：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首页主标题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44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号（中文黑体英文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）加粗；副标题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号（中文黑体英文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）加粗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内页标题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40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号（中文黑体英文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）加粗；内页内容文字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号（宋体）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1143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215-5975-47A9-A271-FE510B5A45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标题 1"/>
          <p:cNvSpPr/>
          <p:nvPr/>
        </p:nvSpPr>
        <p:spPr>
          <a:xfrm>
            <a:off x="3276720" y="2571840"/>
            <a:ext cx="43099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黑体"/>
              </a:rPr>
              <a:t>感谢您的关注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11:53Z</dcterms:created>
  <dc:creator/>
  <dc:description>www.eeppt.com;</dc:description>
  <cp:keywords>www.eeppt.com</cp:keywords>
  <dc:language>en-US</dc:language>
  <cp:lastModifiedBy>jccook</cp:lastModifiedBy>
  <dcterms:modified xsi:type="dcterms:W3CDTF">2015-09-18T13:14:36Z</dcterms:modified>
  <cp:revision>30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