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6FA-9B75-43D2-9FC3-2E79F56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F24-386C-4934-8130-55DCE95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1C2-ADCB-4D91-A24C-86FB92D0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6FD-05DC-4D61-AC86-B4CCD146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3CF-18B8-4CF3-A5A3-F3DACED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30E-F0BF-42D5-9F78-AA73AE5C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821-A2AC-454B-8FF4-C90C04C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B1C-33B3-4491-A727-D0E6FBB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657-6FBF-438E-80B0-AE7878B7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486-E7BA-42E0-85FC-3DD5D23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717-C2CB-4B64-8200-428322C9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48D-CD09-4FD9-A7AC-19364942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84D-DF83-457D-8EE1-EDC6C56E20F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0515-F8C5-4006-8C5B-75822136D96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3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649520" y="6554880"/>
            <a:ext cx="7080120" cy="21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19320" y="1638360"/>
            <a:ext cx="732780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2768760"/>
            <a:ext cx="2463840" cy="246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165240" y="6362640"/>
            <a:ext cx="1536480" cy="39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595008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000" y="404640"/>
            <a:ext cx="75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品牌管理复古文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2882520" y="146052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和推广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4190760" y="24764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625720" y="22478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实际完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2933640" y="29084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2971440" y="31240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3009600" y="33274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3035160" y="35434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3314520" y="40132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的目标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5130720" y="41529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户行为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1276560" y="4089240"/>
            <a:ext cx="5270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围绕实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改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4673520" y="42292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了目标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3733560" y="42418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用户定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3873240" y="43689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设计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3402720" y="4444920"/>
            <a:ext cx="21355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套餐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4127400" y="44704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的预测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3657240" y="45464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市场发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3911400" y="464832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有竞争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2991960" y="4724280"/>
            <a:ext cx="30589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定价具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3593880" y="48513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营销推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4076640" y="50673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标分析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3035160" y="524520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针对未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4038480" y="53722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中率不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5117760" y="548640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活动有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3822480" y="55497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传力度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4076640" y="56642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划与正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3618720" y="5740560"/>
            <a:ext cx="21355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4343040" y="57657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的预估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5130360" y="5816520"/>
            <a:ext cx="1981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1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4711320" y="58546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争对手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3759120" y="58672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对客户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3479760" y="5931000"/>
            <a:ext cx="3772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2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计到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速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4724280" y="59943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势没有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3669480" y="6019920"/>
            <a:ext cx="21355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没有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4267080" y="607068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的竞争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4749480" y="61466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它问题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3694680" y="6172200"/>
            <a:ext cx="21355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对于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4254120" y="6222960"/>
            <a:ext cx="22104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划执行的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7917840" y="6464160"/>
            <a:ext cx="20336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3835080" y="101592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结束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904400" y="965160"/>
            <a:ext cx="308700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3816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活动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3816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启动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3816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营销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3333600" y="1409760"/>
            <a:ext cx="2058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2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划概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2577960" y="245124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5155920" y="2324160"/>
            <a:ext cx="21344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6025680" y="2222640"/>
            <a:ext cx="19058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5930640" y="2793960"/>
            <a:ext cx="29725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100"/>
              </a:lnSpc>
              <a:tabLst>
                <a:tab algn="l" pos="0"/>
                <a:tab algn="l" pos="38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-Z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38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-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2480760" y="2844720"/>
            <a:ext cx="547812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298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结经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698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地引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7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力度大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7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899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298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现的营业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客户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够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799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宣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进行的其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7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7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199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确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00"/>
              </a:lnSpc>
              <a:tabLst>
                <a:tab algn="l" pos="0"/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  <a:ea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3983040" y="6108840"/>
            <a:ext cx="32986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2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化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5924160" y="2133720"/>
            <a:ext cx="29980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完成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698"/>
              </a:lnSpc>
              <a:tabLst>
                <a:tab algn="l" pos="0"/>
                <a:tab algn="l" pos="25560"/>
                <a:tab algn="l" pos="38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+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25560"/>
                <a:tab algn="l" pos="38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+Y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6766200" y="2057400"/>
            <a:ext cx="21524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1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4609800" y="2438280"/>
            <a:ext cx="1981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1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-103320" y="190440"/>
            <a:ext cx="44355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建设经验交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333-F3DF-4BE6-84DE-E35474FF1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(www.3lian.com)httpwww.3lian.commobanmb4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三联免费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5280" y="190440"/>
            <a:ext cx="39556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品牌管理七步骤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-154800" y="1447920"/>
            <a:ext cx="196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636200" y="1371600"/>
            <a:ext cx="196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515760" y="1955880"/>
            <a:ext cx="196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575800" y="3467160"/>
            <a:ext cx="196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868120" y="4762440"/>
            <a:ext cx="196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832920" y="5549760"/>
            <a:ext cx="287496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62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798"/>
              </a:lnSpc>
              <a:tabLst>
                <a:tab algn="l" pos="0"/>
                <a:tab algn="l" pos="62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团队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6462000" y="4762440"/>
            <a:ext cx="196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649520" y="6554880"/>
            <a:ext cx="7080120" cy="21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3203640" y="3860640"/>
            <a:ext cx="2736720" cy="370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6227640" y="3860640"/>
            <a:ext cx="2665440" cy="370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250920" y="3860640"/>
            <a:ext cx="2665440" cy="370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250920" y="836640"/>
            <a:ext cx="8713800" cy="6462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479520" y="1893960"/>
            <a:ext cx="1173240" cy="12002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473040" y="1887480"/>
            <a:ext cx="1185840" cy="1212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6453360" y="1893960"/>
            <a:ext cx="1172880" cy="12002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6446880" y="1887480"/>
            <a:ext cx="1185840" cy="1212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7292880" y="2523960"/>
            <a:ext cx="341280" cy="370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237960" y="1687680"/>
            <a:ext cx="2691000" cy="456228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3191040" y="1687680"/>
            <a:ext cx="2761920" cy="456228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6215040" y="1687680"/>
            <a:ext cx="2691000" cy="456228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979640" y="1700280"/>
            <a:ext cx="936720" cy="13683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5003640" y="1700280"/>
            <a:ext cx="936720" cy="13683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7956720" y="1700280"/>
            <a:ext cx="936360" cy="13683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53684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65240" y="6362640"/>
            <a:ext cx="1536480" cy="39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3403440" y="1905120"/>
            <a:ext cx="1536840" cy="189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4"/>
          <a:stretch/>
        </p:blipFill>
        <p:spPr>
          <a:xfrm>
            <a:off x="6362640" y="1828800"/>
            <a:ext cx="153684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4783680" y="5981760"/>
            <a:ext cx="30182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些是我所喜闻乐见的事物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989440" y="3873600"/>
            <a:ext cx="329256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劢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00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来评价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取悦戒影响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在工作和生活中有何障碍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对我有影响力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从哪里获得信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些人戒事是可信赖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73840" y="3873600"/>
            <a:ext cx="329256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面上目前有哪些竞争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在多大程度上引起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他们有哪些好处和坏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他们是否困难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会如何考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-81360" y="3873600"/>
            <a:ext cx="35668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自身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身份是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成为什么样的人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注重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如何定义成功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目前的生活和工作习惯如何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2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希望过怎样的生活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917000" y="190440"/>
            <a:ext cx="51444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5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洞察和市场信息收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5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5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用户自身定位、用户劢机和市场需求三个方面，通过内外部数据分析、市场调研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5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式搜集用户洞察和市场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-4680" y="1816200"/>
            <a:ext cx="219384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85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Arial Black"/>
                <a:ea typeface="宋体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83320" y="1714680"/>
            <a:ext cx="28659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7548480" y="1714680"/>
            <a:ext cx="2073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4551480" y="1714680"/>
            <a:ext cx="2073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649520" y="6554880"/>
            <a:ext cx="7080120" cy="21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2179800" y="1636560"/>
            <a:ext cx="4624200" cy="2232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187280" y="971640"/>
            <a:ext cx="1440000" cy="1441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1149480" y="933480"/>
            <a:ext cx="1515960" cy="15177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819600" y="971640"/>
            <a:ext cx="1441440" cy="1441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781440" y="933480"/>
            <a:ext cx="1517760" cy="15177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6372360" y="971640"/>
            <a:ext cx="1439640" cy="1441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6334200" y="933480"/>
            <a:ext cx="1515960" cy="15177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258920" y="4025880"/>
            <a:ext cx="1441440" cy="1441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220760" y="3987720"/>
            <a:ext cx="1517760" cy="15177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443640" y="4032360"/>
            <a:ext cx="1441440" cy="1439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405480" y="3994200"/>
            <a:ext cx="1517760" cy="1515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116000" y="5580000"/>
            <a:ext cx="1727280" cy="5857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300720" y="5589720"/>
            <a:ext cx="1871640" cy="583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1133640" y="2495520"/>
            <a:ext cx="160308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1133640" y="3054240"/>
            <a:ext cx="160308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773520" y="2495520"/>
            <a:ext cx="160344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773520" y="3054240"/>
            <a:ext cx="160344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6294600" y="2495520"/>
            <a:ext cx="160164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6294600" y="3054240"/>
            <a:ext cx="160164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3276720" y="4508640"/>
            <a:ext cx="431640" cy="43308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3257640" y="4489560"/>
            <a:ext cx="469800" cy="471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5651640" y="4508640"/>
            <a:ext cx="433080" cy="43308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5632560" y="4489560"/>
            <a:ext cx="471240" cy="471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44520" y="110484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772080" y="91440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6502320" y="11048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4"/>
          <a:stretch/>
        </p:blipFill>
        <p:spPr>
          <a:xfrm>
            <a:off x="1168560" y="3048120"/>
            <a:ext cx="101520" cy="125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5"/>
          <a:stretch/>
        </p:blipFill>
        <p:spPr>
          <a:xfrm>
            <a:off x="1397160" y="3048120"/>
            <a:ext cx="6426000" cy="262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6"/>
          <a:stretch/>
        </p:blipFill>
        <p:spPr>
          <a:xfrm>
            <a:off x="165240" y="6362640"/>
            <a:ext cx="1536480" cy="3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06920" y="190440"/>
            <a:ext cx="52599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年度传播方案思路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2963880" y="2489040"/>
            <a:ext cx="3292560" cy="37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对手的市场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劢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7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43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44360" y="2502000"/>
            <a:ext cx="359748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使用行为的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和新需求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留给产品和品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27080"/>
                <a:tab algn="l" pos="33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切入机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5762880" y="2502000"/>
            <a:ext cx="29268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个市场发展不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进化趋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500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体目标实现方式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途径、投入预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649520" y="6554880"/>
            <a:ext cx="7080120" cy="21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5240" y="749160"/>
            <a:ext cx="8877240" cy="604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270720" y="190440"/>
            <a:ext cx="57322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年度传播方案撰写模板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-4680" y="5168880"/>
            <a:ext cx="37432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应对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访谈了解真实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善产品戒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接触点渠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大宣传，应对竞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4651920" y="4178160"/>
            <a:ext cx="26218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仍能按原计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划完成既定目标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4659840" y="5181480"/>
            <a:ext cx="39265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经理不上级协商，选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500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延长期限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资源投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整计划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2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止计划并制定补救方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6301440" y="3009960"/>
            <a:ext cx="2789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经理继续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跟踪品牌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执行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-103320" y="190440"/>
            <a:ext cx="44355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推广执行监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892800" y="977760"/>
            <a:ext cx="36126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99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品牌经理通过数据监测品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推广项目执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-319320" y="1054080"/>
            <a:ext cx="21373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5063040" y="977760"/>
            <a:ext cx="33231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99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必要时对项目方案计划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进行调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7464240" y="1054080"/>
            <a:ext cx="2114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-122400" y="3238560"/>
            <a:ext cx="5451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4</a:t>
            </a:r>
            <a:r>
              <a:rPr b="0" lang="en-US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品牌推广月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品牌推广后一个月业绩便快速下滑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本身问题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触点宣传没做好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279360"/>
                <a:tab algn="l" pos="55872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对手推出类似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4957920" y="1866960"/>
            <a:ext cx="27212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继续执行原计划丌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1649520" y="6554880"/>
            <a:ext cx="7080120" cy="21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486320" y="3846600"/>
            <a:ext cx="57240" cy="21096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1827360" y="5075280"/>
            <a:ext cx="5343480" cy="8096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4486320" y="2238480"/>
            <a:ext cx="57240" cy="21096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765600" y="2278080"/>
            <a:ext cx="369720" cy="4446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889520" y="2211480"/>
            <a:ext cx="385920" cy="47916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3179880" y="1469880"/>
            <a:ext cx="2546280" cy="57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971640" y="137160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944720" y="252396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763640" y="299088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944720" y="345924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7093080" y="303840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6048360" y="3686040"/>
            <a:ext cx="10447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6588000" y="3362400"/>
            <a:ext cx="104328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6877080" y="94932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7020000" y="1380960"/>
            <a:ext cx="104436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6877080" y="1814400"/>
            <a:ext cx="104292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588000" y="2714760"/>
            <a:ext cx="1043280" cy="21564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084720" y="2390760"/>
            <a:ext cx="1043280" cy="21600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3780000" y="1052640"/>
            <a:ext cx="1439640" cy="1439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741840" y="1014480"/>
            <a:ext cx="1515960" cy="1515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3780000" y="4140360"/>
            <a:ext cx="1439640" cy="1439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3741840" y="4102200"/>
            <a:ext cx="1515960" cy="1515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920960" y="1469880"/>
            <a:ext cx="318960" cy="57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6465960" y="1031760"/>
            <a:ext cx="439560" cy="57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6718320" y="1457280"/>
            <a:ext cx="345960" cy="57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6438960" y="1933560"/>
            <a:ext cx="466560" cy="57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2954160" y="2622600"/>
            <a:ext cx="187560" cy="950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2728800" y="3086280"/>
            <a:ext cx="227160" cy="5688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2954160" y="3430440"/>
            <a:ext cx="147960" cy="1098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5883120" y="2503440"/>
            <a:ext cx="254160" cy="2142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6002280" y="2808360"/>
            <a:ext cx="638280" cy="1872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6014880" y="3127320"/>
            <a:ext cx="1101960" cy="57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5923080" y="3298680"/>
            <a:ext cx="717480" cy="18756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5749920" y="3524400"/>
            <a:ext cx="333360" cy="2394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2195640" y="981000"/>
            <a:ext cx="1008000" cy="100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2157480" y="942840"/>
            <a:ext cx="1084320" cy="10843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2987640" y="2565360"/>
            <a:ext cx="1008000" cy="100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2949480" y="2527200"/>
            <a:ext cx="1084320" cy="10843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5724360" y="981000"/>
            <a:ext cx="1008360" cy="100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5686560" y="942840"/>
            <a:ext cx="1083960" cy="10843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5003640" y="2565360"/>
            <a:ext cx="1008360" cy="100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4965840" y="2527200"/>
            <a:ext cx="1083960" cy="10843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755640" y="5867280"/>
            <a:ext cx="2160720" cy="360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3419640" y="5867280"/>
            <a:ext cx="2160360" cy="360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6084720" y="5867280"/>
            <a:ext cx="2159280" cy="360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3492360" y="762120"/>
            <a:ext cx="2006640" cy="2006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3492360" y="3860640"/>
            <a:ext cx="2006640" cy="200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-443520" y="190440"/>
            <a:ext cx="349092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评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342720" y="1371600"/>
            <a:ext cx="2286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体认知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52040" y="2514600"/>
            <a:ext cx="323280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599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298160" y="3454560"/>
            <a:ext cx="231840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6601320" y="3035160"/>
            <a:ext cx="201240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5559840" y="3683160"/>
            <a:ext cx="201240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105960" y="3352680"/>
            <a:ext cx="201240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5851800" y="939960"/>
            <a:ext cx="3079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52280"/>
                <a:tab algn="l" pos="3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继续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52280"/>
                <a:tab algn="l" pos="3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52280"/>
                <a:tab algn="l" pos="3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放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52280"/>
                <a:tab algn="l" pos="3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52280"/>
                <a:tab algn="l" pos="3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6121080" y="2705040"/>
            <a:ext cx="198180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551920" y="2387520"/>
            <a:ext cx="21038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丌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2885040" y="1257480"/>
            <a:ext cx="31705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3600"/>
              </a:lnSpc>
              <a:tabLst>
                <a:tab algn="l" pos="0"/>
                <a:tab algn="l" pos="1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3300"/>
              </a:lnSpc>
              <a:tabLst>
                <a:tab algn="l" pos="0"/>
                <a:tab algn="l" pos="1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2885040" y="4356000"/>
            <a:ext cx="31705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3600"/>
              </a:lnSpc>
              <a:tabLst>
                <a:tab algn="l" pos="0"/>
                <a:tab algn="l" pos="1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3300"/>
              </a:lnSpc>
              <a:tabLst>
                <a:tab algn="l" pos="0"/>
                <a:tab algn="l" pos="1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健康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1158120" y="1143000"/>
            <a:ext cx="3018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知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2427840" y="2768760"/>
            <a:ext cx="21038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4447080" y="2768760"/>
            <a:ext cx="21038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4688640" y="1181160"/>
            <a:ext cx="3018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3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396000" y="5892840"/>
            <a:ext cx="2789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市场占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3281400" y="5892840"/>
            <a:ext cx="2378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纯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823720" y="5892840"/>
            <a:ext cx="2652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费者增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386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7911360" y="6464160"/>
            <a:ext cx="1931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宋体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-358560" y="190440"/>
            <a:ext cx="372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部门合作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649520" y="6554880"/>
            <a:ext cx="7080120" cy="21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2340000" y="2205000"/>
            <a:ext cx="4537080" cy="2664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2327400" y="2192400"/>
            <a:ext cx="4562280" cy="2689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684360" y="1413000"/>
            <a:ext cx="2030400" cy="3697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3392640" y="1413000"/>
            <a:ext cx="2043000" cy="36972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6284880" y="1413000"/>
            <a:ext cx="2032200" cy="36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6246720" y="1374840"/>
            <a:ext cx="2108160" cy="4460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2411280" y="2276640"/>
            <a:ext cx="4392720" cy="360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2411280" y="3860640"/>
            <a:ext cx="4392720" cy="36036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2411280" y="4437000"/>
            <a:ext cx="4392720" cy="360360"/>
          </a:xfrm>
          <a:prstGeom prst="pie">
            <a:avLst/>
          </a:prstGeom>
          <a:solidFill>
            <a:srgbClr val="a6a6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2411280" y="3357720"/>
            <a:ext cx="4392720" cy="358560"/>
          </a:xfrm>
          <a:prstGeom prst="pie">
            <a:avLst/>
          </a:prstGeom>
          <a:solidFill>
            <a:srgbClr val="a6a6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411280" y="2852640"/>
            <a:ext cx="4392720" cy="360360"/>
          </a:xfrm>
          <a:prstGeom prst="pie">
            <a:avLst/>
          </a:prstGeom>
          <a:solidFill>
            <a:srgbClr val="7f7f7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7236000" y="3789360"/>
            <a:ext cx="1152360" cy="13622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7216920" y="3770280"/>
            <a:ext cx="1190520" cy="1400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307880" cy="15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-273240" y="190440"/>
            <a:ext cx="39632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0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团队激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3479040" y="5194440"/>
            <a:ext cx="28461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奖励，如点名表扬、优秀个人列席公司高层会议等，也是团队激励的有效手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99"/>
              </a:lnSpc>
              <a:tabLst>
                <a:tab algn="l" pos="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225720" y="1434960"/>
            <a:ext cx="2926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发展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5826240" y="1434960"/>
            <a:ext cx="2926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经理考评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2923200" y="1473120"/>
            <a:ext cx="29419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团队管理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699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晋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0"/>
              </a:lnSpc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金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659600" y="2882880"/>
            <a:ext cx="20275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2624760" y="2882880"/>
            <a:ext cx="20275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快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较快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3520080" y="2882880"/>
            <a:ext cx="24343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%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薪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%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薪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4667040" y="2882880"/>
            <a:ext cx="27057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涨幅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x1.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涨幅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x1.0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252080" y="3936960"/>
            <a:ext cx="2842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10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2217240" y="3936960"/>
            <a:ext cx="2842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3315600" y="3936960"/>
            <a:ext cx="2842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%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薪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4528800" y="3936960"/>
            <a:ext cx="2842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18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常工资增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2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1970640" y="1231920"/>
            <a:ext cx="20916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7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  <a:ea typeface="宋体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4900680" y="1231920"/>
            <a:ext cx="22258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47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6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增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6712920" y="3975120"/>
            <a:ext cx="21952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觉得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8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扯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31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