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78E8-74C1-409C-ACC6-7980AC0A0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A95D-CFB6-490D-9B30-77B67960A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5003-99A8-4553-8652-FE637624E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2E36-D740-4DC8-91E3-54A958CC2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747B-3532-49FA-8579-4E1C21B16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21EE-68E4-4C66-97FF-47F5F5F09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7652-6770-4D53-8023-2BFD25626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A4FD-2828-4D21-9B84-BBB80A06A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3B6E-A8E7-482C-A5BB-DDA6D549A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FF6C-2C7A-4A78-8642-53244DE5C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DD3A-F822-455F-B9B3-9CFDA2A45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95BD-FC33-4B82-B02C-58AFAD656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72126-B135-4A2F-BACB-79F282267F1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5424B-1058-420B-8EC6-F4069A00344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7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6280" y="1989000"/>
            <a:ext cx="38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企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C548-9945-4CD9-952F-2EC76105769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2636640"/>
            <a:ext cx="835344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255997"/>
                </a:solidFill>
                <a:latin typeface="微软雅黑"/>
                <a:ea typeface="微软雅黑"/>
              </a:rPr>
              <a:t>谢  谢！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31T00:52:0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5:25Z</dcterms:modified>
  <cp:revision>1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