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17F-1975-4733-AE84-E916BA8C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856-9D17-44B9-95E4-96914A79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105-D9A3-4468-AD8C-73154201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684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712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684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712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65E-8FA5-4748-B79D-170B35A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9DD-1CC7-4335-BEFB-CFDBABAF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5F1D-19EC-4790-9525-15ECB776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6FC-883B-47BC-814D-D85C3EBF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FEC2-5537-47C3-9E3A-0B674F9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CBC-1054-4366-9553-0899659F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71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4E6-042D-4790-B64D-4B15C44A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AE73-15FB-4BBD-8C63-0D1C0928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353-9924-46C6-B7F2-C4FE9DC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F9F7-F1C9-4954-9652-C52EEEA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BD8C-DF7E-42A1-B97C-1EBE87F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2DAD-C855-4293-8EC0-23F67E5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544C-8891-429E-905D-5F8CC513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2684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712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2684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4712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517-45ED-4657-9BB0-D342BE6A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839-FCF5-4F4C-AD7E-A934A1D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611-2A5F-4251-ADBA-0D76D70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ABF-85BD-4476-BA44-44CAD9A1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71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967-0900-449D-9E67-3E45119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2BF-902F-47BD-85DD-807AB60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F04-22EF-450F-936D-E5FFCBBD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032-6147-4E15-8A0E-2D94222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955E-A549-4A19-8C30-0DD2EAE09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6" descr=""/>
          <p:cNvPicPr/>
          <p:nvPr/>
        </p:nvPicPr>
        <p:blipFill>
          <a:blip r:embed="rId3"/>
          <a:stretch/>
        </p:blipFill>
        <p:spPr>
          <a:xfrm>
            <a:off x="6546960" y="5430960"/>
            <a:ext cx="2163600" cy="452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46A6-67EC-429B-895E-F1C20861A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雅生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562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1A6E-21AA-4D13-A11E-F9E8EF69C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1:54Z</dcterms:modified>
  <cp:revision>4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