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1A144-FCC3-4003-A590-6FCCC92D4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AC2D2-EF42-4243-94AF-D44692238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9E8D9-8888-4031-A0F4-0306206E1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3DA3F-34DF-4388-9E45-E0884F766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6792-B817-4D31-848C-10EEA67B1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3C506-35B9-4241-8F06-2381471FB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C3545-DBEB-4B7A-BCA8-1DF36986B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D0840-1E8E-41C6-9DA4-8A634559A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F212D-27F0-45C0-9F1C-F40E7EABA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0B442-1C98-4DF4-A3B9-FE53AA470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3A4A7-1644-4917-9162-F567110F5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9F16-60B9-4737-9FBD-A7CF1DBCB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Lst>
              <a:defRPr b="0" lang="en-US" sz="1400" spc="-1" strike="noStrike">
                <a:solidFill>
                  <a:srgbClr val="000000"/>
                </a:solidFill>
                <a:latin typeface="Times New Roman"/>
                <a:ea typeface="宋体"/>
              </a:defRPr>
            </a:lvl1pPr>
          </a:lstStyle>
          <a:p>
            <a:pPr indent="0" algn="r">
              <a:lnSpc>
                <a:spcPct val="95000"/>
              </a:lnSpc>
              <a:buNone/>
              <a:tabLst>
                <a:tab algn="l" pos="0"/>
                <a:tab algn="l" pos="723960"/>
                <a:tab algn="l" pos="1447920"/>
                <a:tab algn="l" pos="217188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Lst>
            </a:pPr>
            <a:fld id="{B6DBBBEC-12DF-4B4C-A53A-4338D738A520}"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23800" y="1081080"/>
            <a:ext cx="9048960" cy="2338560"/>
          </a:xfrm>
          <a:prstGeom prst="rect">
            <a:avLst/>
          </a:prstGeom>
          <a:noFill/>
          <a:ln w="0">
            <a:noFill/>
          </a:ln>
        </p:spPr>
        <p:txBody>
          <a:bodyPr lIns="0" rIns="0" tIns="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1" lang="en-GB" sz="6000" spc="-1" strike="noStrike">
                <a:solidFill>
                  <a:srgbClr val="ffffff"/>
                </a:solidFill>
                <a:latin typeface="方正姚体"/>
                <a:ea typeface="方正姚体"/>
              </a:rPr>
              <a:t>热烈庆祝十八大顺利闭幕</a:t>
            </a:r>
            <a:br>
              <a:rPr sz="6000"/>
            </a:br>
            <a:br>
              <a:rPr sz="6000"/>
            </a:br>
            <a:r>
              <a:rPr b="0" lang="en-GB" sz="4000" spc="-1" strike="noStrike">
                <a:solidFill>
                  <a:srgbClr val="ffffff"/>
                </a:solidFill>
                <a:latin typeface="方正姚体"/>
                <a:ea typeface="方正姚体"/>
              </a:rPr>
              <a:t>科学发展 辉煌十年</a:t>
            </a:r>
            <a:endParaRPr b="0" lang="en-US" sz="4000" spc="-1" strike="noStrike">
              <a:solidFill>
                <a:srgbClr val="000000"/>
              </a:solidFill>
              <a:latin typeface="Arial"/>
            </a:endParaRPr>
          </a:p>
        </p:txBody>
      </p:sp>
      <p:sp>
        <p:nvSpPr>
          <p:cNvPr id="42" name="TextBox 1"/>
          <p:cNvSpPr/>
          <p:nvPr/>
        </p:nvSpPr>
        <p:spPr>
          <a:xfrm>
            <a:off x="7488360" y="6097680"/>
            <a:ext cx="252072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400" spc="-1" strike="noStrike">
                <a:solidFill>
                  <a:srgbClr val="ffffff"/>
                </a:solidFill>
                <a:latin typeface="方正姚体"/>
                <a:ea typeface="方正姚体"/>
              </a:rPr>
              <a:t>2012</a:t>
            </a:r>
            <a:r>
              <a:rPr b="1" lang="zh-CN" sz="2400" spc="-1" strike="noStrike">
                <a:solidFill>
                  <a:srgbClr val="ffffff"/>
                </a:solidFill>
                <a:latin typeface="方正姚体"/>
                <a:ea typeface="方正姚体"/>
              </a:rPr>
              <a:t>年</a:t>
            </a:r>
            <a:r>
              <a:rPr b="1" lang="en-US" sz="2400" spc="-1" strike="noStrike">
                <a:solidFill>
                  <a:srgbClr val="ffffff"/>
                </a:solidFill>
                <a:latin typeface="方正姚体"/>
                <a:ea typeface="方正姚体"/>
              </a:rPr>
              <a:t>11</a:t>
            </a:r>
            <a:r>
              <a:rPr b="1" lang="zh-CN" sz="2400" spc="-1" strike="noStrike">
                <a:solidFill>
                  <a:srgbClr val="ffffff"/>
                </a:solidFill>
                <a:latin typeface="方正姚体"/>
                <a:ea typeface="方正姚体"/>
              </a:rPr>
              <a:t>月</a:t>
            </a:r>
            <a:r>
              <a:rPr b="1" lang="en-US" sz="2400" spc="-1" strike="noStrike">
                <a:solidFill>
                  <a:srgbClr val="ffffff"/>
                </a:solidFill>
                <a:latin typeface="方正姚体"/>
                <a:ea typeface="方正姚体"/>
              </a:rPr>
              <a:t>15</a:t>
            </a:r>
            <a:r>
              <a:rPr b="1" lang="zh-CN" sz="2400" spc="-1" strike="noStrike">
                <a:solidFill>
                  <a:srgbClr val="ffffff"/>
                </a:solidFill>
                <a:latin typeface="方正姚体"/>
                <a:ea typeface="方正姚体"/>
              </a:rPr>
              <a:t>日</a:t>
            </a:r>
            <a:endParaRPr b="0" lang="en-US" sz="2400" spc="-1" strike="noStrike">
              <a:solidFill>
                <a:srgbClr val="000000"/>
              </a:solidFill>
              <a:latin typeface="Arial"/>
            </a:endParaRPr>
          </a:p>
        </p:txBody>
      </p:sp>
      <p:sp>
        <p:nvSpPr>
          <p:cNvPr id="43" name=""/>
          <p:cNvSpPr/>
          <p:nvPr/>
        </p:nvSpPr>
        <p:spPr>
          <a:xfrm>
            <a:off x="71280" y="7164360"/>
            <a:ext cx="5078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44" name=""/>
          <p:cNvSpPr/>
          <p:nvPr/>
        </p:nvSpPr>
        <p:spPr>
          <a:xfrm>
            <a:off x="2352240" y="252360"/>
            <a:ext cx="5372640" cy="6606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4000" spc="-1" strike="noStrike">
                <a:solidFill>
                  <a:srgbClr val="ffffff"/>
                </a:solidFill>
                <a:latin typeface="Arial"/>
              </a:rPr>
              <a:t>庆祝十八大闭幕</a:t>
            </a:r>
            <a:r>
              <a:rPr b="0" lang="zh-CN" sz="4000" spc="-1" strike="noStrike">
                <a:solidFill>
                  <a:srgbClr val="ffffff"/>
                </a:solidFill>
                <a:latin typeface="Arial"/>
              </a:rPr>
              <a:t>PPT</a:t>
            </a:r>
            <a:r>
              <a:rPr b="0" lang="zh-CN" sz="4000" spc="-1" strike="noStrike">
                <a:solidFill>
                  <a:srgbClr val="ffffff"/>
                </a:solidFill>
                <a:latin typeface="Arial"/>
              </a:rPr>
              <a:t>模板在线下载</a:t>
            </a:r>
            <a:endParaRPr b="0" lang="en-US" sz="4000" spc="-1" strike="noStrike">
              <a:solidFill>
                <a:srgbClr val="000000"/>
              </a:solidFill>
              <a:latin typeface="Arial"/>
            </a:endParaRPr>
          </a:p>
        </p:txBody>
      </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1"/>
          <p:cNvSpPr/>
          <p:nvPr/>
        </p:nvSpPr>
        <p:spPr>
          <a:xfrm>
            <a:off x="0" y="1751040"/>
            <a:ext cx="10080720" cy="1301400"/>
          </a:xfrm>
          <a:prstGeom prst="rect">
            <a:avLst/>
          </a:prstGeom>
          <a:noFill/>
          <a:ln w="0">
            <a:noFill/>
          </a:ln>
        </p:spPr>
        <p:style>
          <a:lnRef idx="0"/>
          <a:fillRef idx="0"/>
          <a:effectRef idx="0"/>
          <a:fontRef idx="minor"/>
        </p:style>
        <p:txBody>
          <a:bodyPr lIns="0" rIns="0" tIns="27720" bIns="0" anchor="ctr">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 algn="l" pos="10942560"/>
              </a:tabLst>
            </a:pPr>
            <a:r>
              <a:rPr b="0" lang="en-US" sz="8800" spc="-1" strike="noStrike">
                <a:solidFill>
                  <a:srgbClr val="ffffff"/>
                </a:solidFill>
                <a:latin typeface="方正姚体"/>
                <a:ea typeface="方正姚体"/>
              </a:rPr>
              <a:t>谢谢</a:t>
            </a:r>
            <a:r>
              <a:rPr b="0" lang="zh-CN" sz="8800" spc="-1" strike="noStrike">
                <a:solidFill>
                  <a:srgbClr val="ffffff"/>
                </a:solidFill>
                <a:latin typeface="方正姚体"/>
                <a:ea typeface="方正姚体"/>
              </a:rPr>
              <a:t>大家观赏</a:t>
            </a:r>
            <a:endParaRPr b="0" lang="en-US" sz="8800" spc="-1" strike="noStrike">
              <a:solidFill>
                <a:srgbClr val="000000"/>
              </a:solidFill>
              <a:latin typeface="Arial"/>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AutoShape 1"/>
          <p:cNvSpPr/>
          <p:nvPr/>
        </p:nvSpPr>
        <p:spPr>
          <a:xfrm>
            <a:off x="1046160" y="2706840"/>
            <a:ext cx="8028000" cy="3765240"/>
          </a:xfrm>
          <a:prstGeom prst="roundRect">
            <a:avLst>
              <a:gd name="adj" fmla="val 5782"/>
            </a:avLst>
          </a:prstGeom>
          <a:gradFill rotWithShape="0">
            <a:gsLst>
              <a:gs pos="0">
                <a:srgbClr val="fd4754"/>
              </a:gs>
              <a:gs pos="100000">
                <a:srgbClr val="d7000f"/>
              </a:gs>
            </a:gsLst>
            <a:lin ang="10800000"/>
          </a:gradFill>
          <a:ln w="36000">
            <a:solidFill>
              <a:srgbClr val="d7000f"/>
            </a:solidFill>
            <a:miter/>
          </a:ln>
        </p:spPr>
        <p:style>
          <a:lnRef idx="0"/>
          <a:fillRef idx="0"/>
          <a:effectRef idx="0"/>
          <a:fontRef idx="minor"/>
        </p:style>
        <p:txBody>
          <a:bodyPr wrap="none" lIns="90000" rIns="90000" tIns="46800" bIns="46800" anchor="ctr">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46" name="AutoShape 2"/>
          <p:cNvSpPr/>
          <p:nvPr/>
        </p:nvSpPr>
        <p:spPr>
          <a:xfrm>
            <a:off x="905040" y="2224080"/>
            <a:ext cx="8315280" cy="882720"/>
          </a:xfrm>
          <a:prstGeom prst="roundRect">
            <a:avLst>
              <a:gd name="adj" fmla="val 16667"/>
            </a:avLst>
          </a:prstGeom>
          <a:gradFill rotWithShape="0">
            <a:gsLst>
              <a:gs pos="0">
                <a:srgbClr val="7b0009"/>
              </a:gs>
              <a:gs pos="100000">
                <a:srgbClr val="fa0011"/>
              </a:gs>
            </a:gsLst>
            <a:lin ang="5400000"/>
          </a:gradFill>
          <a:ln w="36000">
            <a:solidFill>
              <a:srgbClr val="800000"/>
            </a:solidFill>
            <a:miter/>
          </a:ln>
        </p:spPr>
        <p:style>
          <a:lnRef idx="0"/>
          <a:fillRef idx="0"/>
          <a:effectRef idx="0"/>
          <a:fontRef idx="minor"/>
        </p:style>
        <p:txBody>
          <a:bodyPr wrap="none" lIns="90000" rIns="90000" tIns="46800" bIns="46800" anchor="ctr">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47" name="Text Box 3"/>
          <p:cNvSpPr/>
          <p:nvPr/>
        </p:nvSpPr>
        <p:spPr>
          <a:xfrm>
            <a:off x="1238400" y="2195640"/>
            <a:ext cx="7650000" cy="885960"/>
          </a:xfrm>
          <a:prstGeom prst="rect">
            <a:avLst/>
          </a:prstGeom>
          <a:noFill/>
          <a:ln w="0">
            <a:noFill/>
          </a:ln>
        </p:spPr>
        <p:style>
          <a:lnRef idx="0"/>
          <a:fillRef idx="0"/>
          <a:effectRef idx="0"/>
          <a:fontRef idx="minor"/>
        </p:style>
        <p:txBody>
          <a:bodyPr lIns="90000" rIns="90000" tIns="59040" bIns="45000" anchor="t">
            <a:spAutoFit/>
          </a:bodyPr>
          <a:p>
            <a:pPr algn="ct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0" lang="zh-CN" sz="5400" spc="-1" strike="noStrike">
                <a:solidFill>
                  <a:srgbClr val="ffffff"/>
                </a:solidFill>
                <a:latin typeface="方正姚体"/>
                <a:ea typeface="方正姚体"/>
              </a:rPr>
              <a:t>目录</a:t>
            </a:r>
            <a:endParaRPr b="0" lang="en-US" sz="5400" spc="-1" strike="noStrike">
              <a:solidFill>
                <a:srgbClr val="000000"/>
              </a:solidFill>
              <a:latin typeface="Arial"/>
            </a:endParaRPr>
          </a:p>
        </p:txBody>
      </p:sp>
      <p:sp>
        <p:nvSpPr>
          <p:cNvPr id="48" name="AutoShape 4"/>
          <p:cNvSpPr/>
          <p:nvPr/>
        </p:nvSpPr>
        <p:spPr>
          <a:xfrm>
            <a:off x="1560600" y="3417840"/>
            <a:ext cx="7010280" cy="54756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一章 ：什么是中国共产党全国代表大会</a:t>
            </a:r>
            <a:endParaRPr b="0" lang="en-US" sz="2000" spc="-1" strike="noStrike">
              <a:solidFill>
                <a:srgbClr val="000000"/>
              </a:solidFill>
              <a:latin typeface="Arial"/>
            </a:endParaRPr>
          </a:p>
        </p:txBody>
      </p:sp>
      <p:sp>
        <p:nvSpPr>
          <p:cNvPr id="49" name="AutoShape 5"/>
          <p:cNvSpPr/>
          <p:nvPr/>
        </p:nvSpPr>
        <p:spPr>
          <a:xfrm>
            <a:off x="1560600" y="3957480"/>
            <a:ext cx="7010280" cy="54792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二章 ：中国共产党全国代表大会发展历史</a:t>
            </a:r>
            <a:endParaRPr b="0" lang="en-US" sz="2000" spc="-1" strike="noStrike">
              <a:solidFill>
                <a:srgbClr val="000000"/>
              </a:solidFill>
              <a:latin typeface="Arial"/>
            </a:endParaRPr>
          </a:p>
        </p:txBody>
      </p:sp>
      <p:sp>
        <p:nvSpPr>
          <p:cNvPr id="50" name="AutoShape 6"/>
          <p:cNvSpPr/>
          <p:nvPr/>
        </p:nvSpPr>
        <p:spPr>
          <a:xfrm>
            <a:off x="1562040" y="4497480"/>
            <a:ext cx="7010640" cy="54756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三章 ：中国共产党全国代表大会选举流程</a:t>
            </a:r>
            <a:endParaRPr b="0" lang="en-US" sz="2000" spc="-1" strike="noStrike">
              <a:solidFill>
                <a:srgbClr val="000000"/>
              </a:solidFill>
              <a:latin typeface="Arial"/>
            </a:endParaRPr>
          </a:p>
        </p:txBody>
      </p:sp>
      <p:sp>
        <p:nvSpPr>
          <p:cNvPr id="51" name="AutoShape 7"/>
          <p:cNvSpPr/>
          <p:nvPr/>
        </p:nvSpPr>
        <p:spPr>
          <a:xfrm>
            <a:off x="1562040" y="5037120"/>
            <a:ext cx="7010640" cy="54756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四章 ：</a:t>
            </a:r>
            <a:r>
              <a:rPr b="1" lang="en-US" sz="2000" spc="-1" strike="noStrike">
                <a:solidFill>
                  <a:srgbClr val="ffffff"/>
                </a:solidFill>
                <a:latin typeface="方正姚体"/>
                <a:ea typeface="方正姚体"/>
              </a:rPr>
              <a:t>2012</a:t>
            </a:r>
            <a:r>
              <a:rPr b="1" lang="zh-CN" sz="2000" spc="-1" strike="noStrike">
                <a:solidFill>
                  <a:srgbClr val="ffffff"/>
                </a:solidFill>
                <a:latin typeface="方正姚体"/>
                <a:ea typeface="方正姚体"/>
              </a:rPr>
              <a:t>年中国共产党第十八次全国代表大会</a:t>
            </a:r>
            <a:endParaRPr b="0" lang="en-US" sz="2000" spc="-1" strike="noStrike">
              <a:solidFill>
                <a:srgbClr val="000000"/>
              </a:solidFill>
              <a:latin typeface="Arial"/>
            </a:endParaRPr>
          </a:p>
        </p:txBody>
      </p:sp>
      <p:sp>
        <p:nvSpPr>
          <p:cNvPr id="52" name="AutoShape 8"/>
          <p:cNvSpPr/>
          <p:nvPr/>
        </p:nvSpPr>
        <p:spPr>
          <a:xfrm>
            <a:off x="1562040" y="5572080"/>
            <a:ext cx="7010640" cy="547560"/>
          </a:xfrm>
          <a:prstGeom prst="roundRect">
            <a:avLst>
              <a:gd name="adj" fmla="val 16667"/>
            </a:avLst>
          </a:prstGeom>
          <a:gradFill rotWithShape="0">
            <a:gsLst>
              <a:gs pos="0">
                <a:srgbClr val="faf400"/>
              </a:gs>
              <a:gs pos="100000">
                <a:srgbClr val="fea700"/>
              </a:gs>
            </a:gsLst>
            <a:lin ang="10800000"/>
          </a:gradFill>
          <a:ln w="9360">
            <a:solidFill>
              <a:srgbClr val="fea700"/>
            </a:solidFill>
            <a:miter/>
          </a:ln>
        </p:spPr>
        <p:style>
          <a:lnRef idx="0"/>
          <a:fillRef idx="0"/>
          <a:effectRef idx="0"/>
          <a:fontRef idx="minor"/>
        </p:style>
        <p:txBody>
          <a:bodyPr lIns="90000" rIns="90000" tIns="56520" bIns="45000" anchor="ctr">
            <a:no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6637320"/>
                <a:tab algn="l" pos="6816600"/>
                <a:tab algn="l" pos="6996240"/>
                <a:tab algn="l" pos="717552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Lst>
            </a:pPr>
            <a:r>
              <a:rPr b="1" lang="zh-CN" sz="2000" spc="-1" strike="noStrike">
                <a:solidFill>
                  <a:srgbClr val="ffffff"/>
                </a:solidFill>
                <a:latin typeface="方正姚体"/>
                <a:ea typeface="方正姚体"/>
              </a:rPr>
              <a:t>           </a:t>
            </a:r>
            <a:r>
              <a:rPr b="1" lang="zh-CN" sz="2000" spc="-1" strike="noStrike">
                <a:solidFill>
                  <a:srgbClr val="ffffff"/>
                </a:solidFill>
                <a:latin typeface="方正姚体"/>
                <a:ea typeface="方正姚体"/>
              </a:rPr>
              <a:t>第五章 ：对伟大祖国的殷切期盼</a:t>
            </a:r>
            <a:endParaRPr b="0" lang="en-US" sz="2000" spc="-1" strike="noStrike">
              <a:solidFill>
                <a:srgbClr val="000000"/>
              </a:solidFill>
              <a:latin typeface="Arial"/>
            </a:endParaRPr>
          </a:p>
        </p:txBody>
      </p:sp>
      <p:pic>
        <p:nvPicPr>
          <p:cNvPr id="53" name="Picture 9" descr=""/>
          <p:cNvPicPr/>
          <p:nvPr/>
        </p:nvPicPr>
        <p:blipFill>
          <a:blip r:embed="rId2"/>
          <a:stretch/>
        </p:blipFill>
        <p:spPr>
          <a:xfrm>
            <a:off x="8574120" y="4649760"/>
            <a:ext cx="988920" cy="2884680"/>
          </a:xfrm>
          <a:prstGeom prst="rect">
            <a:avLst/>
          </a:prstGeom>
          <a:ln w="0">
            <a:noFill/>
          </a:ln>
        </p:spPr>
      </p:pic>
      <p:sp>
        <p:nvSpPr>
          <p:cNvPr id="54" name="Text Box 10"/>
          <p:cNvSpPr/>
          <p:nvPr/>
        </p:nvSpPr>
        <p:spPr>
          <a:xfrm>
            <a:off x="144360" y="395280"/>
            <a:ext cx="7462800" cy="61128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中国共产党全国代表大会</a:t>
            </a:r>
            <a:endParaRPr b="0" lang="en-US" sz="36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10"/>
          <p:cNvSpPr/>
          <p:nvPr/>
        </p:nvSpPr>
        <p:spPr>
          <a:xfrm>
            <a:off x="144360" y="395280"/>
            <a:ext cx="9936360" cy="113220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一章：什么是中国共产党全国代表大会</a:t>
            </a:r>
            <a:endParaRPr b="0" lang="en-US" sz="3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endParaRPr b="0" lang="en-US" sz="3600" spc="-1" strike="noStrike">
              <a:solidFill>
                <a:srgbClr val="000000"/>
              </a:solidFill>
              <a:latin typeface="Arial"/>
            </a:endParaRPr>
          </a:p>
        </p:txBody>
      </p:sp>
      <p:pic>
        <p:nvPicPr>
          <p:cNvPr id="56" name="Picture 5" descr="C:\Documents and Settings\yzhang\桌面\1028960_135113082_2.jpg"/>
          <p:cNvPicPr/>
          <p:nvPr/>
        </p:nvPicPr>
        <p:blipFill>
          <a:blip r:embed="rId2"/>
          <a:stretch/>
        </p:blipFill>
        <p:spPr>
          <a:xfrm>
            <a:off x="420840" y="2054160"/>
            <a:ext cx="3498840" cy="7255080"/>
          </a:xfrm>
          <a:prstGeom prst="rect">
            <a:avLst/>
          </a:prstGeom>
          <a:ln w="0">
            <a:noFill/>
          </a:ln>
        </p:spPr>
      </p:pic>
      <p:sp>
        <p:nvSpPr>
          <p:cNvPr id="57" name="矩形 1"/>
          <p:cNvSpPr/>
          <p:nvPr/>
        </p:nvSpPr>
        <p:spPr>
          <a:xfrm>
            <a:off x="4176720" y="2216160"/>
            <a:ext cx="5688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2800" spc="-1" strike="noStrike">
                <a:solidFill>
                  <a:srgbClr val="000000"/>
                </a:solidFill>
                <a:latin typeface="方正姚体"/>
                <a:ea typeface="方正姚体"/>
              </a:rPr>
              <a:t>中国共产党全国代表大会</a:t>
            </a:r>
            <a:r>
              <a:rPr b="0" lang="zh-CN" sz="2000" spc="-1" strike="noStrike">
                <a:solidFill>
                  <a:srgbClr val="000000"/>
                </a:solidFill>
                <a:latin typeface="方正姚体"/>
                <a:ea typeface="方正姚体"/>
              </a:rPr>
              <a:t>简称中共党代会，在国内一般简称党代会，每五年举行一次，由中央委员会召集。中央委员会认为有必要，或者有三分之一以上的省一级组织提出要求，全国代表大会可以提前举行；如无非常情况，不得延期举行。全国代表大会代表的名额和选举办法，由中央委员会决定。</a:t>
            </a:r>
            <a:endParaRPr b="0" lang="en-US" sz="20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Text Box 10"/>
          <p:cNvSpPr/>
          <p:nvPr/>
        </p:nvSpPr>
        <p:spPr>
          <a:xfrm>
            <a:off x="144360" y="395280"/>
            <a:ext cx="9936360" cy="61128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二章：中国共产党全国代表大会发展历史</a:t>
            </a:r>
            <a:endParaRPr b="0" lang="en-US" sz="3600" spc="-1" strike="noStrike">
              <a:solidFill>
                <a:srgbClr val="000000"/>
              </a:solidFill>
              <a:latin typeface="Arial"/>
            </a:endParaRPr>
          </a:p>
        </p:txBody>
      </p:sp>
      <p:grpSp>
        <p:nvGrpSpPr>
          <p:cNvPr id="59" name="Group 13"/>
          <p:cNvGrpSpPr/>
          <p:nvPr/>
        </p:nvGrpSpPr>
        <p:grpSpPr>
          <a:xfrm>
            <a:off x="4398840" y="6264360"/>
            <a:ext cx="3162240" cy="1221480"/>
            <a:chOff x="4398840" y="6264360"/>
            <a:chExt cx="3162240" cy="1221480"/>
          </a:xfrm>
        </p:grpSpPr>
        <p:sp>
          <p:nvSpPr>
            <p:cNvPr id="60" name="Text Box 14"/>
            <p:cNvSpPr/>
            <p:nvPr/>
          </p:nvSpPr>
          <p:spPr>
            <a:xfrm>
              <a:off x="4398840" y="6372360"/>
              <a:ext cx="3162240" cy="1113480"/>
            </a:xfrm>
            <a:prstGeom prst="rect">
              <a:avLst/>
            </a:prstGeom>
            <a:noFill/>
            <a:ln w="0">
              <a:noFill/>
            </a:ln>
          </p:spPr>
          <p:style>
            <a:lnRef idx="0"/>
            <a:fillRef idx="0"/>
            <a:effectRef idx="0"/>
            <a:fontRef idx="minor"/>
          </p:style>
          <p:txBody>
            <a:bodyPr lIns="90000" rIns="90000" tIns="56520" bIns="45000" anchor="t">
              <a:spAutoFit/>
            </a:bodyPr>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45</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七届党代会   延安</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56</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八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69</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九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73</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endParaRPr b="0" lang="en-US" sz="1400" spc="-1" strike="noStrike">
                <a:solidFill>
                  <a:srgbClr val="000000"/>
                </a:solidFill>
                <a:latin typeface="Arial"/>
              </a:endParaRPr>
            </a:p>
          </p:txBody>
        </p:sp>
        <p:sp>
          <p:nvSpPr>
            <p:cNvPr id="61" name="Line 15"/>
            <p:cNvSpPr/>
            <p:nvPr/>
          </p:nvSpPr>
          <p:spPr>
            <a:xfrm>
              <a:off x="4405680" y="6264360"/>
              <a:ext cx="252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sp>
        <p:nvSpPr>
          <p:cNvPr id="62" name="Line 18"/>
          <p:cNvSpPr/>
          <p:nvPr/>
        </p:nvSpPr>
        <p:spPr>
          <a:xfrm>
            <a:off x="7381800" y="5580000"/>
            <a:ext cx="180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63" name="Line 18"/>
          <p:cNvSpPr/>
          <p:nvPr/>
        </p:nvSpPr>
        <p:spPr>
          <a:xfrm>
            <a:off x="9864720" y="2195640"/>
            <a:ext cx="1440" cy="1577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64" name="Text Box 14"/>
          <p:cNvSpPr/>
          <p:nvPr/>
        </p:nvSpPr>
        <p:spPr>
          <a:xfrm>
            <a:off x="7421400" y="5651640"/>
            <a:ext cx="3164040" cy="1113480"/>
          </a:xfrm>
          <a:prstGeom prst="rect">
            <a:avLst/>
          </a:prstGeom>
          <a:noFill/>
          <a:ln w="0">
            <a:noFill/>
          </a:ln>
        </p:spPr>
        <p:style>
          <a:lnRef idx="0"/>
          <a:fillRef idx="0"/>
          <a:effectRef idx="0"/>
          <a:fontRef idx="minor"/>
        </p:style>
        <p:txBody>
          <a:bodyPr lIns="90000" rIns="90000" tIns="56520" bIns="45000" anchor="t">
            <a:spAutoFit/>
          </a:bodyPr>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77</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一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82</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二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87</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三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92</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四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endParaRPr b="0" lang="en-US" sz="1400" spc="-1" strike="noStrike">
              <a:solidFill>
                <a:srgbClr val="000000"/>
              </a:solidFill>
              <a:latin typeface="Arial"/>
            </a:endParaRPr>
          </a:p>
        </p:txBody>
      </p:sp>
      <p:sp>
        <p:nvSpPr>
          <p:cNvPr id="65" name="Text Box 14"/>
          <p:cNvSpPr/>
          <p:nvPr/>
        </p:nvSpPr>
        <p:spPr>
          <a:xfrm>
            <a:off x="7342200" y="2195640"/>
            <a:ext cx="2738520" cy="1315800"/>
          </a:xfrm>
          <a:prstGeom prst="rect">
            <a:avLst/>
          </a:prstGeom>
          <a:noFill/>
          <a:ln w="0">
            <a:noFill/>
          </a:ln>
        </p:spPr>
        <p:style>
          <a:lnRef idx="0"/>
          <a:fillRef idx="0"/>
          <a:effectRef idx="0"/>
          <a:fontRef idx="minor"/>
        </p:style>
        <p:txBody>
          <a:bodyPr lIns="90000" rIns="90000" tIns="56520" bIns="45000" anchor="t">
            <a:spAutoFit/>
          </a:bodyPr>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1997</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五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2002</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六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2007</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七届党代会   北京</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2012</a:t>
            </a:r>
            <a:r>
              <a:rPr b="1" lang="zh-CN" sz="1400" spc="-1" strike="noStrike">
                <a:solidFill>
                  <a:srgbClr val="c00000"/>
                </a:solidFill>
                <a:latin typeface="方正姚体"/>
                <a:ea typeface="方正姚体"/>
              </a:rPr>
              <a:t>年</a:t>
            </a:r>
            <a:r>
              <a:rPr b="1" lang="en-US" sz="1400" spc="-1" strike="noStrike">
                <a:solidFill>
                  <a:srgbClr val="c00000"/>
                </a:solidFill>
                <a:latin typeface="方正姚体"/>
                <a:ea typeface="方正姚体"/>
              </a:rPr>
              <a:t>  </a:t>
            </a:r>
            <a:r>
              <a:rPr b="1" lang="zh-CN" sz="1400" spc="-1" strike="noStrike">
                <a:solidFill>
                  <a:srgbClr val="c00000"/>
                </a:solidFill>
                <a:latin typeface="方正姚体"/>
                <a:ea typeface="方正姚体"/>
              </a:rPr>
              <a:t>第十八届党代会   北京</a:t>
            </a:r>
            <a:endParaRPr b="0" lang="en-US" sz="1400" spc="-1" strike="noStrike">
              <a:solidFill>
                <a:srgbClr val="000000"/>
              </a:solidFill>
              <a:latin typeface="Arial"/>
            </a:endParaRPr>
          </a:p>
          <a:p>
            <a:pPr algn="ct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r>
              <a:rPr b="1" lang="en-US" sz="1400" spc="-1" strike="noStrike">
                <a:solidFill>
                  <a:srgbClr val="c00000"/>
                </a:solidFill>
                <a:latin typeface="方正姚体"/>
                <a:ea typeface="方正姚体"/>
              </a:rPr>
              <a:t>……</a:t>
            </a:r>
            <a:endParaRPr b="0" lang="en-US" sz="1400" spc="-1" strike="noStrike">
              <a:solidFill>
                <a:srgbClr val="000000"/>
              </a:solidFill>
              <a:latin typeface="Arial"/>
            </a:endParaRPr>
          </a:p>
          <a:p>
            <a:pPr>
              <a:lnSpc>
                <a:spcPct val="95000"/>
              </a:lnSpc>
              <a:tabLst>
                <a:tab algn="l" pos="0"/>
                <a:tab algn="l" pos="723960"/>
                <a:tab algn="l" pos="144792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 algn="l" pos="4305240"/>
                <a:tab algn="l" pos="4484520"/>
                <a:tab algn="l" pos="4664160"/>
                <a:tab algn="l" pos="4843440"/>
                <a:tab algn="l" pos="5022720"/>
              </a:tabLst>
            </a:pPr>
            <a:endParaRPr b="0" lang="en-US" sz="1400" spc="-1" strike="noStrike">
              <a:solidFill>
                <a:srgbClr val="000000"/>
              </a:solidFill>
              <a:latin typeface="Arial"/>
            </a:endParaRPr>
          </a:p>
        </p:txBody>
      </p:sp>
      <p:pic>
        <p:nvPicPr>
          <p:cNvPr id="66" name="Picture 2" descr="C:\Documents and Settings\yzhang\桌面\图片3副本.png"/>
          <p:cNvPicPr/>
          <p:nvPr/>
        </p:nvPicPr>
        <p:blipFill>
          <a:blip r:embed="rId2"/>
          <a:stretch/>
        </p:blipFill>
        <p:spPr>
          <a:xfrm>
            <a:off x="0" y="1692360"/>
            <a:ext cx="10094760" cy="5187960"/>
          </a:xfrm>
          <a:prstGeom prst="rect">
            <a:avLst/>
          </a:prstGeom>
          <a:ln w="0">
            <a:noFill/>
          </a:ln>
        </p:spPr>
      </p:pic>
      <p:sp>
        <p:nvSpPr>
          <p:cNvPr id="67" name="矩形 2"/>
          <p:cNvSpPr/>
          <p:nvPr/>
        </p:nvSpPr>
        <p:spPr>
          <a:xfrm>
            <a:off x="289080" y="2771640"/>
            <a:ext cx="5038560" cy="29570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1</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一届党代会   上海浙江</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800" spc="-1" strike="noStrike">
                <a:solidFill>
                  <a:srgbClr val="ffffff"/>
                </a:solidFill>
                <a:latin typeface="方正姚体"/>
                <a:ea typeface="方正姚体"/>
              </a:rPr>
              <a:t> </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2</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二届党代会   上海</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3</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三届党代会   广州</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5</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四届党代会   上海</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7</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五届党代会   汉口</a:t>
            </a: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a:p>
            <a:pPr>
              <a:lnSpc>
                <a:spcPct val="95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800" spc="-1" strike="noStrike">
                <a:solidFill>
                  <a:srgbClr val="ffffff"/>
                </a:solidFill>
                <a:latin typeface="方正姚体"/>
                <a:ea typeface="方正姚体"/>
              </a:rPr>
              <a:t>1928</a:t>
            </a:r>
            <a:r>
              <a:rPr b="1" lang="zh-CN" sz="1800" spc="-1" strike="noStrike">
                <a:solidFill>
                  <a:srgbClr val="ffffff"/>
                </a:solidFill>
                <a:latin typeface="方正姚体"/>
                <a:ea typeface="方正姚体"/>
              </a:rPr>
              <a:t>年</a:t>
            </a:r>
            <a:r>
              <a:rPr b="1" lang="en-US" sz="1800" spc="-1" strike="noStrike">
                <a:solidFill>
                  <a:srgbClr val="ffffff"/>
                </a:solidFill>
                <a:latin typeface="方正姚体"/>
                <a:ea typeface="方正姚体"/>
              </a:rPr>
              <a:t>  </a:t>
            </a:r>
            <a:r>
              <a:rPr b="1" lang="zh-CN" sz="1800" spc="-1" strike="noStrike">
                <a:solidFill>
                  <a:srgbClr val="ffffff"/>
                </a:solidFill>
                <a:latin typeface="方正姚体"/>
                <a:ea typeface="方正姚体"/>
              </a:rPr>
              <a:t>第六届党代会   莫斯科</a:t>
            </a: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10"/>
          <p:cNvSpPr/>
          <p:nvPr/>
        </p:nvSpPr>
        <p:spPr>
          <a:xfrm>
            <a:off x="2340000" y="5165640"/>
            <a:ext cx="5545080" cy="64764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69" name="空心弧 3"/>
          <p:cNvSpPr/>
          <p:nvPr/>
        </p:nvSpPr>
        <p:spPr>
          <a:xfrm rot="5400000">
            <a:off x="6111000" y="2780280"/>
            <a:ext cx="3546360" cy="2519280"/>
          </a:xfrm>
          <a:custGeom>
            <a:avLst/>
            <a:gdLst/>
            <a:ahLst/>
            <a:rect l="l" t="t" r="r" b="b"/>
            <a:pathLst>
              <a:path w="3546475" h="2519362">
                <a:moveTo>
                  <a:pt x="10" y="1263924"/>
                </a:moveTo>
                <a:cubicBezTo>
                  <a:pt x="-2418" y="751885"/>
                  <a:pt x="431705" y="289751"/>
                  <a:pt x="1098235" y="94836"/>
                </a:cubicBezTo>
                <a:cubicBezTo>
                  <a:pt x="1529533" y="-31289"/>
                  <a:pt x="2013417" y="-31623"/>
                  <a:pt x="2445059" y="93908"/>
                </a:cubicBezTo>
                <a:cubicBezTo>
                  <a:pt x="3111267" y="287655"/>
                  <a:pt x="3546477" y="748295"/>
                  <a:pt x="3546477" y="1259681"/>
                </a:cubicBezTo>
                <a:lnTo>
                  <a:pt x="2916635" y="1259681"/>
                </a:lnTo>
                <a:cubicBezTo>
                  <a:pt x="2916635" y="985244"/>
                  <a:pt x="2594047" y="742398"/>
                  <a:pt x="2119194" y="659362"/>
                </a:cubicBezTo>
                <a:cubicBezTo>
                  <a:pt x="1893498" y="619895"/>
                  <a:pt x="1651124" y="620002"/>
                  <a:pt x="1425542" y="659667"/>
                </a:cubicBezTo>
                <a:cubicBezTo>
                  <a:pt x="949826" y="743315"/>
                  <a:pt x="627682" y="987344"/>
                  <a:pt x="629851" y="1262416"/>
                </a:cubicBezTo>
                <a:lnTo>
                  <a:pt x="10" y="1263924"/>
                </a:lnTo>
                <a:close/>
              </a:path>
            </a:pathLst>
          </a:custGeom>
          <a:solidFill>
            <a:srgbClr val="c00000"/>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0" name="矩形 2"/>
          <p:cNvSpPr/>
          <p:nvPr/>
        </p:nvSpPr>
        <p:spPr>
          <a:xfrm>
            <a:off x="2340000" y="2266920"/>
            <a:ext cx="5688000" cy="649440"/>
          </a:xfrm>
          <a:prstGeom prst="rect">
            <a:avLst/>
          </a:prstGeom>
          <a:solidFill>
            <a:srgbClr val="c00000"/>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1" name="Text Box 10"/>
          <p:cNvSpPr/>
          <p:nvPr/>
        </p:nvSpPr>
        <p:spPr>
          <a:xfrm>
            <a:off x="144360" y="395280"/>
            <a:ext cx="9936360" cy="61128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三章：中国共产党全国代表大会选举流程</a:t>
            </a:r>
            <a:endParaRPr b="0" lang="en-US" sz="3600" spc="-1" strike="noStrike">
              <a:solidFill>
                <a:srgbClr val="000000"/>
              </a:solidFill>
              <a:latin typeface="Arial"/>
            </a:endParaRPr>
          </a:p>
        </p:txBody>
      </p:sp>
      <p:sp>
        <p:nvSpPr>
          <p:cNvPr id="72" name="椭圆 1"/>
          <p:cNvSpPr/>
          <p:nvPr/>
        </p:nvSpPr>
        <p:spPr>
          <a:xfrm>
            <a:off x="1268280" y="1908000"/>
            <a:ext cx="1403640" cy="140364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3" name="椭圆 4"/>
          <p:cNvSpPr/>
          <p:nvPr/>
        </p:nvSpPr>
        <p:spPr>
          <a:xfrm>
            <a:off x="6732720" y="1908000"/>
            <a:ext cx="1403280" cy="140364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4" name="椭圆 5"/>
          <p:cNvSpPr/>
          <p:nvPr/>
        </p:nvSpPr>
        <p:spPr>
          <a:xfrm>
            <a:off x="6732720" y="4788000"/>
            <a:ext cx="1403280" cy="140328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5" name="椭圆 6"/>
          <p:cNvSpPr/>
          <p:nvPr/>
        </p:nvSpPr>
        <p:spPr>
          <a:xfrm>
            <a:off x="1268280" y="4788000"/>
            <a:ext cx="1403640" cy="140328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6" name="椭圆 7"/>
          <p:cNvSpPr/>
          <p:nvPr/>
        </p:nvSpPr>
        <p:spPr>
          <a:xfrm>
            <a:off x="3995640" y="4788000"/>
            <a:ext cx="1403280" cy="1403280"/>
          </a:xfrm>
          <a:prstGeom prst="ellipse">
            <a:avLst/>
          </a:prstGeom>
          <a:solidFill>
            <a:srgbClr val="ffffff"/>
          </a:solidFill>
          <a:ln w="3816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77" name="TextBox 9"/>
          <p:cNvSpPr/>
          <p:nvPr/>
        </p:nvSpPr>
        <p:spPr>
          <a:xfrm>
            <a:off x="1368360" y="2050920"/>
            <a:ext cx="13748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推荐提名</a:t>
            </a:r>
            <a:endParaRPr b="0" lang="en-US" sz="3600" spc="-1" strike="noStrike">
              <a:solidFill>
                <a:srgbClr val="000000"/>
              </a:solidFill>
              <a:latin typeface="Arial"/>
            </a:endParaRPr>
          </a:p>
        </p:txBody>
      </p:sp>
      <p:sp>
        <p:nvSpPr>
          <p:cNvPr id="78" name="TextBox 19"/>
          <p:cNvSpPr/>
          <p:nvPr/>
        </p:nvSpPr>
        <p:spPr>
          <a:xfrm>
            <a:off x="6832440" y="2050920"/>
            <a:ext cx="13766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组织考察</a:t>
            </a:r>
            <a:endParaRPr b="0" lang="en-US" sz="3600" spc="-1" strike="noStrike">
              <a:solidFill>
                <a:srgbClr val="000000"/>
              </a:solidFill>
              <a:latin typeface="Arial"/>
            </a:endParaRPr>
          </a:p>
        </p:txBody>
      </p:sp>
      <p:sp>
        <p:nvSpPr>
          <p:cNvPr id="79" name="TextBox 20"/>
          <p:cNvSpPr/>
          <p:nvPr/>
        </p:nvSpPr>
        <p:spPr>
          <a:xfrm>
            <a:off x="6840360" y="4927680"/>
            <a:ext cx="13766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初步候选</a:t>
            </a:r>
            <a:endParaRPr b="0" lang="en-US" sz="3600" spc="-1" strike="noStrike">
              <a:solidFill>
                <a:srgbClr val="000000"/>
              </a:solidFill>
              <a:latin typeface="Arial"/>
            </a:endParaRPr>
          </a:p>
        </p:txBody>
      </p:sp>
      <p:sp>
        <p:nvSpPr>
          <p:cNvPr id="80" name="TextBox 21"/>
          <p:cNvSpPr/>
          <p:nvPr/>
        </p:nvSpPr>
        <p:spPr>
          <a:xfrm>
            <a:off x="4103640" y="4927680"/>
            <a:ext cx="137628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预备人选</a:t>
            </a:r>
            <a:endParaRPr b="0" lang="en-US" sz="3600" spc="-1" strike="noStrike">
              <a:solidFill>
                <a:srgbClr val="000000"/>
              </a:solidFill>
              <a:latin typeface="Arial"/>
            </a:endParaRPr>
          </a:p>
        </p:txBody>
      </p:sp>
      <p:sp>
        <p:nvSpPr>
          <p:cNvPr id="81" name="TextBox 22"/>
          <p:cNvSpPr/>
          <p:nvPr/>
        </p:nvSpPr>
        <p:spPr>
          <a:xfrm>
            <a:off x="1368360" y="4927680"/>
            <a:ext cx="1374840" cy="604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000000"/>
                </a:solidFill>
                <a:latin typeface="方正姚体"/>
                <a:ea typeface="方正姚体"/>
              </a:rPr>
              <a:t>选举代表</a:t>
            </a:r>
            <a:endParaRPr b="0" lang="en-US" sz="3600" spc="-1" strike="noStrike">
              <a:solidFill>
                <a:srgbClr val="000000"/>
              </a:solidFill>
              <a:latin typeface="Arial"/>
            </a:endParaRPr>
          </a:p>
        </p:txBody>
      </p:sp>
      <p:sp>
        <p:nvSpPr>
          <p:cNvPr id="82" name="TextBox 11"/>
          <p:cNvSpPr/>
          <p:nvPr/>
        </p:nvSpPr>
        <p:spPr>
          <a:xfrm>
            <a:off x="2232000" y="1692360"/>
            <a:ext cx="576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1</a:t>
            </a:r>
            <a:endParaRPr b="0" lang="en-US" sz="2800" spc="-1" strike="noStrike">
              <a:solidFill>
                <a:srgbClr val="000000"/>
              </a:solidFill>
              <a:latin typeface="Arial"/>
            </a:endParaRPr>
          </a:p>
        </p:txBody>
      </p:sp>
      <p:sp>
        <p:nvSpPr>
          <p:cNvPr id="83" name="TextBox 24"/>
          <p:cNvSpPr/>
          <p:nvPr/>
        </p:nvSpPr>
        <p:spPr>
          <a:xfrm>
            <a:off x="7777080" y="1692360"/>
            <a:ext cx="576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2</a:t>
            </a:r>
            <a:endParaRPr b="0" lang="en-US" sz="2800" spc="-1" strike="noStrike">
              <a:solidFill>
                <a:srgbClr val="000000"/>
              </a:solidFill>
              <a:latin typeface="Arial"/>
            </a:endParaRPr>
          </a:p>
        </p:txBody>
      </p:sp>
      <p:sp>
        <p:nvSpPr>
          <p:cNvPr id="84" name="TextBox 25"/>
          <p:cNvSpPr/>
          <p:nvPr/>
        </p:nvSpPr>
        <p:spPr>
          <a:xfrm>
            <a:off x="7704000" y="4500720"/>
            <a:ext cx="576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3</a:t>
            </a:r>
            <a:endParaRPr b="0" lang="en-US" sz="2800" spc="-1" strike="noStrike">
              <a:solidFill>
                <a:srgbClr val="000000"/>
              </a:solidFill>
              <a:latin typeface="Arial"/>
            </a:endParaRPr>
          </a:p>
        </p:txBody>
      </p:sp>
      <p:sp>
        <p:nvSpPr>
          <p:cNvPr id="85" name="TextBox 26"/>
          <p:cNvSpPr/>
          <p:nvPr/>
        </p:nvSpPr>
        <p:spPr>
          <a:xfrm>
            <a:off x="4896000" y="4511520"/>
            <a:ext cx="5760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4</a:t>
            </a:r>
            <a:endParaRPr b="0" lang="en-US" sz="2800" spc="-1" strike="noStrike">
              <a:solidFill>
                <a:srgbClr val="000000"/>
              </a:solidFill>
              <a:latin typeface="Arial"/>
            </a:endParaRPr>
          </a:p>
        </p:txBody>
      </p:sp>
      <p:sp>
        <p:nvSpPr>
          <p:cNvPr id="86" name="TextBox 27"/>
          <p:cNvSpPr/>
          <p:nvPr/>
        </p:nvSpPr>
        <p:spPr>
          <a:xfrm>
            <a:off x="2232000" y="4511520"/>
            <a:ext cx="576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2800" spc="-1" strike="noStrike">
                <a:solidFill>
                  <a:srgbClr val="c00000"/>
                </a:solidFill>
                <a:latin typeface="Arial Black"/>
                <a:ea typeface="宋体"/>
              </a:rPr>
              <a:t>5</a:t>
            </a:r>
            <a:endParaRPr b="0" lang="en-US" sz="2800" spc="-1" strike="noStrike">
              <a:solidFill>
                <a:srgbClr val="000000"/>
              </a:solidFill>
              <a:latin typeface="Arial"/>
            </a:endParaRPr>
          </a:p>
        </p:txBody>
      </p:sp>
      <p:sp>
        <p:nvSpPr>
          <p:cNvPr id="87" name="TextBox 23"/>
          <p:cNvSpPr/>
          <p:nvPr/>
        </p:nvSpPr>
        <p:spPr>
          <a:xfrm>
            <a:off x="792000" y="3419640"/>
            <a:ext cx="2448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基层党委上报推荐人选，选举单位召开党委常委会确定代表候选人初步人选考察对象。</a:t>
            </a:r>
            <a:endParaRPr b="0" lang="en-US" sz="1200" spc="-1" strike="noStrike">
              <a:solidFill>
                <a:srgbClr val="000000"/>
              </a:solidFill>
              <a:latin typeface="Arial"/>
            </a:endParaRPr>
          </a:p>
        </p:txBody>
      </p:sp>
      <p:sp>
        <p:nvSpPr>
          <p:cNvPr id="88" name="TextBox 29"/>
          <p:cNvSpPr/>
          <p:nvPr/>
        </p:nvSpPr>
        <p:spPr>
          <a:xfrm>
            <a:off x="6553080" y="3419640"/>
            <a:ext cx="2448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实行差额考察和考察预告。</a:t>
            </a:r>
            <a:endParaRPr b="0" lang="en-US" sz="1200" spc="-1" strike="noStrike">
              <a:solidFill>
                <a:srgbClr val="000000"/>
              </a:solidFill>
              <a:latin typeface="Arial"/>
            </a:endParaRPr>
          </a:p>
        </p:txBody>
      </p:sp>
      <p:sp>
        <p:nvSpPr>
          <p:cNvPr id="89" name="TextBox 30"/>
          <p:cNvSpPr/>
          <p:nvPr/>
        </p:nvSpPr>
        <p:spPr>
          <a:xfrm>
            <a:off x="6553080" y="6300720"/>
            <a:ext cx="2448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选举单位召开党委常委会，研究提出代表候选人初步人选名单。</a:t>
            </a:r>
            <a:endParaRPr b="0" lang="en-US" sz="1200" spc="-1" strike="noStrike">
              <a:solidFill>
                <a:srgbClr val="000000"/>
              </a:solidFill>
              <a:latin typeface="Arial"/>
            </a:endParaRPr>
          </a:p>
        </p:txBody>
      </p:sp>
      <p:sp>
        <p:nvSpPr>
          <p:cNvPr id="90" name="TextBox 31"/>
          <p:cNvSpPr/>
          <p:nvPr/>
        </p:nvSpPr>
        <p:spPr>
          <a:xfrm>
            <a:off x="3473280" y="6300720"/>
            <a:ext cx="2448000" cy="263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召开党委全委会，投票确定代表候选人预备人选。（或从代表候选人初步人选名单中差额确定预备人选。）</a:t>
            </a:r>
            <a:endParaRPr b="0" lang="en-US" sz="1200" spc="-1" strike="noStrike">
              <a:solidFill>
                <a:srgbClr val="000000"/>
              </a:solidFill>
              <a:latin typeface="Arial"/>
            </a:endParaRPr>
          </a:p>
        </p:txBody>
      </p:sp>
      <p:sp>
        <p:nvSpPr>
          <p:cNvPr id="91" name="TextBox 32"/>
          <p:cNvSpPr/>
          <p:nvPr/>
        </p:nvSpPr>
        <p:spPr>
          <a:xfrm>
            <a:off x="746280" y="6300720"/>
            <a:ext cx="2447640" cy="4330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a:solidFill>
                  <a:srgbClr val="c00000"/>
                </a:solidFill>
                <a:latin typeface="方正姚体"/>
                <a:ea typeface="方正姚体"/>
              </a:rPr>
              <a:t>召开党代表大会或党代表会议（工委扩大会议），按多于</a:t>
            </a:r>
            <a:r>
              <a:rPr b="0" lang="en-US" sz="1200" spc="-1" strike="noStrike">
                <a:solidFill>
                  <a:srgbClr val="c00000"/>
                </a:solidFill>
                <a:latin typeface="方正姚体"/>
                <a:ea typeface="方正姚体"/>
              </a:rPr>
              <a:t>15%</a:t>
            </a:r>
            <a:r>
              <a:rPr b="0" lang="zh-CN" sz="1200" spc="-1" strike="noStrike">
                <a:solidFill>
                  <a:srgbClr val="c00000"/>
                </a:solidFill>
                <a:latin typeface="方正姚体"/>
                <a:ea typeface="方正姚体"/>
              </a:rPr>
              <a:t>的差额比例选举出席十八大代表。</a:t>
            </a:r>
            <a:endParaRPr b="0" lang="en-US" sz="1200" spc="-1" strike="noStrike">
              <a:solidFill>
                <a:srgbClr val="000000"/>
              </a:solidFill>
              <a:latin typeface="Arial"/>
            </a:endParaRPr>
          </a:p>
        </p:txBody>
      </p:sp>
      <p:grpSp>
        <p:nvGrpSpPr>
          <p:cNvPr id="92" name="组合 33"/>
          <p:cNvGrpSpPr/>
          <p:nvPr/>
        </p:nvGrpSpPr>
        <p:grpSpPr>
          <a:xfrm>
            <a:off x="5524560" y="2467080"/>
            <a:ext cx="811080" cy="249120"/>
            <a:chOff x="5524560" y="2467080"/>
            <a:chExt cx="811080" cy="249120"/>
          </a:xfrm>
        </p:grpSpPr>
        <p:sp>
          <p:nvSpPr>
            <p:cNvPr id="93" name="燕尾形 28"/>
            <p:cNvSpPr/>
            <p:nvPr/>
          </p:nvSpPr>
          <p:spPr>
            <a:xfrm>
              <a:off x="5524560" y="2467080"/>
              <a:ext cx="268200" cy="249120"/>
            </a:xfrm>
            <a:custGeom>
              <a:avLst/>
              <a:gdLst>
                <a:gd name="textAreaLeft" fmla="*/ 0 w 268200"/>
                <a:gd name="textAreaRight" fmla="*/ 268560 w 268200"/>
                <a:gd name="textAreaTop" fmla="*/ 0 h 249120"/>
                <a:gd name="textAreaBottom" fmla="*/ 249480 h 2491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94" name="燕尾形 35"/>
            <p:cNvSpPr/>
            <p:nvPr/>
          </p:nvSpPr>
          <p:spPr>
            <a:xfrm>
              <a:off x="5802120" y="2467080"/>
              <a:ext cx="268200" cy="249120"/>
            </a:xfrm>
            <a:custGeom>
              <a:avLst/>
              <a:gdLst>
                <a:gd name="textAreaLeft" fmla="*/ 0 w 268200"/>
                <a:gd name="textAreaRight" fmla="*/ 268560 w 268200"/>
                <a:gd name="textAreaTop" fmla="*/ 0 h 249120"/>
                <a:gd name="textAreaBottom" fmla="*/ 249480 h 2491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95" name="燕尾形 36"/>
            <p:cNvSpPr/>
            <p:nvPr/>
          </p:nvSpPr>
          <p:spPr>
            <a:xfrm>
              <a:off x="6067440" y="2467080"/>
              <a:ext cx="268200" cy="249120"/>
            </a:xfrm>
            <a:custGeom>
              <a:avLst/>
              <a:gdLst>
                <a:gd name="textAreaLeft" fmla="*/ 0 w 268200"/>
                <a:gd name="textAreaRight" fmla="*/ 268560 w 268200"/>
                <a:gd name="textAreaTop" fmla="*/ 0 h 249120"/>
                <a:gd name="textAreaBottom" fmla="*/ 249480 h 2491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grpSp>
        <p:nvGrpSpPr>
          <p:cNvPr id="96" name="组合 38"/>
          <p:cNvGrpSpPr/>
          <p:nvPr/>
        </p:nvGrpSpPr>
        <p:grpSpPr>
          <a:xfrm>
            <a:off x="5524200" y="5364000"/>
            <a:ext cx="811080" cy="250920"/>
            <a:chOff x="5524200" y="5364000"/>
            <a:chExt cx="811080" cy="250920"/>
          </a:xfrm>
        </p:grpSpPr>
        <p:sp>
          <p:nvSpPr>
            <p:cNvPr id="97" name="燕尾形 39"/>
            <p:cNvSpPr/>
            <p:nvPr/>
          </p:nvSpPr>
          <p:spPr>
            <a:xfrm flipH="1">
              <a:off x="606672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98" name="燕尾形 40"/>
            <p:cNvSpPr/>
            <p:nvPr/>
          </p:nvSpPr>
          <p:spPr>
            <a:xfrm flipH="1">
              <a:off x="578916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99" name="燕尾形 41"/>
            <p:cNvSpPr/>
            <p:nvPr/>
          </p:nvSpPr>
          <p:spPr>
            <a:xfrm flipH="1">
              <a:off x="552384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grpSp>
        <p:nvGrpSpPr>
          <p:cNvPr id="100" name="组合 42"/>
          <p:cNvGrpSpPr/>
          <p:nvPr/>
        </p:nvGrpSpPr>
        <p:grpSpPr>
          <a:xfrm>
            <a:off x="2952360" y="5364000"/>
            <a:ext cx="811080" cy="250920"/>
            <a:chOff x="2952360" y="5364000"/>
            <a:chExt cx="811080" cy="250920"/>
          </a:xfrm>
        </p:grpSpPr>
        <p:sp>
          <p:nvSpPr>
            <p:cNvPr id="101" name="燕尾形 43"/>
            <p:cNvSpPr/>
            <p:nvPr/>
          </p:nvSpPr>
          <p:spPr>
            <a:xfrm flipH="1">
              <a:off x="349488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02" name="燕尾形 44"/>
            <p:cNvSpPr/>
            <p:nvPr/>
          </p:nvSpPr>
          <p:spPr>
            <a:xfrm flipH="1">
              <a:off x="321732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03" name="燕尾形 45"/>
            <p:cNvSpPr/>
            <p:nvPr/>
          </p:nvSpPr>
          <p:spPr>
            <a:xfrm flipH="1">
              <a:off x="2952000" y="5364000"/>
              <a:ext cx="268200" cy="250920"/>
            </a:xfrm>
            <a:custGeom>
              <a:avLst/>
              <a:gdLst>
                <a:gd name="textAreaLeft" fmla="*/ -360 w 268200"/>
                <a:gd name="textAreaRight" fmla="*/ 268200 w 268200"/>
                <a:gd name="textAreaTop" fmla="*/ 0 h 250920"/>
                <a:gd name="textAreaBottom" fmla="*/ 251280 h 250920"/>
              </a:gdLst>
              <a:ahLst/>
              <a:rect l="textAreaLeft" t="textAreaTop" r="textAreaRight" b="textAreaBottom"/>
              <a:pathLst>
                <a:path w="21600" h="21600">
                  <a:moveTo>
                    <a:pt x="0" y="0"/>
                  </a:moveTo>
                  <a:lnTo>
                    <a:pt x="11545" y="0"/>
                  </a:lnTo>
                  <a:lnTo>
                    <a:pt x="21600" y="10800"/>
                  </a:lnTo>
                  <a:lnTo>
                    <a:pt x="11545" y="21600"/>
                  </a:lnTo>
                  <a:lnTo>
                    <a:pt x="0" y="21600"/>
                  </a:lnTo>
                  <a:lnTo>
                    <a:pt x="10055" y="1080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sp>
        <p:nvSpPr>
          <p:cNvPr id="104" name=""/>
          <p:cNvSpPr/>
          <p:nvPr/>
        </p:nvSpPr>
        <p:spPr>
          <a:xfrm>
            <a:off x="647640" y="4213080"/>
            <a:ext cx="592632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600" spc="-1" strike="noStrike" u="sng">
                <a:solidFill>
                  <a:srgbClr val="ccccff"/>
                </a:solidFill>
                <a:uFillTx/>
                <a:latin typeface="Arial"/>
                <a:hlinkClick r:id="rId2"/>
              </a:rPr>
              <a:t>ppt模板下载 免费完整版</a:t>
            </a:r>
            <a:r>
              <a:rPr b="0" lang="zh-CN" sz="1600" spc="-1" strike="noStrike">
                <a:solidFill>
                  <a:srgbClr val="000000"/>
                </a:solidFill>
                <a:latin typeface="Arial"/>
              </a:rPr>
              <a:t> </a:t>
            </a:r>
            <a:r>
              <a:rPr b="0" lang="en-GB"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Text Box 10"/>
          <p:cNvSpPr/>
          <p:nvPr/>
        </p:nvSpPr>
        <p:spPr>
          <a:xfrm>
            <a:off x="144360" y="395280"/>
            <a:ext cx="9936360" cy="113220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四章：</a:t>
            </a:r>
            <a:r>
              <a:rPr b="1" lang="en-US" sz="3600" spc="-1" strike="noStrike">
                <a:solidFill>
                  <a:srgbClr val="ffffff"/>
                </a:solidFill>
                <a:latin typeface="方正姚体"/>
                <a:ea typeface="方正姚体"/>
              </a:rPr>
              <a:t> </a:t>
            </a:r>
            <a:r>
              <a:rPr b="1" lang="en-US" sz="3600" spc="-1" strike="noStrike">
                <a:solidFill>
                  <a:srgbClr val="ffffff"/>
                </a:solidFill>
                <a:latin typeface="方正姚体"/>
                <a:ea typeface="方正姚体"/>
              </a:rPr>
              <a:t>2012</a:t>
            </a:r>
            <a:r>
              <a:rPr b="1" lang="zh-CN" sz="3600" spc="-1" strike="noStrike">
                <a:solidFill>
                  <a:srgbClr val="ffffff"/>
                </a:solidFill>
                <a:latin typeface="方正姚体"/>
                <a:ea typeface="方正姚体"/>
              </a:rPr>
              <a:t>年中国共产党第十八大简介</a:t>
            </a:r>
            <a:endParaRPr b="0" lang="en-US" sz="3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endParaRPr b="0" lang="en-US" sz="3600" spc="-1" strike="noStrike">
              <a:solidFill>
                <a:srgbClr val="000000"/>
              </a:solidFill>
              <a:latin typeface="Arial"/>
            </a:endParaRPr>
          </a:p>
        </p:txBody>
      </p:sp>
      <p:pic>
        <p:nvPicPr>
          <p:cNvPr id="106" name="Picture 2" descr=""/>
          <p:cNvPicPr/>
          <p:nvPr/>
        </p:nvPicPr>
        <p:blipFill>
          <a:blip r:embed="rId2"/>
          <a:stretch/>
        </p:blipFill>
        <p:spPr>
          <a:xfrm>
            <a:off x="0" y="1460520"/>
            <a:ext cx="10080720" cy="6108840"/>
          </a:xfrm>
          <a:prstGeom prst="rect">
            <a:avLst/>
          </a:prstGeom>
          <a:ln w="0">
            <a:noFill/>
          </a:ln>
        </p:spPr>
      </p:pic>
      <p:sp>
        <p:nvSpPr>
          <p:cNvPr id="107" name="矩形 1"/>
          <p:cNvSpPr/>
          <p:nvPr/>
        </p:nvSpPr>
        <p:spPr>
          <a:xfrm>
            <a:off x="0" y="2484360"/>
            <a:ext cx="8136000" cy="3095640"/>
          </a:xfrm>
          <a:prstGeom prst="rect">
            <a:avLst/>
          </a:prstGeom>
          <a:solidFill>
            <a:srgbClr val="ffffff">
              <a:alpha val="53000"/>
            </a:srgbClr>
          </a:solidFill>
          <a:ln w="0">
            <a:noFill/>
          </a:ln>
        </p:spPr>
        <p:style>
          <a:lnRef idx="0"/>
          <a:fillRef idx="0"/>
          <a:effectRef idx="0"/>
          <a:fontRef idx="minor"/>
        </p:style>
        <p:txBody>
          <a:bodyPr lIns="90000" rIns="90000" tIns="46800" bIns="46800" anchor="t">
            <a:noAutofit/>
          </a:bodyPr>
          <a:p>
            <a:pPr>
              <a:lnSpc>
                <a:spcPct val="15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4000" spc="-1" strike="noStrike">
                <a:solidFill>
                  <a:srgbClr val="000000"/>
                </a:solidFill>
                <a:latin typeface="方正姚体"/>
                <a:ea typeface="方正姚体"/>
              </a:rPr>
              <a:t>中国共产党第十八次全国代表大会</a:t>
            </a:r>
            <a:r>
              <a:rPr b="0" lang="zh-CN" sz="2400" spc="-1" strike="noStrike">
                <a:solidFill>
                  <a:srgbClr val="000000"/>
                </a:solidFill>
                <a:latin typeface="方正姚体"/>
                <a:ea typeface="方正姚体"/>
              </a:rPr>
              <a:t>（简称中共十八大或党的十八大）于</a:t>
            </a:r>
            <a:r>
              <a:rPr b="0" lang="en-US" sz="2400" spc="-1" strike="noStrike">
                <a:solidFill>
                  <a:srgbClr val="000000"/>
                </a:solidFill>
                <a:latin typeface="方正姚体"/>
                <a:ea typeface="方正姚体"/>
              </a:rPr>
              <a:t>2012</a:t>
            </a:r>
            <a:r>
              <a:rPr b="0" lang="zh-CN" sz="2400" spc="-1" strike="noStrike">
                <a:solidFill>
                  <a:srgbClr val="000000"/>
                </a:solidFill>
                <a:latin typeface="方正姚体"/>
                <a:ea typeface="方正姚体"/>
              </a:rPr>
              <a:t>年</a:t>
            </a:r>
            <a:r>
              <a:rPr b="0" lang="en-US" sz="2400" spc="-1" strike="noStrike">
                <a:solidFill>
                  <a:srgbClr val="000000"/>
                </a:solidFill>
                <a:latin typeface="方正姚体"/>
                <a:ea typeface="方正姚体"/>
              </a:rPr>
              <a:t>11</a:t>
            </a:r>
            <a:r>
              <a:rPr b="0" lang="zh-CN" sz="2400" spc="-1" strike="noStrike">
                <a:solidFill>
                  <a:srgbClr val="000000"/>
                </a:solidFill>
                <a:latin typeface="方正姚体"/>
                <a:ea typeface="方正姚体"/>
              </a:rPr>
              <a:t>月</a:t>
            </a:r>
            <a:r>
              <a:rPr b="0" lang="en-US" sz="2400" spc="-1" strike="noStrike">
                <a:solidFill>
                  <a:srgbClr val="000000"/>
                </a:solidFill>
                <a:latin typeface="方正姚体"/>
                <a:ea typeface="方正姚体"/>
              </a:rPr>
              <a:t>8</a:t>
            </a:r>
            <a:r>
              <a:rPr b="0" lang="zh-CN" sz="2400" spc="-1" strike="noStrike">
                <a:solidFill>
                  <a:srgbClr val="000000"/>
                </a:solidFill>
                <a:latin typeface="方正姚体"/>
                <a:ea typeface="方正姚体"/>
              </a:rPr>
              <a:t>日至</a:t>
            </a:r>
            <a:r>
              <a:rPr b="0" lang="en-US" sz="2400" spc="-1" strike="noStrike">
                <a:solidFill>
                  <a:srgbClr val="000000"/>
                </a:solidFill>
                <a:latin typeface="方正姚体"/>
                <a:ea typeface="方正姚体"/>
              </a:rPr>
              <a:t>11</a:t>
            </a:r>
            <a:r>
              <a:rPr b="0" lang="zh-CN" sz="2400" spc="-1" strike="noStrike">
                <a:solidFill>
                  <a:srgbClr val="000000"/>
                </a:solidFill>
                <a:latin typeface="方正姚体"/>
                <a:ea typeface="方正姚体"/>
              </a:rPr>
              <a:t>月</a:t>
            </a:r>
            <a:r>
              <a:rPr b="0" lang="en-US" sz="2400" spc="-1" strike="noStrike">
                <a:solidFill>
                  <a:srgbClr val="000000"/>
                </a:solidFill>
                <a:latin typeface="方正姚体"/>
                <a:ea typeface="方正姚体"/>
              </a:rPr>
              <a:t>14</a:t>
            </a:r>
            <a:r>
              <a:rPr b="0" lang="zh-CN" sz="2400" spc="-1" strike="noStrike">
                <a:solidFill>
                  <a:srgbClr val="000000"/>
                </a:solidFill>
                <a:latin typeface="方正姚体"/>
                <a:ea typeface="方正姚体"/>
              </a:rPr>
              <a:t>日在</a:t>
            </a:r>
            <a:r>
              <a:rPr b="1" lang="zh-CN" sz="3200" spc="-1" strike="noStrike">
                <a:solidFill>
                  <a:srgbClr val="000000"/>
                </a:solidFill>
                <a:latin typeface="方正姚体"/>
                <a:ea typeface="方正姚体"/>
              </a:rPr>
              <a:t>北京</a:t>
            </a:r>
            <a:r>
              <a:rPr b="0" lang="zh-CN" sz="2400" spc="-1" strike="noStrike">
                <a:solidFill>
                  <a:srgbClr val="000000"/>
                </a:solidFill>
                <a:latin typeface="方正姚体"/>
                <a:ea typeface="方正姚体"/>
              </a:rPr>
              <a:t>召开，共</a:t>
            </a:r>
            <a:r>
              <a:rPr b="0" lang="en-US" sz="2400" spc="-1" strike="noStrike">
                <a:solidFill>
                  <a:srgbClr val="000000"/>
                </a:solidFill>
                <a:latin typeface="方正姚体"/>
                <a:ea typeface="方正姚体"/>
              </a:rPr>
              <a:t>7</a:t>
            </a:r>
            <a:r>
              <a:rPr b="0" lang="zh-CN" sz="2400" spc="-1" strike="noStrike">
                <a:solidFill>
                  <a:srgbClr val="000000"/>
                </a:solidFill>
                <a:latin typeface="方正姚体"/>
                <a:ea typeface="方正姚体"/>
              </a:rPr>
              <a:t>日。出席会议的代表有</a:t>
            </a:r>
            <a:r>
              <a:rPr b="1" lang="en-US" sz="3200" spc="-1" strike="noStrike">
                <a:solidFill>
                  <a:srgbClr val="000000"/>
                </a:solidFill>
                <a:latin typeface="方正姚体"/>
                <a:ea typeface="方正姚体"/>
              </a:rPr>
              <a:t>2,268</a:t>
            </a:r>
            <a:r>
              <a:rPr b="1" lang="zh-CN" sz="3200" spc="-1" strike="noStrike">
                <a:solidFill>
                  <a:srgbClr val="000000"/>
                </a:solidFill>
                <a:latin typeface="方正姚体"/>
                <a:ea typeface="方正姚体"/>
              </a:rPr>
              <a:t>名</a:t>
            </a:r>
            <a:r>
              <a:rPr b="0" lang="zh-CN" sz="2400" spc="-1" strike="noStrike">
                <a:solidFill>
                  <a:srgbClr val="000000"/>
                </a:solidFill>
                <a:latin typeface="方正姚体"/>
                <a:ea typeface="方正姚体"/>
              </a:rPr>
              <a:t>，代表当前全国有</a:t>
            </a:r>
            <a:r>
              <a:rPr b="1" lang="en-US" sz="3200" spc="-1" strike="noStrike">
                <a:solidFill>
                  <a:srgbClr val="000000"/>
                </a:solidFill>
                <a:latin typeface="方正姚体"/>
                <a:ea typeface="方正姚体"/>
              </a:rPr>
              <a:t>8,260</a:t>
            </a:r>
            <a:r>
              <a:rPr b="1" lang="zh-CN" sz="3200" spc="-1" strike="noStrike">
                <a:solidFill>
                  <a:srgbClr val="000000"/>
                </a:solidFill>
                <a:latin typeface="方正姚体"/>
                <a:ea typeface="方正姚体"/>
              </a:rPr>
              <a:t>万</a:t>
            </a:r>
            <a:r>
              <a:rPr b="0" lang="zh-CN" sz="2400" spc="-1" strike="noStrike">
                <a:solidFill>
                  <a:srgbClr val="000000"/>
                </a:solidFill>
                <a:latin typeface="方正姚体"/>
                <a:ea typeface="方正姚体"/>
              </a:rPr>
              <a:t>名党员。</a:t>
            </a:r>
            <a:endParaRPr b="0" lang="en-US" sz="24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 Box 10"/>
          <p:cNvSpPr/>
          <p:nvPr/>
        </p:nvSpPr>
        <p:spPr>
          <a:xfrm>
            <a:off x="144360" y="395280"/>
            <a:ext cx="9936360" cy="113220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四章：</a:t>
            </a:r>
            <a:r>
              <a:rPr b="1" lang="en-US" sz="3600" spc="-1" strike="noStrike">
                <a:solidFill>
                  <a:srgbClr val="ffffff"/>
                </a:solidFill>
                <a:latin typeface="方正姚体"/>
                <a:ea typeface="方正姚体"/>
              </a:rPr>
              <a:t> </a:t>
            </a:r>
            <a:r>
              <a:rPr b="1" lang="en-US" sz="3600" spc="-1" strike="noStrike">
                <a:solidFill>
                  <a:srgbClr val="ffffff"/>
                </a:solidFill>
                <a:latin typeface="方正姚体"/>
                <a:ea typeface="方正姚体"/>
              </a:rPr>
              <a:t>2012</a:t>
            </a:r>
            <a:r>
              <a:rPr b="1" lang="zh-CN" sz="3600" spc="-1" strike="noStrike">
                <a:solidFill>
                  <a:srgbClr val="ffffff"/>
                </a:solidFill>
                <a:latin typeface="方正姚体"/>
                <a:ea typeface="方正姚体"/>
              </a:rPr>
              <a:t>年中国共产党第十八大简介</a:t>
            </a:r>
            <a:endParaRPr b="0" lang="en-US" sz="3600" spc="-1" strike="noStrike">
              <a:solidFill>
                <a:srgbClr val="000000"/>
              </a:solidFill>
              <a:latin typeface="Arial"/>
            </a:endParaRPr>
          </a:p>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endParaRPr b="0" lang="en-US" sz="3600" spc="-1" strike="noStrike">
              <a:solidFill>
                <a:srgbClr val="000000"/>
              </a:solidFill>
              <a:latin typeface="Arial"/>
            </a:endParaRPr>
          </a:p>
        </p:txBody>
      </p:sp>
      <p:pic>
        <p:nvPicPr>
          <p:cNvPr id="109" name="Picture 2" descr=""/>
          <p:cNvPicPr/>
          <p:nvPr/>
        </p:nvPicPr>
        <p:blipFill>
          <a:blip r:embed="rId2"/>
          <a:stretch/>
        </p:blipFill>
        <p:spPr>
          <a:xfrm>
            <a:off x="-14400" y="1500120"/>
            <a:ext cx="4079880" cy="6081840"/>
          </a:xfrm>
          <a:prstGeom prst="rect">
            <a:avLst/>
          </a:prstGeom>
          <a:ln w="0">
            <a:noFill/>
          </a:ln>
        </p:spPr>
      </p:pic>
      <p:sp>
        <p:nvSpPr>
          <p:cNvPr id="110" name="TextBox 3"/>
          <p:cNvSpPr/>
          <p:nvPr/>
        </p:nvSpPr>
        <p:spPr>
          <a:xfrm>
            <a:off x="4535640" y="2266920"/>
            <a:ext cx="5329080" cy="870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800" spc="-1" strike="noStrike">
                <a:solidFill>
                  <a:srgbClr val="c00000"/>
                </a:solidFill>
                <a:latin typeface="方正姚体"/>
                <a:ea typeface="方正姚体"/>
              </a:rPr>
              <a:t>中共十八大</a:t>
            </a:r>
            <a:r>
              <a:rPr b="0" lang="zh-CN" sz="1600" spc="-1" strike="noStrike">
                <a:solidFill>
                  <a:srgbClr val="000000"/>
                </a:solidFill>
                <a:latin typeface="方正姚体"/>
                <a:ea typeface="方正姚体"/>
              </a:rPr>
              <a:t>将高举中国特色社会主义伟大旗帜，以邓小平理论和“三个代表”重要思想为指导，深入贯彻落实科学发展观，认真总结过去</a:t>
            </a:r>
            <a:r>
              <a:rPr b="0" lang="en-US" sz="1600" spc="-1" strike="noStrike">
                <a:solidFill>
                  <a:srgbClr val="000000"/>
                </a:solidFill>
                <a:latin typeface="方正姚体"/>
                <a:ea typeface="方正姚体"/>
              </a:rPr>
              <a:t>5</a:t>
            </a:r>
            <a:r>
              <a:rPr b="0" lang="zh-CN" sz="1600" spc="-1" strike="noStrike">
                <a:solidFill>
                  <a:srgbClr val="000000"/>
                </a:solidFill>
                <a:latin typeface="方正姚体"/>
                <a:ea typeface="方正姚体"/>
              </a:rPr>
              <a:t>年的工作和党的十六大以来的实践，回顾总结党团结带领全国各族人民坚持和发展中国特色社会主义的历史进程和宝贵经验，全面审视当今世界和当代  中国共产党十七届六中全会中国发展大势，全面把握我国发展新要求和人民群众新期待，科学制定适应时代要求和人民愿望的行动纲领和大政方针，对全面推进我国改革开放和社会主义现代化建设、全面推进党的建设新的伟大工程作出战略部署，进一步动员全党全国各族人民，坚定不移沿着中国特色社会主义道路前进，继续推动科学发展、促进社会和谐，继续改善人民生活、增进人民福祉，为全面建成小康社会而奋斗。</a:t>
            </a:r>
            <a:endParaRPr b="0" lang="en-US" sz="1600" spc="-1" strike="noStrike">
              <a:solidFill>
                <a:srgbClr val="000000"/>
              </a:solidFill>
              <a:latin typeface="Arial"/>
            </a:endParaRPr>
          </a:p>
        </p:txBody>
      </p:sp>
      <p:sp>
        <p:nvSpPr>
          <p:cNvPr id="111" name="TextBox 4"/>
          <p:cNvSpPr/>
          <p:nvPr/>
        </p:nvSpPr>
        <p:spPr>
          <a:xfrm>
            <a:off x="4464000" y="1774800"/>
            <a:ext cx="18716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2800" spc="-1" strike="noStrike">
                <a:solidFill>
                  <a:srgbClr val="c00000"/>
                </a:solidFill>
                <a:latin typeface="方正姚体"/>
                <a:ea typeface="方正姚体"/>
              </a:rPr>
              <a:t>会议内容</a:t>
            </a:r>
            <a:endParaRPr b="0" lang="en-US" sz="2800" spc="-1" strike="noStrike">
              <a:solidFill>
                <a:srgbClr val="000000"/>
              </a:solidFill>
              <a:latin typeface="Arial"/>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2" name="组合 9"/>
          <p:cNvGrpSpPr/>
          <p:nvPr/>
        </p:nvGrpSpPr>
        <p:grpSpPr>
          <a:xfrm>
            <a:off x="1015920" y="1827360"/>
            <a:ext cx="8128080" cy="4689360"/>
            <a:chOff x="1015920" y="1827360"/>
            <a:chExt cx="8128080" cy="4689360"/>
          </a:xfrm>
        </p:grpSpPr>
        <p:pic>
          <p:nvPicPr>
            <p:cNvPr id="113" name="Picture 1" descr=""/>
            <p:cNvPicPr/>
            <p:nvPr/>
          </p:nvPicPr>
          <p:blipFill>
            <a:blip r:embed="rId2"/>
            <a:stretch/>
          </p:blipFill>
          <p:spPr>
            <a:xfrm>
              <a:off x="1015920" y="1827360"/>
              <a:ext cx="8128080" cy="4689360"/>
            </a:xfrm>
            <a:prstGeom prst="rect">
              <a:avLst/>
            </a:prstGeom>
            <a:ln w="0">
              <a:noFill/>
            </a:ln>
          </p:spPr>
        </p:pic>
        <p:grpSp>
          <p:nvGrpSpPr>
            <p:cNvPr id="114" name="组合 8"/>
            <p:cNvGrpSpPr/>
            <p:nvPr/>
          </p:nvGrpSpPr>
          <p:grpSpPr>
            <a:xfrm>
              <a:off x="3255120" y="2982240"/>
              <a:ext cx="1396800" cy="1048320"/>
              <a:chOff x="3255120" y="2982240"/>
              <a:chExt cx="1396800" cy="1048320"/>
            </a:xfrm>
          </p:grpSpPr>
          <p:sp>
            <p:nvSpPr>
              <p:cNvPr id="115" name="任意多边形 2"/>
              <p:cNvSpPr/>
              <p:nvPr/>
            </p:nvSpPr>
            <p:spPr>
              <a:xfrm>
                <a:off x="3255120" y="2982240"/>
                <a:ext cx="1396800" cy="994320"/>
              </a:xfrm>
              <a:custGeom>
                <a:avLst/>
                <a:gdLst/>
                <a:ahLst/>
                <a:rect l="l" t="t" r="r" b="b"/>
                <a:pathLst>
                  <a:path w="1396890" h="994180">
                    <a:moveTo>
                      <a:pt x="315" y="362078"/>
                    </a:moveTo>
                    <a:cubicBezTo>
                      <a:pt x="2872" y="358498"/>
                      <a:pt x="18985" y="358923"/>
                      <a:pt x="27931" y="355941"/>
                    </a:cubicBezTo>
                    <a:cubicBezTo>
                      <a:pt x="33502" y="354084"/>
                      <a:pt x="43055" y="344544"/>
                      <a:pt x="46342" y="340599"/>
                    </a:cubicBezTo>
                    <a:cubicBezTo>
                      <a:pt x="48703" y="337766"/>
                      <a:pt x="49599" y="333697"/>
                      <a:pt x="52479" y="331393"/>
                    </a:cubicBezTo>
                    <a:cubicBezTo>
                      <a:pt x="55005" y="329373"/>
                      <a:pt x="58502" y="328904"/>
                      <a:pt x="61684" y="328325"/>
                    </a:cubicBezTo>
                    <a:cubicBezTo>
                      <a:pt x="69797" y="326850"/>
                      <a:pt x="78049" y="326279"/>
                      <a:pt x="86232" y="325256"/>
                    </a:cubicBezTo>
                    <a:cubicBezTo>
                      <a:pt x="88278" y="322188"/>
                      <a:pt x="89761" y="318659"/>
                      <a:pt x="92369" y="316051"/>
                    </a:cubicBezTo>
                    <a:cubicBezTo>
                      <a:pt x="99674" y="308746"/>
                      <a:pt x="106782" y="308197"/>
                      <a:pt x="116917" y="306846"/>
                    </a:cubicBezTo>
                    <a:cubicBezTo>
                      <a:pt x="127106" y="305487"/>
                      <a:pt x="137373" y="304800"/>
                      <a:pt x="147601" y="303777"/>
                    </a:cubicBezTo>
                    <a:cubicBezTo>
                      <a:pt x="163804" y="298377"/>
                      <a:pt x="155013" y="303400"/>
                      <a:pt x="169080" y="282298"/>
                    </a:cubicBezTo>
                    <a:cubicBezTo>
                      <a:pt x="170874" y="279607"/>
                      <a:pt x="175393" y="280676"/>
                      <a:pt x="178286" y="279229"/>
                    </a:cubicBezTo>
                    <a:cubicBezTo>
                      <a:pt x="181584" y="277580"/>
                      <a:pt x="184423" y="275138"/>
                      <a:pt x="187491" y="273093"/>
                    </a:cubicBezTo>
                    <a:cubicBezTo>
                      <a:pt x="187588" y="271831"/>
                      <a:pt x="187125" y="235704"/>
                      <a:pt x="193628" y="223997"/>
                    </a:cubicBezTo>
                    <a:cubicBezTo>
                      <a:pt x="197210" y="217549"/>
                      <a:pt x="205902" y="205586"/>
                      <a:pt x="205902" y="205586"/>
                    </a:cubicBezTo>
                    <a:cubicBezTo>
                      <a:pt x="214748" y="179045"/>
                      <a:pt x="202734" y="205609"/>
                      <a:pt x="258066" y="193313"/>
                    </a:cubicBezTo>
                    <a:cubicBezTo>
                      <a:pt x="261666" y="192513"/>
                      <a:pt x="262157" y="187176"/>
                      <a:pt x="264203" y="184107"/>
                    </a:cubicBezTo>
                    <a:cubicBezTo>
                      <a:pt x="266699" y="176619"/>
                      <a:pt x="267459" y="171646"/>
                      <a:pt x="273408" y="165697"/>
                    </a:cubicBezTo>
                    <a:cubicBezTo>
                      <a:pt x="276016" y="163089"/>
                      <a:pt x="279545" y="161606"/>
                      <a:pt x="282613" y="159560"/>
                    </a:cubicBezTo>
                    <a:cubicBezTo>
                      <a:pt x="284659" y="156491"/>
                      <a:pt x="286142" y="152962"/>
                      <a:pt x="288750" y="150354"/>
                    </a:cubicBezTo>
                    <a:cubicBezTo>
                      <a:pt x="291358" y="147746"/>
                      <a:pt x="294657" y="145866"/>
                      <a:pt x="297956" y="144217"/>
                    </a:cubicBezTo>
                    <a:cubicBezTo>
                      <a:pt x="311903" y="137244"/>
                      <a:pt x="343339" y="138564"/>
                      <a:pt x="350119" y="138080"/>
                    </a:cubicBezTo>
                    <a:cubicBezTo>
                      <a:pt x="351142" y="135012"/>
                      <a:pt x="351617" y="131702"/>
                      <a:pt x="353188" y="128875"/>
                    </a:cubicBezTo>
                    <a:cubicBezTo>
                      <a:pt x="356770" y="122428"/>
                      <a:pt x="365462" y="110464"/>
                      <a:pt x="365462" y="110464"/>
                    </a:cubicBezTo>
                    <a:cubicBezTo>
                      <a:pt x="367483" y="104399"/>
                      <a:pt x="369259" y="96381"/>
                      <a:pt x="374667" y="92054"/>
                    </a:cubicBezTo>
                    <a:cubicBezTo>
                      <a:pt x="377193" y="90033"/>
                      <a:pt x="380979" y="90432"/>
                      <a:pt x="383872" y="88985"/>
                    </a:cubicBezTo>
                    <a:cubicBezTo>
                      <a:pt x="387171" y="87336"/>
                      <a:pt x="390009" y="84894"/>
                      <a:pt x="393078" y="82848"/>
                    </a:cubicBezTo>
                    <a:cubicBezTo>
                      <a:pt x="398093" y="84520"/>
                      <a:pt x="408358" y="87045"/>
                      <a:pt x="411488" y="92054"/>
                    </a:cubicBezTo>
                    <a:cubicBezTo>
                      <a:pt x="414916" y="97539"/>
                      <a:pt x="417625" y="110464"/>
                      <a:pt x="417625" y="110464"/>
                    </a:cubicBezTo>
                    <a:cubicBezTo>
                      <a:pt x="418648" y="119669"/>
                      <a:pt x="419171" y="128944"/>
                      <a:pt x="420694" y="138080"/>
                    </a:cubicBezTo>
                    <a:cubicBezTo>
                      <a:pt x="422623" y="149653"/>
                      <a:pt x="424596" y="145885"/>
                      <a:pt x="429899" y="156491"/>
                    </a:cubicBezTo>
                    <a:cubicBezTo>
                      <a:pt x="431346" y="159384"/>
                      <a:pt x="431945" y="162628"/>
                      <a:pt x="432968" y="165697"/>
                    </a:cubicBezTo>
                    <a:cubicBezTo>
                      <a:pt x="433936" y="179251"/>
                      <a:pt x="424698" y="209190"/>
                      <a:pt x="445241" y="214792"/>
                    </a:cubicBezTo>
                    <a:cubicBezTo>
                      <a:pt x="453197" y="216962"/>
                      <a:pt x="461606" y="216837"/>
                      <a:pt x="469789" y="217860"/>
                    </a:cubicBezTo>
                    <a:cubicBezTo>
                      <a:pt x="472857" y="218883"/>
                      <a:pt x="476468" y="218908"/>
                      <a:pt x="478994" y="220929"/>
                    </a:cubicBezTo>
                    <a:cubicBezTo>
                      <a:pt x="489340" y="229206"/>
                      <a:pt x="481847" y="229810"/>
                      <a:pt x="488200" y="239340"/>
                    </a:cubicBezTo>
                    <a:cubicBezTo>
                      <a:pt x="490607" y="242950"/>
                      <a:pt x="494337" y="245477"/>
                      <a:pt x="497405" y="248545"/>
                    </a:cubicBezTo>
                    <a:cubicBezTo>
                      <a:pt x="498428" y="251613"/>
                      <a:pt x="498453" y="255224"/>
                      <a:pt x="500474" y="257750"/>
                    </a:cubicBezTo>
                    <a:cubicBezTo>
                      <a:pt x="505772" y="264372"/>
                      <a:pt x="514582" y="265113"/>
                      <a:pt x="521953" y="266956"/>
                    </a:cubicBezTo>
                    <a:cubicBezTo>
                      <a:pt x="522976" y="270024"/>
                      <a:pt x="524132" y="273051"/>
                      <a:pt x="525021" y="276161"/>
                    </a:cubicBezTo>
                    <a:cubicBezTo>
                      <a:pt x="526180" y="280216"/>
                      <a:pt x="525390" y="285195"/>
                      <a:pt x="528090" y="288435"/>
                    </a:cubicBezTo>
                    <a:cubicBezTo>
                      <a:pt x="531018" y="291949"/>
                      <a:pt x="535825" y="294005"/>
                      <a:pt x="540364" y="294572"/>
                    </a:cubicBezTo>
                    <a:cubicBezTo>
                      <a:pt x="560688" y="297112"/>
                      <a:pt x="581277" y="296617"/>
                      <a:pt x="601733" y="297640"/>
                    </a:cubicBezTo>
                    <a:cubicBezTo>
                      <a:pt x="604618" y="298361"/>
                      <a:pt x="619613" y="301778"/>
                      <a:pt x="623212" y="303777"/>
                    </a:cubicBezTo>
                    <a:cubicBezTo>
                      <a:pt x="654865" y="321361"/>
                      <a:pt x="629999" y="312177"/>
                      <a:pt x="650828" y="319119"/>
                    </a:cubicBezTo>
                    <a:cubicBezTo>
                      <a:pt x="653896" y="321165"/>
                      <a:pt x="656735" y="323607"/>
                      <a:pt x="660033" y="325256"/>
                    </a:cubicBezTo>
                    <a:cubicBezTo>
                      <a:pt x="662926" y="326703"/>
                      <a:pt x="666004" y="328325"/>
                      <a:pt x="669239" y="328325"/>
                    </a:cubicBezTo>
                    <a:cubicBezTo>
                      <a:pt x="710164" y="328325"/>
                      <a:pt x="751064" y="326279"/>
                      <a:pt x="791977" y="325256"/>
                    </a:cubicBezTo>
                    <a:cubicBezTo>
                      <a:pt x="810523" y="320620"/>
                      <a:pt x="800257" y="323520"/>
                      <a:pt x="822662" y="316051"/>
                    </a:cubicBezTo>
                    <a:lnTo>
                      <a:pt x="831867" y="312982"/>
                    </a:lnTo>
                    <a:lnTo>
                      <a:pt x="841072" y="309914"/>
                    </a:lnTo>
                    <a:cubicBezTo>
                      <a:pt x="844141" y="307868"/>
                      <a:pt x="847849" y="306552"/>
                      <a:pt x="850278" y="303777"/>
                    </a:cubicBezTo>
                    <a:cubicBezTo>
                      <a:pt x="855135" y="298226"/>
                      <a:pt x="862552" y="285366"/>
                      <a:pt x="862552" y="285366"/>
                    </a:cubicBezTo>
                    <a:lnTo>
                      <a:pt x="868688" y="266956"/>
                    </a:lnTo>
                    <a:cubicBezTo>
                      <a:pt x="871247" y="259279"/>
                      <a:pt x="876038" y="255215"/>
                      <a:pt x="884031" y="254682"/>
                    </a:cubicBezTo>
                    <a:cubicBezTo>
                      <a:pt x="911605" y="252844"/>
                      <a:pt x="939263" y="252636"/>
                      <a:pt x="966879" y="251613"/>
                    </a:cubicBezTo>
                    <a:cubicBezTo>
                      <a:pt x="969947" y="250590"/>
                      <a:pt x="973558" y="250565"/>
                      <a:pt x="976084" y="248545"/>
                    </a:cubicBezTo>
                    <a:cubicBezTo>
                      <a:pt x="978964" y="246241"/>
                      <a:pt x="979754" y="242081"/>
                      <a:pt x="982221" y="239340"/>
                    </a:cubicBezTo>
                    <a:cubicBezTo>
                      <a:pt x="988995" y="231814"/>
                      <a:pt x="996541" y="225020"/>
                      <a:pt x="1003701" y="217860"/>
                    </a:cubicBezTo>
                    <a:cubicBezTo>
                      <a:pt x="1006309" y="215252"/>
                      <a:pt x="1009536" y="213221"/>
                      <a:pt x="1012906" y="211723"/>
                    </a:cubicBezTo>
                    <a:cubicBezTo>
                      <a:pt x="1025648" y="206060"/>
                      <a:pt x="1033533" y="205143"/>
                      <a:pt x="1046659" y="202518"/>
                    </a:cubicBezTo>
                    <a:cubicBezTo>
                      <a:pt x="1045636" y="194335"/>
                      <a:pt x="1050187" y="182918"/>
                      <a:pt x="1043590" y="177970"/>
                    </a:cubicBezTo>
                    <a:cubicBezTo>
                      <a:pt x="1032868" y="169929"/>
                      <a:pt x="1001666" y="176069"/>
                      <a:pt x="988358" y="177970"/>
                    </a:cubicBezTo>
                    <a:cubicBezTo>
                      <a:pt x="966212" y="191259"/>
                      <a:pt x="962204" y="199336"/>
                      <a:pt x="976084" y="147286"/>
                    </a:cubicBezTo>
                    <a:cubicBezTo>
                      <a:pt x="976756" y="144766"/>
                      <a:pt x="997297" y="135165"/>
                      <a:pt x="997564" y="135012"/>
                    </a:cubicBezTo>
                    <a:cubicBezTo>
                      <a:pt x="1000766" y="133182"/>
                      <a:pt x="1003379" y="130328"/>
                      <a:pt x="1006769" y="128875"/>
                    </a:cubicBezTo>
                    <a:cubicBezTo>
                      <a:pt x="1010645" y="127214"/>
                      <a:pt x="1014988" y="126966"/>
                      <a:pt x="1019043" y="125807"/>
                    </a:cubicBezTo>
                    <a:cubicBezTo>
                      <a:pt x="1044854" y="118432"/>
                      <a:pt x="1006284" y="124568"/>
                      <a:pt x="1065070" y="119670"/>
                    </a:cubicBezTo>
                    <a:cubicBezTo>
                      <a:pt x="1068138" y="116601"/>
                      <a:pt x="1070980" y="113288"/>
                      <a:pt x="1074275" y="110464"/>
                    </a:cubicBezTo>
                    <a:cubicBezTo>
                      <a:pt x="1078158" y="107136"/>
                      <a:pt x="1083275" y="105188"/>
                      <a:pt x="1086549" y="101259"/>
                    </a:cubicBezTo>
                    <a:cubicBezTo>
                      <a:pt x="1088620" y="98774"/>
                      <a:pt x="1087823" y="94745"/>
                      <a:pt x="1089617" y="92054"/>
                    </a:cubicBezTo>
                    <a:cubicBezTo>
                      <a:pt x="1092024" y="88443"/>
                      <a:pt x="1096045" y="86182"/>
                      <a:pt x="1098823" y="82848"/>
                    </a:cubicBezTo>
                    <a:cubicBezTo>
                      <a:pt x="1104246" y="76340"/>
                      <a:pt x="1107343" y="68876"/>
                      <a:pt x="1111096" y="61369"/>
                    </a:cubicBezTo>
                    <a:cubicBezTo>
                      <a:pt x="1112119" y="45004"/>
                      <a:pt x="1112448" y="28581"/>
                      <a:pt x="1114165" y="12274"/>
                    </a:cubicBezTo>
                    <a:cubicBezTo>
                      <a:pt x="1114504" y="9057"/>
                      <a:pt x="1114946" y="5355"/>
                      <a:pt x="1117233" y="3068"/>
                    </a:cubicBezTo>
                    <a:cubicBezTo>
                      <a:pt x="1119520" y="781"/>
                      <a:pt x="1123370" y="1023"/>
                      <a:pt x="1126439" y="0"/>
                    </a:cubicBezTo>
                    <a:cubicBezTo>
                      <a:pt x="1166629" y="3653"/>
                      <a:pt x="1149477" y="-504"/>
                      <a:pt x="1178603" y="9205"/>
                    </a:cubicBezTo>
                    <a:lnTo>
                      <a:pt x="1187808" y="12274"/>
                    </a:lnTo>
                    <a:cubicBezTo>
                      <a:pt x="1193125" y="14047"/>
                      <a:pt x="1203229" y="23772"/>
                      <a:pt x="1206219" y="27616"/>
                    </a:cubicBezTo>
                    <a:cubicBezTo>
                      <a:pt x="1220096" y="45458"/>
                      <a:pt x="1217899" y="44249"/>
                      <a:pt x="1224629" y="64437"/>
                    </a:cubicBezTo>
                    <a:lnTo>
                      <a:pt x="1227698" y="73643"/>
                    </a:lnTo>
                    <a:cubicBezTo>
                      <a:pt x="1228721" y="83871"/>
                      <a:pt x="1228872" y="94224"/>
                      <a:pt x="1230766" y="104327"/>
                    </a:cubicBezTo>
                    <a:cubicBezTo>
                      <a:pt x="1231958" y="110685"/>
                      <a:pt x="1234857" y="116601"/>
                      <a:pt x="1236903" y="122738"/>
                    </a:cubicBezTo>
                    <a:cubicBezTo>
                      <a:pt x="1238069" y="126237"/>
                      <a:pt x="1242810" y="127226"/>
                      <a:pt x="1246109" y="128875"/>
                    </a:cubicBezTo>
                    <a:cubicBezTo>
                      <a:pt x="1259567" y="135604"/>
                      <a:pt x="1262419" y="135206"/>
                      <a:pt x="1276793" y="138080"/>
                    </a:cubicBezTo>
                    <a:cubicBezTo>
                      <a:pt x="1278839" y="141149"/>
                      <a:pt x="1281432" y="143916"/>
                      <a:pt x="1282930" y="147286"/>
                    </a:cubicBezTo>
                    <a:cubicBezTo>
                      <a:pt x="1285557" y="153197"/>
                      <a:pt x="1283892" y="161816"/>
                      <a:pt x="1289067" y="165697"/>
                    </a:cubicBezTo>
                    <a:cubicBezTo>
                      <a:pt x="1293158" y="168765"/>
                      <a:pt x="1296767" y="172615"/>
                      <a:pt x="1301341" y="174902"/>
                    </a:cubicBezTo>
                    <a:cubicBezTo>
                      <a:pt x="1305113" y="176788"/>
                      <a:pt x="1309560" y="176811"/>
                      <a:pt x="1313615" y="177970"/>
                    </a:cubicBezTo>
                    <a:cubicBezTo>
                      <a:pt x="1316725" y="178859"/>
                      <a:pt x="1319752" y="180016"/>
                      <a:pt x="1322820" y="181039"/>
                    </a:cubicBezTo>
                    <a:cubicBezTo>
                      <a:pt x="1323806" y="180940"/>
                      <a:pt x="1357437" y="179072"/>
                      <a:pt x="1365778" y="174902"/>
                    </a:cubicBezTo>
                    <a:cubicBezTo>
                      <a:pt x="1370352" y="172615"/>
                      <a:pt x="1373890" y="168669"/>
                      <a:pt x="1378052" y="165697"/>
                    </a:cubicBezTo>
                    <a:cubicBezTo>
                      <a:pt x="1381053" y="163553"/>
                      <a:pt x="1384189" y="161606"/>
                      <a:pt x="1387258" y="159560"/>
                    </a:cubicBezTo>
                    <a:cubicBezTo>
                      <a:pt x="1390326" y="160583"/>
                      <a:pt x="1395017" y="159735"/>
                      <a:pt x="1396463" y="162628"/>
                    </a:cubicBezTo>
                    <a:cubicBezTo>
                      <a:pt x="1397909" y="165521"/>
                      <a:pt x="1395380" y="169280"/>
                      <a:pt x="1393394" y="171833"/>
                    </a:cubicBezTo>
                    <a:cubicBezTo>
                      <a:pt x="1388066" y="178684"/>
                      <a:pt x="1381121" y="184107"/>
                      <a:pt x="1374984" y="190244"/>
                    </a:cubicBezTo>
                    <a:cubicBezTo>
                      <a:pt x="1369769" y="195460"/>
                      <a:pt x="1366801" y="202518"/>
                      <a:pt x="1362710" y="208655"/>
                    </a:cubicBezTo>
                    <a:cubicBezTo>
                      <a:pt x="1359500" y="213469"/>
                      <a:pt x="1354527" y="216838"/>
                      <a:pt x="1350436" y="220929"/>
                    </a:cubicBezTo>
                    <a:lnTo>
                      <a:pt x="1344299" y="239340"/>
                    </a:lnTo>
                    <a:cubicBezTo>
                      <a:pt x="1343276" y="242408"/>
                      <a:pt x="1344299" y="247522"/>
                      <a:pt x="1341231" y="248545"/>
                    </a:cubicBezTo>
                    <a:lnTo>
                      <a:pt x="1322820" y="254682"/>
                    </a:lnTo>
                    <a:lnTo>
                      <a:pt x="1313615" y="257750"/>
                    </a:lnTo>
                    <a:lnTo>
                      <a:pt x="1301341" y="276161"/>
                    </a:lnTo>
                    <a:cubicBezTo>
                      <a:pt x="1299295" y="279229"/>
                      <a:pt x="1296370" y="281868"/>
                      <a:pt x="1295204" y="285366"/>
                    </a:cubicBezTo>
                    <a:lnTo>
                      <a:pt x="1289067" y="303777"/>
                    </a:lnTo>
                    <a:cubicBezTo>
                      <a:pt x="1287046" y="309841"/>
                      <a:pt x="1285270" y="317862"/>
                      <a:pt x="1279862" y="322188"/>
                    </a:cubicBezTo>
                    <a:cubicBezTo>
                      <a:pt x="1277336" y="324209"/>
                      <a:pt x="1273725" y="324233"/>
                      <a:pt x="1270656" y="325256"/>
                    </a:cubicBezTo>
                    <a:cubicBezTo>
                      <a:pt x="1244277" y="342843"/>
                      <a:pt x="1277653" y="321758"/>
                      <a:pt x="1252245" y="334462"/>
                    </a:cubicBezTo>
                    <a:cubicBezTo>
                      <a:pt x="1230100" y="345535"/>
                      <a:pt x="1257669" y="335975"/>
                      <a:pt x="1230766" y="346735"/>
                    </a:cubicBezTo>
                    <a:cubicBezTo>
                      <a:pt x="1224760" y="349137"/>
                      <a:pt x="1218493" y="350826"/>
                      <a:pt x="1212356" y="352872"/>
                    </a:cubicBezTo>
                    <a:cubicBezTo>
                      <a:pt x="1209287" y="353895"/>
                      <a:pt x="1206322" y="355307"/>
                      <a:pt x="1203150" y="355941"/>
                    </a:cubicBezTo>
                    <a:lnTo>
                      <a:pt x="1187808" y="359009"/>
                    </a:lnTo>
                    <a:cubicBezTo>
                      <a:pt x="1183717" y="362078"/>
                      <a:pt x="1178506" y="364053"/>
                      <a:pt x="1175534" y="368215"/>
                    </a:cubicBezTo>
                    <a:cubicBezTo>
                      <a:pt x="1162291" y="386757"/>
                      <a:pt x="1183670" y="376755"/>
                      <a:pt x="1163260" y="383557"/>
                    </a:cubicBezTo>
                    <a:cubicBezTo>
                      <a:pt x="1154210" y="389591"/>
                      <a:pt x="1152232" y="390040"/>
                      <a:pt x="1144850" y="398899"/>
                    </a:cubicBezTo>
                    <a:cubicBezTo>
                      <a:pt x="1142489" y="401732"/>
                      <a:pt x="1141593" y="405801"/>
                      <a:pt x="1138713" y="408105"/>
                    </a:cubicBezTo>
                    <a:cubicBezTo>
                      <a:pt x="1136187" y="410126"/>
                      <a:pt x="1132576" y="410150"/>
                      <a:pt x="1129507" y="411173"/>
                    </a:cubicBezTo>
                    <a:cubicBezTo>
                      <a:pt x="1098302" y="431976"/>
                      <a:pt x="1118455" y="422956"/>
                      <a:pt x="1065070" y="426515"/>
                    </a:cubicBezTo>
                    <a:cubicBezTo>
                      <a:pt x="1059466" y="409707"/>
                      <a:pt x="1060870" y="419409"/>
                      <a:pt x="1068138" y="392762"/>
                    </a:cubicBezTo>
                    <a:cubicBezTo>
                      <a:pt x="1068989" y="389642"/>
                      <a:pt x="1073898" y="385351"/>
                      <a:pt x="1071207" y="383557"/>
                    </a:cubicBezTo>
                    <a:cubicBezTo>
                      <a:pt x="1067698" y="381218"/>
                      <a:pt x="1063024" y="385602"/>
                      <a:pt x="1058933" y="386625"/>
                    </a:cubicBezTo>
                    <a:cubicBezTo>
                      <a:pt x="1049668" y="392801"/>
                      <a:pt x="1046395" y="395896"/>
                      <a:pt x="1034385" y="398899"/>
                    </a:cubicBezTo>
                    <a:cubicBezTo>
                      <a:pt x="1027369" y="400653"/>
                      <a:pt x="1020066" y="400945"/>
                      <a:pt x="1012906" y="401968"/>
                    </a:cubicBezTo>
                    <a:cubicBezTo>
                      <a:pt x="1013929" y="405036"/>
                      <a:pt x="1014403" y="408346"/>
                      <a:pt x="1015974" y="411173"/>
                    </a:cubicBezTo>
                    <a:cubicBezTo>
                      <a:pt x="1019556" y="417621"/>
                      <a:pt x="1028248" y="429584"/>
                      <a:pt x="1028248" y="429584"/>
                    </a:cubicBezTo>
                    <a:cubicBezTo>
                      <a:pt x="1009114" y="442341"/>
                      <a:pt x="1030698" y="430982"/>
                      <a:pt x="1000632" y="432652"/>
                    </a:cubicBezTo>
                    <a:cubicBezTo>
                      <a:pt x="988208" y="433342"/>
                      <a:pt x="976085" y="436743"/>
                      <a:pt x="963811" y="438789"/>
                    </a:cubicBezTo>
                    <a:cubicBezTo>
                      <a:pt x="959786" y="454888"/>
                      <a:pt x="956576" y="461851"/>
                      <a:pt x="963811" y="481748"/>
                    </a:cubicBezTo>
                    <a:cubicBezTo>
                      <a:pt x="964916" y="484788"/>
                      <a:pt x="969878" y="484032"/>
                      <a:pt x="973016" y="484816"/>
                    </a:cubicBezTo>
                    <a:cubicBezTo>
                      <a:pt x="978076" y="486081"/>
                      <a:pt x="983244" y="486861"/>
                      <a:pt x="988358" y="487884"/>
                    </a:cubicBezTo>
                    <a:cubicBezTo>
                      <a:pt x="1004680" y="496045"/>
                      <a:pt x="1004662" y="498814"/>
                      <a:pt x="1028248" y="490953"/>
                    </a:cubicBezTo>
                    <a:cubicBezTo>
                      <a:pt x="1032365" y="489581"/>
                      <a:pt x="1033686" y="483901"/>
                      <a:pt x="1037454" y="481748"/>
                    </a:cubicBezTo>
                    <a:cubicBezTo>
                      <a:pt x="1041115" y="479656"/>
                      <a:pt x="1045636" y="479702"/>
                      <a:pt x="1049727" y="478679"/>
                    </a:cubicBezTo>
                    <a:cubicBezTo>
                      <a:pt x="1058135" y="479880"/>
                      <a:pt x="1083017" y="476168"/>
                      <a:pt x="1068138" y="494021"/>
                    </a:cubicBezTo>
                    <a:cubicBezTo>
                      <a:pt x="1065209" y="497535"/>
                      <a:pt x="1060204" y="498711"/>
                      <a:pt x="1055864" y="500158"/>
                    </a:cubicBezTo>
                    <a:cubicBezTo>
                      <a:pt x="1047863" y="502825"/>
                      <a:pt x="1031317" y="506295"/>
                      <a:pt x="1031317" y="506295"/>
                    </a:cubicBezTo>
                    <a:cubicBezTo>
                      <a:pt x="1019537" y="514148"/>
                      <a:pt x="1020147" y="511844"/>
                      <a:pt x="1012906" y="527774"/>
                    </a:cubicBezTo>
                    <a:cubicBezTo>
                      <a:pt x="1010229" y="533663"/>
                      <a:pt x="1008815" y="540048"/>
                      <a:pt x="1006769" y="546185"/>
                    </a:cubicBezTo>
                    <a:lnTo>
                      <a:pt x="1003701" y="555391"/>
                    </a:lnTo>
                    <a:cubicBezTo>
                      <a:pt x="1004724" y="572779"/>
                      <a:pt x="1004185" y="590329"/>
                      <a:pt x="1006769" y="607554"/>
                    </a:cubicBezTo>
                    <a:cubicBezTo>
                      <a:pt x="1007943" y="615383"/>
                      <a:pt x="1020771" y="622357"/>
                      <a:pt x="1025180" y="625965"/>
                    </a:cubicBezTo>
                    <a:cubicBezTo>
                      <a:pt x="1044642" y="641888"/>
                      <a:pt x="1042435" y="640152"/>
                      <a:pt x="1055864" y="653581"/>
                    </a:cubicBezTo>
                    <a:cubicBezTo>
                      <a:pt x="1034763" y="667649"/>
                      <a:pt x="1039787" y="658858"/>
                      <a:pt x="1034385" y="675060"/>
                    </a:cubicBezTo>
                    <a:cubicBezTo>
                      <a:pt x="1033362" y="684265"/>
                      <a:pt x="1034757" y="694076"/>
                      <a:pt x="1031317" y="702676"/>
                    </a:cubicBezTo>
                    <a:cubicBezTo>
                      <a:pt x="1030116" y="705679"/>
                      <a:pt x="1024398" y="703458"/>
                      <a:pt x="1022111" y="705745"/>
                    </a:cubicBezTo>
                    <a:cubicBezTo>
                      <a:pt x="1019824" y="708032"/>
                      <a:pt x="1020066" y="711882"/>
                      <a:pt x="1019043" y="714950"/>
                    </a:cubicBezTo>
                    <a:cubicBezTo>
                      <a:pt x="1021089" y="723133"/>
                      <a:pt x="1024416" y="731098"/>
                      <a:pt x="1025180" y="739498"/>
                    </a:cubicBezTo>
                    <a:cubicBezTo>
                      <a:pt x="1025473" y="742719"/>
                      <a:pt x="1023905" y="746012"/>
                      <a:pt x="1022111" y="748703"/>
                    </a:cubicBezTo>
                    <a:cubicBezTo>
                      <a:pt x="1015890" y="758035"/>
                      <a:pt x="1010233" y="759246"/>
                      <a:pt x="1000632" y="764046"/>
                    </a:cubicBezTo>
                    <a:cubicBezTo>
                      <a:pt x="998586" y="767114"/>
                      <a:pt x="997103" y="770643"/>
                      <a:pt x="994495" y="773251"/>
                    </a:cubicBezTo>
                    <a:cubicBezTo>
                      <a:pt x="991887" y="775859"/>
                      <a:pt x="987594" y="776508"/>
                      <a:pt x="985290" y="779388"/>
                    </a:cubicBezTo>
                    <a:cubicBezTo>
                      <a:pt x="983269" y="781914"/>
                      <a:pt x="983244" y="785525"/>
                      <a:pt x="982221" y="788593"/>
                    </a:cubicBezTo>
                    <a:cubicBezTo>
                      <a:pt x="987716" y="805078"/>
                      <a:pt x="988232" y="802439"/>
                      <a:pt x="982221" y="828483"/>
                    </a:cubicBezTo>
                    <a:cubicBezTo>
                      <a:pt x="981392" y="832077"/>
                      <a:pt x="978917" y="835328"/>
                      <a:pt x="976084" y="837689"/>
                    </a:cubicBezTo>
                    <a:cubicBezTo>
                      <a:pt x="972570" y="840617"/>
                      <a:pt x="967902" y="841780"/>
                      <a:pt x="963811" y="843825"/>
                    </a:cubicBezTo>
                    <a:lnTo>
                      <a:pt x="945400" y="871442"/>
                    </a:lnTo>
                    <a:cubicBezTo>
                      <a:pt x="943354" y="874510"/>
                      <a:pt x="942561" y="878998"/>
                      <a:pt x="939263" y="880647"/>
                    </a:cubicBezTo>
                    <a:cubicBezTo>
                      <a:pt x="935172" y="882693"/>
                      <a:pt x="931272" y="885178"/>
                      <a:pt x="926989" y="886784"/>
                    </a:cubicBezTo>
                    <a:cubicBezTo>
                      <a:pt x="922043" y="888639"/>
                      <a:pt x="903531" y="892089"/>
                      <a:pt x="899373" y="892921"/>
                    </a:cubicBezTo>
                    <a:cubicBezTo>
                      <a:pt x="888035" y="909927"/>
                      <a:pt x="899723" y="896478"/>
                      <a:pt x="884031" y="905195"/>
                    </a:cubicBezTo>
                    <a:cubicBezTo>
                      <a:pt x="877584" y="908777"/>
                      <a:pt x="871757" y="913377"/>
                      <a:pt x="865620" y="917468"/>
                    </a:cubicBezTo>
                    <a:cubicBezTo>
                      <a:pt x="861814" y="920005"/>
                      <a:pt x="857318" y="921335"/>
                      <a:pt x="853346" y="923605"/>
                    </a:cubicBezTo>
                    <a:cubicBezTo>
                      <a:pt x="850144" y="925435"/>
                      <a:pt x="847531" y="928289"/>
                      <a:pt x="844141" y="929742"/>
                    </a:cubicBezTo>
                    <a:cubicBezTo>
                      <a:pt x="840265" y="931403"/>
                      <a:pt x="835898" y="931571"/>
                      <a:pt x="831867" y="932811"/>
                    </a:cubicBezTo>
                    <a:cubicBezTo>
                      <a:pt x="822593" y="935665"/>
                      <a:pt x="813456" y="938948"/>
                      <a:pt x="804251" y="942016"/>
                    </a:cubicBezTo>
                    <a:cubicBezTo>
                      <a:pt x="800250" y="943350"/>
                      <a:pt x="796032" y="943925"/>
                      <a:pt x="791977" y="945084"/>
                    </a:cubicBezTo>
                    <a:cubicBezTo>
                      <a:pt x="788867" y="945973"/>
                      <a:pt x="785987" y="947796"/>
                      <a:pt x="782772" y="948153"/>
                    </a:cubicBezTo>
                    <a:cubicBezTo>
                      <a:pt x="767490" y="949851"/>
                      <a:pt x="752087" y="950198"/>
                      <a:pt x="736745" y="951221"/>
                    </a:cubicBezTo>
                    <a:cubicBezTo>
                      <a:pt x="721748" y="966218"/>
                      <a:pt x="732174" y="953851"/>
                      <a:pt x="721403" y="972701"/>
                    </a:cubicBezTo>
                    <a:cubicBezTo>
                      <a:pt x="719573" y="975903"/>
                      <a:pt x="716915" y="978608"/>
                      <a:pt x="715266" y="981906"/>
                    </a:cubicBezTo>
                    <a:cubicBezTo>
                      <a:pt x="713819" y="984799"/>
                      <a:pt x="714484" y="988824"/>
                      <a:pt x="712197" y="991111"/>
                    </a:cubicBezTo>
                    <a:cubicBezTo>
                      <a:pt x="709910" y="993398"/>
                      <a:pt x="706060" y="993157"/>
                      <a:pt x="702992" y="994180"/>
                    </a:cubicBezTo>
                    <a:cubicBezTo>
                      <a:pt x="700946" y="991111"/>
                      <a:pt x="698353" y="988344"/>
                      <a:pt x="696855" y="984974"/>
                    </a:cubicBezTo>
                    <a:cubicBezTo>
                      <a:pt x="694228" y="979063"/>
                      <a:pt x="690718" y="966564"/>
                      <a:pt x="690718" y="966564"/>
                    </a:cubicBezTo>
                    <a:cubicBezTo>
                      <a:pt x="692764" y="963495"/>
                      <a:pt x="697578" y="960974"/>
                      <a:pt x="696855" y="957358"/>
                    </a:cubicBezTo>
                    <a:cubicBezTo>
                      <a:pt x="696132" y="953742"/>
                      <a:pt x="691182" y="952281"/>
                      <a:pt x="687650" y="951221"/>
                    </a:cubicBezTo>
                    <a:cubicBezTo>
                      <a:pt x="680722" y="949143"/>
                      <a:pt x="673330" y="949176"/>
                      <a:pt x="666170" y="948153"/>
                    </a:cubicBezTo>
                    <a:cubicBezTo>
                      <a:pt x="659103" y="943441"/>
                      <a:pt x="653896" y="942691"/>
                      <a:pt x="653896" y="932811"/>
                    </a:cubicBezTo>
                    <a:cubicBezTo>
                      <a:pt x="653896" y="929576"/>
                      <a:pt x="655942" y="926674"/>
                      <a:pt x="656965" y="923605"/>
                    </a:cubicBezTo>
                    <a:cubicBezTo>
                      <a:pt x="651757" y="907985"/>
                      <a:pt x="658080" y="918769"/>
                      <a:pt x="644691" y="911331"/>
                    </a:cubicBezTo>
                    <a:cubicBezTo>
                      <a:pt x="638244" y="907749"/>
                      <a:pt x="626280" y="899058"/>
                      <a:pt x="626280" y="899058"/>
                    </a:cubicBezTo>
                    <a:cubicBezTo>
                      <a:pt x="606851" y="903915"/>
                      <a:pt x="617516" y="899787"/>
                      <a:pt x="595596" y="914400"/>
                    </a:cubicBezTo>
                    <a:cubicBezTo>
                      <a:pt x="589035" y="918774"/>
                      <a:pt x="562912" y="920384"/>
                      <a:pt x="561843" y="920537"/>
                    </a:cubicBezTo>
                    <a:cubicBezTo>
                      <a:pt x="555684" y="921417"/>
                      <a:pt x="549569" y="922582"/>
                      <a:pt x="543432" y="923605"/>
                    </a:cubicBezTo>
                    <a:lnTo>
                      <a:pt x="525021" y="929742"/>
                    </a:lnTo>
                    <a:cubicBezTo>
                      <a:pt x="521953" y="930765"/>
                      <a:pt x="518954" y="932027"/>
                      <a:pt x="515816" y="932811"/>
                    </a:cubicBezTo>
                    <a:cubicBezTo>
                      <a:pt x="500404" y="936663"/>
                      <a:pt x="507543" y="934545"/>
                      <a:pt x="494337" y="938948"/>
                    </a:cubicBezTo>
                    <a:cubicBezTo>
                      <a:pt x="490246" y="936902"/>
                      <a:pt x="485536" y="935788"/>
                      <a:pt x="482063" y="932811"/>
                    </a:cubicBezTo>
                    <a:cubicBezTo>
                      <a:pt x="473395" y="925381"/>
                      <a:pt x="472908" y="920688"/>
                      <a:pt x="469789" y="911331"/>
                    </a:cubicBezTo>
                    <a:cubicBezTo>
                      <a:pt x="468766" y="898035"/>
                      <a:pt x="473337" y="883020"/>
                      <a:pt x="466721" y="871442"/>
                    </a:cubicBezTo>
                    <a:cubicBezTo>
                      <a:pt x="463133" y="865162"/>
                      <a:pt x="451850" y="871311"/>
                      <a:pt x="445241" y="868373"/>
                    </a:cubicBezTo>
                    <a:cubicBezTo>
                      <a:pt x="441871" y="866875"/>
                      <a:pt x="441150" y="862236"/>
                      <a:pt x="439105" y="859168"/>
                    </a:cubicBezTo>
                    <a:cubicBezTo>
                      <a:pt x="442173" y="856099"/>
                      <a:pt x="444976" y="852740"/>
                      <a:pt x="448310" y="849962"/>
                    </a:cubicBezTo>
                    <a:cubicBezTo>
                      <a:pt x="452361" y="846586"/>
                      <a:pt x="470714" y="835906"/>
                      <a:pt x="472858" y="834620"/>
                    </a:cubicBezTo>
                    <a:cubicBezTo>
                      <a:pt x="490273" y="808495"/>
                      <a:pt x="489774" y="817446"/>
                      <a:pt x="482063" y="776319"/>
                    </a:cubicBezTo>
                    <a:cubicBezTo>
                      <a:pt x="481383" y="772694"/>
                      <a:pt x="477972" y="770182"/>
                      <a:pt x="475926" y="767114"/>
                    </a:cubicBezTo>
                    <a:cubicBezTo>
                      <a:pt x="474903" y="764046"/>
                      <a:pt x="474429" y="760736"/>
                      <a:pt x="472858" y="757909"/>
                    </a:cubicBezTo>
                    <a:cubicBezTo>
                      <a:pt x="469276" y="751461"/>
                      <a:pt x="460584" y="739498"/>
                      <a:pt x="460584" y="739498"/>
                    </a:cubicBezTo>
                    <a:cubicBezTo>
                      <a:pt x="456493" y="741544"/>
                      <a:pt x="451824" y="742707"/>
                      <a:pt x="448310" y="745635"/>
                    </a:cubicBezTo>
                    <a:cubicBezTo>
                      <a:pt x="445477" y="747996"/>
                      <a:pt x="445671" y="753674"/>
                      <a:pt x="442173" y="754840"/>
                    </a:cubicBezTo>
                    <a:cubicBezTo>
                      <a:pt x="438172" y="756174"/>
                      <a:pt x="433990" y="752795"/>
                      <a:pt x="429899" y="751772"/>
                    </a:cubicBezTo>
                    <a:cubicBezTo>
                      <a:pt x="403185" y="755334"/>
                      <a:pt x="392488" y="755009"/>
                      <a:pt x="371599" y="760977"/>
                    </a:cubicBezTo>
                    <a:cubicBezTo>
                      <a:pt x="368489" y="761866"/>
                      <a:pt x="365514" y="763195"/>
                      <a:pt x="362393" y="764046"/>
                    </a:cubicBezTo>
                    <a:cubicBezTo>
                      <a:pt x="354256" y="766265"/>
                      <a:pt x="337845" y="770182"/>
                      <a:pt x="337845" y="770182"/>
                    </a:cubicBezTo>
                    <a:cubicBezTo>
                      <a:pt x="333754" y="769159"/>
                      <a:pt x="328554" y="770096"/>
                      <a:pt x="325572" y="767114"/>
                    </a:cubicBezTo>
                    <a:cubicBezTo>
                      <a:pt x="320720" y="762262"/>
                      <a:pt x="320172" y="754412"/>
                      <a:pt x="316366" y="748703"/>
                    </a:cubicBezTo>
                    <a:cubicBezTo>
                      <a:pt x="309799" y="738853"/>
                      <a:pt x="307606" y="739646"/>
                      <a:pt x="297956" y="736429"/>
                    </a:cubicBezTo>
                    <a:cubicBezTo>
                      <a:pt x="287728" y="737452"/>
                      <a:pt x="277287" y="737186"/>
                      <a:pt x="267271" y="739498"/>
                    </a:cubicBezTo>
                    <a:cubicBezTo>
                      <a:pt x="263678" y="740327"/>
                      <a:pt x="261364" y="743986"/>
                      <a:pt x="258066" y="745635"/>
                    </a:cubicBezTo>
                    <a:cubicBezTo>
                      <a:pt x="255173" y="747081"/>
                      <a:pt x="251929" y="747680"/>
                      <a:pt x="248860" y="748703"/>
                    </a:cubicBezTo>
                    <a:cubicBezTo>
                      <a:pt x="232658" y="743303"/>
                      <a:pt x="241449" y="748326"/>
                      <a:pt x="227381" y="727224"/>
                    </a:cubicBezTo>
                    <a:cubicBezTo>
                      <a:pt x="225042" y="723715"/>
                      <a:pt x="219282" y="724752"/>
                      <a:pt x="215107" y="724156"/>
                    </a:cubicBezTo>
                    <a:cubicBezTo>
                      <a:pt x="204931" y="722702"/>
                      <a:pt x="194651" y="722110"/>
                      <a:pt x="184423" y="721087"/>
                    </a:cubicBezTo>
                    <a:cubicBezTo>
                      <a:pt x="181354" y="718019"/>
                      <a:pt x="177624" y="715493"/>
                      <a:pt x="175217" y="711882"/>
                    </a:cubicBezTo>
                    <a:cubicBezTo>
                      <a:pt x="173423" y="709191"/>
                      <a:pt x="173720" y="705504"/>
                      <a:pt x="172149" y="702676"/>
                    </a:cubicBezTo>
                    <a:cubicBezTo>
                      <a:pt x="168567" y="696229"/>
                      <a:pt x="163966" y="690403"/>
                      <a:pt x="159875" y="684266"/>
                    </a:cubicBezTo>
                    <a:cubicBezTo>
                      <a:pt x="157338" y="680460"/>
                      <a:pt x="151573" y="680399"/>
                      <a:pt x="147601" y="678129"/>
                    </a:cubicBezTo>
                    <a:cubicBezTo>
                      <a:pt x="144399" y="676299"/>
                      <a:pt x="141464" y="674038"/>
                      <a:pt x="138396" y="671992"/>
                    </a:cubicBezTo>
                    <a:cubicBezTo>
                      <a:pt x="136350" y="668923"/>
                      <a:pt x="135328" y="664832"/>
                      <a:pt x="132259" y="662786"/>
                    </a:cubicBezTo>
                    <a:cubicBezTo>
                      <a:pt x="128750" y="660447"/>
                      <a:pt x="124040" y="660876"/>
                      <a:pt x="119985" y="659718"/>
                    </a:cubicBezTo>
                    <a:cubicBezTo>
                      <a:pt x="116875" y="658830"/>
                      <a:pt x="113848" y="657673"/>
                      <a:pt x="110780" y="656650"/>
                    </a:cubicBezTo>
                    <a:lnTo>
                      <a:pt x="92369" y="644376"/>
                    </a:lnTo>
                    <a:cubicBezTo>
                      <a:pt x="86232" y="640285"/>
                      <a:pt x="84186" y="632102"/>
                      <a:pt x="80095" y="625965"/>
                    </a:cubicBezTo>
                    <a:lnTo>
                      <a:pt x="73958" y="616760"/>
                    </a:lnTo>
                    <a:cubicBezTo>
                      <a:pt x="71912" y="613691"/>
                      <a:pt x="70429" y="610162"/>
                      <a:pt x="67821" y="607554"/>
                    </a:cubicBezTo>
                    <a:lnTo>
                      <a:pt x="46342" y="586075"/>
                    </a:lnTo>
                    <a:cubicBezTo>
                      <a:pt x="52124" y="580293"/>
                      <a:pt x="58266" y="575355"/>
                      <a:pt x="61684" y="567664"/>
                    </a:cubicBezTo>
                    <a:cubicBezTo>
                      <a:pt x="64311" y="561753"/>
                      <a:pt x="67821" y="549254"/>
                      <a:pt x="67821" y="549254"/>
                    </a:cubicBezTo>
                    <a:cubicBezTo>
                      <a:pt x="66798" y="527775"/>
                      <a:pt x="68288" y="506027"/>
                      <a:pt x="64753" y="484816"/>
                    </a:cubicBezTo>
                    <a:cubicBezTo>
                      <a:pt x="64040" y="480536"/>
                      <a:pt x="58881" y="478389"/>
                      <a:pt x="55547" y="475611"/>
                    </a:cubicBezTo>
                    <a:cubicBezTo>
                      <a:pt x="52714" y="473250"/>
                      <a:pt x="49343" y="471618"/>
                      <a:pt x="46342" y="469474"/>
                    </a:cubicBezTo>
                    <a:cubicBezTo>
                      <a:pt x="42180" y="466501"/>
                      <a:pt x="38159" y="463337"/>
                      <a:pt x="34068" y="460268"/>
                    </a:cubicBezTo>
                    <a:cubicBezTo>
                      <a:pt x="33045" y="457200"/>
                      <a:pt x="32446" y="453956"/>
                      <a:pt x="31000" y="451063"/>
                    </a:cubicBezTo>
                    <a:cubicBezTo>
                      <a:pt x="27553" y="444169"/>
                      <a:pt x="21472" y="437497"/>
                      <a:pt x="15658" y="432652"/>
                    </a:cubicBezTo>
                    <a:cubicBezTo>
                      <a:pt x="12825" y="430291"/>
                      <a:pt x="9521" y="428561"/>
                      <a:pt x="6452" y="426515"/>
                    </a:cubicBezTo>
                    <a:cubicBezTo>
                      <a:pt x="5429" y="423447"/>
                      <a:pt x="2361" y="420378"/>
                      <a:pt x="3384" y="417310"/>
                    </a:cubicBezTo>
                    <a:cubicBezTo>
                      <a:pt x="5717" y="410313"/>
                      <a:pt x="15658" y="398899"/>
                      <a:pt x="15658" y="398899"/>
                    </a:cubicBezTo>
                    <a:cubicBezTo>
                      <a:pt x="14635" y="391739"/>
                      <a:pt x="14667" y="384347"/>
                      <a:pt x="12589" y="377420"/>
                    </a:cubicBezTo>
                    <a:cubicBezTo>
                      <a:pt x="11529" y="373888"/>
                      <a:pt x="-2242" y="365658"/>
                      <a:pt x="315" y="362078"/>
                    </a:cubicBezTo>
                    <a:close/>
                  </a:path>
                </a:pathLst>
              </a:custGeom>
              <a:solidFill>
                <a:srgbClr val="c00000"/>
              </a:solidFill>
              <a:ln w="28440">
                <a:solidFill>
                  <a:srgbClr val="c00000"/>
                </a:solidFill>
                <a:miter/>
              </a:ln>
            </p:spPr>
            <p:style>
              <a:lnRef idx="0"/>
              <a:fillRef idx="0"/>
              <a:effectRef idx="0"/>
              <a:fontRef idx="minor"/>
            </p:style>
            <p:txBody>
              <a:bodyPr lIns="90000" rIns="90000" tIns="46800" bIns="46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16" name="任意多边形 3"/>
              <p:cNvSpPr/>
              <p:nvPr/>
            </p:nvSpPr>
            <p:spPr>
              <a:xfrm>
                <a:off x="3936600" y="3986640"/>
                <a:ext cx="72000" cy="43920"/>
              </a:xfrm>
              <a:custGeom>
                <a:avLst/>
                <a:gdLst/>
                <a:ahLst/>
                <a:rect l="l" t="t" r="r" b="b"/>
                <a:pathLst>
                  <a:path w="72255" h="44145">
                    <a:moveTo>
                      <a:pt x="12458" y="42358"/>
                    </a:moveTo>
                    <a:cubicBezTo>
                      <a:pt x="20348" y="41943"/>
                      <a:pt x="38141" y="44251"/>
                      <a:pt x="49831" y="39867"/>
                    </a:cubicBezTo>
                    <a:cubicBezTo>
                      <a:pt x="53796" y="38380"/>
                      <a:pt x="49974" y="30933"/>
                      <a:pt x="52323" y="27409"/>
                    </a:cubicBezTo>
                    <a:cubicBezTo>
                      <a:pt x="53780" y="25224"/>
                      <a:pt x="57306" y="25748"/>
                      <a:pt x="59797" y="24917"/>
                    </a:cubicBezTo>
                    <a:cubicBezTo>
                      <a:pt x="62289" y="22426"/>
                      <a:pt x="65561" y="20523"/>
                      <a:pt x="67272" y="17443"/>
                    </a:cubicBezTo>
                    <a:cubicBezTo>
                      <a:pt x="69823" y="12851"/>
                      <a:pt x="72255" y="2493"/>
                      <a:pt x="72255" y="2493"/>
                    </a:cubicBezTo>
                    <a:cubicBezTo>
                      <a:pt x="69763" y="1663"/>
                      <a:pt x="67406" y="2"/>
                      <a:pt x="64780" y="2"/>
                    </a:cubicBezTo>
                    <a:cubicBezTo>
                      <a:pt x="29772" y="2"/>
                      <a:pt x="33538" y="-286"/>
                      <a:pt x="12458" y="4985"/>
                    </a:cubicBezTo>
                    <a:cubicBezTo>
                      <a:pt x="9966" y="6646"/>
                      <a:pt x="6570" y="7429"/>
                      <a:pt x="4983" y="9968"/>
                    </a:cubicBezTo>
                    <a:cubicBezTo>
                      <a:pt x="2199" y="14422"/>
                      <a:pt x="0" y="24917"/>
                      <a:pt x="0" y="24917"/>
                    </a:cubicBezTo>
                    <a:cubicBezTo>
                      <a:pt x="831" y="30731"/>
                      <a:pt x="-134" y="37105"/>
                      <a:pt x="2492" y="42358"/>
                    </a:cubicBezTo>
                    <a:cubicBezTo>
                      <a:pt x="4395" y="46164"/>
                      <a:pt x="4568" y="42773"/>
                      <a:pt x="12458" y="42358"/>
                    </a:cubicBezTo>
                    <a:close/>
                  </a:path>
                </a:pathLst>
              </a:custGeom>
              <a:solidFill>
                <a:srgbClr val="c00000"/>
              </a:solidFill>
              <a:ln w="9360">
                <a:solidFill>
                  <a:srgbClr val="c00000"/>
                </a:solidFill>
                <a:miter/>
              </a:ln>
            </p:spPr>
            <p:style>
              <a:lnRef idx="0"/>
              <a:fillRef idx="0"/>
              <a:effectRef idx="0"/>
              <a:fontRef idx="minor"/>
            </p:style>
            <p:txBody>
              <a:bodyPr lIns="90000" rIns="90000" tIns="-2880" bIns="-288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17" name="任意多边形 5"/>
              <p:cNvSpPr/>
              <p:nvPr/>
            </p:nvSpPr>
            <p:spPr>
              <a:xfrm>
                <a:off x="4240440" y="3841920"/>
                <a:ext cx="39600" cy="84600"/>
              </a:xfrm>
              <a:custGeom>
                <a:avLst/>
                <a:gdLst/>
                <a:ahLst/>
                <a:rect l="l" t="t" r="r" b="b"/>
                <a:pathLst>
                  <a:path w="39864" h="84754">
                    <a:moveTo>
                      <a:pt x="7474" y="84713"/>
                    </a:moveTo>
                    <a:cubicBezTo>
                      <a:pt x="3737" y="84298"/>
                      <a:pt x="4061" y="76443"/>
                      <a:pt x="2491" y="72255"/>
                    </a:cubicBezTo>
                    <a:cubicBezTo>
                      <a:pt x="1569" y="69796"/>
                      <a:pt x="0" y="67406"/>
                      <a:pt x="0" y="64780"/>
                    </a:cubicBezTo>
                    <a:cubicBezTo>
                      <a:pt x="0" y="61648"/>
                      <a:pt x="3807" y="50866"/>
                      <a:pt x="4983" y="47339"/>
                    </a:cubicBezTo>
                    <a:cubicBezTo>
                      <a:pt x="5698" y="40186"/>
                      <a:pt x="5475" y="23930"/>
                      <a:pt x="9966" y="14949"/>
                    </a:cubicBezTo>
                    <a:cubicBezTo>
                      <a:pt x="11305" y="12271"/>
                      <a:pt x="12410" y="9061"/>
                      <a:pt x="14949" y="7474"/>
                    </a:cubicBezTo>
                    <a:cubicBezTo>
                      <a:pt x="19403" y="4690"/>
                      <a:pt x="24915" y="4152"/>
                      <a:pt x="29898" y="2491"/>
                    </a:cubicBezTo>
                    <a:lnTo>
                      <a:pt x="37373" y="0"/>
                    </a:lnTo>
                    <a:cubicBezTo>
                      <a:pt x="38203" y="2491"/>
                      <a:pt x="39864" y="4848"/>
                      <a:pt x="39864" y="7474"/>
                    </a:cubicBezTo>
                    <a:cubicBezTo>
                      <a:pt x="39864" y="20412"/>
                      <a:pt x="36338" y="28023"/>
                      <a:pt x="32390" y="39865"/>
                    </a:cubicBezTo>
                    <a:lnTo>
                      <a:pt x="29898" y="47339"/>
                    </a:lnTo>
                    <a:lnTo>
                      <a:pt x="27407" y="54814"/>
                    </a:lnTo>
                    <a:cubicBezTo>
                      <a:pt x="26576" y="61458"/>
                      <a:pt x="27402" y="68529"/>
                      <a:pt x="24915" y="74746"/>
                    </a:cubicBezTo>
                    <a:cubicBezTo>
                      <a:pt x="21816" y="82493"/>
                      <a:pt x="11211" y="85128"/>
                      <a:pt x="7474" y="84713"/>
                    </a:cubicBezTo>
                    <a:close/>
                  </a:path>
                </a:pathLst>
              </a:custGeom>
              <a:solidFill>
                <a:srgbClr val="c00000"/>
              </a:solidFill>
              <a:ln w="9360">
                <a:solidFill>
                  <a:srgbClr val="c00000"/>
                </a:solidFill>
                <a:miter/>
              </a:ln>
            </p:spPr>
            <p:style>
              <a:lnRef idx="0"/>
              <a:fillRef idx="0"/>
              <a:effectRef idx="0"/>
              <a:fontRef idx="minor"/>
            </p:style>
            <p:txBody>
              <a:bodyPr lIns="90000" rIns="90000" tIns="37800" bIns="3780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18" name="五角星 6"/>
              <p:cNvSpPr/>
              <p:nvPr/>
            </p:nvSpPr>
            <p:spPr>
              <a:xfrm>
                <a:off x="3462120" y="3319560"/>
                <a:ext cx="72720" cy="72720"/>
              </a:xfrm>
              <a:custGeom>
                <a:avLst/>
                <a:gdLst/>
                <a:ahLst/>
                <a:rect l="l" t="t" r="r" b="b"/>
                <a:pathLst>
                  <a:path w="73025" h="73025">
                    <a:moveTo>
                      <a:pt x="0" y="27893"/>
                    </a:moveTo>
                    <a:lnTo>
                      <a:pt x="27893" y="27893"/>
                    </a:lnTo>
                    <a:lnTo>
                      <a:pt x="36513" y="0"/>
                    </a:lnTo>
                    <a:lnTo>
                      <a:pt x="45132" y="27893"/>
                    </a:lnTo>
                    <a:lnTo>
                      <a:pt x="73025" y="27893"/>
                    </a:lnTo>
                    <a:lnTo>
                      <a:pt x="50459" y="45132"/>
                    </a:lnTo>
                    <a:lnTo>
                      <a:pt x="59078" y="73025"/>
                    </a:lnTo>
                    <a:lnTo>
                      <a:pt x="36513" y="55786"/>
                    </a:lnTo>
                    <a:lnTo>
                      <a:pt x="13947" y="73025"/>
                    </a:lnTo>
                    <a:lnTo>
                      <a:pt x="22566" y="45132"/>
                    </a:lnTo>
                    <a:lnTo>
                      <a:pt x="0" y="27893"/>
                    </a:lnTo>
                    <a:close/>
                  </a:path>
                </a:pathLst>
              </a:custGeom>
              <a:solidFill>
                <a:srgbClr val="ffc000"/>
              </a:solidFill>
              <a:ln w="9360">
                <a:solidFill>
                  <a:srgbClr val="ffc000"/>
                </a:solidFill>
                <a:miter/>
              </a:ln>
            </p:spPr>
            <p:style>
              <a:lnRef idx="0"/>
              <a:fillRef idx="0"/>
              <a:effectRef idx="0"/>
              <a:fontRef idx="minor"/>
            </p:style>
            <p:txBody>
              <a:bodyPr lIns="90000" rIns="90000" tIns="25920" bIns="2592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19" name="五角星 11"/>
              <p:cNvSpPr/>
              <p:nvPr/>
            </p:nvSpPr>
            <p:spPr>
              <a:xfrm>
                <a:off x="3589200" y="3254400"/>
                <a:ext cx="36360" cy="34920"/>
              </a:xfrm>
              <a:custGeom>
                <a:avLst/>
                <a:gdLst/>
                <a:ahLst/>
                <a:rect l="l" t="t" r="r" b="b"/>
                <a:pathLst>
                  <a:path w="36512" h="34925">
                    <a:moveTo>
                      <a:pt x="0" y="13340"/>
                    </a:moveTo>
                    <a:lnTo>
                      <a:pt x="13946" y="13340"/>
                    </a:lnTo>
                    <a:lnTo>
                      <a:pt x="18256" y="0"/>
                    </a:lnTo>
                    <a:lnTo>
                      <a:pt x="22566" y="13340"/>
                    </a:lnTo>
                    <a:lnTo>
                      <a:pt x="36512" y="13340"/>
                    </a:lnTo>
                    <a:lnTo>
                      <a:pt x="25229" y="21585"/>
                    </a:lnTo>
                    <a:lnTo>
                      <a:pt x="29539" y="34925"/>
                    </a:lnTo>
                    <a:lnTo>
                      <a:pt x="18256" y="26680"/>
                    </a:lnTo>
                    <a:lnTo>
                      <a:pt x="6973" y="34925"/>
                    </a:lnTo>
                    <a:lnTo>
                      <a:pt x="11283" y="21585"/>
                    </a:lnTo>
                    <a:lnTo>
                      <a:pt x="0" y="13340"/>
                    </a:lnTo>
                    <a:close/>
                  </a:path>
                </a:pathLst>
              </a:custGeom>
              <a:solidFill>
                <a:srgbClr val="ffc000"/>
              </a:solidFill>
              <a:ln w="9360">
                <a:solidFill>
                  <a:srgbClr val="ffc000"/>
                </a:solidFill>
                <a:miter/>
              </a:ln>
            </p:spPr>
            <p:style>
              <a:lnRef idx="0"/>
              <a:fillRef idx="0"/>
              <a:effectRef idx="0"/>
              <a:fontRef idx="minor"/>
            </p:style>
            <p:txBody>
              <a:bodyPr lIns="90000" rIns="90000" tIns="-11880" bIns="-1188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20" name="五角星 12"/>
              <p:cNvSpPr/>
              <p:nvPr/>
            </p:nvSpPr>
            <p:spPr>
              <a:xfrm>
                <a:off x="3671640" y="3305160"/>
                <a:ext cx="36360" cy="36360"/>
              </a:xfrm>
              <a:custGeom>
                <a:avLst/>
                <a:gdLst/>
                <a:ahLst/>
                <a:rect l="l" t="t" r="r" b="b"/>
                <a:pathLst>
                  <a:path w="36512" h="36513">
                    <a:moveTo>
                      <a:pt x="0" y="13947"/>
                    </a:moveTo>
                    <a:lnTo>
                      <a:pt x="13946" y="13947"/>
                    </a:lnTo>
                    <a:lnTo>
                      <a:pt x="18256" y="0"/>
                    </a:lnTo>
                    <a:lnTo>
                      <a:pt x="22566" y="13947"/>
                    </a:lnTo>
                    <a:lnTo>
                      <a:pt x="36512" y="13947"/>
                    </a:lnTo>
                    <a:lnTo>
                      <a:pt x="25229" y="22566"/>
                    </a:lnTo>
                    <a:lnTo>
                      <a:pt x="29539" y="36513"/>
                    </a:lnTo>
                    <a:lnTo>
                      <a:pt x="18256" y="27893"/>
                    </a:lnTo>
                    <a:lnTo>
                      <a:pt x="6973" y="36513"/>
                    </a:lnTo>
                    <a:lnTo>
                      <a:pt x="11283" y="22566"/>
                    </a:lnTo>
                    <a:lnTo>
                      <a:pt x="0" y="13947"/>
                    </a:lnTo>
                    <a:close/>
                  </a:path>
                </a:pathLst>
              </a:custGeom>
              <a:solidFill>
                <a:srgbClr val="ffc000"/>
              </a:solidFill>
              <a:ln w="9360">
                <a:solidFill>
                  <a:srgbClr val="ffc000"/>
                </a:solidFill>
                <a:miter/>
              </a:ln>
            </p:spPr>
            <p:style>
              <a:lnRef idx="0"/>
              <a:fillRef idx="0"/>
              <a:effectRef idx="0"/>
              <a:fontRef idx="minor"/>
            </p:style>
            <p:txBody>
              <a:bodyPr lIns="90000" rIns="90000" tIns="-10440" bIns="-1044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21" name="五角星 13"/>
              <p:cNvSpPr/>
              <p:nvPr/>
            </p:nvSpPr>
            <p:spPr>
              <a:xfrm>
                <a:off x="3674880" y="3392640"/>
                <a:ext cx="36360" cy="36360"/>
              </a:xfrm>
              <a:custGeom>
                <a:avLst/>
                <a:gdLst/>
                <a:ahLst/>
                <a:rect l="l" t="t" r="r" b="b"/>
                <a:pathLst>
                  <a:path w="36512" h="36512">
                    <a:moveTo>
                      <a:pt x="0" y="13946"/>
                    </a:moveTo>
                    <a:lnTo>
                      <a:pt x="13946" y="13946"/>
                    </a:lnTo>
                    <a:lnTo>
                      <a:pt x="18256" y="0"/>
                    </a:lnTo>
                    <a:lnTo>
                      <a:pt x="22566" y="13946"/>
                    </a:lnTo>
                    <a:lnTo>
                      <a:pt x="36512" y="13946"/>
                    </a:lnTo>
                    <a:lnTo>
                      <a:pt x="25229" y="22566"/>
                    </a:lnTo>
                    <a:lnTo>
                      <a:pt x="29539" y="36512"/>
                    </a:lnTo>
                    <a:lnTo>
                      <a:pt x="18256" y="27892"/>
                    </a:lnTo>
                    <a:lnTo>
                      <a:pt x="6973" y="36512"/>
                    </a:lnTo>
                    <a:lnTo>
                      <a:pt x="11283" y="22566"/>
                    </a:lnTo>
                    <a:lnTo>
                      <a:pt x="0" y="13946"/>
                    </a:lnTo>
                    <a:close/>
                  </a:path>
                </a:pathLst>
              </a:custGeom>
              <a:solidFill>
                <a:srgbClr val="ffc000"/>
              </a:solidFill>
              <a:ln w="9360">
                <a:solidFill>
                  <a:srgbClr val="ffc000"/>
                </a:solidFill>
                <a:miter/>
              </a:ln>
            </p:spPr>
            <p:style>
              <a:lnRef idx="0"/>
              <a:fillRef idx="0"/>
              <a:effectRef idx="0"/>
              <a:fontRef idx="minor"/>
            </p:style>
            <p:txBody>
              <a:bodyPr lIns="90000" rIns="90000" tIns="-10440" bIns="-1044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sp>
            <p:nvSpPr>
              <p:cNvPr id="122" name="五角星 14"/>
              <p:cNvSpPr/>
              <p:nvPr/>
            </p:nvSpPr>
            <p:spPr>
              <a:xfrm>
                <a:off x="3590640" y="3443400"/>
                <a:ext cx="36360" cy="36360"/>
              </a:xfrm>
              <a:custGeom>
                <a:avLst/>
                <a:gdLst/>
                <a:ahLst/>
                <a:rect l="l" t="t" r="r" b="b"/>
                <a:pathLst>
                  <a:path w="36513" h="36512">
                    <a:moveTo>
                      <a:pt x="0" y="13946"/>
                    </a:moveTo>
                    <a:lnTo>
                      <a:pt x="13947" y="13946"/>
                    </a:lnTo>
                    <a:lnTo>
                      <a:pt x="18257" y="0"/>
                    </a:lnTo>
                    <a:lnTo>
                      <a:pt x="22566" y="13946"/>
                    </a:lnTo>
                    <a:lnTo>
                      <a:pt x="36513" y="13946"/>
                    </a:lnTo>
                    <a:lnTo>
                      <a:pt x="25230" y="22566"/>
                    </a:lnTo>
                    <a:lnTo>
                      <a:pt x="29540" y="36512"/>
                    </a:lnTo>
                    <a:lnTo>
                      <a:pt x="18257" y="27892"/>
                    </a:lnTo>
                    <a:lnTo>
                      <a:pt x="6973" y="36512"/>
                    </a:lnTo>
                    <a:lnTo>
                      <a:pt x="11283" y="22566"/>
                    </a:lnTo>
                    <a:lnTo>
                      <a:pt x="0" y="13946"/>
                    </a:lnTo>
                    <a:close/>
                  </a:path>
                </a:pathLst>
              </a:custGeom>
              <a:solidFill>
                <a:srgbClr val="ffc000"/>
              </a:solidFill>
              <a:ln w="9360">
                <a:solidFill>
                  <a:srgbClr val="ffc000"/>
                </a:solidFill>
                <a:miter/>
              </a:ln>
            </p:spPr>
            <p:style>
              <a:lnRef idx="0"/>
              <a:fillRef idx="0"/>
              <a:effectRef idx="0"/>
              <a:fontRef idx="minor"/>
            </p:style>
            <p:txBody>
              <a:bodyPr lIns="90000" rIns="90000" tIns="-10440" bIns="-10440" anchor="t">
                <a:no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800" spc="-1" strike="noStrike">
                  <a:solidFill>
                    <a:srgbClr val="000000"/>
                  </a:solidFill>
                  <a:latin typeface="Arial"/>
                </a:endParaRPr>
              </a:p>
            </p:txBody>
          </p:sp>
        </p:grpSp>
      </p:grpSp>
      <p:sp>
        <p:nvSpPr>
          <p:cNvPr id="123" name="Text Box 10"/>
          <p:cNvSpPr/>
          <p:nvPr/>
        </p:nvSpPr>
        <p:spPr>
          <a:xfrm>
            <a:off x="144360" y="395280"/>
            <a:ext cx="9936360" cy="611280"/>
          </a:xfrm>
          <a:prstGeom prst="rect">
            <a:avLst/>
          </a:prstGeom>
          <a:noFill/>
          <a:ln w="0">
            <a:noFill/>
          </a:ln>
        </p:spPr>
        <p:style>
          <a:lnRef idx="0"/>
          <a:fillRef idx="0"/>
          <a:effectRef idx="0"/>
          <a:fontRef idx="minor"/>
        </p:style>
        <p:txBody>
          <a:bodyPr lIns="90000" rIns="90000" tIns="45000" bIns="45000" anchor="t">
            <a:spAutoFit/>
          </a:bodyPr>
          <a:p>
            <a:pPr>
              <a:lnSpc>
                <a:spcPct val="95000"/>
              </a:lnSpc>
              <a:tabLst>
                <a:tab algn="l" pos="0"/>
                <a:tab algn="l" pos="723960"/>
                <a:tab algn="l" pos="1447920"/>
                <a:tab algn="l" pos="2171880"/>
                <a:tab algn="l" pos="2895480"/>
                <a:tab algn="l" pos="3619440"/>
                <a:tab algn="l" pos="4343400"/>
                <a:tab algn="l" pos="5067360"/>
                <a:tab algn="l" pos="5791320"/>
                <a:tab algn="l" pos="6515280"/>
                <a:tab algn="l" pos="7238880"/>
                <a:tab algn="l" pos="7354800"/>
                <a:tab algn="l" pos="7534440"/>
                <a:tab algn="l" pos="7713720"/>
                <a:tab algn="l" pos="7893000"/>
                <a:tab algn="l" pos="8072280"/>
                <a:tab algn="l" pos="8251920"/>
                <a:tab algn="l" pos="8431200"/>
                <a:tab algn="l" pos="8610480"/>
                <a:tab algn="l" pos="8790120"/>
                <a:tab algn="l" pos="8969400"/>
                <a:tab algn="l" pos="9148680"/>
                <a:tab algn="l" pos="9328320"/>
                <a:tab algn="l" pos="9507600"/>
                <a:tab algn="l" pos="9686880"/>
                <a:tab algn="l" pos="9866160"/>
                <a:tab algn="l" pos="10045800"/>
                <a:tab algn="l" pos="10225080"/>
                <a:tab algn="l" pos="10404360"/>
                <a:tab algn="l" pos="10584000"/>
                <a:tab algn="l" pos="10763280"/>
              </a:tabLst>
            </a:pPr>
            <a:r>
              <a:rPr b="1" lang="zh-CN" sz="3600" spc="-1" strike="noStrike">
                <a:solidFill>
                  <a:srgbClr val="ffffff"/>
                </a:solidFill>
                <a:latin typeface="方正姚体"/>
                <a:ea typeface="方正姚体"/>
              </a:rPr>
              <a:t>第五章：我对于伟大祖国的殷切期盼</a:t>
            </a:r>
            <a:endParaRPr b="0" lang="en-US" sz="3600" spc="-1" strike="noStrike">
              <a:solidFill>
                <a:srgbClr val="000000"/>
              </a:solidFill>
              <a:latin typeface="Arial"/>
            </a:endParaRPr>
          </a:p>
        </p:txBody>
      </p:sp>
      <p:sp>
        <p:nvSpPr>
          <p:cNvPr id="124" name="矩形 7"/>
          <p:cNvSpPr/>
          <p:nvPr/>
        </p:nvSpPr>
        <p:spPr>
          <a:xfrm>
            <a:off x="431640" y="4643280"/>
            <a:ext cx="9361800" cy="1114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3600" spc="-1" strike="noStrike">
                <a:solidFill>
                  <a:srgbClr val="c00000"/>
                </a:solidFill>
                <a:latin typeface="方正姚体"/>
                <a:ea typeface="方正姚体"/>
              </a:rPr>
              <a:t>我们可以用鲜花来庆贺十八大胜利召开，我们可以用心灵来歌唱你的伟大。但我更愿用一片赤子之情来建设你</a:t>
            </a:r>
            <a:r>
              <a:rPr b="1" lang="en-US" sz="3600" spc="-1" strike="noStrike">
                <a:solidFill>
                  <a:srgbClr val="c00000"/>
                </a:solidFill>
                <a:latin typeface="方正姚体"/>
                <a:ea typeface="方正姚体"/>
              </a:rPr>
              <a:t>――</a:t>
            </a:r>
            <a:r>
              <a:rPr b="1" lang="zh-CN" sz="3600" spc="-1" strike="noStrike">
                <a:solidFill>
                  <a:srgbClr val="c00000"/>
                </a:solidFill>
                <a:latin typeface="方正姚体"/>
                <a:ea typeface="方正姚体"/>
              </a:rPr>
              <a:t>祖国，母亲</a:t>
            </a:r>
            <a:r>
              <a:rPr b="1" lang="en-US" sz="3600" spc="-1" strike="noStrike">
                <a:solidFill>
                  <a:srgbClr val="c00000"/>
                </a:solidFill>
                <a:latin typeface="方正姚体"/>
                <a:ea typeface="方正姚体"/>
              </a:rPr>
              <a:t>!</a:t>
            </a:r>
            <a:endParaRPr b="0" lang="en-US" sz="3600" spc="-1" strike="noStrike">
              <a:solidFill>
                <a:srgbClr val="000000"/>
              </a:solidFill>
              <a:latin typeface="Arial"/>
            </a:endParaRPr>
          </a:p>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3600" spc="-1" strike="noStrike">
              <a:solidFill>
                <a:srgbClr val="000000"/>
              </a:solidFill>
              <a:latin typeface="Arial"/>
            </a:endParaRPr>
          </a:p>
        </p:txBody>
      </p:sp>
      <p:sp>
        <p:nvSpPr>
          <p:cNvPr id="125" name=""/>
          <p:cNvSpPr/>
          <p:nvPr/>
        </p:nvSpPr>
        <p:spPr>
          <a:xfrm>
            <a:off x="684360" y="2492280"/>
            <a:ext cx="5925960" cy="350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600" spc="-1" strike="noStrike" u="sng">
                <a:solidFill>
                  <a:srgbClr val="ccccff"/>
                </a:solidFill>
                <a:uFillTx/>
                <a:latin typeface="Arial"/>
                <a:hlinkClick r:id="rId3"/>
              </a:rPr>
              <a:t>ppt模板下载 免费完整版</a:t>
            </a:r>
            <a:r>
              <a:rPr b="0" lang="zh-CN" sz="1600" spc="-1" strike="noStrike">
                <a:solidFill>
                  <a:srgbClr val="000000"/>
                </a:solidFill>
                <a:latin typeface="Arial"/>
              </a:rPr>
              <a:t> </a:t>
            </a:r>
            <a:r>
              <a:rPr b="0" lang="en-GB" sz="1600" spc="-1" strike="noStrike">
                <a:solidFill>
                  <a:srgbClr val="000000"/>
                </a:solidFill>
                <a:latin typeface="Arial"/>
              </a:rPr>
              <a:t>http://www.eeppt.com/moban/</a:t>
            </a: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17320" y="207720"/>
            <a:ext cx="9047160" cy="633240"/>
          </a:xfrm>
          <a:prstGeom prst="rect">
            <a:avLst/>
          </a:prstGeom>
          <a:noFill/>
          <a:ln w="0">
            <a:noFill/>
          </a:ln>
        </p:spPr>
        <p:txBody>
          <a:bodyPr lIns="0" rIns="0" tIns="0" bIns="0" anchor="ctr">
            <a:noAutofit/>
          </a:bodyPr>
          <a:p>
            <a:pPr indent="0" algn="ctr">
              <a:lnSpc>
                <a:spcPct val="93000"/>
              </a:lnSpc>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7" name="PlaceHolder 2"/>
          <p:cNvSpPr>
            <a:spLocks noGrp="1"/>
          </p:cNvSpPr>
          <p:nvPr>
            <p:ph/>
          </p:nvPr>
        </p:nvSpPr>
        <p:spPr>
          <a:xfrm>
            <a:off x="119160" y="1399680"/>
            <a:ext cx="9842400" cy="5753160"/>
          </a:xfrm>
          <a:prstGeom prst="rect">
            <a:avLst/>
          </a:prstGeom>
          <a:noFill/>
          <a:ln w="0">
            <a:noFill/>
          </a:ln>
        </p:spPr>
        <p:txBody>
          <a:bodyPr lIns="0" rIns="0" tIns="28080" bIns="0" anchor="t">
            <a:normAutofit fontScale="69000"/>
          </a:bodyPr>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400" spc="-1" strike="noStrike">
                <a:solidFill>
                  <a:srgbClr val="ededed"/>
                </a:solidFill>
                <a:latin typeface="Arial"/>
              </a:rPr>
              <a:t>站点介绍</a:t>
            </a:r>
            <a:r>
              <a:rPr b="1" lang="en-GB"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GB" sz="1400" spc="-1" strike="noStrike">
                <a:solidFill>
                  <a:srgbClr val="ededed"/>
                </a:solidFill>
                <a:latin typeface="Arial"/>
              </a:rPr>
              <a:t>PPT</a:t>
            </a:r>
            <a:r>
              <a:rPr b="1" lang="en-GB" sz="1400" spc="-1" strike="noStrike">
                <a:solidFill>
                  <a:srgbClr val="ededed"/>
                </a:solidFill>
                <a:latin typeface="Arial"/>
              </a:rPr>
              <a:t>模板下载网站</a:t>
            </a:r>
            <a:r>
              <a:rPr b="1" lang="zh-CN" sz="1400" spc="-1" strike="noStrike">
                <a:solidFill>
                  <a:srgbClr val="e8eff7"/>
                </a:solidFill>
                <a:latin typeface="Arial"/>
              </a:rPr>
              <a:t>www.eeppt.com</a:t>
            </a:r>
            <a:r>
              <a:rPr b="1" lang="en-GB" sz="1400" spc="-1" strike="noStrike">
                <a:solidFill>
                  <a:srgbClr val="ededed"/>
                </a:solidFill>
                <a:latin typeface="Arial"/>
              </a:rPr>
              <a:t>为您提供免费</a:t>
            </a:r>
            <a:r>
              <a:rPr b="1" lang="en-GB" sz="1400" spc="-1" strike="noStrike">
                <a:solidFill>
                  <a:srgbClr val="ededed"/>
                </a:solidFill>
                <a:latin typeface="Arial"/>
              </a:rPr>
              <a:t>ppt</a:t>
            </a:r>
            <a:r>
              <a:rPr b="1" lang="en-GB" sz="1400" spc="-1" strike="noStrike">
                <a:solidFill>
                  <a:srgbClr val="ededed"/>
                </a:solidFill>
                <a:latin typeface="Arial"/>
              </a:rPr>
              <a:t>模板下载，有好看的</a:t>
            </a:r>
            <a:r>
              <a:rPr b="1" lang="en-GB" sz="1400" spc="-1" strike="noStrike">
                <a:solidFill>
                  <a:srgbClr val="ededed"/>
                </a:solidFill>
                <a:latin typeface="Arial"/>
              </a:rPr>
              <a:t>ppt</a:t>
            </a:r>
            <a:r>
              <a:rPr b="1" lang="en-GB" sz="1400" spc="-1" strike="noStrike">
                <a:solidFill>
                  <a:srgbClr val="ededed"/>
                </a:solidFill>
                <a:latin typeface="Arial"/>
              </a:rPr>
              <a:t>模板，</a:t>
            </a:r>
            <a:r>
              <a:rPr b="1" lang="en-GB" sz="1400" spc="-1" strike="noStrike">
                <a:solidFill>
                  <a:srgbClr val="ededed"/>
                </a:solidFill>
                <a:latin typeface="Arial"/>
              </a:rPr>
              <a:t>ppt</a:t>
            </a:r>
            <a:r>
              <a:rPr b="1" lang="en-GB" sz="1400" spc="-1" strike="noStrike">
                <a:solidFill>
                  <a:srgbClr val="ededed"/>
                </a:solidFill>
                <a:latin typeface="Arial"/>
              </a:rPr>
              <a:t>背景图片，</a:t>
            </a:r>
            <a:r>
              <a:rPr b="1" lang="en-GB" sz="1400" spc="-1" strike="noStrike">
                <a:solidFill>
                  <a:srgbClr val="ededed"/>
                </a:solidFill>
                <a:latin typeface="Arial"/>
              </a:rPr>
              <a:t>ppt</a:t>
            </a:r>
            <a:r>
              <a:rPr b="1" lang="en-GB" sz="1400" spc="-1" strike="noStrike">
                <a:solidFill>
                  <a:srgbClr val="ededed"/>
                </a:solidFill>
                <a:latin typeface="Arial"/>
              </a:rPr>
              <a:t>素材，</a:t>
            </a:r>
            <a:r>
              <a:rPr b="1" lang="en-GB" sz="1400" spc="-1" strike="noStrike">
                <a:solidFill>
                  <a:srgbClr val="ededed"/>
                </a:solidFill>
                <a:latin typeface="Arial"/>
              </a:rPr>
              <a:t>ppt</a:t>
            </a:r>
            <a:r>
              <a:rPr b="1" lang="en-GB" sz="1400" spc="-1" strike="noStrike">
                <a:solidFill>
                  <a:srgbClr val="ededed"/>
                </a:solidFill>
                <a:latin typeface="Arial"/>
              </a:rPr>
              <a:t>图表，动态</a:t>
            </a:r>
            <a:r>
              <a:rPr b="1" lang="en-GB" sz="1400" spc="-1" strike="noStrike">
                <a:solidFill>
                  <a:srgbClr val="ededed"/>
                </a:solidFill>
                <a:latin typeface="Arial"/>
              </a:rPr>
              <a:t>ppt</a:t>
            </a:r>
            <a:r>
              <a:rPr b="1" lang="en-GB" sz="1400" spc="-1" strike="noStrike">
                <a:solidFill>
                  <a:srgbClr val="ededed"/>
                </a:solidFill>
                <a:latin typeface="Arial"/>
              </a:rPr>
              <a:t>模板大全，幻灯片模板，</a:t>
            </a:r>
            <a:r>
              <a:rPr b="1" lang="en-GB" sz="1400" spc="-1" strike="noStrike">
                <a:solidFill>
                  <a:srgbClr val="ededed"/>
                </a:solidFill>
                <a:latin typeface="Arial"/>
              </a:rPr>
              <a:t>Powe</a:t>
            </a:r>
            <a:r>
              <a:rPr b="1" lang="en-GB" sz="1400" spc="-1" strike="noStrike">
                <a:solidFill>
                  <a:srgbClr val="e8eff7"/>
                </a:solidFill>
                <a:latin typeface="Arial"/>
              </a:rPr>
              <a:t>rPoint</a:t>
            </a:r>
            <a:r>
              <a:rPr b="1" lang="en-GB" sz="1400" spc="-1" strike="noStrike">
                <a:solidFill>
                  <a:srgbClr val="e8eff7"/>
                </a:solidFill>
                <a:latin typeface="Arial"/>
              </a:rPr>
              <a:t>模板等各类</a:t>
            </a:r>
            <a:r>
              <a:rPr b="1" lang="en-GB" sz="1400" spc="-1" strike="noStrike">
                <a:solidFill>
                  <a:srgbClr val="e8eff7"/>
                </a:solidFill>
                <a:latin typeface="Arial"/>
              </a:rPr>
              <a:t>ppt</a:t>
            </a:r>
            <a:r>
              <a:rPr b="1" lang="en-GB" sz="1400" spc="-1" strike="noStrike">
                <a:solidFill>
                  <a:srgbClr val="e8eff7"/>
                </a:solidFill>
                <a:latin typeface="Arial"/>
              </a:rPr>
              <a:t>模板免费下载。</a:t>
            </a:r>
            <a:r>
              <a:rPr b="1" lang="zh-CN" sz="1400" spc="-1" strike="noStrike">
                <a:solidFill>
                  <a:srgbClr val="e8eff7"/>
                </a:solidFill>
                <a:latin typeface="Arial"/>
              </a:rPr>
              <a:t>助</a:t>
            </a:r>
            <a:r>
              <a:rPr b="1" lang="en-GB" sz="1400" spc="-1" strike="noStrike">
                <a:solidFill>
                  <a:srgbClr val="e8eff7"/>
                </a:solidFill>
                <a:latin typeface="Arial"/>
              </a:rPr>
              <a:t>您轻松制作出精美</a:t>
            </a:r>
            <a:r>
              <a:rPr b="1" lang="en-GB" sz="1400" spc="-1" strike="noStrike">
                <a:solidFill>
                  <a:srgbClr val="e8eff7"/>
                </a:solidFill>
                <a:latin typeface="Arial"/>
              </a:rPr>
              <a:t>PPT</a:t>
            </a:r>
            <a:r>
              <a:rPr b="1" lang="en-GB"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8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GB"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GB"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8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8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8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400" spc="-1" strike="noStrike">
                <a:solidFill>
                  <a:srgbClr val="ededed"/>
                </a:solidFill>
                <a:latin typeface="Arial"/>
              </a:rPr>
              <a:t>栏目推荐</a:t>
            </a:r>
            <a:r>
              <a:rPr b="1" lang="en-GB" sz="1400" spc="-1" strike="noStrike">
                <a:solidFill>
                  <a:srgbClr val="ededed"/>
                </a:solidFill>
                <a:latin typeface="Arial"/>
              </a:rPr>
              <a:t>：</a:t>
            </a:r>
            <a:endParaRPr b="0" lang="en-US" sz="14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5"/>
              </a:rPr>
              <a:t>动态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7"/>
              </a:rPr>
              <a:t> </a:t>
            </a:r>
            <a:r>
              <a:rPr b="0" lang="en-GB" sz="1200" spc="-1" strike="noStrike" u="sng">
                <a:solidFill>
                  <a:srgbClr val="cccc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9"/>
              </a:rPr>
              <a:t>答辩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10"/>
              </a:rPr>
              <a:t>月总结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11"/>
              </a:rPr>
              <a:t>精美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12"/>
              </a:rPr>
              <a:t>说课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13"/>
              </a:rPr>
              <a:t>企业介绍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14"/>
              </a:rPr>
              <a:t>商务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15"/>
              </a:rPr>
              <a:t>市场营销策划ppt</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GB" sz="1200" spc="-1" strike="noStrike" u="sng">
                <a:solidFill>
                  <a:srgbClr val="ccccff"/>
                </a:solidFill>
                <a:uFillTx/>
                <a:latin typeface="Calibri"/>
                <a:ea typeface="宋体"/>
                <a:hlinkClick r:id="rId16"/>
              </a:rPr>
              <a:t>ppt素材图片</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GB" sz="1200" spc="-1" strike="noStrike" u="sng">
                <a:solidFill>
                  <a:srgbClr val="ccccff"/>
                </a:solidFill>
                <a:uFillTx/>
                <a:latin typeface="Calibri"/>
                <a:ea typeface="宋体"/>
                <a:hlinkClick r:id="rId17"/>
              </a:rPr>
              <a:t>ppt图表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cccc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u="sng">
                <a:solidFill>
                  <a:srgbClr val="cccc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cccc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u="sng">
                <a:solidFill>
                  <a:srgbClr val="cccc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cccc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u="sng">
                <a:solidFill>
                  <a:srgbClr val="cccc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cccc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zh-CN" sz="1200" spc="-1" strike="noStrike" u="sng">
                <a:solidFill>
                  <a:srgbClr val="cccc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cccc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a:p>
            <a:pPr indent="0">
              <a:lnSpc>
                <a:spcPct val="90000"/>
              </a:lnSpc>
              <a:spcAft>
                <a:spcPts val="1426"/>
              </a:spcAft>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200" spc="-1" strike="noStrike">
              <a:solidFill>
                <a:srgbClr val="000000"/>
              </a:solidFill>
              <a:latin typeface="Arial"/>
            </a:endParaRPr>
          </a:p>
        </p:txBody>
      </p:sp>
      <p:sp>
        <p:nvSpPr>
          <p:cNvPr id="128" name="Rectangle 7"/>
          <p:cNvSpPr/>
          <p:nvPr/>
        </p:nvSpPr>
        <p:spPr>
          <a:xfrm>
            <a:off x="8032680" y="368280"/>
            <a:ext cx="1532160" cy="3841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93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47BF3D6-6CF4-4389-B742-FCE5F61AE1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1T12:09:12Z</dcterms:created>
  <dc:creator>幻灯片之家：www.eeppt.com</dc:creator>
  <dc:description/>
  <cp:keywords>幻灯片之家：www.eeppt.com</cp:keywords>
  <dc:language>en-US</dc:language>
  <cp:lastModifiedBy/>
  <dcterms:modified xsi:type="dcterms:W3CDTF">2015-09-18T13:19:43Z</dcterms:modified>
  <cp:revision>2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