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C34-9F6F-4A0F-90C5-0FF94793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C29-D088-488A-A944-C4D1376F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DAA-B4ED-430B-BFB5-D1155E8B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600-D19B-4D23-8E2F-F4D56947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39D-4F35-4510-BDA3-AF66074B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0B5-A8C9-434F-803C-4BE9F8BF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620-2E49-4E1A-9209-8D9B9DFD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869-974B-4889-AFF6-FEFE925E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F8D-E706-4658-996A-3CF2950B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AA4-EC54-4B76-AA33-E63CA1DD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E24-2784-48E5-A6CC-9A55E14D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782-E262-4F71-A6F4-CD0BF98F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777C-93E6-4648-ABED-465CDDC303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1CF3-C788-490C-9E59-A189A187EF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814068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2438280" y="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52959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360" y="19044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何克服人工智能欧美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矩形 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矩形 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8762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e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31640" y="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矩形 3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3"/>
          <p:cNvSpPr/>
          <p:nvPr/>
        </p:nvSpPr>
        <p:spPr>
          <a:xfrm>
            <a:off x="892080" y="0"/>
            <a:ext cx="7975800" cy="5715000"/>
          </a:xfrm>
          <a:prstGeom prst="pie">
            <a:avLst/>
          </a:prstGeom>
          <a:solidFill>
            <a:srgbClr val="ebf8f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3240" y="0"/>
            <a:ext cx="3146400" cy="3147840"/>
          </a:xfrm>
          <a:prstGeom prst="pie">
            <a:avLst/>
          </a:prstGeom>
          <a:solidFill>
            <a:srgbClr val="ebf8f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7275600" y="3848040"/>
            <a:ext cx="1865160" cy="1865520"/>
          </a:xfrm>
          <a:prstGeom prst="pie">
            <a:avLst/>
          </a:prstGeom>
          <a:solidFill>
            <a:srgbClr val="ebf8f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3625920" y="1989000"/>
            <a:ext cx="39600" cy="38160"/>
          </a:xfrm>
          <a:prstGeom prst="pie">
            <a:avLst/>
          </a:prstGeom>
          <a:solidFill>
            <a:srgbClr val="61116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7458120" y="1989000"/>
            <a:ext cx="39600" cy="38160"/>
          </a:xfrm>
          <a:prstGeom prst="pie">
            <a:avLst/>
          </a:prstGeom>
          <a:solidFill>
            <a:srgbClr val="61116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1844640" y="2352600"/>
            <a:ext cx="1247760" cy="1249560"/>
          </a:xfrm>
          <a:prstGeom prst="pie">
            <a:avLst/>
          </a:prstGeom>
          <a:solidFill>
            <a:srgbClr val="00809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6058080" y="2355840"/>
            <a:ext cx="1242720" cy="1243080"/>
          </a:xfrm>
          <a:prstGeom prst="pie">
            <a:avLst/>
          </a:prstGeom>
          <a:solidFill>
            <a:srgbClr val="00809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619440" cy="3390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1447920" y="3962520"/>
            <a:ext cx="2031840" cy="21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1943280" y="4267080"/>
            <a:ext cx="105408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5867280" y="1422360"/>
            <a:ext cx="1638360" cy="279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5"/>
          <a:stretch/>
        </p:blipFill>
        <p:spPr>
          <a:xfrm>
            <a:off x="5842080" y="1765440"/>
            <a:ext cx="698400" cy="27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6"/>
          <a:stretch/>
        </p:blipFill>
        <p:spPr>
          <a:xfrm>
            <a:off x="6591240" y="1765440"/>
            <a:ext cx="851040" cy="27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7"/>
          <a:stretch/>
        </p:blipFill>
        <p:spPr>
          <a:xfrm>
            <a:off x="6235560" y="2514600"/>
            <a:ext cx="889200" cy="927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8"/>
          <a:stretch/>
        </p:blipFill>
        <p:spPr>
          <a:xfrm>
            <a:off x="5346720" y="3670200"/>
            <a:ext cx="3797280" cy="204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9"/>
          <a:stretch/>
        </p:blipFill>
        <p:spPr>
          <a:xfrm>
            <a:off x="876240" y="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矩形 17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矩形 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矩形 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3" name="矩形 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892080" y="0"/>
            <a:ext cx="7975800" cy="5715000"/>
          </a:xfrm>
          <a:prstGeom prst="pie">
            <a:avLst/>
          </a:prstGeom>
          <a:solidFill>
            <a:srgbClr val="ebf8f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3240" y="0"/>
            <a:ext cx="3146400" cy="3147840"/>
          </a:xfrm>
          <a:prstGeom prst="pie">
            <a:avLst/>
          </a:prstGeom>
          <a:solidFill>
            <a:srgbClr val="ebf8f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7275600" y="3848040"/>
            <a:ext cx="1865160" cy="1865520"/>
          </a:xfrm>
          <a:prstGeom prst="pie">
            <a:avLst/>
          </a:prstGeom>
          <a:solidFill>
            <a:srgbClr val="ebf8f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3943440" y="3662280"/>
            <a:ext cx="1257120" cy="943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3803760" y="1511280"/>
            <a:ext cx="1517400" cy="1886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4019400" y="1019160"/>
            <a:ext cx="344520" cy="344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4827600" y="835200"/>
            <a:ext cx="425520" cy="425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4194000" y="1100160"/>
            <a:ext cx="66960" cy="63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5079960" y="987480"/>
            <a:ext cx="79560" cy="79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4194000" y="1100160"/>
            <a:ext cx="66960" cy="63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5079960" y="987480"/>
            <a:ext cx="79560" cy="79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5283360" y="3065400"/>
            <a:ext cx="2968560" cy="912960"/>
          </a:xfrm>
          <a:prstGeom prst="pie">
            <a:avLst/>
          </a:prstGeom>
          <a:solidFill>
            <a:srgbClr val="44454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870120" y="3724200"/>
            <a:ext cx="2930400" cy="1150920"/>
          </a:xfrm>
          <a:prstGeom prst="pie">
            <a:avLst/>
          </a:prstGeom>
          <a:solidFill>
            <a:srgbClr val="44454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773280" y="2246400"/>
            <a:ext cx="2896920" cy="1357200"/>
          </a:xfrm>
          <a:prstGeom prst="pie">
            <a:avLst/>
          </a:prstGeom>
          <a:solidFill>
            <a:srgbClr val="44454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187800" cy="331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257480" y="4038480"/>
            <a:ext cx="1346040" cy="74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3594240" y="4749840"/>
            <a:ext cx="139680" cy="29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3759120" y="787320"/>
            <a:ext cx="1600200" cy="3861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5"/>
          <a:stretch/>
        </p:blipFill>
        <p:spPr>
          <a:xfrm>
            <a:off x="3733920" y="4749840"/>
            <a:ext cx="2019240" cy="291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6"/>
          <a:stretch/>
        </p:blipFill>
        <p:spPr>
          <a:xfrm>
            <a:off x="6426360" y="3301920"/>
            <a:ext cx="2717640" cy="241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7"/>
          <a:stretch/>
        </p:blipFill>
        <p:spPr>
          <a:xfrm>
            <a:off x="876240" y="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矩形 2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3"/>
          <p:cNvSpPr/>
          <p:nvPr/>
        </p:nvSpPr>
        <p:spPr>
          <a:xfrm>
            <a:off x="7686720" y="4108320"/>
            <a:ext cx="1454040" cy="1605240"/>
          </a:xfrm>
          <a:prstGeom prst="pie">
            <a:avLst/>
          </a:prstGeom>
          <a:solidFill>
            <a:srgbClr val="ebf8f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188120" cy="5715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7531200" y="3962520"/>
            <a:ext cx="1612800" cy="175248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ABA-87B0-4420-9DA5-B1DD35D17E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矩形 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矩形 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矩形 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31640" y="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矩形 3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4" name="矩形 5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矩形 2"/>
          <p:cNvSpPr/>
          <p:nvPr/>
        </p:nvSpPr>
        <p:spPr>
          <a:xfrm>
            <a:off x="1143000" y="28584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20T08:20:50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