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0A8-185B-4458-9474-BE84E566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241-BC92-4FE0-9414-96D1CFC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D43-4055-4C53-AB2C-8D73B272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EC9-5DE6-4A36-8F0A-FB4DC80D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94B-8861-4A34-B6C1-0307CFC3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471-C545-4FD0-894C-EA7F145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166-2E84-4AF8-842C-C8D5474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D93-8853-49CA-9D7F-7A81B5E5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584-ADB5-45C1-8228-BF8E195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791-BF18-4815-8715-B2ED13F8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35F-15F1-4233-B6F4-531C9C7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05A-8E8A-4A3A-A373-27AB261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BDF94-E989-4539-B820-50002EDA70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89AB2-7F62-452C-AD66-4C792C4563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Orsolya Nemes This is my story #visualresume @orsnemes.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3320" y="3841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物配图表情丰富的欧美风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rsolya Nemes This is my story #visualresume @orsnemes.0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rsolya Nemes This is my story #visualresume @orsnemes.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354560" y="4049640"/>
            <a:ext cx="2292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354560" y="1925640"/>
            <a:ext cx="247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354560" y="4844880"/>
            <a:ext cx="2292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981840" y="3260880"/>
            <a:ext cx="200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829560" y="4056120"/>
            <a:ext cx="200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829560" y="4851360"/>
            <a:ext cx="176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D4B-C355-41A4-BAA6-5FEC5B0C1B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rsolya Nemes This is my story #visualresume @orsnemes.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rsolya Nemes This is my story #visualresume @orsnemes.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Orsolya Nemes This is my story #visualresume @orsnemes.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rsolya Nemes This is my story #visualresume @orsnemes.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rsolya Nemes This is my story #visualresume @orsnemes.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rsolya Nemes This is my story #visualresume @orsnemes.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rsolya Nemes This is my story #visualresume @orsnemes.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rsolya Nemes This is my story #visualresume @orsnemes.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1:2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2:20:3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