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2D532-D722-45AD-A640-9EAA6218B7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0" y="2971800"/>
            <a:ext cx="4572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0" y="3962160"/>
            <a:ext cx="45720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0" y="4240800"/>
            <a:ext cx="45720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C1DDE-7F0D-406F-B3EB-FC39CAE0D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0" y="2971800"/>
            <a:ext cx="4572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0" y="3962160"/>
            <a:ext cx="22309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914880" y="3962160"/>
            <a:ext cx="22309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0" y="4240800"/>
            <a:ext cx="22309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14880" y="4240800"/>
            <a:ext cx="22309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49C06-56A1-404D-B928-6AC698DF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0" y="2971800"/>
            <a:ext cx="4572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0" y="3962160"/>
            <a:ext cx="14720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118200" y="3962160"/>
            <a:ext cx="14720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664040" y="3962160"/>
            <a:ext cx="14720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0" y="4240800"/>
            <a:ext cx="14720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6118200" y="4240800"/>
            <a:ext cx="14720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664040" y="4240800"/>
            <a:ext cx="14720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EF96C-D64A-433E-B0E1-F8A293832A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7583FB-7E0D-4489-8392-84D4D7AE8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0" y="2971800"/>
            <a:ext cx="4572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0" y="3962160"/>
            <a:ext cx="4572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6DE234-4597-471D-AA0D-36D288CF2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0" y="2971800"/>
            <a:ext cx="4572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0" y="3962160"/>
            <a:ext cx="4572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844478-C261-400E-8615-FFFDC6B68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0" y="2971800"/>
            <a:ext cx="4572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0" y="3962160"/>
            <a:ext cx="2230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914880" y="3962160"/>
            <a:ext cx="2230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62EE14-3772-420A-BA13-ADB40133D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0" y="2971800"/>
            <a:ext cx="4572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467DDD-D92A-4E22-B938-D7985A0D3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0" y="2971800"/>
            <a:ext cx="457200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0B5088-0A3B-49E1-9C50-EB6C14DB1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0" y="2971800"/>
            <a:ext cx="4572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0" y="3962160"/>
            <a:ext cx="22309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914880" y="3962160"/>
            <a:ext cx="2230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0" y="4240800"/>
            <a:ext cx="22309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1C0AA6-6C33-41B0-9AD0-2442B834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0" y="2971800"/>
            <a:ext cx="4572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0" y="3962160"/>
            <a:ext cx="4572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7574A-F533-42D5-B0B3-C4302B0E9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0" y="2971800"/>
            <a:ext cx="4572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0" y="3962160"/>
            <a:ext cx="2230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914880" y="3962160"/>
            <a:ext cx="22309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914880" y="4240800"/>
            <a:ext cx="22309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7C3BFB-D745-49DE-B40D-3F57C27F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0" y="2971800"/>
            <a:ext cx="4572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0" y="3962160"/>
            <a:ext cx="22309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914880" y="3962160"/>
            <a:ext cx="22309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0" y="4240800"/>
            <a:ext cx="45720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AB711D-B212-42EC-91E9-0173AD1F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0" y="2971800"/>
            <a:ext cx="4572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0" y="3962160"/>
            <a:ext cx="45720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0" y="4240800"/>
            <a:ext cx="45720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AD5CFA-9FE2-4903-B97F-9686E6A1F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0" y="2971800"/>
            <a:ext cx="4572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0" y="3962160"/>
            <a:ext cx="22309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914880" y="3962160"/>
            <a:ext cx="22309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0" y="4240800"/>
            <a:ext cx="22309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914880" y="4240800"/>
            <a:ext cx="22309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74ACB1-9635-4A52-AC41-5CE29D6CA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0" y="2971800"/>
            <a:ext cx="4572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0" y="3962160"/>
            <a:ext cx="14720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118200" y="3962160"/>
            <a:ext cx="14720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7664040" y="3962160"/>
            <a:ext cx="14720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0" y="4240800"/>
            <a:ext cx="14720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6118200" y="4240800"/>
            <a:ext cx="14720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7664040" y="4240800"/>
            <a:ext cx="14720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FB5ED8-36C0-4818-A286-4F2DE385C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0" y="2971800"/>
            <a:ext cx="4572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0" y="3962160"/>
            <a:ext cx="4572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ADB5A-AA53-4633-96C8-D0851538D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0" y="2971800"/>
            <a:ext cx="4572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0" y="3962160"/>
            <a:ext cx="2230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914880" y="3962160"/>
            <a:ext cx="2230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498B7-D67D-4788-A13E-54A5772EA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0" y="2971800"/>
            <a:ext cx="4572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FC611-8B2D-4036-9E25-1B1241216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0" y="2971800"/>
            <a:ext cx="457200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14621-C12B-4359-B67C-ED6A37627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0" y="2971800"/>
            <a:ext cx="4572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0" y="3962160"/>
            <a:ext cx="22309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914880" y="3962160"/>
            <a:ext cx="2230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0" y="4240800"/>
            <a:ext cx="22309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E5ADC-2F9C-47B3-981C-14189CFFB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0" y="2971800"/>
            <a:ext cx="4572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0" y="3962160"/>
            <a:ext cx="2230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914880" y="3962160"/>
            <a:ext cx="22309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914880" y="4240800"/>
            <a:ext cx="22309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2CAD7-939F-4C30-882B-E5B1BB989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0" y="2971800"/>
            <a:ext cx="4572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0" y="3962160"/>
            <a:ext cx="22309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914880" y="3962160"/>
            <a:ext cx="22309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0" y="4240800"/>
            <a:ext cx="45720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E015A-BA68-46EB-9294-05C062595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83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5448240" y="890640"/>
            <a:ext cx="3700440" cy="1231920"/>
          </a:xfrm>
          <a:custGeom>
            <a:avLst/>
            <a:gdLst/>
            <a:ahLst/>
            <a:rect l="l" t="t" r="r" b="b"/>
            <a:pathLst>
              <a:path w="2331" h="776">
                <a:moveTo>
                  <a:pt x="0" y="0"/>
                </a:moveTo>
                <a:cubicBezTo>
                  <a:pt x="616" y="64"/>
                  <a:pt x="832" y="96"/>
                  <a:pt x="1312" y="232"/>
                </a:cubicBezTo>
                <a:cubicBezTo>
                  <a:pt x="1792" y="368"/>
                  <a:pt x="2280" y="745"/>
                  <a:pt x="2328" y="776"/>
                </a:cubicBezTo>
                <a:lnTo>
                  <a:pt x="2331" y="431"/>
                </a:lnTo>
                <a:cubicBezTo>
                  <a:pt x="2108" y="307"/>
                  <a:pt x="1380" y="104"/>
                  <a:pt x="992" y="32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dbe4c"/>
              </a:gs>
              <a:gs pos="100000">
                <a:srgbClr val="d6ea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152280"/>
            <a:ext cx="9144000" cy="1427400"/>
          </a:xfrm>
          <a:custGeom>
            <a:avLst/>
            <a:gdLst/>
            <a:ahLst/>
            <a:rect l="l" t="t" r="r" b="b"/>
            <a:pathLst>
              <a:path w="5760" h="899">
                <a:moveTo>
                  <a:pt x="0" y="625"/>
                </a:moveTo>
                <a:cubicBezTo>
                  <a:pt x="466" y="515"/>
                  <a:pt x="1509" y="423"/>
                  <a:pt x="3017" y="451"/>
                </a:cubicBezTo>
                <a:cubicBezTo>
                  <a:pt x="4525" y="479"/>
                  <a:pt x="5486" y="753"/>
                  <a:pt x="5760" y="899"/>
                </a:cubicBezTo>
                <a:lnTo>
                  <a:pt x="5760" y="218"/>
                </a:lnTo>
                <a:cubicBezTo>
                  <a:pt x="5273" y="73"/>
                  <a:pt x="3797" y="0"/>
                  <a:pt x="2837" y="31"/>
                </a:cubicBezTo>
                <a:cubicBezTo>
                  <a:pt x="1798" y="54"/>
                  <a:pt x="448" y="285"/>
                  <a:pt x="0" y="401"/>
                </a:cubicBezTo>
                <a:lnTo>
                  <a:pt x="0" y="625"/>
                </a:lnTo>
                <a:close/>
              </a:path>
            </a:pathLst>
          </a:custGeom>
          <a:gradFill rotWithShape="0">
            <a:gsLst>
              <a:gs pos="0">
                <a:srgbClr val="308dea"/>
              </a:gs>
              <a:gs pos="100000">
                <a:srgbClr val="2979c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0948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dbe4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8dea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308d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b136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8dea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308dea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8dea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308dea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8dea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308dea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8dea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308dea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8dea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308dea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8dea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308dea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1"/>
          </p:nvPr>
        </p:nvSpPr>
        <p:spPr>
          <a:xfrm>
            <a:off x="4114800" y="6552720"/>
            <a:ext cx="838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D0CDC-43AB-4933-8919-F95F87CAF8D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390240" y="2602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09120" y="6552720"/>
            <a:ext cx="1676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0"/>
          <a:ext cx="4572000" cy="609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4572000" cy="60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4483080"/>
            <a:ext cx="4122720" cy="2368440"/>
          </a:xfrm>
          <a:custGeom>
            <a:avLst/>
            <a:gdLst/>
            <a:ahLst/>
            <a:rect l="l" t="t" r="r" b="b"/>
            <a:pathLst>
              <a:path w="2597" h="1492">
                <a:moveTo>
                  <a:pt x="0" y="489"/>
                </a:moveTo>
                <a:cubicBezTo>
                  <a:pt x="247" y="671"/>
                  <a:pt x="632" y="920"/>
                  <a:pt x="1328" y="840"/>
                </a:cubicBezTo>
                <a:cubicBezTo>
                  <a:pt x="2024" y="760"/>
                  <a:pt x="2360" y="131"/>
                  <a:pt x="2488" y="0"/>
                </a:cubicBezTo>
                <a:cubicBezTo>
                  <a:pt x="2597" y="53"/>
                  <a:pt x="1792" y="1068"/>
                  <a:pt x="1712" y="1124"/>
                </a:cubicBezTo>
                <a:cubicBezTo>
                  <a:pt x="1632" y="1180"/>
                  <a:pt x="921" y="1431"/>
                  <a:pt x="636" y="1492"/>
                </a:cubicBezTo>
                <a:lnTo>
                  <a:pt x="1" y="1492"/>
                </a:lnTo>
                <a:lnTo>
                  <a:pt x="0" y="489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35353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17600" y="0"/>
            <a:ext cx="6926400" cy="6859440"/>
          </a:xfrm>
          <a:custGeom>
            <a:avLst/>
            <a:gdLst/>
            <a:ahLst/>
            <a:rect l="l" t="t" r="r" b="b"/>
            <a:pathLst>
              <a:path w="4363" h="4321">
                <a:moveTo>
                  <a:pt x="189" y="0"/>
                </a:moveTo>
                <a:lnTo>
                  <a:pt x="561" y="181"/>
                </a:lnTo>
                <a:lnTo>
                  <a:pt x="943" y="488"/>
                </a:lnTo>
                <a:lnTo>
                  <a:pt x="1221" y="953"/>
                </a:lnTo>
                <a:lnTo>
                  <a:pt x="1413" y="1615"/>
                </a:lnTo>
                <a:lnTo>
                  <a:pt x="1290" y="2642"/>
                </a:lnTo>
                <a:lnTo>
                  <a:pt x="0" y="4321"/>
                </a:lnTo>
                <a:lnTo>
                  <a:pt x="4349" y="4321"/>
                </a:lnTo>
                <a:lnTo>
                  <a:pt x="4363" y="0"/>
                </a:lnTo>
                <a:lnTo>
                  <a:pt x="189" y="0"/>
                </a:lnTo>
                <a:close/>
              </a:path>
            </a:pathLst>
          </a:custGeom>
          <a:gradFill rotWithShape="0">
            <a:gsLst>
              <a:gs pos="0">
                <a:srgbClr val="308dea"/>
              </a:gs>
              <a:gs pos="100000">
                <a:srgbClr val="f7fa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00720" y="2924280"/>
            <a:ext cx="4665600" cy="1009440"/>
          </a:xfrm>
          <a:prstGeom prst="rect">
            <a:avLst/>
          </a:prstGeom>
          <a:gradFill rotWithShape="0">
            <a:gsLst>
              <a:gs pos="0">
                <a:srgbClr val="0c1f42"/>
              </a:gs>
              <a:gs pos="100000">
                <a:srgbClr val="1c459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3933720"/>
            <a:ext cx="4875120" cy="432000"/>
          </a:xfrm>
          <a:prstGeom prst="rect">
            <a:avLst/>
          </a:prstGeom>
          <a:solidFill>
            <a:srgbClr val="7dbe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12600" y="4149720"/>
            <a:ext cx="4152960" cy="2708280"/>
          </a:xfrm>
          <a:custGeom>
            <a:avLst/>
            <a:gdLst/>
            <a:ahLst/>
            <a:rect l="l" t="t" r="r" b="b"/>
            <a:pathLst>
              <a:path w="2576" h="1688">
                <a:moveTo>
                  <a:pt x="0" y="1688"/>
                </a:moveTo>
                <a:lnTo>
                  <a:pt x="0" y="1112"/>
                </a:lnTo>
                <a:cubicBezTo>
                  <a:pt x="1960" y="1464"/>
                  <a:pt x="2419" y="304"/>
                  <a:pt x="2576" y="0"/>
                </a:cubicBezTo>
                <a:lnTo>
                  <a:pt x="2135" y="826"/>
                </a:lnTo>
                <a:cubicBezTo>
                  <a:pt x="1618" y="1315"/>
                  <a:pt x="1286" y="1456"/>
                  <a:pt x="635" y="1688"/>
                </a:cubicBezTo>
                <a:lnTo>
                  <a:pt x="0" y="1688"/>
                </a:lnTo>
                <a:close/>
              </a:path>
            </a:pathLst>
          </a:custGeom>
          <a:gradFill rotWithShape="0">
            <a:gsLst>
              <a:gs pos="0">
                <a:srgbClr val="291d62"/>
              </a:gs>
              <a:gs pos="100000">
                <a:srgbClr val="5940d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00720" y="2924280"/>
            <a:ext cx="4643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84720" y="3933720"/>
            <a:ext cx="4859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84720" y="4365720"/>
            <a:ext cx="4859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65160" y="0"/>
            <a:ext cx="3822840" cy="6870600"/>
          </a:xfrm>
          <a:custGeom>
            <a:avLst/>
            <a:gdLst/>
            <a:ahLst/>
            <a:rect l="l" t="t" r="r" b="b"/>
            <a:pathLst>
              <a:path w="2408" h="4328">
                <a:moveTo>
                  <a:pt x="864" y="0"/>
                </a:moveTo>
                <a:cubicBezTo>
                  <a:pt x="2026" y="270"/>
                  <a:pt x="2408" y="1624"/>
                  <a:pt x="1984" y="2576"/>
                </a:cubicBezTo>
                <a:cubicBezTo>
                  <a:pt x="1560" y="3528"/>
                  <a:pt x="880" y="3969"/>
                  <a:pt x="0" y="4320"/>
                </a:cubicBezTo>
                <a:lnTo>
                  <a:pt x="1208" y="4328"/>
                </a:lnTo>
                <a:cubicBezTo>
                  <a:pt x="1520" y="4072"/>
                  <a:pt x="2144" y="3336"/>
                  <a:pt x="2272" y="2560"/>
                </a:cubicBezTo>
                <a:cubicBezTo>
                  <a:pt x="2400" y="1784"/>
                  <a:pt x="2280" y="416"/>
                  <a:pt x="1000" y="0"/>
                </a:cubicBezTo>
                <a:lnTo>
                  <a:pt x="864" y="0"/>
                </a:lnTo>
                <a:close/>
              </a:path>
            </a:pathLst>
          </a:custGeom>
          <a:gradFill rotWithShape="0">
            <a:gsLst>
              <a:gs pos="0">
                <a:srgbClr val="daeccd"/>
              </a:gs>
              <a:gs pos="100000">
                <a:srgbClr val="7dbe4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0" y="2971800"/>
            <a:ext cx="4572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i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3"/>
          </p:nvPr>
        </p:nvSpPr>
        <p:spPr>
          <a:xfrm>
            <a:off x="456840" y="6563880"/>
            <a:ext cx="2133720" cy="1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4"/>
          </p:nvPr>
        </p:nvSpPr>
        <p:spPr>
          <a:xfrm>
            <a:off x="3124080" y="6550200"/>
            <a:ext cx="289584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5"/>
          </p:nvPr>
        </p:nvSpPr>
        <p:spPr>
          <a:xfrm>
            <a:off x="6552720" y="6535800"/>
            <a:ext cx="213372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80A7D-5011-4189-A9B1-A384D8B54B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537240" y="6110280"/>
            <a:ext cx="230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0" y="2987640"/>
            <a:ext cx="45036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2362320"/>
            <a:ext cx="309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0" y="3962160"/>
            <a:ext cx="4572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3481200" y="457200"/>
            <a:ext cx="35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试管实验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90240" y="2602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219320" y="1828800"/>
            <a:ext cx="6781680" cy="4114800"/>
            <a:chOff x="1219320" y="1828800"/>
            <a:chExt cx="6781680" cy="4114800"/>
          </a:xfrm>
        </p:grpSpPr>
        <p:sp>
          <p:nvSpPr>
            <p:cNvPr id="247" name=""/>
            <p:cNvSpPr/>
            <p:nvPr/>
          </p:nvSpPr>
          <p:spPr>
            <a:xfrm>
              <a:off x="3722760" y="3657600"/>
              <a:ext cx="1839960" cy="228600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6000"/>
                <a:gd name="textAreaBottom" fmla="*/ 2212200 h 2286000"/>
              </a:gdLst>
              <a:ahLst/>
              <a:rect l="textAreaLeft" t="textAreaTop" r="textAreaRight" b="textAreaBottom"/>
              <a:pathLst>
                <a:path w="21600" h="26835">
                  <a:moveTo>
                    <a:pt x="2969" y="0"/>
                  </a:moveTo>
                  <a:arcTo wR="2969" hR="2969" stAng="16200000" swAng="-5400000"/>
                  <a:lnTo>
                    <a:pt x="0" y="23866"/>
                  </a:lnTo>
                  <a:arcTo wR="2969" hR="2969" stAng="10800000" swAng="-5400000"/>
                  <a:lnTo>
                    <a:pt x="18631" y="26835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219320" y="3657600"/>
              <a:ext cx="1828800" cy="228600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6000"/>
                <a:gd name="textAreaBottom" fmla="*/ 221256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2969" y="0"/>
                  </a:moveTo>
                  <a:arcTo wR="2969" hR="2969" stAng="16200000" swAng="-5400000"/>
                  <a:lnTo>
                    <a:pt x="0" y="24030"/>
                  </a:lnTo>
                  <a:arcTo wR="2969" hR="2969" stAng="10800000" swAng="-5400000"/>
                  <a:lnTo>
                    <a:pt x="18631" y="2699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248520" y="3657600"/>
              <a:ext cx="1752480" cy="2286000"/>
            </a:xfrm>
            <a:custGeom>
              <a:avLst/>
              <a:gdLst>
                <a:gd name="textAreaLeft" fmla="*/ 70560 w 1752480"/>
                <a:gd name="textAreaRight" fmla="*/ 1681920 w 1752480"/>
                <a:gd name="textAreaTop" fmla="*/ 70560 h 2286000"/>
                <a:gd name="textAreaBottom" fmla="*/ 221544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2969" y="0"/>
                  </a:moveTo>
                  <a:arcTo wR="2969" hR="2969" stAng="16200000" swAng="-5400000"/>
                  <a:lnTo>
                    <a:pt x="0" y="25205"/>
                  </a:lnTo>
                  <a:arcTo wR="2969" hR="2969" stAng="10800000" swAng="-5400000"/>
                  <a:lnTo>
                    <a:pt x="18631" y="2817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51440" y="2452680"/>
              <a:ext cx="399960" cy="4492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b13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613480" y="245268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7dbe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7dbe4c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7dbe4c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332760" y="19447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436628"/>
                </a:gs>
                <a:gs pos="50000">
                  <a:srgbClr val="7dbe4c"/>
                </a:gs>
                <a:gs pos="100000">
                  <a:srgbClr val="43662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357960" y="19526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7dbe4c">
                    <a:alpha val="0"/>
                  </a:srgbClr>
                </a:gs>
                <a:gs pos="100000">
                  <a:srgbClr val="4f783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411960" y="2016000"/>
              <a:ext cx="13352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08dea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308dea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406520" y="19382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194c7e"/>
                </a:gs>
                <a:gs pos="50000">
                  <a:srgbClr val="308dea"/>
                </a:gs>
                <a:gs pos="100000">
                  <a:srgbClr val="194c7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408320" y="194148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308dea">
                    <a:alpha val="0"/>
                  </a:srgbClr>
                </a:gs>
                <a:gs pos="100000">
                  <a:srgbClr val="1e599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481400" y="2013120"/>
              <a:ext cx="133344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1501920" y="2031840"/>
              <a:ext cx="1290600" cy="1278000"/>
              <a:chOff x="1501920" y="2031840"/>
              <a:chExt cx="1290600" cy="1278000"/>
            </a:xfrm>
          </p:grpSpPr>
          <p:sp>
            <p:nvSpPr>
              <p:cNvPr id="263" name=""/>
              <p:cNvSpPr/>
              <p:nvPr/>
            </p:nvSpPr>
            <p:spPr>
              <a:xfrm>
                <a:off x="150192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51848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53180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60164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b13621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51180f"/>
                </a:gs>
                <a:gs pos="100000">
                  <a:srgbClr val="b13621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870360" y="194472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5f1d11"/>
                </a:gs>
                <a:gs pos="50000">
                  <a:srgbClr val="b13621"/>
                </a:gs>
                <a:gs pos="100000">
                  <a:srgbClr val="5f1d1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872160" y="194616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b13621">
                    <a:alpha val="0"/>
                  </a:srgbClr>
                </a:gs>
                <a:gs pos="100000">
                  <a:srgbClr val="70221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943440" y="201600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3965760" y="2031840"/>
              <a:ext cx="1290600" cy="1278000"/>
              <a:chOff x="3965760" y="2031840"/>
              <a:chExt cx="1290600" cy="1278000"/>
            </a:xfrm>
          </p:grpSpPr>
          <p:sp>
            <p:nvSpPr>
              <p:cNvPr id="273" name=""/>
              <p:cNvSpPr/>
              <p:nvPr/>
            </p:nvSpPr>
            <p:spPr>
              <a:xfrm>
                <a:off x="396576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98232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99564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06548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6435720" y="2031840"/>
              <a:ext cx="1292400" cy="1278000"/>
              <a:chOff x="6435720" y="2031840"/>
              <a:chExt cx="1292400" cy="1278000"/>
            </a:xfrm>
          </p:grpSpPr>
          <p:sp>
            <p:nvSpPr>
              <p:cNvPr id="278" name=""/>
              <p:cNvSpPr/>
              <p:nvPr/>
            </p:nvSpPr>
            <p:spPr>
              <a:xfrm>
                <a:off x="6435720" y="2031840"/>
                <a:ext cx="12924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452280" y="2038680"/>
                <a:ext cx="12610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465600" y="2051280"/>
                <a:ext cx="11995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535800" y="2083680"/>
                <a:ext cx="106632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>
              <a:off x="17650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3360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7006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"/>
          <p:cNvGrpSpPr/>
          <p:nvPr/>
        </p:nvGrpSpPr>
        <p:grpSpPr>
          <a:xfrm>
            <a:off x="1371600" y="1143000"/>
            <a:ext cx="5715000" cy="5330520"/>
            <a:chOff x="1371600" y="1143000"/>
            <a:chExt cx="5715000" cy="5330520"/>
          </a:xfrm>
        </p:grpSpPr>
        <p:sp>
          <p:nvSpPr>
            <p:cNvPr id="286" name=""/>
            <p:cNvSpPr/>
            <p:nvPr/>
          </p:nvSpPr>
          <p:spPr>
            <a:xfrm rot="13770000">
              <a:off x="4704120" y="3727440"/>
              <a:ext cx="1015560" cy="1962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ececec"/>
                </a:gs>
                <a:gs pos="100000">
                  <a:srgbClr val="dddddd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20856000">
              <a:off x="2679480" y="3248280"/>
              <a:ext cx="1035360" cy="1825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ededed"/>
                </a:gs>
                <a:gs pos="100000">
                  <a:srgbClr val="dddddd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8394200">
              <a:off x="4839120" y="2089440"/>
              <a:ext cx="631440" cy="13608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" name=""/>
            <p:cNvGrpSpPr/>
            <p:nvPr/>
          </p:nvGrpSpPr>
          <p:grpSpPr>
            <a:xfrm>
              <a:off x="3643560" y="2125080"/>
              <a:ext cx="1652400" cy="1684080"/>
              <a:chOff x="3643560" y="2125080"/>
              <a:chExt cx="1652400" cy="1684080"/>
            </a:xfrm>
          </p:grpSpPr>
          <p:grpSp>
            <p:nvGrpSpPr>
              <p:cNvPr id="290" name=""/>
              <p:cNvGrpSpPr/>
              <p:nvPr/>
            </p:nvGrpSpPr>
            <p:grpSpPr>
              <a:xfrm>
                <a:off x="3643560" y="2125080"/>
                <a:ext cx="1652400" cy="1684080"/>
                <a:chOff x="3643560" y="2125080"/>
                <a:chExt cx="1652400" cy="168408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3643560" y="2125080"/>
                  <a:ext cx="1652400" cy="168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08dea"/>
                    </a:gs>
                    <a:gs pos="100000">
                      <a:srgbClr val="0b223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3832200" y="2152800"/>
                  <a:ext cx="1274760" cy="635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08d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3750120" y="285732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5089320" y="1143000"/>
              <a:ext cx="925200" cy="912240"/>
              <a:chOff x="5089320" y="1143000"/>
              <a:chExt cx="925200" cy="912240"/>
            </a:xfrm>
          </p:grpSpPr>
          <p:grpSp>
            <p:nvGrpSpPr>
              <p:cNvPr id="295" name=""/>
              <p:cNvGrpSpPr/>
              <p:nvPr/>
            </p:nvGrpSpPr>
            <p:grpSpPr>
              <a:xfrm>
                <a:off x="5089320" y="1143000"/>
                <a:ext cx="894960" cy="912240"/>
                <a:chOff x="5089320" y="1143000"/>
                <a:chExt cx="894960" cy="91224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5089320" y="1143000"/>
                  <a:ext cx="894960" cy="91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13621"/>
                    </a:gs>
                    <a:gs pos="100000">
                      <a:srgbClr val="2a0d0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5191560" y="1158120"/>
                  <a:ext cx="690480" cy="344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b1362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8" name=""/>
              <p:cNvSpPr/>
              <p:nvPr/>
            </p:nvSpPr>
            <p:spPr>
              <a:xfrm>
                <a:off x="5105160" y="1493640"/>
                <a:ext cx="909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1371600" y="2476440"/>
              <a:ext cx="1789920" cy="1894680"/>
              <a:chOff x="1371600" y="2476440"/>
              <a:chExt cx="1789920" cy="1894680"/>
            </a:xfrm>
          </p:grpSpPr>
          <p:grpSp>
            <p:nvGrpSpPr>
              <p:cNvPr id="300" name=""/>
              <p:cNvGrpSpPr/>
              <p:nvPr/>
            </p:nvGrpSpPr>
            <p:grpSpPr>
              <a:xfrm>
                <a:off x="1371600" y="2476440"/>
                <a:ext cx="1789920" cy="1894680"/>
                <a:chOff x="1371600" y="2476440"/>
                <a:chExt cx="1789920" cy="18946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1371600" y="2476440"/>
                  <a:ext cx="1789920" cy="189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40d6"/>
                    </a:gs>
                    <a:gs pos="100000">
                      <a:srgbClr val="38288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1576080" y="2507760"/>
                  <a:ext cx="1380600" cy="7149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5940d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3" name=""/>
              <p:cNvSpPr/>
              <p:nvPr/>
            </p:nvSpPr>
            <p:spPr>
              <a:xfrm>
                <a:off x="1487520" y="331848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5020920" y="3879720"/>
              <a:ext cx="2065680" cy="2105280"/>
              <a:chOff x="5020920" y="3879720"/>
              <a:chExt cx="2065680" cy="2105280"/>
            </a:xfrm>
          </p:grpSpPr>
          <p:grpSp>
            <p:nvGrpSpPr>
              <p:cNvPr id="305" name=""/>
              <p:cNvGrpSpPr/>
              <p:nvPr/>
            </p:nvGrpSpPr>
            <p:grpSpPr>
              <a:xfrm>
                <a:off x="5020920" y="3879720"/>
                <a:ext cx="2065680" cy="2105280"/>
                <a:chOff x="5020920" y="3879720"/>
                <a:chExt cx="2065680" cy="210528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5020920" y="3879720"/>
                  <a:ext cx="2065680" cy="2105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dbe4c"/>
                    </a:gs>
                    <a:gs pos="100000">
                      <a:srgbClr val="3f61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5257080" y="3914640"/>
                  <a:ext cx="1593360" cy="794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7dbe4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8" name=""/>
              <p:cNvSpPr/>
              <p:nvPr/>
            </p:nvSpPr>
            <p:spPr>
              <a:xfrm>
                <a:off x="5336280" y="479196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"/>
            <p:cNvSpPr/>
            <p:nvPr/>
          </p:nvSpPr>
          <p:spPr>
            <a:xfrm>
              <a:off x="1577880" y="4441320"/>
              <a:ext cx="1454400" cy="4881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781440" y="3812760"/>
              <a:ext cx="1455840" cy="4881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365080" y="5985360"/>
              <a:ext cx="1454400" cy="4881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227200" y="2125080"/>
              <a:ext cx="667080" cy="2440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90240" y="2602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Marketing Diagram</a:t>
            </a: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90240" y="2602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752760" y="1828800"/>
            <a:ext cx="7282440" cy="3770280"/>
            <a:chOff x="752760" y="1828800"/>
            <a:chExt cx="7282440" cy="3770280"/>
          </a:xfrm>
        </p:grpSpPr>
        <p:sp>
          <p:nvSpPr>
            <p:cNvPr id="316" name=""/>
            <p:cNvSpPr/>
            <p:nvPr/>
          </p:nvSpPr>
          <p:spPr>
            <a:xfrm rot="17973000">
              <a:off x="4561560" y="253404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b13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3465600">
              <a:off x="4611960" y="4644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b13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14368800">
              <a:off x="3393000" y="2556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b13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rot="7534800">
              <a:off x="3354840" y="461088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b13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194080" y="361152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b13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10800000">
              <a:off x="278388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b13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1c45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556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4706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556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da1ea"/>
                </a:gs>
                <a:gs pos="100000">
                  <a:srgbClr val="5940d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da1ea"/>
                </a:gs>
                <a:gs pos="100000">
                  <a:srgbClr val="5940d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da1ea"/>
                </a:gs>
                <a:gs pos="100000">
                  <a:srgbClr val="5940d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ada1ea"/>
                </a:gs>
                <a:gs pos="100000">
                  <a:srgbClr val="5940d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da1ea"/>
                </a:gs>
                <a:gs pos="100000">
                  <a:srgbClr val="5940d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da1ea"/>
                </a:gs>
                <a:gs pos="100000">
                  <a:srgbClr val="5940d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7dbe4c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539880" y="2889360"/>
              <a:ext cx="1703520" cy="16873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7dbe4c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655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436628"/>
                </a:gs>
                <a:gs pos="50000">
                  <a:srgbClr val="7dbe4c"/>
                </a:gs>
                <a:gs pos="100000">
                  <a:srgbClr val="43662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68400" y="297180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7dbe4c">
                    <a:alpha val="0"/>
                  </a:srgbClr>
                </a:gs>
                <a:gs pos="100000">
                  <a:srgbClr val="4f783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0" name="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341" name="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5" name="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90240" y="2602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48" name="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55" name="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98468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63" name="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61476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32240" y="183636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340160" y="1839600"/>
              <a:ext cx="60804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346280" y="1846080"/>
              <a:ext cx="57816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381560" y="1861920"/>
              <a:ext cx="51264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65760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5845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6288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77" name=""/>
            <p:cNvSpPr/>
            <p:nvPr/>
          </p:nvSpPr>
          <p:spPr>
            <a:xfrm>
              <a:off x="59436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9943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9943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1" name=""/>
            <p:cNvGrpSpPr/>
            <p:nvPr/>
          </p:nvGrpSpPr>
          <p:grpSpPr>
            <a:xfrm>
              <a:off x="6688080" y="1832040"/>
              <a:ext cx="642960" cy="642600"/>
              <a:chOff x="6688080" y="1832040"/>
              <a:chExt cx="642960" cy="642600"/>
            </a:xfrm>
          </p:grpSpPr>
          <p:sp>
            <p:nvSpPr>
              <p:cNvPr id="382" name=""/>
              <p:cNvSpPr/>
              <p:nvPr/>
            </p:nvSpPr>
            <p:spPr>
              <a:xfrm>
                <a:off x="66880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6945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7024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70896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7428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9814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dbe4c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90240" y="2602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0" y="1828800"/>
            <a:ext cx="9144000" cy="4188960"/>
            <a:chOff x="0" y="1828800"/>
            <a:chExt cx="9144000" cy="4188960"/>
          </a:xfrm>
        </p:grpSpPr>
        <p:grpSp>
          <p:nvGrpSpPr>
            <p:cNvPr id="394" name=""/>
            <p:cNvGrpSpPr/>
            <p:nvPr/>
          </p:nvGrpSpPr>
          <p:grpSpPr>
            <a:xfrm>
              <a:off x="0" y="3238560"/>
              <a:ext cx="9144000" cy="122040"/>
              <a:chOff x="0" y="3238560"/>
              <a:chExt cx="9144000" cy="122040"/>
            </a:xfrm>
          </p:grpSpPr>
          <p:sp>
            <p:nvSpPr>
              <p:cNvPr id="395" name=""/>
              <p:cNvSpPr/>
              <p:nvPr/>
            </p:nvSpPr>
            <p:spPr>
              <a:xfrm>
                <a:off x="0" y="3238560"/>
                <a:ext cx="9144000" cy="47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0" y="3285360"/>
                <a:ext cx="9144000" cy="75240"/>
              </a:xfrm>
              <a:prstGeom prst="rect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762120" y="2685960"/>
              <a:ext cx="1931760" cy="3265200"/>
              <a:chOff x="762120" y="2685960"/>
              <a:chExt cx="1931760" cy="3265200"/>
            </a:xfrm>
          </p:grpSpPr>
          <p:grpSp>
            <p:nvGrpSpPr>
              <p:cNvPr id="398" name=""/>
              <p:cNvGrpSpPr/>
              <p:nvPr/>
            </p:nvGrpSpPr>
            <p:grpSpPr>
              <a:xfrm>
                <a:off x="1167840" y="3526560"/>
                <a:ext cx="1526040" cy="2424600"/>
                <a:chOff x="1167840" y="3526560"/>
                <a:chExt cx="1526040" cy="2424600"/>
              </a:xfrm>
            </p:grpSpPr>
            <p:grpSp>
              <p:nvGrpSpPr>
                <p:cNvPr id="399" name=""/>
                <p:cNvGrpSpPr/>
                <p:nvPr/>
              </p:nvGrpSpPr>
              <p:grpSpPr>
                <a:xfrm>
                  <a:off x="1167840" y="3684240"/>
                  <a:ext cx="1420200" cy="2266920"/>
                  <a:chOff x="1167840" y="3684240"/>
                  <a:chExt cx="1420200" cy="2266920"/>
                </a:xfrm>
              </p:grpSpPr>
              <p:sp>
                <p:nvSpPr>
                  <p:cNvPr id="400" name=""/>
                  <p:cNvSpPr/>
                  <p:nvPr/>
                </p:nvSpPr>
                <p:spPr>
                  <a:xfrm rot="3876600">
                    <a:off x="74016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 rot="3876600">
                    <a:off x="210744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2" name=""/>
                <p:cNvGrpSpPr/>
                <p:nvPr/>
              </p:nvGrpSpPr>
              <p:grpSpPr>
                <a:xfrm>
                  <a:off x="1604160" y="3526560"/>
                  <a:ext cx="1089720" cy="1739520"/>
                  <a:chOff x="1604160" y="3526560"/>
                  <a:chExt cx="1089720" cy="1739520"/>
                </a:xfrm>
              </p:grpSpPr>
              <p:sp>
                <p:nvSpPr>
                  <p:cNvPr id="403" name=""/>
                  <p:cNvSpPr/>
                  <p:nvPr/>
                </p:nvSpPr>
                <p:spPr>
                  <a:xfrm flipV="1" rot="3876600">
                    <a:off x="1275480" y="42073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 flipV="1" rot="3876600">
                    <a:off x="2309400" y="48895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5" name=""/>
              <p:cNvGrpSpPr/>
              <p:nvPr/>
            </p:nvGrpSpPr>
            <p:grpSpPr>
              <a:xfrm>
                <a:off x="762120" y="2685960"/>
                <a:ext cx="1270440" cy="1309320"/>
                <a:chOff x="762120" y="2685960"/>
                <a:chExt cx="1270440" cy="130932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846000" y="277092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846000" y="277380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900720" y="2828880"/>
                  <a:ext cx="99288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11" name=""/>
                <p:cNvGrpSpPr/>
                <p:nvPr/>
              </p:nvGrpSpPr>
              <p:grpSpPr>
                <a:xfrm>
                  <a:off x="915840" y="2844360"/>
                  <a:ext cx="962280" cy="992880"/>
                  <a:chOff x="915840" y="2844360"/>
                  <a:chExt cx="962280" cy="992880"/>
                </a:xfrm>
              </p:grpSpPr>
              <p:sp>
                <p:nvSpPr>
                  <p:cNvPr id="412" name=""/>
                  <p:cNvSpPr/>
                  <p:nvPr/>
                </p:nvSpPr>
                <p:spPr>
                  <a:xfrm>
                    <a:off x="915840" y="2844360"/>
                    <a:ext cx="96228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928080" y="2849760"/>
                    <a:ext cx="93924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937800" y="2859120"/>
                    <a:ext cx="89316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990360" y="2884680"/>
                    <a:ext cx="79380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16" name=""/>
              <p:cNvSpPr/>
              <p:nvPr/>
            </p:nvSpPr>
            <p:spPr>
              <a:xfrm rot="3925800">
                <a:off x="112896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rot="3925800">
                <a:off x="159048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2509920" y="2685960"/>
              <a:ext cx="1930680" cy="3265200"/>
              <a:chOff x="2509920" y="2685960"/>
              <a:chExt cx="1930680" cy="3265200"/>
            </a:xfrm>
          </p:grpSpPr>
          <p:grpSp>
            <p:nvGrpSpPr>
              <p:cNvPr id="419" name=""/>
              <p:cNvGrpSpPr/>
              <p:nvPr/>
            </p:nvGrpSpPr>
            <p:grpSpPr>
              <a:xfrm>
                <a:off x="2914200" y="3526560"/>
                <a:ext cx="1526400" cy="2424600"/>
                <a:chOff x="2914200" y="3526560"/>
                <a:chExt cx="1526400" cy="2424600"/>
              </a:xfrm>
            </p:grpSpPr>
            <p:grpSp>
              <p:nvGrpSpPr>
                <p:cNvPr id="420" name=""/>
                <p:cNvGrpSpPr/>
                <p:nvPr/>
              </p:nvGrpSpPr>
              <p:grpSpPr>
                <a:xfrm>
                  <a:off x="2914200" y="3684240"/>
                  <a:ext cx="1420200" cy="2266920"/>
                  <a:chOff x="2914200" y="3684240"/>
                  <a:chExt cx="1420200" cy="2266920"/>
                </a:xfrm>
              </p:grpSpPr>
              <p:sp>
                <p:nvSpPr>
                  <p:cNvPr id="421" name=""/>
                  <p:cNvSpPr/>
                  <p:nvPr/>
                </p:nvSpPr>
                <p:spPr>
                  <a:xfrm rot="3876600">
                    <a:off x="248652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 rot="3876600">
                    <a:off x="3853800" y="545004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3" name=""/>
                <p:cNvGrpSpPr/>
                <p:nvPr/>
              </p:nvGrpSpPr>
              <p:grpSpPr>
                <a:xfrm>
                  <a:off x="3350520" y="3526560"/>
                  <a:ext cx="1090080" cy="1739520"/>
                  <a:chOff x="3350520" y="3526560"/>
                  <a:chExt cx="1090080" cy="1739520"/>
                </a:xfrm>
              </p:grpSpPr>
              <p:sp>
                <p:nvSpPr>
                  <p:cNvPr id="424" name=""/>
                  <p:cNvSpPr/>
                  <p:nvPr/>
                </p:nvSpPr>
                <p:spPr>
                  <a:xfrm flipV="1" rot="3876600">
                    <a:off x="3022200" y="42073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 flipV="1" rot="3876600">
                    <a:off x="4056120" y="4888440"/>
                    <a:ext cx="27432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6" name=""/>
              <p:cNvGrpSpPr/>
              <p:nvPr/>
            </p:nvGrpSpPr>
            <p:grpSpPr>
              <a:xfrm>
                <a:off x="2509920" y="2685960"/>
                <a:ext cx="1270080" cy="1309320"/>
                <a:chOff x="2509920" y="2685960"/>
                <a:chExt cx="1270080" cy="130932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2593800" y="2770920"/>
                  <a:ext cx="11016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2593800" y="2773800"/>
                  <a:ext cx="11016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2648520" y="2828880"/>
                  <a:ext cx="99252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32" name=""/>
                <p:cNvGrpSpPr/>
                <p:nvPr/>
              </p:nvGrpSpPr>
              <p:grpSpPr>
                <a:xfrm>
                  <a:off x="2663640" y="2844360"/>
                  <a:ext cx="961920" cy="992880"/>
                  <a:chOff x="2663640" y="2844360"/>
                  <a:chExt cx="961920" cy="992880"/>
                </a:xfrm>
              </p:grpSpPr>
              <p:sp>
                <p:nvSpPr>
                  <p:cNvPr id="433" name=""/>
                  <p:cNvSpPr/>
                  <p:nvPr/>
                </p:nvSpPr>
                <p:spPr>
                  <a:xfrm>
                    <a:off x="2663640" y="2844360"/>
                    <a:ext cx="96192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2675880" y="2849760"/>
                    <a:ext cx="93888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2685600" y="2859120"/>
                    <a:ext cx="89280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2738160" y="2884680"/>
                    <a:ext cx="7934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37" name=""/>
              <p:cNvSpPr/>
              <p:nvPr/>
            </p:nvSpPr>
            <p:spPr>
              <a:xfrm rot="3925800">
                <a:off x="286992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rot="3925800">
                <a:off x="333216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4313160" y="2685960"/>
              <a:ext cx="1931760" cy="3265200"/>
              <a:chOff x="4313160" y="2685960"/>
              <a:chExt cx="1931760" cy="3265200"/>
            </a:xfrm>
          </p:grpSpPr>
          <p:grpSp>
            <p:nvGrpSpPr>
              <p:cNvPr id="440" name=""/>
              <p:cNvGrpSpPr/>
              <p:nvPr/>
            </p:nvGrpSpPr>
            <p:grpSpPr>
              <a:xfrm>
                <a:off x="4718880" y="3526560"/>
                <a:ext cx="1526040" cy="2424600"/>
                <a:chOff x="4718880" y="3526560"/>
                <a:chExt cx="1526040" cy="2424600"/>
              </a:xfrm>
            </p:grpSpPr>
            <p:grpSp>
              <p:nvGrpSpPr>
                <p:cNvPr id="441" name=""/>
                <p:cNvGrpSpPr/>
                <p:nvPr/>
              </p:nvGrpSpPr>
              <p:grpSpPr>
                <a:xfrm>
                  <a:off x="4718880" y="3684240"/>
                  <a:ext cx="1420200" cy="2266920"/>
                  <a:chOff x="4718880" y="3684240"/>
                  <a:chExt cx="1420200" cy="2266920"/>
                </a:xfrm>
              </p:grpSpPr>
              <p:sp>
                <p:nvSpPr>
                  <p:cNvPr id="442" name=""/>
                  <p:cNvSpPr/>
                  <p:nvPr/>
                </p:nvSpPr>
                <p:spPr>
                  <a:xfrm rot="3876600">
                    <a:off x="429120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 rot="3876600">
                    <a:off x="565848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4" name=""/>
                <p:cNvGrpSpPr/>
                <p:nvPr/>
              </p:nvGrpSpPr>
              <p:grpSpPr>
                <a:xfrm>
                  <a:off x="5155200" y="3526560"/>
                  <a:ext cx="1089720" cy="1739520"/>
                  <a:chOff x="5155200" y="3526560"/>
                  <a:chExt cx="1089720" cy="1739520"/>
                </a:xfrm>
              </p:grpSpPr>
              <p:sp>
                <p:nvSpPr>
                  <p:cNvPr id="445" name=""/>
                  <p:cNvSpPr/>
                  <p:nvPr/>
                </p:nvSpPr>
                <p:spPr>
                  <a:xfrm flipV="1" rot="3876600">
                    <a:off x="4826520" y="42073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 flipV="1" rot="3876600">
                    <a:off x="5860440" y="48895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7" name=""/>
              <p:cNvGrpSpPr/>
              <p:nvPr/>
            </p:nvGrpSpPr>
            <p:grpSpPr>
              <a:xfrm>
                <a:off x="4313160" y="2685960"/>
                <a:ext cx="1272240" cy="1309320"/>
                <a:chOff x="4313160" y="2685960"/>
                <a:chExt cx="1272240" cy="130932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4397400" y="277092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4397400" y="277380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4452120" y="2828880"/>
                  <a:ext cx="99396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3" name=""/>
                <p:cNvGrpSpPr/>
                <p:nvPr/>
              </p:nvGrpSpPr>
              <p:grpSpPr>
                <a:xfrm>
                  <a:off x="4467240" y="2844360"/>
                  <a:ext cx="963720" cy="992880"/>
                  <a:chOff x="4467240" y="2844360"/>
                  <a:chExt cx="963720" cy="992880"/>
                </a:xfrm>
              </p:grpSpPr>
              <p:sp>
                <p:nvSpPr>
                  <p:cNvPr id="454" name=""/>
                  <p:cNvSpPr/>
                  <p:nvPr/>
                </p:nvSpPr>
                <p:spPr>
                  <a:xfrm>
                    <a:off x="4467240" y="2844360"/>
                    <a:ext cx="96372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4479480" y="2849760"/>
                    <a:ext cx="94068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4489560" y="2859120"/>
                    <a:ext cx="89424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4541760" y="2884680"/>
                    <a:ext cx="7952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8" name=""/>
              <p:cNvSpPr/>
              <p:nvPr/>
            </p:nvSpPr>
            <p:spPr>
              <a:xfrm rot="3925800">
                <a:off x="468324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rot="3925800">
                <a:off x="514512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6089760" y="2541600"/>
              <a:ext cx="2122200" cy="3476160"/>
              <a:chOff x="6089760" y="2541600"/>
              <a:chExt cx="2122200" cy="3476160"/>
            </a:xfrm>
          </p:grpSpPr>
          <p:grpSp>
            <p:nvGrpSpPr>
              <p:cNvPr id="461" name=""/>
              <p:cNvGrpSpPr/>
              <p:nvPr/>
            </p:nvGrpSpPr>
            <p:grpSpPr>
              <a:xfrm>
                <a:off x="6685920" y="3593160"/>
                <a:ext cx="1526040" cy="2424600"/>
                <a:chOff x="6685920" y="3593160"/>
                <a:chExt cx="1526040" cy="2424600"/>
              </a:xfrm>
            </p:grpSpPr>
            <p:grpSp>
              <p:nvGrpSpPr>
                <p:cNvPr id="462" name=""/>
                <p:cNvGrpSpPr/>
                <p:nvPr/>
              </p:nvGrpSpPr>
              <p:grpSpPr>
                <a:xfrm>
                  <a:off x="6685920" y="3750840"/>
                  <a:ext cx="1420200" cy="2266920"/>
                  <a:chOff x="6685920" y="3750840"/>
                  <a:chExt cx="1420200" cy="2266920"/>
                </a:xfrm>
              </p:grpSpPr>
              <p:sp>
                <p:nvSpPr>
                  <p:cNvPr id="463" name=""/>
                  <p:cNvSpPr/>
                  <p:nvPr/>
                </p:nvSpPr>
                <p:spPr>
                  <a:xfrm rot="3876600">
                    <a:off x="6258240" y="46378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 rot="3876600">
                    <a:off x="7625520" y="55170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5" name=""/>
                <p:cNvGrpSpPr/>
                <p:nvPr/>
              </p:nvGrpSpPr>
              <p:grpSpPr>
                <a:xfrm>
                  <a:off x="7122240" y="3593160"/>
                  <a:ext cx="1089720" cy="1739520"/>
                  <a:chOff x="7122240" y="3593160"/>
                  <a:chExt cx="1089720" cy="1739520"/>
                </a:xfrm>
              </p:grpSpPr>
              <p:sp>
                <p:nvSpPr>
                  <p:cNvPr id="466" name=""/>
                  <p:cNvSpPr/>
                  <p:nvPr/>
                </p:nvSpPr>
                <p:spPr>
                  <a:xfrm flipV="1" rot="3876600">
                    <a:off x="6793560" y="42739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 flipV="1" rot="3876600">
                    <a:off x="7827480" y="49561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8" name="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191280" y="2644920"/>
                <a:ext cx="1326240" cy="136296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193080" y="2647800"/>
                <a:ext cx="1325880" cy="136332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256440" y="2712960"/>
                <a:ext cx="1194120" cy="1226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"/>
              <p:cNvGrpSpPr/>
              <p:nvPr/>
            </p:nvGrpSpPr>
            <p:grpSpPr>
              <a:xfrm>
                <a:off x="6275520" y="2732040"/>
                <a:ext cx="1157400" cy="1190160"/>
                <a:chOff x="6275520" y="2732040"/>
                <a:chExt cx="1157400" cy="119016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6275520" y="2732040"/>
                  <a:ext cx="1157400" cy="119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290280" y="2738520"/>
                  <a:ext cx="1129320" cy="116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6302160" y="2750040"/>
                  <a:ext cx="1074240" cy="1084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6365160" y="2780280"/>
                  <a:ext cx="954720" cy="88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8" name=""/>
              <p:cNvSpPr/>
              <p:nvPr/>
            </p:nvSpPr>
            <p:spPr>
              <a:xfrm rot="3925800">
                <a:off x="6635880" y="46461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rot="3925800">
                <a:off x="7096320" y="43668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1101600" y="1828800"/>
              <a:ext cx="6056640" cy="407880"/>
              <a:chOff x="1101600" y="1828800"/>
              <a:chExt cx="6056640" cy="407880"/>
            </a:xfrm>
          </p:grpSpPr>
          <p:sp>
            <p:nvSpPr>
              <p:cNvPr id="481" name=""/>
              <p:cNvSpPr/>
              <p:nvPr/>
            </p:nvSpPr>
            <p:spPr>
              <a:xfrm>
                <a:off x="110160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c4590"/>
                    </a:solidFill>
                    <a:latin typeface="Verdana"/>
                  </a:rPr>
                  <a:t>20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2855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c4590"/>
                    </a:solidFill>
                    <a:latin typeface="Verdana"/>
                  </a:rPr>
                  <a:t>20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601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c4590"/>
                    </a:solidFill>
                    <a:latin typeface="Verdana"/>
                  </a:rPr>
                  <a:t>20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392160" y="182880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c4590"/>
                    </a:solidFill>
                    <a:latin typeface="Verdana"/>
                  </a:rPr>
                  <a:t>200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85" name=""/>
              <p:cNvCxnSpPr>
                <a:stCxn id="481" idx="3"/>
                <a:endCxn id="482" idx="1"/>
              </p:cNvCxnSpPr>
              <p:nvPr/>
            </p:nvCxnSpPr>
            <p:spPr>
              <a:xfrm>
                <a:off x="1837800" y="2052360"/>
                <a:ext cx="986760" cy="1080"/>
              </a:xfrm>
              <a:prstGeom prst="straightConnector1">
                <a:avLst/>
              </a:prstGeom>
              <a:ln w="9360">
                <a:solidFill>
                  <a:srgbClr val="1c4590"/>
                </a:solidFill>
                <a:miter/>
                <a:tailEnd len="med" type="triangle" w="med"/>
              </a:ln>
            </p:spPr>
          </p:cxnSp>
          <p:cxnSp>
            <p:nvCxnSpPr>
              <p:cNvPr id="486" name=""/>
              <p:cNvCxnSpPr>
                <a:stCxn id="482" idx="3"/>
                <a:endCxn id="483" idx="1"/>
              </p:cNvCxnSpPr>
              <p:nvPr/>
            </p:nvCxnSpPr>
            <p:spPr>
              <a:xfrm>
                <a:off x="3592440" y="2052360"/>
                <a:ext cx="978480" cy="1080"/>
              </a:xfrm>
              <a:prstGeom prst="straightConnector1">
                <a:avLst/>
              </a:prstGeom>
              <a:ln w="9360">
                <a:solidFill>
                  <a:srgbClr val="1c4590"/>
                </a:solidFill>
                <a:miter/>
                <a:tailEnd len="med" type="triangle" w="med"/>
              </a:ln>
            </p:spPr>
          </p:cxnSp>
          <p:cxnSp>
            <p:nvCxnSpPr>
              <p:cNvPr id="487" name=""/>
              <p:cNvCxnSpPr/>
              <p:nvPr/>
            </p:nvCxnSpPr>
            <p:spPr>
              <a:xfrm>
                <a:off x="5338800" y="2057040"/>
                <a:ext cx="978480" cy="1080"/>
              </a:xfrm>
              <a:prstGeom prst="straightConnector1">
                <a:avLst/>
              </a:prstGeom>
              <a:ln w="9360">
                <a:solidFill>
                  <a:srgbClr val="1c4590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90240" y="2602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1676520" y="1523880"/>
            <a:ext cx="5867280" cy="1301760"/>
            <a:chOff x="1676520" y="1523880"/>
            <a:chExt cx="5867280" cy="1301760"/>
          </a:xfrm>
        </p:grpSpPr>
        <p:sp>
          <p:nvSpPr>
            <p:cNvPr id="490" name=""/>
            <p:cNvSpPr/>
            <p:nvPr/>
          </p:nvSpPr>
          <p:spPr>
            <a:xfrm>
              <a:off x="1676520" y="152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1" name=""/>
            <p:cNvGrpSpPr/>
            <p:nvPr/>
          </p:nvGrpSpPr>
          <p:grpSpPr>
            <a:xfrm>
              <a:off x="1804680" y="1643400"/>
              <a:ext cx="1130760" cy="1064520"/>
              <a:chOff x="1804680" y="1643400"/>
              <a:chExt cx="1130760" cy="1064520"/>
            </a:xfrm>
          </p:grpSpPr>
          <p:sp>
            <p:nvSpPr>
              <p:cNvPr id="492" name=""/>
              <p:cNvSpPr/>
              <p:nvPr/>
            </p:nvSpPr>
            <p:spPr>
              <a:xfrm>
                <a:off x="1804680" y="164340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b13621"/>
                  </a:gs>
                  <a:gs pos="100000">
                    <a:srgbClr val="7b2516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875240" y="171180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9085"/>
                  </a:gs>
                  <a:gs pos="50000">
                    <a:srgbClr val="b13621">
                      <a:alpha val="0"/>
                    </a:srgbClr>
                  </a:gs>
                  <a:gs pos="100000">
                    <a:srgbClr val="d390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930680" y="1932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5" name=""/>
            <p:cNvSpPr/>
            <p:nvPr/>
          </p:nvSpPr>
          <p:spPr>
            <a:xfrm>
              <a:off x="3090240" y="17251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1676520" y="3054240"/>
            <a:ext cx="5867280" cy="1301760"/>
            <a:chOff x="1676520" y="3054240"/>
            <a:chExt cx="5867280" cy="1301760"/>
          </a:xfrm>
        </p:grpSpPr>
        <p:sp>
          <p:nvSpPr>
            <p:cNvPr id="497" name=""/>
            <p:cNvSpPr/>
            <p:nvPr/>
          </p:nvSpPr>
          <p:spPr>
            <a:xfrm>
              <a:off x="1676520" y="305424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0f0f0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8" name=""/>
            <p:cNvGrpSpPr/>
            <p:nvPr/>
          </p:nvGrpSpPr>
          <p:grpSpPr>
            <a:xfrm>
              <a:off x="1804680" y="3173760"/>
              <a:ext cx="1130760" cy="1064520"/>
              <a:chOff x="1804680" y="3173760"/>
              <a:chExt cx="1130760" cy="1064520"/>
            </a:xfrm>
          </p:grpSpPr>
          <p:sp>
            <p:nvSpPr>
              <p:cNvPr id="499" name=""/>
              <p:cNvSpPr/>
              <p:nvPr/>
            </p:nvSpPr>
            <p:spPr>
              <a:xfrm>
                <a:off x="1804680" y="317376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a0cf7c"/>
                  </a:gs>
                  <a:gs pos="100000">
                    <a:srgbClr val="7dbe4c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875240" y="324216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dbe4c">
                      <a:alpha val="0"/>
                    </a:srgbClr>
                  </a:gs>
                  <a:gs pos="100000">
                    <a:srgbClr val="c7e2b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930680" y="34646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2" name=""/>
            <p:cNvSpPr/>
            <p:nvPr/>
          </p:nvSpPr>
          <p:spPr>
            <a:xfrm>
              <a:off x="3090240" y="32324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1676520" y="4594320"/>
            <a:ext cx="5867280" cy="1301760"/>
            <a:chOff x="1676520" y="4594320"/>
            <a:chExt cx="5867280" cy="1301760"/>
          </a:xfrm>
        </p:grpSpPr>
        <p:sp>
          <p:nvSpPr>
            <p:cNvPr id="504" name=""/>
            <p:cNvSpPr/>
            <p:nvPr/>
          </p:nvSpPr>
          <p:spPr>
            <a:xfrm>
              <a:off x="1676520" y="459432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deded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5" name=""/>
            <p:cNvGrpSpPr/>
            <p:nvPr/>
          </p:nvGrpSpPr>
          <p:grpSpPr>
            <a:xfrm>
              <a:off x="1804680" y="4713840"/>
              <a:ext cx="1130760" cy="1064520"/>
              <a:chOff x="1804680" y="4713840"/>
              <a:chExt cx="1130760" cy="1064520"/>
            </a:xfrm>
          </p:grpSpPr>
          <p:sp>
            <p:nvSpPr>
              <p:cNvPr id="506" name=""/>
              <p:cNvSpPr/>
              <p:nvPr/>
            </p:nvSpPr>
            <p:spPr>
              <a:xfrm>
                <a:off x="1804680" y="471384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7bb5f0"/>
                  </a:gs>
                  <a:gs pos="100000">
                    <a:srgbClr val="308dea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875240" y="478224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08dea">
                      <a:alpha val="0"/>
                    </a:srgbClr>
                  </a:gs>
                  <a:gs pos="100000">
                    <a:srgbClr val="99c6f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930680" y="50047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9" name=""/>
            <p:cNvSpPr/>
            <p:nvPr/>
          </p:nvSpPr>
          <p:spPr>
            <a:xfrm>
              <a:off x="3090240" y="47725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90240" y="2602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1127520" y="1863360"/>
            <a:ext cx="6215400" cy="1324800"/>
            <a:chOff x="1127520" y="1863360"/>
            <a:chExt cx="6215400" cy="1324800"/>
          </a:xfrm>
        </p:grpSpPr>
        <p:sp>
          <p:nvSpPr>
            <p:cNvPr id="516" name="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7dbe4c"/>
                </a:gs>
                <a:gs pos="100000">
                  <a:srgbClr val="395723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7" name=""/>
            <p:cNvGrpSpPr/>
            <p:nvPr/>
          </p:nvGrpSpPr>
          <p:grpSpPr>
            <a:xfrm>
              <a:off x="2258280" y="2244600"/>
              <a:ext cx="901080" cy="124200"/>
              <a:chOff x="2258280" y="2244600"/>
              <a:chExt cx="901080" cy="124200"/>
            </a:xfrm>
          </p:grpSpPr>
          <p:sp>
            <p:nvSpPr>
              <p:cNvPr id="518" name="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234468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302292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3096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2" name="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b136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3" name=""/>
            <p:cNvGrpSpPr/>
            <p:nvPr/>
          </p:nvGrpSpPr>
          <p:grpSpPr>
            <a:xfrm>
              <a:off x="3922920" y="2244600"/>
              <a:ext cx="901080" cy="124200"/>
              <a:chOff x="3922920" y="2244600"/>
              <a:chExt cx="901080" cy="124200"/>
            </a:xfrm>
          </p:grpSpPr>
          <p:sp>
            <p:nvSpPr>
              <p:cNvPr id="524" name="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00932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68756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476064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8" name=""/>
            <p:cNvSpPr/>
            <p:nvPr/>
          </p:nvSpPr>
          <p:spPr>
            <a:xfrm rot="3418800">
              <a:off x="4595760" y="2008800"/>
              <a:ext cx="874080" cy="971280"/>
            </a:xfrm>
            <a:prstGeom prst="rect">
              <a:avLst/>
            </a:prstGeom>
            <a:gradFill rotWithShape="0">
              <a:gsLst>
                <a:gs pos="0">
                  <a:srgbClr val="7dbe4c"/>
                </a:gs>
                <a:gs pos="100000">
                  <a:srgbClr val="395723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9" name=""/>
            <p:cNvGrpSpPr/>
            <p:nvPr/>
          </p:nvGrpSpPr>
          <p:grpSpPr>
            <a:xfrm>
              <a:off x="5587560" y="2244600"/>
              <a:ext cx="1178640" cy="124200"/>
              <a:chOff x="5587560" y="2244600"/>
              <a:chExt cx="1178640" cy="124200"/>
            </a:xfrm>
          </p:grpSpPr>
          <p:sp>
            <p:nvSpPr>
              <p:cNvPr id="530" name=""/>
              <p:cNvSpPr/>
              <p:nvPr/>
            </p:nvSpPr>
            <p:spPr>
              <a:xfrm>
                <a:off x="558756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70060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68304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4" name=""/>
            <p:cNvSpPr/>
            <p:nvPr/>
          </p:nvSpPr>
          <p:spPr>
            <a:xfrm rot="3418800">
              <a:off x="6260400" y="2008800"/>
              <a:ext cx="874080" cy="971280"/>
            </a:xfrm>
            <a:prstGeom prst="rect">
              <a:avLst/>
            </a:prstGeom>
            <a:solidFill>
              <a:srgbClr val="b136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90240" y="2602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44" name=""/>
          <p:cNvGraphicFramePr/>
          <p:nvPr/>
        </p:nvGraphicFramePr>
        <p:xfrm>
          <a:off x="990720" y="2209680"/>
          <a:ext cx="7467480" cy="319896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360"/>
                <a:gridCol w="1149480"/>
                <a:gridCol w="1157400"/>
                <a:gridCol w="1149120"/>
              </a:tblGrid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dbe4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dbe4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dbe4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dbe4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dbe4c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c459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c4590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</a:tr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c459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5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c4590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</a:tr>
              <a:tr h="45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c459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5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c4590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90240" y="2602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604080" y="504360"/>
            <a:ext cx="7379640" cy="5581800"/>
            <a:chOff x="604080" y="504360"/>
            <a:chExt cx="7379640" cy="5581800"/>
          </a:xfrm>
        </p:grpSpPr>
        <p:sp>
          <p:nvSpPr>
            <p:cNvPr id="547" name=""/>
            <p:cNvSpPr/>
            <p:nvPr/>
          </p:nvSpPr>
          <p:spPr>
            <a:xfrm>
              <a:off x="2141640" y="429120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fcfcfc"/>
                </a:gs>
                <a:gs pos="100000">
                  <a:srgbClr val="dddd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rot="20601600">
              <a:off x="1452240" y="2179440"/>
              <a:ext cx="5686560" cy="3016080"/>
            </a:xfrm>
            <a:prstGeom prst="ellipse">
              <a:avLst/>
            </a:prstGeom>
            <a:gradFill rotWithShape="0">
              <a:gsLst>
                <a:gs pos="0">
                  <a:srgbClr val="565656"/>
                </a:gs>
                <a:gs pos="50000">
                  <a:srgbClr val="dddddd"/>
                </a:gs>
                <a:gs pos="100000">
                  <a:srgbClr val="5656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rot="20601600">
              <a:off x="1471320" y="2016360"/>
              <a:ext cx="5564160" cy="2922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rot="20601600">
              <a:off x="1388880" y="2001600"/>
              <a:ext cx="5698440" cy="29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a7d287"/>
                </a:gs>
                <a:gs pos="100000">
                  <a:srgbClr val="7dbe4c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 rot="20602200">
              <a:off x="1437840" y="2001240"/>
              <a:ext cx="564408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6b2013"/>
                </a:gs>
                <a:gs pos="100000">
                  <a:srgbClr val="b13621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rot="20601600">
              <a:off x="1395720" y="2013840"/>
              <a:ext cx="568152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587" y="1342"/>
                  </a:moveTo>
                  <a:arcTo wR="10800" hR="10800" stAng="-7131749" swAng="4032112"/>
                  <a:lnTo>
                    <a:pt x="10800" y="10800"/>
                  </a:lnTo>
                  <a:close/>
                </a:path>
                <a:path fill="none" w="21600" h="21600">
                  <a:moveTo>
                    <a:pt x="5587" y="1342"/>
                  </a:moveTo>
                  <a:arcTo wR="10800" hR="10800" stAng="-7131749" swAng="4032112"/>
                </a:path>
              </a:pathLst>
            </a:custGeom>
            <a:gradFill rotWithShape="0">
              <a:gsLst>
                <a:gs pos="0">
                  <a:srgbClr val="306069"/>
                </a:gs>
                <a:gs pos="100000">
                  <a:srgbClr val="5cb8ca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 rot="20602200">
              <a:off x="1405800" y="1994400"/>
              <a:ext cx="5698440" cy="297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674" y="719"/>
                  </a:moveTo>
                  <a:arcTo wR="10800" hR="10800" stAng="-4138599" swAng="58879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674" y="719"/>
                  </a:moveTo>
                  <a:arcTo wR="10800" hR="10800" stAng="-4138599" swAng="5887996"/>
                </a:path>
              </a:pathLst>
            </a:custGeom>
            <a:gradFill rotWithShape="0">
              <a:gsLst>
                <a:gs pos="0">
                  <a:srgbClr val="302274"/>
                </a:gs>
                <a:gs pos="100000">
                  <a:srgbClr val="5940d6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 rot="20601600">
              <a:off x="2933640" y="27302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5f5f5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924560" y="3409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829680" y="2190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658480" y="2495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"/>
            <p:cNvGrpSpPr/>
            <p:nvPr/>
          </p:nvGrpSpPr>
          <p:grpSpPr>
            <a:xfrm>
              <a:off x="604080" y="504360"/>
              <a:ext cx="7379640" cy="5581800"/>
              <a:chOff x="604080" y="504360"/>
              <a:chExt cx="7379640" cy="5581800"/>
            </a:xfrm>
          </p:grpSpPr>
          <p:sp>
            <p:nvSpPr>
              <p:cNvPr id="559" name=""/>
              <p:cNvSpPr/>
              <p:nvPr/>
            </p:nvSpPr>
            <p:spPr>
              <a:xfrm>
                <a:off x="5448240" y="3448440"/>
                <a:ext cx="1773000" cy="1776240"/>
              </a:xfrm>
              <a:custGeom>
                <a:avLst/>
                <a:gdLst/>
                <a:ahLst/>
                <a:rect l="l" t="t" r="r" b="b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308dea"/>
                  </a:gs>
                  <a:gs pos="100000">
                    <a:srgbClr val="1d558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rot="20539200">
                <a:off x="1022400" y="1408320"/>
                <a:ext cx="6542640" cy="377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808" y="16758"/>
                    </a:moveTo>
                    <a:arcTo wR="10800" hR="10800" stAng="2008784" swAng="28002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808" y="16758"/>
                    </a:moveTo>
                    <a:arcTo wR="10800" hR="10800" stAng="2008784" swAng="2800242"/>
                  </a:path>
                </a:pathLst>
              </a:custGeom>
              <a:gradFill rotWithShape="0">
                <a:gsLst>
                  <a:gs pos="0">
                    <a:srgbClr val="16406b"/>
                  </a:gs>
                  <a:gs pos="100000">
                    <a:srgbClr val="308dea"/>
                  </a:gs>
                </a:gsLst>
                <a:lin ang="118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582800" y="3924720"/>
                <a:ext cx="924120" cy="1311120"/>
              </a:xfrm>
              <a:custGeom>
                <a:avLst/>
                <a:gdLst/>
                <a:ahLst/>
                <a:rect l="l" t="t" r="r" b="b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406b"/>
                  </a:gs>
                  <a:gs pos="100000">
                    <a:srgbClr val="308de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353200" y="371520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</a:rPr>
                  <a:t>Text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3" name=""/>
            <p:cNvSpPr/>
            <p:nvPr/>
          </p:nvSpPr>
          <p:spPr>
            <a:xfrm>
              <a:off x="3143880" y="44006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427640" y="3990960"/>
              <a:ext cx="838080" cy="110808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20601600">
              <a:off x="3036960" y="2981520"/>
              <a:ext cx="2587680" cy="1112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dbe4c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90240" y="2602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914400" y="1447920"/>
            <a:ext cx="7391160" cy="4724280"/>
            <a:chOff x="914400" y="1447920"/>
            <a:chExt cx="7391160" cy="4724280"/>
          </a:xfrm>
        </p:grpSpPr>
        <p:sp>
          <p:nvSpPr>
            <p:cNvPr id="569" name=""/>
            <p:cNvSpPr/>
            <p:nvPr/>
          </p:nvSpPr>
          <p:spPr>
            <a:xfrm>
              <a:off x="1806480" y="2210040"/>
              <a:ext cx="5531040" cy="274320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362320" y="1447920"/>
              <a:ext cx="4419360" cy="57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36729"/>
                </a:gs>
                <a:gs pos="50000">
                  <a:srgbClr val="7dbe4c"/>
                </a:gs>
                <a:gs pos="100000">
                  <a:srgbClr val="436729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656160" y="281952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2" name=""/>
            <p:cNvGrpSpPr/>
            <p:nvPr/>
          </p:nvGrpSpPr>
          <p:grpSpPr>
            <a:xfrm>
              <a:off x="914400" y="4083120"/>
              <a:ext cx="1486080" cy="1989000"/>
              <a:chOff x="914400" y="4083120"/>
              <a:chExt cx="1486080" cy="1989000"/>
            </a:xfrm>
          </p:grpSpPr>
          <p:grpSp>
            <p:nvGrpSpPr>
              <p:cNvPr id="573" name=""/>
              <p:cNvGrpSpPr/>
              <p:nvPr/>
            </p:nvGrpSpPr>
            <p:grpSpPr>
              <a:xfrm>
                <a:off x="914400" y="4083120"/>
                <a:ext cx="1486080" cy="1514520"/>
                <a:chOff x="914400" y="4083120"/>
                <a:chExt cx="1486080" cy="1514520"/>
              </a:xfrm>
            </p:grpSpPr>
            <p:grpSp>
              <p:nvGrpSpPr>
                <p:cNvPr id="574" name=""/>
                <p:cNvGrpSpPr/>
                <p:nvPr/>
              </p:nvGrpSpPr>
              <p:grpSpPr>
                <a:xfrm>
                  <a:off x="914400" y="4083120"/>
                  <a:ext cx="1486080" cy="1514520"/>
                  <a:chOff x="914400" y="4083120"/>
                  <a:chExt cx="1486080" cy="1514520"/>
                </a:xfrm>
              </p:grpSpPr>
              <p:sp>
                <p:nvSpPr>
                  <p:cNvPr id="575" name=""/>
                  <p:cNvSpPr/>
                  <p:nvPr/>
                </p:nvSpPr>
                <p:spPr>
                  <a:xfrm>
                    <a:off x="914400" y="4083120"/>
                    <a:ext cx="1486080" cy="1514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5940d6"/>
                      </a:gs>
                      <a:gs pos="100000">
                        <a:srgbClr val="382887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>
                    <a:off x="1084320" y="4107960"/>
                    <a:ext cx="1146240" cy="57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5940d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77" name=""/>
                <p:cNvSpPr/>
                <p:nvPr/>
              </p:nvSpPr>
              <p:spPr>
                <a:xfrm>
                  <a:off x="1072440" y="4854240"/>
                  <a:ext cx="1157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concep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8" name=""/>
              <p:cNvSpPr/>
              <p:nvPr/>
            </p:nvSpPr>
            <p:spPr>
              <a:xfrm>
                <a:off x="1066680" y="5683320"/>
                <a:ext cx="1206720" cy="38880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"/>
            <p:cNvGrpSpPr/>
            <p:nvPr/>
          </p:nvGrpSpPr>
          <p:grpSpPr>
            <a:xfrm>
              <a:off x="6781680" y="4038840"/>
              <a:ext cx="1523880" cy="2066760"/>
              <a:chOff x="6781680" y="4038840"/>
              <a:chExt cx="1523880" cy="2066760"/>
            </a:xfrm>
          </p:grpSpPr>
          <p:grpSp>
            <p:nvGrpSpPr>
              <p:cNvPr id="580" name=""/>
              <p:cNvGrpSpPr/>
              <p:nvPr/>
            </p:nvGrpSpPr>
            <p:grpSpPr>
              <a:xfrm>
                <a:off x="6781680" y="4038840"/>
                <a:ext cx="1523880" cy="1531800"/>
                <a:chOff x="6781680" y="4038840"/>
                <a:chExt cx="1523880" cy="1531800"/>
              </a:xfrm>
            </p:grpSpPr>
            <p:grpSp>
              <p:nvGrpSpPr>
                <p:cNvPr id="581" name=""/>
                <p:cNvGrpSpPr/>
                <p:nvPr/>
              </p:nvGrpSpPr>
              <p:grpSpPr>
                <a:xfrm>
                  <a:off x="6781680" y="4038840"/>
                  <a:ext cx="1523880" cy="1531800"/>
                  <a:chOff x="6781680" y="4038840"/>
                  <a:chExt cx="1523880" cy="1531800"/>
                </a:xfrm>
              </p:grpSpPr>
              <p:sp>
                <p:nvSpPr>
                  <p:cNvPr id="582" name=""/>
                  <p:cNvSpPr/>
                  <p:nvPr/>
                </p:nvSpPr>
                <p:spPr>
                  <a:xfrm>
                    <a:off x="6781680" y="4038840"/>
                    <a:ext cx="1523880" cy="1531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08dea"/>
                      </a:gs>
                      <a:gs pos="100000">
                        <a:srgbClr val="0b223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>
                    <a:off x="6955920" y="4064040"/>
                    <a:ext cx="1175400" cy="57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308de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4" name=""/>
                <p:cNvSpPr/>
                <p:nvPr/>
              </p:nvSpPr>
              <p:spPr>
                <a:xfrm>
                  <a:off x="6924600" y="4752720"/>
                  <a:ext cx="1200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Concep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"/>
              <p:cNvSpPr/>
              <p:nvPr/>
            </p:nvSpPr>
            <p:spPr>
              <a:xfrm>
                <a:off x="6824520" y="5618520"/>
                <a:ext cx="1455840" cy="4870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2819520" y="4083120"/>
              <a:ext cx="1523880" cy="2089080"/>
              <a:chOff x="2819520" y="4083120"/>
              <a:chExt cx="1523880" cy="2089080"/>
            </a:xfrm>
          </p:grpSpPr>
          <p:grpSp>
            <p:nvGrpSpPr>
              <p:cNvPr id="587" name=""/>
              <p:cNvGrpSpPr/>
              <p:nvPr/>
            </p:nvGrpSpPr>
            <p:grpSpPr>
              <a:xfrm>
                <a:off x="2819520" y="4083120"/>
                <a:ext cx="1523880" cy="1521000"/>
                <a:chOff x="2819520" y="4083120"/>
                <a:chExt cx="1523880" cy="1521000"/>
              </a:xfrm>
            </p:grpSpPr>
            <p:sp>
              <p:nvSpPr>
                <p:cNvPr id="588" name=""/>
                <p:cNvSpPr/>
                <p:nvPr/>
              </p:nvSpPr>
              <p:spPr>
                <a:xfrm>
                  <a:off x="2819520" y="4083120"/>
                  <a:ext cx="1523880" cy="152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dbe4c"/>
                    </a:gs>
                    <a:gs pos="100000">
                      <a:srgbClr val="3f61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2993760" y="410832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7dbe4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0" name=""/>
              <p:cNvSpPr/>
              <p:nvPr/>
            </p:nvSpPr>
            <p:spPr>
              <a:xfrm>
                <a:off x="2895840" y="481320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819520" y="5683320"/>
                <a:ext cx="1454040" cy="4888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4876920" y="4038840"/>
              <a:ext cx="1523880" cy="2089080"/>
              <a:chOff x="4876920" y="4038840"/>
              <a:chExt cx="1523880" cy="2089080"/>
            </a:xfrm>
          </p:grpSpPr>
          <p:grpSp>
            <p:nvGrpSpPr>
              <p:cNvPr id="593" name=""/>
              <p:cNvGrpSpPr/>
              <p:nvPr/>
            </p:nvGrpSpPr>
            <p:grpSpPr>
              <a:xfrm>
                <a:off x="4876920" y="4038840"/>
                <a:ext cx="1523880" cy="1521000"/>
                <a:chOff x="4876920" y="4038840"/>
                <a:chExt cx="1523880" cy="1521000"/>
              </a:xfrm>
            </p:grpSpPr>
            <p:grpSp>
              <p:nvGrpSpPr>
                <p:cNvPr id="594" name=""/>
                <p:cNvGrpSpPr/>
                <p:nvPr/>
              </p:nvGrpSpPr>
              <p:grpSpPr>
                <a:xfrm>
                  <a:off x="4876920" y="4038840"/>
                  <a:ext cx="1523880" cy="1521000"/>
                  <a:chOff x="4876920" y="4038840"/>
                  <a:chExt cx="1523880" cy="1521000"/>
                </a:xfrm>
              </p:grpSpPr>
              <p:sp>
                <p:nvSpPr>
                  <p:cNvPr id="595" name=""/>
                  <p:cNvSpPr/>
                  <p:nvPr/>
                </p:nvSpPr>
                <p:spPr>
                  <a:xfrm>
                    <a:off x="4876920" y="4038840"/>
                    <a:ext cx="1523880" cy="1521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b13621"/>
                      </a:gs>
                      <a:gs pos="100000">
                        <a:srgbClr val="5a1b1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>
                    <a:off x="5051160" y="4064040"/>
                    <a:ext cx="1175400" cy="5738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b13621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7" name=""/>
                <p:cNvSpPr/>
                <p:nvPr/>
              </p:nvSpPr>
              <p:spPr>
                <a:xfrm>
                  <a:off x="4953240" y="4768920"/>
                  <a:ext cx="1371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Concep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8" name=""/>
              <p:cNvSpPr/>
              <p:nvPr/>
            </p:nvSpPr>
            <p:spPr>
              <a:xfrm>
                <a:off x="4876920" y="5639040"/>
                <a:ext cx="1454040" cy="4888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0240" y="2602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2057400" y="1981080"/>
            <a:ext cx="51814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b542e"/>
              </a:gs>
              <a:gs pos="50000">
                <a:srgbClr val="eab764"/>
              </a:gs>
              <a:gs pos="100000">
                <a:srgbClr val="6b542e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057400" y="2743200"/>
            <a:ext cx="51814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6406b"/>
              </a:gs>
              <a:gs pos="50000">
                <a:srgbClr val="308dea"/>
              </a:gs>
              <a:gs pos="100000">
                <a:srgbClr val="16406b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3505320"/>
            <a:ext cx="518148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267080"/>
            <a:ext cx="51814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02f67"/>
              </a:gs>
              <a:gs pos="50000">
                <a:srgbClr val="8d67e1"/>
              </a:gs>
              <a:gs pos="100000">
                <a:srgbClr val="402f67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. 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057400" y="5029200"/>
            <a:ext cx="51814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65e00"/>
              </a:gs>
              <a:gs pos="50000">
                <a:srgbClr val="99cc00"/>
              </a:gs>
              <a:gs pos="100000">
                <a:srgbClr val="465e00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 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308dea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08dea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7dbe4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7dbe4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308dea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08dea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08dea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400" spc="-1" strike="noStrike">
              <a:solidFill>
                <a:srgbClr val="308dea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08dea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308dea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08dea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08dea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08d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308d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7dbe4c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7dbe4c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308d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7dbe4c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7dbe4c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7dbe4c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308d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7dbe4c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7dbe4c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308d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7dbe4c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7dbe4c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308d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7dbe4c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7dbe4c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308d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7dbe4c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7dbe4c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308d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7dbe4c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7dbe4c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308d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7dbe4c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7dbe4c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308d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7dbe4c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7dbe4c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308d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7dbe4c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7dbe4c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308d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7dbe4c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7dbe4c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308d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08d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08d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08d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08d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08d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08dea"/>
              </a:solidFill>
              <a:latin typeface="Verdana"/>
            </a:endParaRPr>
          </a:p>
        </p:txBody>
      </p:sp>
      <p:sp>
        <p:nvSpPr>
          <p:cNvPr id="60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EAC88-7D26-4A2D-8165-812765AD7E3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 txBox="1"/>
          <p:nvPr/>
        </p:nvSpPr>
        <p:spPr>
          <a:xfrm>
            <a:off x="4724280" y="3086280"/>
            <a:ext cx="4343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7dbe4c"/>
                    </a:gs>
                    <a:gs pos="100000">
                      <a:srgbClr val="308dea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dddddd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7dbe4c"/>
                  </a:gs>
                  <a:gs pos="100000">
                    <a:srgbClr val="308dea"/>
                  </a:gs>
                </a:gsLst>
                <a:lin ang="10800000"/>
              </a:gradFill>
              <a:effectLst>
                <a:outerShdw dist="53966" dir="2700000" blurRad="0" rotWithShape="0">
                  <a:srgbClr val="ddddd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4572000" y="3962160"/>
            <a:ext cx="4572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0240" y="2602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Hot Tip</a:t>
            </a: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9250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dbe4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8dea"/>
                </a:solidFill>
                <a:latin typeface="Verdana"/>
              </a:rPr>
              <a:t>How do I incorporate my logo to a slide that will apply to all the other slides?</a:t>
            </a:r>
            <a:r>
              <a:rPr b="0" lang="en-US" sz="3600" spc="-1" strike="noStrike">
                <a:solidFill>
                  <a:srgbClr val="308dea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308d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08d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136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4590"/>
                </a:solidFill>
                <a:latin typeface="Arial"/>
              </a:rPr>
              <a:t>On the </a:t>
            </a:r>
            <a:r>
              <a:rPr b="0" lang="en-US" sz="2400" spc="-1" strike="noStrike">
                <a:solidFill>
                  <a:srgbClr val="b13621"/>
                </a:solidFill>
                <a:latin typeface="Arial"/>
              </a:rPr>
              <a:t>[View]</a:t>
            </a:r>
            <a:r>
              <a:rPr b="0" lang="en-US" sz="2400" spc="-1" strike="noStrike">
                <a:solidFill>
                  <a:srgbClr val="1c4590"/>
                </a:solidFill>
                <a:latin typeface="Arial"/>
              </a:rPr>
              <a:t> menu, point to </a:t>
            </a:r>
            <a:r>
              <a:rPr b="0" lang="en-US" sz="2400" spc="-1" strike="noStrike">
                <a:solidFill>
                  <a:srgbClr val="b13621"/>
                </a:solidFill>
                <a:latin typeface="Arial"/>
              </a:rPr>
              <a:t>[Master],</a:t>
            </a:r>
            <a:r>
              <a:rPr b="0" lang="en-US" sz="2400" spc="-1" strike="noStrike">
                <a:solidFill>
                  <a:srgbClr val="1c4590"/>
                </a:solidFill>
                <a:latin typeface="Arial"/>
              </a:rPr>
              <a:t> and then click </a:t>
            </a:r>
            <a:r>
              <a:rPr b="0" lang="en-US" sz="2400" spc="-1" strike="noStrike">
                <a:solidFill>
                  <a:srgbClr val="b13621"/>
                </a:solidFill>
                <a:latin typeface="Arial"/>
              </a:rPr>
              <a:t>[Slide Master]</a:t>
            </a:r>
            <a:r>
              <a:rPr b="0" lang="en-US" sz="2400" spc="-1" strike="noStrike">
                <a:solidFill>
                  <a:srgbClr val="1c459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b13621"/>
                </a:solidFill>
                <a:latin typeface="Arial"/>
              </a:rPr>
              <a:t>[Notes Master].</a:t>
            </a:r>
            <a:r>
              <a:rPr b="0" lang="en-US" sz="2400" spc="-1" strike="noStrike">
                <a:solidFill>
                  <a:srgbClr val="1c4590"/>
                </a:solidFill>
                <a:latin typeface="Arial"/>
              </a:rPr>
              <a:t> Change images to the one you like, then it will apply to all the other slides. </a:t>
            </a:r>
            <a:br>
              <a:rPr sz="2400"/>
            </a:br>
            <a:r>
              <a:rPr b="0" lang="en-US" sz="2400" spc="-1" strike="noStrike">
                <a:solidFill>
                  <a:srgbClr val="1c459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d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0240" y="2602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143000" y="3171960"/>
            <a:ext cx="2286000" cy="2666880"/>
            <a:chOff x="1143000" y="3171960"/>
            <a:chExt cx="2286000" cy="2666880"/>
          </a:xfrm>
        </p:grpSpPr>
        <p:sp>
          <p:nvSpPr>
            <p:cNvPr id="112" name=""/>
            <p:cNvSpPr/>
            <p:nvPr/>
          </p:nvSpPr>
          <p:spPr>
            <a:xfrm>
              <a:off x="114300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384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9485e4"/>
              </a:gs>
              <a:gs pos="100000">
                <a:srgbClr val="5940d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048120" y="1447920"/>
            <a:ext cx="2998440" cy="1601280"/>
            <a:chOff x="3048120" y="1447920"/>
            <a:chExt cx="2998440" cy="1601280"/>
          </a:xfrm>
        </p:grpSpPr>
        <p:grpSp>
          <p:nvGrpSpPr>
            <p:cNvPr id="116" name=""/>
            <p:cNvGrpSpPr/>
            <p:nvPr/>
          </p:nvGrpSpPr>
          <p:grpSpPr>
            <a:xfrm>
              <a:off x="3048120" y="1447920"/>
              <a:ext cx="2998440" cy="1601280"/>
              <a:chOff x="3048120" y="1447920"/>
              <a:chExt cx="2998440" cy="1601280"/>
            </a:xfrm>
          </p:grpSpPr>
          <p:grpSp>
            <p:nvGrpSpPr>
              <p:cNvPr id="117" name=""/>
              <p:cNvGrpSpPr/>
              <p:nvPr/>
            </p:nvGrpSpPr>
            <p:grpSpPr>
              <a:xfrm>
                <a:off x="3048120" y="1590840"/>
                <a:ext cx="2998440" cy="1458360"/>
                <a:chOff x="3048120" y="1590840"/>
                <a:chExt cx="2998440" cy="145836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3080880" y="163728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c5c24"/>
                    </a:gs>
                    <a:gs pos="100000">
                      <a:srgbClr val="7dbe4c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048120" y="159084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dbe4c"/>
                    </a:gs>
                    <a:gs pos="100000">
                      <a:srgbClr val="c4e1a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" name=""/>
              <p:cNvSpPr/>
              <p:nvPr/>
            </p:nvSpPr>
            <p:spPr>
              <a:xfrm>
                <a:off x="3189240" y="144792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b13621"/>
                  </a:gs>
                  <a:gs pos="100000">
                    <a:srgbClr val="51180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224160" y="145584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e2b8b0"/>
                  </a:gs>
                  <a:gs pos="100000">
                    <a:srgbClr val="b13621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251160" y="146844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b13621">
                      <a:alpha val="48235"/>
                    </a:srgbClr>
                  </a:gs>
                  <a:gs pos="100000">
                    <a:srgbClr val="8b2a1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382920" y="149544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b13621">
                      <a:alpha val="38039"/>
                    </a:srgbClr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3882960" y="164808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562720" y="3171960"/>
            <a:ext cx="2286000" cy="2666880"/>
            <a:chOff x="5562720" y="3171960"/>
            <a:chExt cx="2286000" cy="2666880"/>
          </a:xfrm>
        </p:grpSpPr>
        <p:sp>
          <p:nvSpPr>
            <p:cNvPr id="126" name=""/>
            <p:cNvSpPr/>
            <p:nvPr/>
          </p:nvSpPr>
          <p:spPr>
            <a:xfrm>
              <a:off x="556272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150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4e9c5"/>
              </a:gs>
              <a:gs pos="100000">
                <a:srgbClr val="7dbe4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0240" y="2602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62120" y="1722240"/>
            <a:ext cx="6956640" cy="4583520"/>
            <a:chOff x="762120" y="1722240"/>
            <a:chExt cx="6956640" cy="4583520"/>
          </a:xfrm>
        </p:grpSpPr>
        <p:sp>
          <p:nvSpPr>
            <p:cNvPr id="131" name="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3f3f3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7dbe4c"/>
                </a:gs>
                <a:gs pos="100000">
                  <a:srgbClr val="2a411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b13621"/>
                </a:gs>
                <a:gs pos="100000">
                  <a:srgbClr val="37100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5940d6"/>
                </a:gs>
                <a:gs pos="100000">
                  <a:srgbClr val="1f164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e4e4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308dea"/>
                </a:gs>
                <a:gs pos="100000">
                  <a:srgbClr val="10305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66160" y="374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069800" y="242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67944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87160" y="466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577600" y="5202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4" name="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5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dbe4c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0240" y="2602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49" name="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6406b"/>
                </a:gs>
                <a:gs pos="50000">
                  <a:srgbClr val="308dea"/>
                </a:gs>
                <a:gs pos="100000">
                  <a:srgbClr val="1640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6406b"/>
                </a:gs>
                <a:gs pos="50000">
                  <a:srgbClr val="308dea"/>
                </a:gs>
                <a:gs pos="100000">
                  <a:srgbClr val="1640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6406b"/>
                </a:gs>
                <a:gs pos="50000">
                  <a:srgbClr val="308dea"/>
                </a:gs>
                <a:gs pos="100000">
                  <a:srgbClr val="1640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656565">
                    <a:alpha val="12156"/>
                  </a:srgbClr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56565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51180f"/>
                </a:gs>
                <a:gs pos="50000">
                  <a:srgbClr val="b13621"/>
                </a:gs>
                <a:gs pos="100000">
                  <a:srgbClr val="51180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8e8e8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395723"/>
                </a:gs>
                <a:gs pos="50000">
                  <a:srgbClr val="7dbe4c"/>
                </a:gs>
                <a:gs pos="100000">
                  <a:srgbClr val="39572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8e8e8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0240" y="2602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69" name=""/>
            <p:cNvGrpSpPr/>
            <p:nvPr/>
          </p:nvGrpSpPr>
          <p:grpSpPr>
            <a:xfrm>
              <a:off x="3009240" y="2209680"/>
              <a:ext cx="2900160" cy="2706120"/>
              <a:chOff x="3009240" y="2209680"/>
              <a:chExt cx="2900160" cy="2706120"/>
            </a:xfrm>
          </p:grpSpPr>
          <p:sp>
            <p:nvSpPr>
              <p:cNvPr id="170" name=""/>
              <p:cNvSpPr/>
              <p:nvPr/>
            </p:nvSpPr>
            <p:spPr>
              <a:xfrm flipH="1" rot="16200000">
                <a:off x="2927880" y="325692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5b5d2"/>
                  </a:gs>
                  <a:gs pos="100000">
                    <a:srgbClr val="1c45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 rot="5400000">
                <a:off x="5531400" y="320616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5b5d2"/>
                  </a:gs>
                  <a:gs pos="100000">
                    <a:srgbClr val="1c459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 rot="10800000">
                <a:off x="4238640" y="4609800"/>
                <a:ext cx="44424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5b5d2"/>
                  </a:gs>
                  <a:gs pos="100000">
                    <a:srgbClr val="1c459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305880" y="2209680"/>
                <a:ext cx="23281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438720" y="2344680"/>
                <a:ext cx="206136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560040" y="2471040"/>
                <a:ext cx="1819080" cy="1878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7dbe4c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560040" y="2471040"/>
                <a:ext cx="181908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679560" y="2594520"/>
                <a:ext cx="1580040" cy="1631880"/>
              </a:xfrm>
              <a:prstGeom prst="ellipse">
                <a:avLst/>
              </a:prstGeom>
              <a:gradFill rotWithShape="0">
                <a:gsLst>
                  <a:gs pos="0">
                    <a:srgbClr val="436628"/>
                  </a:gs>
                  <a:gs pos="50000">
                    <a:srgbClr val="7dbe4c"/>
                  </a:gs>
                  <a:gs pos="100000">
                    <a:srgbClr val="43662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679560" y="2594520"/>
                <a:ext cx="1580040" cy="163188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6406b"/>
                </a:gs>
                <a:gs pos="50000">
                  <a:srgbClr val="308dea"/>
                </a:gs>
                <a:gs pos="100000">
                  <a:srgbClr val="1640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143000" y="3208320"/>
              <a:ext cx="165888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6406b"/>
                </a:gs>
                <a:gs pos="50000">
                  <a:srgbClr val="308dea"/>
                </a:gs>
                <a:gs pos="100000">
                  <a:srgbClr val="1640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43000" y="27090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6406b"/>
                </a:gs>
                <a:gs pos="50000">
                  <a:srgbClr val="308dea"/>
                </a:gs>
                <a:gs pos="100000">
                  <a:srgbClr val="1640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1180f"/>
                </a:gs>
                <a:gs pos="50000">
                  <a:srgbClr val="b13621"/>
                </a:gs>
                <a:gs pos="100000">
                  <a:srgbClr val="51180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120360" y="3208320"/>
              <a:ext cx="172836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1180f"/>
                </a:gs>
                <a:gs pos="50000">
                  <a:srgbClr val="b13621"/>
                </a:gs>
                <a:gs pos="100000">
                  <a:srgbClr val="51180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20360" y="27090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1180f"/>
                </a:gs>
                <a:gs pos="50000">
                  <a:srgbClr val="b13621"/>
                </a:gs>
                <a:gs pos="100000">
                  <a:srgbClr val="51180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0240" y="2602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872640" y="2276640"/>
            <a:ext cx="7544160" cy="3352680"/>
            <a:chOff x="872640" y="2276640"/>
            <a:chExt cx="7544160" cy="3352680"/>
          </a:xfrm>
        </p:grpSpPr>
        <p:sp>
          <p:nvSpPr>
            <p:cNvPr id="195" name=""/>
            <p:cNvSpPr/>
            <p:nvPr/>
          </p:nvSpPr>
          <p:spPr>
            <a:xfrm flipH="1">
              <a:off x="873000" y="5621400"/>
              <a:ext cx="1657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872640" y="4783320"/>
              <a:ext cx="243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872640" y="395316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872640" y="3124440"/>
              <a:ext cx="416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872640" y="2283120"/>
              <a:ext cx="503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025280" y="2276640"/>
              <a:ext cx="0" cy="87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25280" y="3148200"/>
              <a:ext cx="0" cy="81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025280" y="3965760"/>
              <a:ext cx="0" cy="8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25280" y="4783320"/>
              <a:ext cx="0" cy="8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24720" y="2600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224720" y="4291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2590560" y="2286000"/>
              <a:ext cx="5826240" cy="3343320"/>
              <a:chOff x="2590560" y="2286000"/>
              <a:chExt cx="5826240" cy="3343320"/>
            </a:xfrm>
          </p:grpSpPr>
          <p:sp>
            <p:nvSpPr>
              <p:cNvPr id="209" name=""/>
              <p:cNvSpPr/>
              <p:nvPr/>
            </p:nvSpPr>
            <p:spPr>
              <a:xfrm>
                <a:off x="7833960" y="2286000"/>
                <a:ext cx="57636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91d62"/>
                  </a:gs>
                  <a:gs pos="50000">
                    <a:srgbClr val="5940d6"/>
                  </a:gs>
                  <a:gs pos="100000">
                    <a:srgbClr val="291d6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073480" y="2286000"/>
                <a:ext cx="3343320" cy="541440"/>
              </a:xfrm>
              <a:custGeom>
                <a:avLst/>
                <a:gdLst/>
                <a:ahLst/>
                <a:rect l="l" t="t" r="r" b="b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594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254720" y="311796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95723"/>
                  </a:gs>
                  <a:gs pos="50000">
                    <a:srgbClr val="7dbe4c"/>
                  </a:gs>
                  <a:gs pos="100000">
                    <a:srgbClr val="39572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243320" y="3117960"/>
                <a:ext cx="3593880" cy="539640"/>
              </a:xfrm>
              <a:custGeom>
                <a:avLst/>
                <a:gdLst/>
                <a:ahLst/>
                <a:rect l="l" t="t" r="r" b="b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7db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673680" y="3949560"/>
                <a:ext cx="57312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406b"/>
                  </a:gs>
                  <a:gs pos="50000">
                    <a:srgbClr val="308dea"/>
                  </a:gs>
                  <a:gs pos="100000">
                    <a:srgbClr val="16406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095880" y="4782960"/>
                <a:ext cx="57780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1180f"/>
                  </a:gs>
                  <a:gs pos="50000">
                    <a:srgbClr val="b13621"/>
                  </a:gs>
                  <a:gs pos="100000">
                    <a:srgbClr val="51180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592000" y="4788000"/>
                <a:ext cx="4081680" cy="539640"/>
              </a:xfrm>
              <a:custGeom>
                <a:avLst/>
                <a:gdLst/>
                <a:ahLst/>
                <a:rect l="l" t="t" r="r" b="b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b136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184200" y="2440080"/>
                <a:ext cx="1838520" cy="272232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008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079600" y="2827440"/>
                <a:ext cx="2767320" cy="304560"/>
              </a:xfrm>
              <a:prstGeom prst="rect">
                <a:avLst/>
              </a:prstGeom>
              <a:gradFill rotWithShape="0">
                <a:gsLst>
                  <a:gs pos="0">
                    <a:srgbClr val="402e9a"/>
                  </a:gs>
                  <a:gs pos="50000">
                    <a:srgbClr val="5940d6"/>
                  </a:gs>
                  <a:gs pos="100000">
                    <a:srgbClr val="402e9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5a8936"/>
                  </a:gs>
                  <a:gs pos="50000">
                    <a:srgbClr val="7dbe4c"/>
                  </a:gs>
                  <a:gs pos="100000">
                    <a:srgbClr val="5a893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419280" y="3949560"/>
                <a:ext cx="3833640" cy="544680"/>
              </a:xfrm>
              <a:custGeom>
                <a:avLst/>
                <a:gdLst/>
                <a:ahLst/>
                <a:rect l="l" t="t" r="r" b="b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308d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422520" y="4492800"/>
                <a:ext cx="3263760" cy="298440"/>
              </a:xfrm>
              <a:prstGeom prst="rect">
                <a:avLst/>
              </a:prstGeom>
              <a:gradFill rotWithShape="0">
                <a:gsLst>
                  <a:gs pos="0">
                    <a:srgbClr val="2265a9"/>
                  </a:gs>
                  <a:gs pos="50000">
                    <a:srgbClr val="308dea"/>
                  </a:gs>
                  <a:gs pos="100000">
                    <a:srgbClr val="2265a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590560" y="5329080"/>
                <a:ext cx="3513240" cy="297000"/>
              </a:xfrm>
              <a:prstGeom prst="rect">
                <a:avLst/>
              </a:prstGeom>
              <a:gradFill rotWithShape="0">
                <a:gsLst>
                  <a:gs pos="0">
                    <a:srgbClr val="7f2717"/>
                  </a:gs>
                  <a:gs pos="50000">
                    <a:srgbClr val="b13621"/>
                  </a:gs>
                  <a:gs pos="100000">
                    <a:srgbClr val="7f271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0240" y="2602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914400" y="1219320"/>
            <a:ext cx="7315200" cy="5018760"/>
            <a:chOff x="914400" y="1219320"/>
            <a:chExt cx="7315200" cy="5018760"/>
          </a:xfrm>
        </p:grpSpPr>
        <p:sp>
          <p:nvSpPr>
            <p:cNvPr id="224" name=""/>
            <p:cNvSpPr/>
            <p:nvPr/>
          </p:nvSpPr>
          <p:spPr>
            <a:xfrm>
              <a:off x="5073480" y="1219320"/>
              <a:ext cx="1467000" cy="1155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7dbe4c"/>
                </a:gs>
                <a:gs pos="100000">
                  <a:srgbClr val="88c35b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424320" y="265248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5940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657600" y="251424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91d62"/>
                </a:gs>
                <a:gs pos="50000">
                  <a:srgbClr val="5940d6"/>
                </a:gs>
                <a:gs pos="100000">
                  <a:srgbClr val="291d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5333400" y="2590560"/>
              <a:ext cx="7308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3742560" y="2581200"/>
              <a:ext cx="7164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934240" y="2151000"/>
              <a:ext cx="2295360" cy="315540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400"/>
                <a:gd name="textAreaBottom" fmla="*/ 3124080 h 3155400"/>
              </a:gdLst>
              <a:ahLst/>
              <a:rect l="textAreaLeft" t="textAreaTop" r="textAreaRight" b="textAreaBottom"/>
              <a:pathLst>
                <a:path w="21600" h="29692">
                  <a:moveTo>
                    <a:pt x="1013" y="0"/>
                  </a:moveTo>
                  <a:arcTo wR="1013" hR="1013" stAng="16200000" swAng="-5400000"/>
                  <a:lnTo>
                    <a:pt x="0" y="28679"/>
                  </a:lnTo>
                  <a:arcTo wR="1013" hR="1013" stAng="10800000" swAng="-5400000"/>
                  <a:lnTo>
                    <a:pt x="20587" y="29692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7db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149880" y="200808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95723"/>
                </a:gs>
                <a:gs pos="50000">
                  <a:srgbClr val="7dbe4c"/>
                </a:gs>
                <a:gs pos="100000">
                  <a:srgbClr val="3957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7835040" y="2079360"/>
              <a:ext cx="7164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6253200" y="2079360"/>
              <a:ext cx="7128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492280" y="1720440"/>
              <a:ext cx="1467000" cy="11570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308dea"/>
                </a:gs>
                <a:gs pos="100000">
                  <a:srgbClr val="87bcf1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913200" y="248580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27800" y="19904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914400" y="2914560"/>
              <a:ext cx="2295360" cy="3323520"/>
              <a:chOff x="914400" y="2914560"/>
              <a:chExt cx="2295360" cy="3323520"/>
            </a:xfrm>
          </p:grpSpPr>
          <p:sp>
            <p:nvSpPr>
              <p:cNvPr id="237" name=""/>
              <p:cNvSpPr/>
              <p:nvPr/>
            </p:nvSpPr>
            <p:spPr>
              <a:xfrm>
                <a:off x="914400" y="3082320"/>
                <a:ext cx="2295360" cy="3155760"/>
              </a:xfrm>
              <a:custGeom>
                <a:avLst/>
                <a:gdLst>
                  <a:gd name="textAreaLeft" fmla="*/ 31320 w 2295360"/>
                  <a:gd name="textAreaRight" fmla="*/ 2264040 w 2295360"/>
                  <a:gd name="textAreaTop" fmla="*/ 31320 h 3155760"/>
                  <a:gd name="textAreaBottom" fmla="*/ 3124440 h 3155760"/>
                </a:gdLst>
                <a:ahLst/>
                <a:rect l="textAreaLeft" t="textAreaTop" r="textAreaRight" b="textAreaBottom"/>
                <a:pathLst>
                  <a:path w="21600" h="29695">
                    <a:moveTo>
                      <a:pt x="1013" y="0"/>
                    </a:moveTo>
                    <a:arcTo wR="1013" hR="1013" stAng="16200000" swAng="-5400000"/>
                    <a:lnTo>
                      <a:pt x="0" y="28682"/>
                    </a:lnTo>
                    <a:arcTo wR="1013" hR="1013" stAng="10800000" swAng="-5400000"/>
                    <a:lnTo>
                      <a:pt x="20587" y="29695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308d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130400" y="2939760"/>
                <a:ext cx="1863720" cy="286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12365a"/>
                  </a:gs>
                  <a:gs pos="50000">
                    <a:srgbClr val="308dea"/>
                  </a:gs>
                  <a:gs pos="100000">
                    <a:srgbClr val="12365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2813760" y="3011040"/>
                <a:ext cx="7164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1231200" y="3011040"/>
                <a:ext cx="7308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398600" y="2914560"/>
                <a:ext cx="131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dd Your Titl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990720" y="3342960"/>
                <a:ext cx="213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3505320" y="288576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019920" y="235260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5:20Z</dcterms:modified>
  <cp:revision>6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