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4C4B-7EE7-4805-8712-22A715E5A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EA81-C4CD-41B3-8652-646080A1C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A4A9-BB0B-4627-81CF-DBB234E66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8255-8678-4389-BDB1-5E987E256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F1C2E-9359-4DEA-B427-060E42EF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95088-527E-43C3-8483-53D114F9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8B339-C773-4C7E-9A95-E85C3AED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AEB51-3631-41E4-AC26-BA685DC0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AFC48-E4E9-49C2-8D0D-204819CF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819520" y="2914560"/>
            <a:ext cx="579096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CA515-9E93-4A2B-B075-96365A60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FE24B-03CF-48D1-928C-950917AE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00A5-0ED1-4979-99F2-FE1F0EF3A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FD2BB-208E-4A1A-8D2E-BE5C5021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460EE-9703-4915-BEBB-5C7A84B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18075-7B60-4D8C-AD32-3B98C1E7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8D678-01EF-4BF2-8231-9B901A99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A487B-5FF1-4286-BE89-D7391A85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DB952-71E2-47A2-9C9D-C61FD8DCE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C3BD-590F-4CD0-984B-157D61A96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AA80D-9564-49DF-9ED2-FCABC6BF9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819520" y="2914560"/>
            <a:ext cx="579096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F406-73CA-45BD-A991-E4D1D893B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1787-870B-4101-AA32-00D2AAC56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F721-B98C-401F-9B92-5F6973F5B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F43D-4C57-4F28-A5B3-ED98BE962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3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440"/>
            <a:ext cx="8381880" cy="979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981000"/>
          </a:xfrm>
          <a:prstGeom prst="rect">
            <a:avLst/>
          </a:prstGeom>
          <a:solidFill>
            <a:srgbClr val="00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440"/>
            <a:ext cx="9144000" cy="119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882720"/>
            <a:ext cx="9144000" cy="119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9440" y="-109440"/>
            <a:ext cx="1143000" cy="9475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f6d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6cae2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36572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66cae2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2D0D-DFC3-4A19-97DA-F733C050A681}" type="slidenum">
              <a:rPr b="0" lang="ko-KR" sz="1200" spc="-1" strike="noStrike">
                <a:solidFill>
                  <a:srgbClr val="66cae2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12400" y="4241520"/>
            <a:ext cx="8702640" cy="2463840"/>
            <a:chOff x="212400" y="4241520"/>
            <a:chExt cx="8702640" cy="2463840"/>
          </a:xfrm>
        </p:grpSpPr>
        <p:grpSp>
          <p:nvGrpSpPr>
            <p:cNvPr id="48" name=""/>
            <p:cNvGrpSpPr/>
            <p:nvPr/>
          </p:nvGrpSpPr>
          <p:grpSpPr>
            <a:xfrm>
              <a:off x="212400" y="4241520"/>
              <a:ext cx="1657440" cy="2463840"/>
              <a:chOff x="212400" y="4241520"/>
              <a:chExt cx="1657440" cy="2463840"/>
            </a:xfrm>
          </p:grpSpPr>
          <p:sp>
            <p:nvSpPr>
              <p:cNvPr id="49" name=""/>
              <p:cNvSpPr/>
              <p:nvPr/>
            </p:nvSpPr>
            <p:spPr>
              <a:xfrm flipH="1" flipV="1">
                <a:off x="21204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flipV="1">
                <a:off x="58680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>
                <a:off x="97884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137088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176472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21204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58680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flipV="1">
                <a:off x="97884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flipV="1">
                <a:off x="137088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176472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flipV="1">
                <a:off x="21204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58680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97884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137088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flipV="1">
                <a:off x="176472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flipV="1">
                <a:off x="21204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58680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97884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137088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176472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21204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58680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flipV="1">
                <a:off x="97884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137088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176472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flipV="1">
                <a:off x="21204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flipV="1">
                <a:off x="58680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flipV="1">
                <a:off x="97884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flipV="1">
                <a:off x="137088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176472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21204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58680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flipV="1">
                <a:off x="97884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>
                <a:off x="137088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flipV="1">
                <a:off x="176472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flipV="1">
                <a:off x="21204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flipV="1">
                <a:off x="58680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97884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137088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flipV="1">
                <a:off x="176472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2156040" y="4241520"/>
              <a:ext cx="1656720" cy="2463840"/>
              <a:chOff x="2156040" y="4241520"/>
              <a:chExt cx="1656720" cy="2463840"/>
            </a:xfrm>
          </p:grpSpPr>
          <p:sp>
            <p:nvSpPr>
              <p:cNvPr id="90" name=""/>
              <p:cNvSpPr/>
              <p:nvPr/>
            </p:nvSpPr>
            <p:spPr>
              <a:xfrm flipH="1" flipV="1">
                <a:off x="2156040" y="4260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flipV="1">
                <a:off x="2530440" y="4260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2922480" y="425448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3314520" y="42476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3708360" y="4241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2156040" y="4612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2530440" y="4612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2922480" y="46062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3314520" y="46000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flipV="1">
                <a:off x="3708360" y="45936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2156040" y="4953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2530440" y="4953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2922480" y="494820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flipV="1">
                <a:off x="3314520" y="49413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3708360" y="49348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2156040" y="5295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2530440" y="5295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2922480" y="528948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3314520" y="52826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3708360" y="5276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2156040" y="56397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2530440" y="56397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2922480" y="563400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3314520" y="5627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3708360" y="5620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flipV="1">
                <a:off x="2156040" y="5944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2530440" y="5944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2922480" y="59382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3314520" y="593244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3708360" y="59256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2156040" y="6285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flipV="1">
                <a:off x="2530440" y="6285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922480" y="6279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3314520" y="627372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3708360" y="62668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2156040" y="6630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2530440" y="6630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flipV="1">
                <a:off x="2922480" y="66240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3314520" y="661824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flipV="1">
                <a:off x="3708360" y="66114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130280" y="4241520"/>
              <a:ext cx="1657440" cy="2463840"/>
              <a:chOff x="4130280" y="4241520"/>
              <a:chExt cx="1657440" cy="2463840"/>
            </a:xfrm>
          </p:grpSpPr>
          <p:sp>
            <p:nvSpPr>
              <p:cNvPr id="131" name=""/>
              <p:cNvSpPr/>
              <p:nvPr/>
            </p:nvSpPr>
            <p:spPr>
              <a:xfrm flipH="1" flipV="1">
                <a:off x="412992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450468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89672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528876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68260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flipV="1">
                <a:off x="412992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flipV="1">
                <a:off x="450468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489672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>
                <a:off x="528876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568260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412992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450468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489672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>
                <a:off x="528876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568260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412992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450468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489672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528876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568260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412992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450468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489672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528876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568260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412992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450468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489672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528876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568260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12992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450468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489672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528876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568260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412992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450468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489672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528876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568260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079680" y="4241520"/>
              <a:ext cx="1657440" cy="2463840"/>
              <a:chOff x="6079680" y="4241520"/>
              <a:chExt cx="1657440" cy="2463840"/>
            </a:xfrm>
          </p:grpSpPr>
          <p:sp>
            <p:nvSpPr>
              <p:cNvPr id="172" name=""/>
              <p:cNvSpPr/>
              <p:nvPr/>
            </p:nvSpPr>
            <p:spPr>
              <a:xfrm flipH="1" flipV="1">
                <a:off x="607932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45408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684612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723816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763200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607932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flipV="1">
                <a:off x="645408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684612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723816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763200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607932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645408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684612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723816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763200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607932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flipV="1">
                <a:off x="645408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684612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723816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763200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07932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645408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flipV="1">
                <a:off x="684612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723816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763200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07932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645408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684612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723816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763200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607932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645408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684612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723816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763200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607932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645408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684612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723816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763200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H="1" flipV="1">
              <a:off x="8043120" y="4260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8417880" y="4260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8809920" y="425448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8043120" y="4612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8417880" y="4612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8809920" y="46062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8043120" y="4953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8417880" y="4953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8809920" y="494820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8043120" y="5295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8417880" y="5295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8809920" y="528948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8043120" y="56397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8417880" y="56397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8809920" y="563400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8043120" y="5944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8417880" y="5944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8809920" y="59382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8043120" y="6285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8417880" y="6285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8809920" y="6279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8043120" y="6630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8417880" y="6630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8809920" y="66240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B57E-C05D-4670-81EC-BCC8C1BBAFD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41680" y="63244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0"/>
                </a:solidFill>
                <a:latin typeface="Lucida Sans Unicode"/>
                <a:ea typeface="Gulim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22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209680"/>
            <a:ext cx="3200400" cy="2187720"/>
          </a:xfrm>
          <a:prstGeom prst="rect">
            <a:avLst/>
          </a:prstGeom>
          <a:solidFill>
            <a:srgbClr val="00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70200" y="2220840"/>
            <a:ext cx="7273800" cy="2144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76320"/>
            <a:ext cx="6172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ae2"/>
                </a:solidFill>
                <a:latin typeface="Verdana"/>
                <a:ea typeface="Gulim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title"/>
          </p:nvPr>
        </p:nvSpPr>
        <p:spPr>
          <a:xfrm>
            <a:off x="2819520" y="2914560"/>
            <a:ext cx="57909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060"/>
                </a:solidFill>
                <a:latin typeface="Verdana"/>
              </a:rPr>
              <a:t>Click to edit the title text format</a:t>
            </a: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4514760" y="275760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22084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300560"/>
            <a:ext cx="9144000" cy="1681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000160"/>
            <a:ext cx="3086280" cy="2278080"/>
          </a:xfrm>
          <a:custGeom>
            <a:avLst/>
            <a:gdLst>
              <a:gd name="textAreaLeft" fmla="*/ 0 w 3086280"/>
              <a:gd name="textAreaRight" fmla="*/ 3086640 w 3086280"/>
              <a:gd name="textAreaTop" fmla="*/ 0 h 2278080"/>
              <a:gd name="textAreaBottom" fmla="*/ 2278440 h 227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84320" y="1949400"/>
            <a:ext cx="2878200" cy="1903320"/>
          </a:xfrm>
          <a:custGeom>
            <a:avLst/>
            <a:gdLst>
              <a:gd name="textAreaLeft" fmla="*/ 0 w 2878200"/>
              <a:gd name="textAreaRight" fmla="*/ 2878560 w 287820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06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00400" y="3067200"/>
            <a:ext cx="5410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060"/>
                </a:solidFill>
                <a:latin typeface="Verdana"/>
                <a:ea typeface="Gulim"/>
              </a:rPr>
              <a:t>Template</a:t>
            </a: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3060"/>
              </a:solidFill>
              <a:latin typeface="Verdana"/>
              <a:ea typeface="Gulim"/>
            </a:endParaRPr>
          </a:p>
        </p:txBody>
      </p:sp>
      <p:sp>
        <p:nvSpPr>
          <p:cNvPr id="289" name=""/>
          <p:cNvSpPr/>
          <p:nvPr/>
        </p:nvSpPr>
        <p:spPr>
          <a:xfrm>
            <a:off x="108000" y="629928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04120" y="836640"/>
            <a:ext cx="46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水湖蓝企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66cae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4BB1-D15A-4E25-8EBB-49FAA940DF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00400" y="3139560"/>
            <a:ext cx="5484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060"/>
                </a:solidFill>
                <a:latin typeface="Verdana"/>
                <a:ea typeface="Gulim"/>
              </a:rPr>
              <a:t>Thank you</a:t>
            </a:r>
            <a:endParaRPr b="1" lang="en-US" sz="60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90720" y="464832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0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337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1660680"/>
            <a:ext cx="609480" cy="53316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244476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337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324000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337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40226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48830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1187280" y="576108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cae2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gradFill rotWithShape="0">
            <a:gsLst>
              <a:gs pos="0">
                <a:srgbClr val="66cae2"/>
              </a:gs>
              <a:gs pos="100000">
                <a:srgbClr val="80f6d7"/>
              </a:gs>
            </a:gsLst>
            <a:lin ang="135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127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4748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66cae2"/>
              </a:gs>
              <a:gs pos="100000">
                <a:srgbClr val="80f6d7"/>
              </a:gs>
            </a:gsLst>
            <a:lin ang="135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7152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66cae2"/>
              </a:gs>
              <a:gs pos="100000">
                <a:srgbClr val="80f6d7"/>
              </a:gs>
            </a:gsLst>
            <a:lin ang="135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0f6d7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80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80f6d7"/>
              </a:gs>
              <a:gs pos="100000">
                <a:srgbClr val="6ccfb5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62120" y="1828800"/>
          <a:ext cx="7696080" cy="38862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19b8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b9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b9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b9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b9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b95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9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9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9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9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9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64c1a8"/>
              </a:gs>
              <a:gs pos="50000">
                <a:srgbClr val="80f6d7"/>
              </a:gs>
              <a:gs pos="100000">
                <a:srgbClr val="64c1a8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a6d0a6"/>
              </a:gs>
              <a:gs pos="50000">
                <a:srgbClr val="ccffcc"/>
              </a:gs>
              <a:gs pos="100000">
                <a:srgbClr val="a6d0a6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68c8af"/>
              </a:gs>
              <a:gs pos="50000">
                <a:srgbClr val="80f6d7"/>
              </a:gs>
              <a:gs pos="100000">
                <a:srgbClr val="68c8af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458200" cy="49528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187280" y="592776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cae2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85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02:17:1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24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AdHocReviewCycleID">
    <vt:r8>1344399779</vt:r8>
  </property>
  <property fmtid="{D5CDD505-2E9C-101B-9397-08002B2CF9AE}" pid="4" name="_AuthorEmail">
    <vt:lpwstr>support@themegallery.co.kr</vt:lpwstr>
  </property>
  <property fmtid="{D5CDD505-2E9C-101B-9397-08002B2CF9AE}" pid="5" name="_AuthorEmailDisplayName">
    <vt:lpwstr>support</vt:lpwstr>
  </property>
  <property fmtid="{D5CDD505-2E9C-101B-9397-08002B2CF9AE}" pid="6" name="_EmailSubject">
    <vt:lpwstr>�ȳ��ϼ��� ���̳ʿ��� �Ŀ�����Ʈ ����� �˷�帱�� �־ ���Ϻ���ϴ�.</vt:lpwstr>
  </property>
  <property fmtid="{D5CDD505-2E9C-101B-9397-08002B2CF9AE}" pid="7" name="_PreviousAdHocReviewCycleID">
    <vt:r8>-338095602</vt:r8>
  </property>
</Properties>
</file>