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7654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-11203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-133992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-9140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-17654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-133992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-9140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-11203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grpSp>
        <p:nvGrpSpPr>
          <p:cNvPr id="1" name="Group 39"/>
          <p:cNvGrpSpPr/>
          <p:nvPr/>
        </p:nvGrpSpPr>
        <p:grpSpPr>
          <a:xfrm>
            <a:off x="250920" y="6237360"/>
            <a:ext cx="450360" cy="419040"/>
            <a:chOff x="250920" y="6237360"/>
            <a:chExt cx="450360" cy="419040"/>
          </a:xfrm>
        </p:grpSpPr>
        <p:sp>
          <p:nvSpPr>
            <p:cNvPr id="2" name="Freeform 40"/>
            <p:cNvSpPr/>
            <p:nvPr/>
          </p:nvSpPr>
          <p:spPr>
            <a:xfrm>
              <a:off x="250920" y="6307920"/>
              <a:ext cx="391680" cy="28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" name="Freeform 41"/>
            <p:cNvSpPr/>
            <p:nvPr/>
          </p:nvSpPr>
          <p:spPr>
            <a:xfrm>
              <a:off x="373320" y="6237360"/>
              <a:ext cx="187560" cy="41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" name="Freeform 42"/>
            <p:cNvSpPr/>
            <p:nvPr/>
          </p:nvSpPr>
          <p:spPr>
            <a:xfrm>
              <a:off x="340920" y="6249960"/>
              <a:ext cx="262800" cy="36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" name="Freeform 43"/>
            <p:cNvSpPr/>
            <p:nvPr/>
          </p:nvSpPr>
          <p:spPr>
            <a:xfrm>
              <a:off x="294840" y="6353280"/>
              <a:ext cx="406440" cy="20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" name="Freeform 44"/>
            <p:cNvSpPr/>
            <p:nvPr/>
          </p:nvSpPr>
          <p:spPr>
            <a:xfrm>
              <a:off x="425880" y="6346800"/>
              <a:ext cx="159840" cy="16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钱币" descr=""/>
          <p:cNvPicPr/>
          <p:nvPr/>
        </p:nvPicPr>
        <p:blipFill>
          <a:blip r:embed="rId2"/>
          <a:stretch/>
        </p:blipFill>
        <p:spPr>
          <a:xfrm rot="19145400">
            <a:off x="7324560" y="475920"/>
            <a:ext cx="1819440" cy="12222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2258"/>
          <p:cNvGrpSpPr/>
          <p:nvPr/>
        </p:nvGrpSpPr>
        <p:grpSpPr>
          <a:xfrm>
            <a:off x="4160880" y="3525840"/>
            <a:ext cx="4983120" cy="3332160"/>
            <a:chOff x="4160880" y="3525840"/>
            <a:chExt cx="4983120" cy="3332160"/>
          </a:xfrm>
        </p:grpSpPr>
        <p:sp>
          <p:nvSpPr>
            <p:cNvPr id="46" name="Freeform 1251"/>
            <p:cNvSpPr/>
            <p:nvPr/>
          </p:nvSpPr>
          <p:spPr>
            <a:xfrm rot="10800000">
              <a:off x="4160880" y="3525840"/>
              <a:ext cx="4857840" cy="3332160"/>
            </a:xfrm>
            <a:prstGeom prst="pie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" name="Freeform 1256"/>
            <p:cNvSpPr/>
            <p:nvPr/>
          </p:nvSpPr>
          <p:spPr>
            <a:xfrm rot="10800000">
              <a:off x="5511600" y="4199760"/>
              <a:ext cx="3472560" cy="265824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" name="Freeform 1261"/>
            <p:cNvSpPr/>
            <p:nvPr/>
          </p:nvSpPr>
          <p:spPr>
            <a:xfrm rot="10800000">
              <a:off x="4165560" y="3798000"/>
              <a:ext cx="4947480" cy="306000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" name="Freeform 1266"/>
            <p:cNvSpPr/>
            <p:nvPr/>
          </p:nvSpPr>
          <p:spPr>
            <a:xfrm rot="10800000">
              <a:off x="5530680" y="3563640"/>
              <a:ext cx="3613320" cy="841320"/>
            </a:xfrm>
            <a:prstGeom prst="pie">
              <a:avLst/>
            </a:pr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" name="Freeform 1271"/>
            <p:cNvSpPr/>
            <p:nvPr/>
          </p:nvSpPr>
          <p:spPr>
            <a:xfrm rot="10800000">
              <a:off x="7004160" y="3810960"/>
              <a:ext cx="1448280" cy="56304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1" name="组合 2258"/>
          <p:cNvGrpSpPr/>
          <p:nvPr/>
        </p:nvGrpSpPr>
        <p:grpSpPr>
          <a:xfrm>
            <a:off x="0" y="0"/>
            <a:ext cx="6269040" cy="3525840"/>
            <a:chOff x="0" y="0"/>
            <a:chExt cx="6269040" cy="3525840"/>
          </a:xfrm>
        </p:grpSpPr>
        <p:sp>
          <p:nvSpPr>
            <p:cNvPr id="52" name="Freeform 1251"/>
            <p:cNvSpPr/>
            <p:nvPr/>
          </p:nvSpPr>
          <p:spPr>
            <a:xfrm>
              <a:off x="157680" y="0"/>
              <a:ext cx="6111360" cy="3525840"/>
            </a:xfrm>
            <a:prstGeom prst="pie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" name="Freeform 1256"/>
            <p:cNvSpPr/>
            <p:nvPr/>
          </p:nvSpPr>
          <p:spPr>
            <a:xfrm>
              <a:off x="200880" y="0"/>
              <a:ext cx="4368600" cy="281304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Freeform 1261"/>
            <p:cNvSpPr/>
            <p:nvPr/>
          </p:nvSpPr>
          <p:spPr>
            <a:xfrm>
              <a:off x="38880" y="0"/>
              <a:ext cx="6224040" cy="323784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Freeform 1266"/>
            <p:cNvSpPr/>
            <p:nvPr/>
          </p:nvSpPr>
          <p:spPr>
            <a:xfrm>
              <a:off x="0" y="2595960"/>
              <a:ext cx="4545720" cy="890280"/>
            </a:xfrm>
            <a:prstGeom prst="pie">
              <a:avLst/>
            </a:pr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" name="Freeform 1271"/>
            <p:cNvSpPr/>
            <p:nvPr/>
          </p:nvSpPr>
          <p:spPr>
            <a:xfrm>
              <a:off x="870120" y="2628360"/>
              <a:ext cx="1821960" cy="59580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7" name="矩形 117"/>
          <p:cNvSpPr/>
          <p:nvPr/>
        </p:nvSpPr>
        <p:spPr>
          <a:xfrm>
            <a:off x="-9244080" y="4051440"/>
            <a:ext cx="9144000" cy="95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Freeform 1276"/>
          <p:cNvSpPr/>
          <p:nvPr/>
        </p:nvSpPr>
        <p:spPr>
          <a:xfrm>
            <a:off x="5259240" y="0"/>
            <a:ext cx="2070360" cy="15447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Freeform 1281"/>
          <p:cNvSpPr/>
          <p:nvPr/>
        </p:nvSpPr>
        <p:spPr>
          <a:xfrm>
            <a:off x="7578720" y="85572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Freeform 1281"/>
          <p:cNvSpPr/>
          <p:nvPr/>
        </p:nvSpPr>
        <p:spPr>
          <a:xfrm>
            <a:off x="5460840" y="133524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Freeform 1281"/>
          <p:cNvSpPr/>
          <p:nvPr/>
        </p:nvSpPr>
        <p:spPr>
          <a:xfrm>
            <a:off x="7032600" y="88596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Freeform 1281"/>
          <p:cNvSpPr/>
          <p:nvPr/>
        </p:nvSpPr>
        <p:spPr>
          <a:xfrm>
            <a:off x="7264440" y="11736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Freeform 1281"/>
          <p:cNvSpPr/>
          <p:nvPr/>
        </p:nvSpPr>
        <p:spPr>
          <a:xfrm>
            <a:off x="6284880" y="116352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矩形 117"/>
          <p:cNvSpPr/>
          <p:nvPr/>
        </p:nvSpPr>
        <p:spPr>
          <a:xfrm>
            <a:off x="-5940360" y="4830840"/>
            <a:ext cx="5940360" cy="7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矩形 117"/>
          <p:cNvSpPr/>
          <p:nvPr/>
        </p:nvSpPr>
        <p:spPr>
          <a:xfrm>
            <a:off x="-4724280" y="2771640"/>
            <a:ext cx="472428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Text Box 35"/>
          <p:cNvSpPr/>
          <p:nvPr/>
        </p:nvSpPr>
        <p:spPr>
          <a:xfrm>
            <a:off x="1239840" y="4757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Freeform 1281"/>
          <p:cNvSpPr/>
          <p:nvPr/>
        </p:nvSpPr>
        <p:spPr>
          <a:xfrm>
            <a:off x="5464080" y="133668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Freeform 1281"/>
          <p:cNvSpPr/>
          <p:nvPr/>
        </p:nvSpPr>
        <p:spPr>
          <a:xfrm>
            <a:off x="6291360" y="116532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Freeform 1281"/>
          <p:cNvSpPr/>
          <p:nvPr/>
        </p:nvSpPr>
        <p:spPr>
          <a:xfrm>
            <a:off x="7578720" y="85248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85680" y="313992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适合做喜庆汇报工作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免费下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2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6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21" dur="6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4.16667E-006 0.00648 C 0.01805 0.07284 0.03611 0.13943 0.03698 0.23815 C 0.03784 0.33688 0.02448 0.5022 0.00538 0.59954 C -0.01372 0.69688 -0.06216 0.78243 -0.07813 0.8222 C -0.0941 0.86197 -0.0915 0.83469 -0.09046 0.83862 E">
                                      <p:cBhvr>
                                        <p:cTn id="23" dur="4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28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3" name="Picture 3" descr="nordri_02"/>
          <p:cNvPicPr/>
          <p:nvPr/>
        </p:nvPicPr>
        <p:blipFill>
          <a:blip r:embed="rId2"/>
          <a:stretch/>
        </p:blipFill>
        <p:spPr>
          <a:xfrm>
            <a:off x="-138240" y="1168560"/>
            <a:ext cx="7553520" cy="285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4827960" y="525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回顾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5" name="Picture 5" descr="nordri_02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76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7" name="Group 12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78" name="Group 13"/>
            <p:cNvGrpSpPr/>
            <p:nvPr/>
          </p:nvGrpSpPr>
          <p:grpSpPr>
            <a:xfrm>
              <a:off x="246240" y="228600"/>
              <a:ext cx="2072520" cy="2033640"/>
              <a:chOff x="246240" y="228600"/>
              <a:chExt cx="2072520" cy="2033640"/>
            </a:xfrm>
          </p:grpSpPr>
          <p:sp>
            <p:nvSpPr>
              <p:cNvPr id="79" name="Freeform 1276"/>
              <p:cNvSpPr/>
              <p:nvPr/>
            </p:nvSpPr>
            <p:spPr>
              <a:xfrm>
                <a:off x="246240" y="228600"/>
                <a:ext cx="207252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0" name="Freeform 1281"/>
              <p:cNvSpPr/>
              <p:nvPr/>
            </p:nvSpPr>
            <p:spPr>
              <a:xfrm>
                <a:off x="867600" y="1444680"/>
                <a:ext cx="926640" cy="81756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1" name="Freeform 1281"/>
            <p:cNvSpPr/>
            <p:nvPr/>
          </p:nvSpPr>
          <p:spPr>
            <a:xfrm rot="17943600">
              <a:off x="2049840" y="1046880"/>
              <a:ext cx="648000" cy="649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" name="Freeform 1281"/>
            <p:cNvSpPr/>
            <p:nvPr/>
          </p:nvSpPr>
          <p:spPr>
            <a:xfrm rot="14525400">
              <a:off x="2590200" y="1155960"/>
              <a:ext cx="360360" cy="4320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3" name="Freeform 1281"/>
            <p:cNvSpPr/>
            <p:nvPr/>
          </p:nvSpPr>
          <p:spPr>
            <a:xfrm rot="15812400">
              <a:off x="3030120" y="1219320"/>
              <a:ext cx="208080" cy="29592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4" name="Freeform 1281"/>
          <p:cNvSpPr/>
          <p:nvPr/>
        </p:nvSpPr>
        <p:spPr>
          <a:xfrm>
            <a:off x="871560" y="144936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5" name="同侧圆角矩形 59"/>
          <p:cNvGrpSpPr/>
          <p:nvPr/>
        </p:nvGrpSpPr>
        <p:grpSpPr>
          <a:xfrm>
            <a:off x="1187280" y="1773360"/>
            <a:ext cx="7215480" cy="3816360"/>
            <a:chOff x="1187280" y="1773360"/>
            <a:chExt cx="7215480" cy="3816360"/>
          </a:xfrm>
        </p:grpSpPr>
        <p:pic>
          <p:nvPicPr>
            <p:cNvPr id="86" name="同侧圆角矩形 59" descr=""/>
            <p:cNvPicPr/>
            <p:nvPr/>
          </p:nvPicPr>
          <p:blipFill>
            <a:blip r:embed="rId4"/>
            <a:stretch/>
          </p:blipFill>
          <p:spPr>
            <a:xfrm>
              <a:off x="1187280" y="1773360"/>
              <a:ext cx="721548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22"/>
            <p:cNvSpPr/>
            <p:nvPr/>
          </p:nvSpPr>
          <p:spPr>
            <a:xfrm>
              <a:off x="1344960" y="1886040"/>
              <a:ext cx="6899400" cy="36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38 0.01435 -0.00642 0.03218 -0.01718 0.04167 C -0.01962 0.05116 -0.02396 0.06042 -0.02812 0.06875 C -0.03073 0.08264 -0.0342 0.09491 -0.0375 0.10833 C -0.03698 0.12431 -0.03715 0.14028 -0.03593 0.15625 C -0.03455 0.17454 -0.0276 0.18542 -0.02031 0.2 C -0.01389 0.21273 -0.021 0.20486 -0.0125 0.2125 C -0.01041 0.22361 -0.0085 0.22639 -0.00156 0.23333 C 0.00295 0.25718 0.00278 0.2831 -0.00781 0.30417 C -0.01076 0.31968 -0.01701 0.33148 -0.02187 0.34583 C -0.02587 0.35764 -0.02934 0.3706 -0.03125 0.38333 C -0.03073 0.40764 -0.03194 0.43218 -0.02968 0.45625 C -0.02916 0.46111 -0.02552 0.46458 -0.02343 0.46875 C -0.02153 0.47269 -0.021 0.47731 -0.01875 0.48125 C -0.01406 0.48889 -0.00555 0.49468 0.00157 0.49792 C 0.00556 0.50301 0.00608 0.50486 0.01094 0.5081 C 0.01511 0.51134 0.02344 0.51667 0.02344 0.51667 C 0.02778 0.525 0.03108 0.52384 0.0375 0.52917 C 0.04618 0.53634 0.05417 0.54769 0.06407 0.55208 C 0.06979 0.55972 0.07952 0.56713 0.0875 0.57083 C 0.09375 0.57917 0.09861 0.58773 0.10469 0.59583 C 0.10851 0.61111 0.10556 0.60532 0.1125 0.61458 C 0.11493 0.62454 0.11997 0.63241 0.12344 0.64167 C 0.12986 0.65903 0.1191 0.63634 0.12813 0.65417 C 0.12986 0.67083 0.12969 0.66389 0.12969 0.675 E">
                                      <p:cBhvr>
                                        <p:cTn id="56" dur="10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9" name="Picture 3" descr="nordri_02"/>
          <p:cNvPicPr/>
          <p:nvPr/>
        </p:nvPicPr>
        <p:blipFill>
          <a:blip r:embed="rId2"/>
          <a:stretch/>
        </p:blipFill>
        <p:spPr>
          <a:xfrm>
            <a:off x="-138240" y="1168560"/>
            <a:ext cx="7553520" cy="285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512960" y="453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工作总结内容提要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1" name="Picture 5" descr="nordri_02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92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3" name="Group 12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94" name="Group 13"/>
            <p:cNvGrpSpPr/>
            <p:nvPr/>
          </p:nvGrpSpPr>
          <p:grpSpPr>
            <a:xfrm>
              <a:off x="246240" y="228600"/>
              <a:ext cx="2072520" cy="2033640"/>
              <a:chOff x="246240" y="228600"/>
              <a:chExt cx="2072520" cy="2033640"/>
            </a:xfrm>
          </p:grpSpPr>
          <p:sp>
            <p:nvSpPr>
              <p:cNvPr id="95" name="Freeform 1276"/>
              <p:cNvSpPr/>
              <p:nvPr/>
            </p:nvSpPr>
            <p:spPr>
              <a:xfrm>
                <a:off x="246240" y="228600"/>
                <a:ext cx="207252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6" name="Freeform 1281"/>
              <p:cNvSpPr/>
              <p:nvPr/>
            </p:nvSpPr>
            <p:spPr>
              <a:xfrm>
                <a:off x="867600" y="1444680"/>
                <a:ext cx="926640" cy="81756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7" name="Freeform 1281"/>
            <p:cNvSpPr/>
            <p:nvPr/>
          </p:nvSpPr>
          <p:spPr>
            <a:xfrm rot="17943600">
              <a:off x="2049840" y="1046880"/>
              <a:ext cx="648000" cy="649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8" name="Freeform 1281"/>
            <p:cNvSpPr/>
            <p:nvPr/>
          </p:nvSpPr>
          <p:spPr>
            <a:xfrm rot="14525400">
              <a:off x="2590200" y="1155960"/>
              <a:ext cx="360360" cy="4320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" name="Freeform 1281"/>
            <p:cNvSpPr/>
            <p:nvPr/>
          </p:nvSpPr>
          <p:spPr>
            <a:xfrm rot="15812400">
              <a:off x="3030120" y="1219320"/>
              <a:ext cx="208080" cy="29592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0" name="同侧圆角矩形 59"/>
          <p:cNvGrpSpPr/>
          <p:nvPr/>
        </p:nvGrpSpPr>
        <p:grpSpPr>
          <a:xfrm>
            <a:off x="1403280" y="2060280"/>
            <a:ext cx="6337080" cy="3600360"/>
            <a:chOff x="1403280" y="2060280"/>
            <a:chExt cx="6337080" cy="3600360"/>
          </a:xfrm>
        </p:grpSpPr>
        <p:pic>
          <p:nvPicPr>
            <p:cNvPr id="101" name="同侧圆角矩形 59" descr=""/>
            <p:cNvPicPr/>
            <p:nvPr/>
          </p:nvPicPr>
          <p:blipFill>
            <a:blip r:embed="rId4"/>
            <a:stretch/>
          </p:blipFill>
          <p:spPr>
            <a:xfrm rot="16200000">
              <a:off x="2771640" y="691920"/>
              <a:ext cx="3600360" cy="63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21"/>
            <p:cNvSpPr/>
            <p:nvPr/>
          </p:nvSpPr>
          <p:spPr>
            <a:xfrm rot="16200000">
              <a:off x="2875320" y="854640"/>
              <a:ext cx="3442680" cy="60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nordri_02"/>
          <p:cNvPicPr/>
          <p:nvPr/>
        </p:nvPicPr>
        <p:blipFill>
          <a:blip r:embed="rId2"/>
          <a:stretch/>
        </p:blipFill>
        <p:spPr>
          <a:xfrm>
            <a:off x="-166680" y="1168560"/>
            <a:ext cx="7553160" cy="285480"/>
          </a:xfrm>
          <a:prstGeom prst="rect">
            <a:avLst/>
          </a:prstGeom>
          <a:ln w="0">
            <a:noFill/>
          </a:ln>
        </p:spPr>
      </p:pic>
      <p:sp>
        <p:nvSpPr>
          <p:cNvPr id="104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79360" y="525600"/>
            <a:ext cx="41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2007-2008  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住院及手术人数对比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6" name="Picture 6" descr="nordri_02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107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8" name="Group 13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109" name="Group 14"/>
            <p:cNvGrpSpPr/>
            <p:nvPr/>
          </p:nvGrpSpPr>
          <p:grpSpPr>
            <a:xfrm>
              <a:off x="246240" y="228600"/>
              <a:ext cx="2072520" cy="2033640"/>
              <a:chOff x="246240" y="228600"/>
              <a:chExt cx="2072520" cy="2033640"/>
            </a:xfrm>
          </p:grpSpPr>
          <p:sp>
            <p:nvSpPr>
              <p:cNvPr id="110" name="Freeform 1276"/>
              <p:cNvSpPr/>
              <p:nvPr/>
            </p:nvSpPr>
            <p:spPr>
              <a:xfrm>
                <a:off x="246240" y="228600"/>
                <a:ext cx="207252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1" name="Freeform 1281"/>
              <p:cNvSpPr/>
              <p:nvPr/>
            </p:nvSpPr>
            <p:spPr>
              <a:xfrm>
                <a:off x="867600" y="1444680"/>
                <a:ext cx="926640" cy="81756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12" name="Freeform 1281"/>
            <p:cNvSpPr/>
            <p:nvPr/>
          </p:nvSpPr>
          <p:spPr>
            <a:xfrm rot="17943600">
              <a:off x="2049840" y="1046880"/>
              <a:ext cx="648000" cy="649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" name="Freeform 1281"/>
            <p:cNvSpPr/>
            <p:nvPr/>
          </p:nvSpPr>
          <p:spPr>
            <a:xfrm rot="14525400">
              <a:off x="2590200" y="1155960"/>
              <a:ext cx="360360" cy="4320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" name="Freeform 1281"/>
            <p:cNvSpPr/>
            <p:nvPr/>
          </p:nvSpPr>
          <p:spPr>
            <a:xfrm rot="15812400">
              <a:off x="3030120" y="1219320"/>
              <a:ext cx="208080" cy="29592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00000" y="2709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753264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帘子" descr="帘子.png"/>
          <p:cNvPicPr/>
          <p:nvPr/>
        </p:nvPicPr>
        <p:blipFill>
          <a:blip r:embed="rId2"/>
          <a:stretch/>
        </p:blipFill>
        <p:spPr>
          <a:xfrm>
            <a:off x="0" y="0"/>
            <a:ext cx="9137520" cy="2876400"/>
          </a:xfrm>
          <a:prstGeom prst="rect">
            <a:avLst/>
          </a:prstGeom>
          <a:ln w="0">
            <a:noFill/>
          </a:ln>
        </p:spPr>
      </p:pic>
      <p:pic>
        <p:nvPicPr>
          <p:cNvPr id="121" name="恭" descr=""/>
          <p:cNvPicPr/>
          <p:nvPr/>
        </p:nvPicPr>
        <p:blipFill>
          <a:blip r:embed="rId3"/>
          <a:stretch/>
        </p:blipFill>
        <p:spPr>
          <a:xfrm>
            <a:off x="-828720" y="2876400"/>
            <a:ext cx="717480" cy="717840"/>
          </a:xfrm>
          <a:prstGeom prst="rect">
            <a:avLst/>
          </a:prstGeom>
          <a:ln w="0">
            <a:noFill/>
          </a:ln>
        </p:spPr>
      </p:pic>
      <p:pic>
        <p:nvPicPr>
          <p:cNvPr id="122" name="新" descr=""/>
          <p:cNvPicPr/>
          <p:nvPr/>
        </p:nvPicPr>
        <p:blipFill>
          <a:blip r:embed="rId4"/>
          <a:stretch/>
        </p:blipFill>
        <p:spPr>
          <a:xfrm>
            <a:off x="9655200" y="2879640"/>
            <a:ext cx="716040" cy="717480"/>
          </a:xfrm>
          <a:prstGeom prst="rect">
            <a:avLst/>
          </a:prstGeom>
          <a:ln w="0">
            <a:noFill/>
          </a:ln>
        </p:spPr>
      </p:pic>
      <p:pic>
        <p:nvPicPr>
          <p:cNvPr id="123" name="禧" descr=""/>
          <p:cNvPicPr/>
          <p:nvPr/>
        </p:nvPicPr>
        <p:blipFill>
          <a:blip r:embed="rId5"/>
          <a:stretch/>
        </p:blipFill>
        <p:spPr>
          <a:xfrm>
            <a:off x="10185480" y="2876400"/>
            <a:ext cx="716040" cy="7178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6"/>
          <p:cNvGrpSpPr/>
          <p:nvPr/>
        </p:nvGrpSpPr>
        <p:grpSpPr>
          <a:xfrm>
            <a:off x="3132000" y="1628640"/>
            <a:ext cx="2215800" cy="2514240"/>
            <a:chOff x="3132000" y="1628640"/>
            <a:chExt cx="2215800" cy="2514240"/>
          </a:xfrm>
        </p:grpSpPr>
        <p:sp>
          <p:nvSpPr>
            <p:cNvPr id="125" name="AutoShape 17"/>
            <p:cNvSpPr/>
            <p:nvPr/>
          </p:nvSpPr>
          <p:spPr>
            <a:xfrm>
              <a:off x="3162960" y="1640880"/>
              <a:ext cx="2184840" cy="24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32000" y="1689840"/>
              <a:ext cx="1089000" cy="149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258800" y="1628640"/>
              <a:ext cx="1082880" cy="69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909600" y="2337480"/>
              <a:ext cx="942120" cy="146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3548160" y="3804480"/>
              <a:ext cx="453600" cy="33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4649760" y="3687480"/>
              <a:ext cx="31284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1" name="组合 53"/>
          <p:cNvGrpSpPr/>
          <p:nvPr/>
        </p:nvGrpSpPr>
        <p:grpSpPr>
          <a:xfrm>
            <a:off x="2843280" y="3645000"/>
            <a:ext cx="600120" cy="609480"/>
            <a:chOff x="2843280" y="3645000"/>
            <a:chExt cx="600120" cy="609480"/>
          </a:xfrm>
        </p:grpSpPr>
        <p:sp>
          <p:nvSpPr>
            <p:cNvPr id="132" name="Freeform 1276"/>
            <p:cNvSpPr/>
            <p:nvPr/>
          </p:nvSpPr>
          <p:spPr>
            <a:xfrm>
              <a:off x="2843280" y="3645000"/>
              <a:ext cx="600120" cy="44820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3" name="Freeform 1281"/>
            <p:cNvSpPr/>
            <p:nvPr/>
          </p:nvSpPr>
          <p:spPr>
            <a:xfrm>
              <a:off x="3044160" y="4017240"/>
              <a:ext cx="268200" cy="23724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xit" presetID="4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 repeatCount="4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3.87283E-006 C 0.00417 -0.01387 0.00781 -0.02751 0.01528 -0.03468 C 0.02257 -0.04231 0.03629 -0.04739 0.04583 -0.04485 C 0.05417 -0.04185 0.06267 -0.02612 0.06806 -0.01849 C 0.07379 -0.01086 0.07222 -0.00323 0.07952 -3.87283E-006 C 0.08681 0.00324 0.10104 0.00625 0.10972 -3.87283E-006 C 0.1184 -0.00624 0.1224 -0.03052 0.13108 -0.03699 C 0.13976 -0.0437 0.15347 -0.0467 0.16285 -0.04023 C 0.1724 -0.03398 0.17795 -0.00555 0.18889 0.00093 C 0.19948 0.00763 0.21771 0.00671 0.22761 -3.87283E-006 C 0.23785 -0.0067 0.24063 -0.03237 0.2507 -0.03907 C 0.26059 -0.04601 0.2783 -0.04809 0.28646 -0.04138 C 0.29462 -0.03445 0.29254 -0.00601 0.29931 0.00208 C 0.30712 0.01041 0.32309 0.0081 0.3309 0.00671 C 0.33889 0.00486 0.34497 -0.0037 0.34809 -0.00763 C 0.35208 -0.01133 0.3533 -0.01387 0.35452 -0.01641 E">
                                      <p:cBhvr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 repeatCount="9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3.69942E-006 C -0.00869 -0.01064 -0.0165 -0.02128 -0.02605 -0.02752 C -0.03559 -0.03399 -0.04879 -0.03977 -0.05747 -0.03815 C -0.06615 -0.037 -0.07327 -0.02706 -0.07813 -0.01966 C -0.08299 -0.01318 -0.0823 -0.00116 -0.08785 0.003 C -0.09306 0.00716 -0.10244 0.01017 -0.1099 0.00439 C -0.11719 -0.00116 -0.12431 -0.02451 -0.13178 -0.03052 C -0.13941 -0.03677 -0.14896 -0.03815 -0.15556 -0.03191 C -0.1625 -0.0259 -0.16494 3.69942000000029E-006 -0.17275 0.00624 C -0.18091 0.01179 -0.19584 0.00901 -0.20469 0.003 C -0.21303 -0.00301 -0.21789 -0.02474 -0.22518 -0.03052 C -0.23282 -0.03607 -0.24132 -0.037 -0.24862 -0.03052 C -0.25625 -0.02451 -0.2599 0.00254 -0.2691 0.00763 C -0.279 0.01364 -0.29549 0.00809 -0.30539 0.00138 C -0.31598 -0.00532 -0.3224 -0.02752 -0.32934 -0.03353 C -0.33646 -0.03977 -0.34289 -0.03677 -0.34844 -0.03515 C -0.35365 -0.03353 -0.35747 -0.03122 -0.36216 -0.02451 C -0.36719 -0.01758 -0.36893 0.00115 -0.37657 0.00624 C -0.38421 0.01109 -0.40053 0.01248 -0.40816 0.00624 C -0.41563 -0.00023 -0.41563 -0.02451 -0.42223 -0.03191 C -0.42882 -0.03954 -0.44132 -0.04047 -0.4474 -0.03815 C -0.454 -0.03538 -0.45834 -0.02266 -0.46164 -0.01526 C -0.46546 -0.0081 -0.46598 0.00046 -0.46962 0.00439 C -0.47379 0.00855 -0.48056 0.01294 -0.48559 0.00901 C -0.49098 0.00555 -0.49723 -0.01272 -0.50053 -0.01688 E">
                                      <p:cBhvr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 repeatCount="9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799 0.00879 C -0.00017 -0.00161 -0.0066 -0.01248 -0.01632 -0.01687 C -0.02552 -0.0215 -0.04045 -0.02404 -0.04913 -0.02127 C -0.05781 -0.01849 -0.06302 -0.00647 -0.0684 0.00024 C -0.07413 0.00648 -0.07604 0.0155 -0.08246 0.0185 C -0.08889 0.02197 -0.10017 0.02544 -0.10816 0.02012 C -0.11701 0.01457 -0.12292 -0.00624 -0.13107 -0.01271 C -0.13906 -0.01896 -0.1493 -0.02127 -0.15729 -0.01988 C -0.16545 -0.01849 -0.17413 -0.01017 -0.18038 -0.00393 C -0.18542 0.00232 -0.18594 0.01295 -0.19062 0.01734 C -0.19479 0.02174 -0.20208 0.02266 -0.20781 0.02266 C -0.21285 0.02336 -0.2191 0.02798 -0.225 0.02151 C -0.23142 0.01503 -0.23715 -0.00832 -0.24427 -0.01549 C -0.25156 -0.02289 -0.26111 -0.02427 -0.26875 -0.02219 C -0.27621 -0.01988 -0.28385 -0.00739 -0.28958 0.00024 C -0.29601 0.00787 -0.29844 0.0185 -0.30573 0.02266 C -0.3118 0.02682 -0.31979 0.03261 -0.32917 0.02544 C -0.33837 0.01989 -0.3526 -0.00416 -0.36076 -0.01271 C -0.36962 -0.02127 -0.37517 -0.02242 -0.38177 -0.02404 C -0.38802 -0.02427 -0.39479 -0.02381 -0.39965 -0.01988 C -0.40417 -0.01549 -0.4059 -0.00624 -0.40972 0.00024 C -0.41354 0.00648 -0.41632 0.0155 -0.42205 0.0185 C -0.42778 0.02197 -0.43715 0.02544 -0.44427 0.02012 C -0.45208 0.01434 -0.45868 -0.00069 -0.46389 -0.01549 E">
                                      <p:cBhvr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8:17:2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41Z</dcterms:modified>
  <cp:revision>2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