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730-145A-4249-9149-C8E3DB47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8BD-A5D1-4C25-AF33-078C2AA8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EA6-A654-4854-8C6F-71590C7D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E54-4555-4FB0-87A4-D2B8EF85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2F8E-2A9F-4B0E-9FD4-11CA6574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F695-696B-423E-A87E-BA8B3F5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BC60-A672-4322-82BC-1CBCEE7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15F1-4361-40AB-A112-EE1E9EEC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CC50-5E06-41BD-8F02-E1945CCD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F879-A3C1-4CA3-B8C7-8D8E08F6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73AC-CD56-40E3-9676-4099223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5EE-7A74-49FC-A76C-2004F0C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4C9D-9E51-43AA-BEF3-6C1AF25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88E2-82F0-4EE3-9165-A2FB3F6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8EF4-57E9-4AE9-BBC2-F91DED6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C9E1-E1A8-427F-8F0B-13BF9638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A9B6-E1E0-4C75-9FE3-024B38DE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B7A-A509-4C22-9F33-1BEC8409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6F5-9588-4C80-8FF5-E091CF3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FEB-EB79-451F-B335-42BFCF8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9E3-FA28-45DB-AAE3-8565838B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C54-09E9-4587-834F-670C7CF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D4D-D4C3-41F1-99FC-D13CDEA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E0E-F0A5-4846-A491-B26BB229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403-5CD4-4574-9BFB-25F69F13F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600"/>
              <a:ext cx="673200" cy="672840"/>
              <a:chOff x="6480" y="5340600"/>
              <a:chExt cx="673200" cy="67284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600"/>
                <a:ext cx="673200" cy="672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52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600"/>
              <a:chOff x="131760" y="6039000"/>
              <a:chExt cx="444600" cy="44460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6200"/>
              <a:ext cx="368280" cy="368280"/>
              <a:chOff x="6480" y="442620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620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720" y="451044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920" y="64915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6000" cy="216000"/>
              <a:chOff x="8693280" y="2521080"/>
              <a:chExt cx="216000" cy="21600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600" y="158760"/>
              <a:ext cx="368280" cy="368280"/>
              <a:chOff x="191160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60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84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3200" cy="673200"/>
              <a:chOff x="6480" y="5340240"/>
              <a:chExt cx="67320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52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600" cy="444600"/>
              <a:chOff x="6151680" y="5734080"/>
              <a:chExt cx="44460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72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3200" cy="673200"/>
              <a:chOff x="5492880" y="615960"/>
              <a:chExt cx="67320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2000" y="920880"/>
              <a:ext cx="368280" cy="368280"/>
              <a:chOff x="511200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200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6240" y="10051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92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6000" cy="215640"/>
              <a:chOff x="8693280" y="2521080"/>
              <a:chExt cx="21600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48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800" y="1225440"/>
              <a:ext cx="520560" cy="520560"/>
              <a:chOff x="1225800" y="1225440"/>
              <a:chExt cx="52056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800" y="122544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28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23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3DCC-731B-4E22-900A-9BFE43D8A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求职简历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63640" y="4076280"/>
            <a:ext cx="4424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姓        名：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专        业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学校：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目标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69320" y="549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水晶泡泡背景个人简历幻灯片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3880" y="843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基本信息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9880" y="843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教育背景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65160" y="1058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专业技能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5160" y="1058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自我评价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66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18D-6D46-4543-84C2-60ADBF53D158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522240" y="2852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致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3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