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3D1-14F0-450F-A503-FB96978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5776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5F5-E174-4E29-A650-5391242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28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8C7-7EC8-467E-A1C2-42F245BD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3040" y="99072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6240" y="99072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57768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3040" y="357768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6240" y="357768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0B7-5D4A-45B7-8520-0BF2FC09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5F13-3E9A-4597-934B-B46A9CB3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D8E4-4114-480F-BEB7-C178E12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061D-DF84-414C-8401-C02B05FD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85C7-7032-4261-8FCD-6934BA4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31F-D655-48CF-8ACF-1F5BEE50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8145720"/>
            <a:ext cx="1218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2DA-8927-4661-BFF4-AC46ECB0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B295-5B38-4E4F-B525-D3DFBF6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66A-BDF7-4033-A748-0531358A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528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CD30-9BFF-4B96-B9A3-C476A28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5776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543C-CD51-41AC-924B-2B392D7F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5776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1EB6-19A4-4538-9E61-C9347A8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528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721B-2092-4431-AD99-228F9CFB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3040" y="99072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6240" y="99072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57768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3040" y="357768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6240" y="3577680"/>
            <a:ext cx="218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5946-E64C-410F-8DD9-181B6F7A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5BC-CA4F-48C5-8627-E75984A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F56-FD71-459B-8DF4-2CC22E6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D94-AC1F-4A8E-B05A-CD45957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8145720"/>
            <a:ext cx="1218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208-44C4-446B-B068-53DDCCED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598-A7EF-455E-8D28-4F1B7F0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280" y="357768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721-2684-49C8-A2F8-B979992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990720"/>
            <a:ext cx="3309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5776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B7F-6D05-4BED-9777-BF9F6DC1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09A6-A541-4086-B92F-81698EB7E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3920" y="36572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A845-53E9-457F-90EE-DE9C6E5D1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gif"/><Relationship Id="rId5" Type="http://schemas.openxmlformats.org/officeDocument/2006/relationships/image" Target="../media/image7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23920" y="36572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lossal Buc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23920" y="44953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0600" y="12193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射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Your Subtopics Go He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00760" y="4699080"/>
            <a:ext cx="19623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274680"/>
            <a:ext cx="12189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91520" y="3657600"/>
            <a:ext cx="15238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5120" y="1981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F15-8E5C-4DE3-9189-A9979209D8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943280"/>
            <a:ext cx="25905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920" y="1943280"/>
            <a:ext cx="25905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76720" y="1943280"/>
            <a:ext cx="2590560" cy="194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971800" y="4435560"/>
            <a:ext cx="3124080" cy="234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30920" y="3962520"/>
            <a:ext cx="1650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16:3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2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