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CF268-358D-4084-9E60-9A28F724BF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3434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240" y="5715000"/>
            <a:ext cx="6248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240" y="5993640"/>
            <a:ext cx="6248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C05E3-8757-47F0-8F3E-462E0C9B55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3434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240" y="5715000"/>
            <a:ext cx="3049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5715000"/>
            <a:ext cx="3049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240" y="5993640"/>
            <a:ext cx="3049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5993640"/>
            <a:ext cx="3049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9F5A6-E153-48F4-BBBE-A6F1A88546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3434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5715000"/>
            <a:ext cx="201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3720" y="5715000"/>
            <a:ext cx="201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96560" y="5715000"/>
            <a:ext cx="201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240" y="5993640"/>
            <a:ext cx="201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3720" y="5993640"/>
            <a:ext cx="201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96560" y="5993640"/>
            <a:ext cx="201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27085-F58F-4A5B-BDDF-C9E29E8BCE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43434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571500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3434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571500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3434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5715000"/>
            <a:ext cx="3049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5715000"/>
            <a:ext cx="3049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3434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434340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3434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5715000"/>
            <a:ext cx="3049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5715000"/>
            <a:ext cx="3049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5993640"/>
            <a:ext cx="3049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3434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240" y="571500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D24C3-E58B-49C6-98AB-FC894D0824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43434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5715000"/>
            <a:ext cx="3049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5715000"/>
            <a:ext cx="3049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5993640"/>
            <a:ext cx="3049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43434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5715000"/>
            <a:ext cx="3049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5715000"/>
            <a:ext cx="3049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5993640"/>
            <a:ext cx="6248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43434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5715000"/>
            <a:ext cx="6248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5993640"/>
            <a:ext cx="6248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3434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5715000"/>
            <a:ext cx="3049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5715000"/>
            <a:ext cx="3049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5993640"/>
            <a:ext cx="3049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5993640"/>
            <a:ext cx="3049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43434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5715000"/>
            <a:ext cx="201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83720" y="5715000"/>
            <a:ext cx="201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96560" y="5715000"/>
            <a:ext cx="201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5993640"/>
            <a:ext cx="201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83720" y="5993640"/>
            <a:ext cx="201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96560" y="5993640"/>
            <a:ext cx="201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3434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240" y="571500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EC27E-F61E-4123-BFC0-99BA6584D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3434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240" y="5715000"/>
            <a:ext cx="3049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5715000"/>
            <a:ext cx="3049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27C90-7B83-4E04-B03D-3F382B24C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3434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BAEBD-BBBE-4D4B-9A6E-662F99C6A4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34340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D6C08-57EC-405E-93BD-EA8D6D0E8F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3434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5715000"/>
            <a:ext cx="3049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5715000"/>
            <a:ext cx="3049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240" y="5993640"/>
            <a:ext cx="3049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AFA40-B857-4545-9F03-CCA9E9C29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3434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240" y="5715000"/>
            <a:ext cx="3049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5715000"/>
            <a:ext cx="3049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5993640"/>
            <a:ext cx="3049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8A31D-C704-4ECC-A2B6-F946B68858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3434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240" y="5715000"/>
            <a:ext cx="3049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5715000"/>
            <a:ext cx="3049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240" y="5993640"/>
            <a:ext cx="6248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CB94C-8522-4B81-9A5B-E085650B27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35205" r="0" b="14934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1593-3B41-4701-9173-79E84F9C78A3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</a:t>
            </a:r>
            <a:r>
              <a:rPr b="1" lang="en-US" sz="1000" spc="-1" strike="noStrike">
                <a:solidFill>
                  <a:srgbClr val="1d528d"/>
                </a:solidFill>
                <a:latin typeface="Times New Roman"/>
              </a:rPr>
              <a:t>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611760"/>
            <a:ext cx="9144000" cy="260640"/>
          </a:xfrm>
          <a:prstGeom prst="rect">
            <a:avLst/>
          </a:pr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43434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307440" y="289080"/>
            <a:ext cx="1102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1d528d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4343040"/>
            <a:ext cx="86313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Verdana"/>
              </a:rPr>
              <a:t>深绿色医疗</a:t>
            </a:r>
            <a:r>
              <a:rPr b="1" lang="zh-CN" sz="4000" spc="-1" strike="noStrike">
                <a:solidFill>
                  <a:srgbClr val="ffffcc"/>
                </a:solidFill>
                <a:latin typeface="Verdana"/>
                <a:ea typeface="宋体"/>
              </a:rPr>
              <a:t>幻灯片下载</a:t>
            </a: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227640" y="5300640"/>
            <a:ext cx="1152720" cy="1117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6320" y="6248520"/>
            <a:ext cx="5078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1d528d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1d528d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240" y="571500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59" name="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808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808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50000">
                  <a:srgbClr val="008080"/>
                </a:gs>
                <a:gs pos="100000">
                  <a:srgbClr val="00454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008080">
                    <a:alpha val="0"/>
                  </a:srgbClr>
                </a:gs>
                <a:gs pos="100000">
                  <a:srgbClr val="0051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6969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6969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505050"/>
                </a:gs>
                <a:gs pos="50000">
                  <a:srgbClr val="969696"/>
                </a:gs>
                <a:gs pos="100000">
                  <a:srgbClr val="5050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0"/>
                  </a:srgbClr>
                </a:gs>
                <a:gs pos="100000">
                  <a:srgbClr val="5e5e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75" name="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99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465e"/>
                </a:gs>
                <a:gs pos="100000">
                  <a:srgbClr val="0099c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00526d"/>
                </a:gs>
                <a:gs pos="50000">
                  <a:srgbClr val="0099cc"/>
                </a:gs>
                <a:gs pos="100000">
                  <a:srgbClr val="0052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0099cc">
                    <a:alpha val="0"/>
                  </a:srgbClr>
                </a:gs>
                <a:gs pos="100000">
                  <a:srgbClr val="006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285" name="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290" name="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1371600" y="1143000"/>
            <a:ext cx="5715000" cy="5330880"/>
            <a:chOff x="1371600" y="1143000"/>
            <a:chExt cx="5715000" cy="5330880"/>
          </a:xfrm>
        </p:grpSpPr>
        <p:sp>
          <p:nvSpPr>
            <p:cNvPr id="298" name=""/>
            <p:cNvSpPr/>
            <p:nvPr/>
          </p:nvSpPr>
          <p:spPr>
            <a:xfrm rot="13770000">
              <a:off x="4707000" y="3730320"/>
              <a:ext cx="1015920" cy="1965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6d6d6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20856000">
              <a:off x="2679480" y="3247560"/>
              <a:ext cx="1036440" cy="1825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8d8d8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8394200">
              <a:off x="4842000" y="2091960"/>
              <a:ext cx="631800" cy="1364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3643200" y="2125800"/>
              <a:ext cx="1652760" cy="1684080"/>
              <a:chOff x="3643200" y="2125800"/>
              <a:chExt cx="1652760" cy="168408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3643200" y="2125800"/>
                <a:ext cx="1652760" cy="1684080"/>
                <a:chOff x="3643200" y="2125800"/>
                <a:chExt cx="1652760" cy="168408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3643200" y="2125800"/>
                  <a:ext cx="165276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831840" y="2153520"/>
                  <a:ext cx="127512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>
                <a:off x="3750120" y="28580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089680" y="1143000"/>
              <a:ext cx="925200" cy="912960"/>
              <a:chOff x="5089680" y="1143000"/>
              <a:chExt cx="925200" cy="91296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5089680" y="1143000"/>
                <a:ext cx="894600" cy="912960"/>
                <a:chOff x="5089680" y="1143000"/>
                <a:chExt cx="894600" cy="91296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5089680" y="1143000"/>
                  <a:ext cx="894600" cy="91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25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191920" y="1158120"/>
                  <a:ext cx="690120" cy="34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5105520" y="149364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1371600" y="2476440"/>
              <a:ext cx="1790640" cy="1895400"/>
              <a:chOff x="1371600" y="2476440"/>
              <a:chExt cx="1790640" cy="1895400"/>
            </a:xfrm>
          </p:grpSpPr>
          <p:grpSp>
            <p:nvGrpSpPr>
              <p:cNvPr id="312" name=""/>
              <p:cNvGrpSpPr/>
              <p:nvPr/>
            </p:nvGrpSpPr>
            <p:grpSpPr>
              <a:xfrm>
                <a:off x="1371600" y="2476440"/>
                <a:ext cx="1790640" cy="1895400"/>
                <a:chOff x="1371600" y="2476440"/>
                <a:chExt cx="1790640" cy="18954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1371600" y="2476440"/>
                  <a:ext cx="1790640" cy="18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3300"/>
                    </a:gs>
                    <a:gs pos="100000">
                      <a:srgbClr val="602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576080" y="2507760"/>
                  <a:ext cx="1381320" cy="715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" name=""/>
              <p:cNvSpPr/>
              <p:nvPr/>
            </p:nvSpPr>
            <p:spPr>
              <a:xfrm>
                <a:off x="1487880" y="33188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5021280" y="3879720"/>
              <a:ext cx="2065320" cy="2105280"/>
              <a:chOff x="5021280" y="3879720"/>
              <a:chExt cx="2065320" cy="210528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5021280" y="3879720"/>
                <a:ext cx="2065320" cy="2105280"/>
                <a:chOff x="5021280" y="3879720"/>
                <a:chExt cx="2065320" cy="21052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021280" y="3879720"/>
                  <a:ext cx="206532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41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257080" y="391464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5336280" y="47919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1577880" y="4441680"/>
              <a:ext cx="145440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781440" y="3813120"/>
              <a:ext cx="145584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65800" y="598500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27560" y="2125800"/>
              <a:ext cx="666720" cy="244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28" name="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c9b82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c9b82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c9b82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cc9b82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c9b82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c9b82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808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3988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808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50000">
                  <a:srgbClr val="008080"/>
                </a:gs>
                <a:gs pos="100000">
                  <a:srgbClr val="00454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668400" y="29718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008080">
                    <a:alpha val="0"/>
                  </a:srgbClr>
                </a:gs>
                <a:gs pos="100000">
                  <a:srgbClr val="0051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53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60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7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5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9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394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405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06" name="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762120" y="2685960"/>
              <a:ext cx="1931760" cy="3265200"/>
              <a:chOff x="762120" y="2685960"/>
              <a:chExt cx="1931760" cy="3265200"/>
            </a:xfrm>
          </p:grpSpPr>
          <p:grpSp>
            <p:nvGrpSpPr>
              <p:cNvPr id="409" name=""/>
              <p:cNvGrpSpPr/>
              <p:nvPr/>
            </p:nvGrpSpPr>
            <p:grpSpPr>
              <a:xfrm>
                <a:off x="1167840" y="3526560"/>
                <a:ext cx="1526040" cy="2424600"/>
                <a:chOff x="1167840" y="3526560"/>
                <a:chExt cx="1526040" cy="2424600"/>
              </a:xfrm>
            </p:grpSpPr>
            <p:grpSp>
              <p:nvGrpSpPr>
                <p:cNvPr id="410" name=""/>
                <p:cNvGrpSpPr/>
                <p:nvPr/>
              </p:nvGrpSpPr>
              <p:grpSpPr>
                <a:xfrm>
                  <a:off x="1167840" y="3684240"/>
                  <a:ext cx="1420200" cy="2266920"/>
                  <a:chOff x="1167840" y="3684240"/>
                  <a:chExt cx="1420200" cy="226692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rot="3876600">
                    <a:off x="7401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1604160" y="3526560"/>
                  <a:ext cx="1089720" cy="1739520"/>
                  <a:chOff x="1604160" y="3526560"/>
                  <a:chExt cx="1089720" cy="173952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 flipV="1" rot="3876600">
                    <a:off x="127548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V="1" rot="3876600">
                    <a:off x="230940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6" name="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84600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84600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90072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22" name=""/>
                <p:cNvGrpSpPr/>
                <p:nvPr/>
              </p:nvGrpSpPr>
              <p:grpSpPr>
                <a:xfrm>
                  <a:off x="915840" y="2844360"/>
                  <a:ext cx="962280" cy="992880"/>
                  <a:chOff x="915840" y="2844360"/>
                  <a:chExt cx="962280" cy="99288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>
                    <a:off x="91584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92808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93780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99036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7" name="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3925800">
                <a:off x="159048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430" name=""/>
              <p:cNvGrpSpPr/>
              <p:nvPr/>
            </p:nvGrpSpPr>
            <p:grpSpPr>
              <a:xfrm>
                <a:off x="2914200" y="3526560"/>
                <a:ext cx="1526400" cy="2424600"/>
                <a:chOff x="2914200" y="3526560"/>
                <a:chExt cx="1526400" cy="2424600"/>
              </a:xfrm>
            </p:grpSpPr>
            <p:grpSp>
              <p:nvGrpSpPr>
                <p:cNvPr id="431" name=""/>
                <p:cNvGrpSpPr/>
                <p:nvPr/>
              </p:nvGrpSpPr>
              <p:grpSpPr>
                <a:xfrm>
                  <a:off x="2914200" y="3684240"/>
                  <a:ext cx="1420200" cy="2266920"/>
                  <a:chOff x="2914200" y="3684240"/>
                  <a:chExt cx="1420200" cy="226692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rot="3876600">
                    <a:off x="2486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rot="3876600">
                    <a:off x="3853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V="1" rot="3876600">
                    <a:off x="4056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7" name="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593800" y="277092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2593800" y="277380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2648520" y="2828880"/>
                  <a:ext cx="99252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43" name=""/>
                <p:cNvGrpSpPr/>
                <p:nvPr/>
              </p:nvGrpSpPr>
              <p:grpSpPr>
                <a:xfrm>
                  <a:off x="2663640" y="2844360"/>
                  <a:ext cx="961920" cy="992880"/>
                  <a:chOff x="2663640" y="2844360"/>
                  <a:chExt cx="961920" cy="99288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2663640" y="2844360"/>
                    <a:ext cx="9619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675880" y="2849760"/>
                    <a:ext cx="9388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2685600" y="2859120"/>
                    <a:ext cx="89280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2738160" y="288468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8" name="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3925800">
                <a:off x="33321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4313160" y="2685960"/>
              <a:ext cx="1931760" cy="3265200"/>
              <a:chOff x="4313160" y="2685960"/>
              <a:chExt cx="1931760" cy="3265200"/>
            </a:xfrm>
          </p:grpSpPr>
          <p:grpSp>
            <p:nvGrpSpPr>
              <p:cNvPr id="451" name=""/>
              <p:cNvGrpSpPr/>
              <p:nvPr/>
            </p:nvGrpSpPr>
            <p:grpSpPr>
              <a:xfrm>
                <a:off x="4718880" y="3526560"/>
                <a:ext cx="1526040" cy="2424600"/>
                <a:chOff x="4718880" y="3526560"/>
                <a:chExt cx="1526040" cy="2424600"/>
              </a:xfrm>
            </p:grpSpPr>
            <p:grpSp>
              <p:nvGrpSpPr>
                <p:cNvPr id="452" name=""/>
                <p:cNvGrpSpPr/>
                <p:nvPr/>
              </p:nvGrpSpPr>
              <p:grpSpPr>
                <a:xfrm>
                  <a:off x="4718880" y="3684240"/>
                  <a:ext cx="1420200" cy="2266920"/>
                  <a:chOff x="4718880" y="3684240"/>
                  <a:chExt cx="1420200" cy="226692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rot="3876600">
                    <a:off x="429120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rot="3876600">
                    <a:off x="565848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5155200" y="3526560"/>
                  <a:ext cx="1089720" cy="1739520"/>
                  <a:chOff x="5155200" y="3526560"/>
                  <a:chExt cx="1089720" cy="173952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flipV="1" rot="3876600">
                    <a:off x="482652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8" name="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64" name="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9" name="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3925800">
                <a:off x="5145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472" name="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473" name="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9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19308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256440" y="271296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290280" y="273852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9" name="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492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1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2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3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2004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cxnSp>
            <p:nvCxnSpPr>
              <p:cNvPr id="496" name=""/>
              <p:cNvCxnSpPr>
                <a:stCxn id="492" idx="3"/>
                <a:endCxn id="493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7" name=""/>
              <p:cNvCxnSpPr>
                <a:stCxn id="493" idx="3"/>
                <a:endCxn id="494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8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499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8080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02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504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6a8d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e2"/>
                  </a:gs>
                  <a:gs pos="50000">
                    <a:srgbClr val="0099cc">
                      <a:alpha val="0"/>
                    </a:srgbClr>
                  </a:gs>
                  <a:gs pos="100000">
                    <a:srgbClr val="73c6e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09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11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45a2a2"/>
                  </a:gs>
                  <a:gs pos="100000">
                    <a:srgbClr val="00808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>
                      <a:alpha val="0"/>
                    </a:srgbClr>
                  </a:gs>
                  <a:gs pos="100000">
                    <a:srgbClr val="92c8c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16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18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bbbbb"/>
                  </a:gs>
                  <a:gs pos="100000">
                    <a:srgbClr val="969696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>
                      <a:alpha val="0"/>
                    </a:srgbClr>
                  </a:gs>
                  <a:gs pos="100000">
                    <a:srgbClr val="cbcbc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28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3b3b"/>
                </a:gs>
              </a:gsLst>
              <a:lin ang="198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30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36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3b3b"/>
                </a:gs>
              </a:gsLst>
              <a:lin ang="198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42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1066680" y="2209680"/>
          <a:ext cx="7467480" cy="319896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>
                      <a:noFill/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0099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0099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604080" y="504360"/>
            <a:ext cx="7379640" cy="5581800"/>
            <a:chOff x="604080" y="504360"/>
            <a:chExt cx="7379640" cy="5581800"/>
          </a:xfrm>
        </p:grpSpPr>
        <p:sp>
          <p:nvSpPr>
            <p:cNvPr id="559" name=""/>
            <p:cNvSpPr/>
            <p:nvPr/>
          </p:nvSpPr>
          <p:spPr>
            <a:xfrm>
              <a:off x="214164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cfcfc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565656"/>
                </a:gs>
                <a:gs pos="50000">
                  <a:srgbClr val="dddddd"/>
                </a:gs>
                <a:gs pos="100000">
                  <a:srgbClr val="565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20601600">
              <a:off x="1388880" y="20016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54a9a9"/>
                </a:gs>
                <a:gs pos="100000">
                  <a:srgbClr val="008080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 rot="20602200">
              <a:off x="1437840" y="20012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005c7b"/>
                </a:gs>
                <a:gs pos="100000">
                  <a:srgbClr val="0099cc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20601600">
              <a:off x="1395720" y="20138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306069"/>
                </a:gs>
                <a:gs pos="100000">
                  <a:srgbClr val="5cb8ca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 rot="20602200">
              <a:off x="1405800" y="19944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531b00"/>
                </a:gs>
                <a:gs pos="100000">
                  <a:srgbClr val="99330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604080" y="504360"/>
              <a:ext cx="7379640" cy="5581800"/>
              <a:chOff x="604080" y="504360"/>
              <a:chExt cx="7379640" cy="5581800"/>
            </a:xfrm>
          </p:grpSpPr>
          <p:sp>
            <p:nvSpPr>
              <p:cNvPr id="571" name=""/>
              <p:cNvSpPr/>
              <p:nvPr/>
            </p:nvSpPr>
            <p:spPr>
              <a:xfrm>
                <a:off x="544824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5a5a5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20539200">
                <a:off x="1022400" y="140832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969696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58280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96969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1d528d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914400" y="1447920"/>
            <a:ext cx="7391160" cy="4724280"/>
            <a:chOff x="914400" y="1447920"/>
            <a:chExt cx="7391160" cy="4724280"/>
          </a:xfrm>
        </p:grpSpPr>
        <p:sp>
          <p:nvSpPr>
            <p:cNvPr id="580" name=""/>
            <p:cNvSpPr/>
            <p:nvPr/>
          </p:nvSpPr>
          <p:spPr>
            <a:xfrm>
              <a:off x="1905120" y="2210040"/>
              <a:ext cx="553068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438280" y="14479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4d4d"/>
                </a:gs>
                <a:gs pos="50000">
                  <a:srgbClr val="008080"/>
                </a:gs>
                <a:gs pos="100000">
                  <a:srgbClr val="004d4d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55880" y="28195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914400" y="4083120"/>
              <a:ext cx="1486080" cy="1989000"/>
              <a:chOff x="914400" y="4083120"/>
              <a:chExt cx="1486080" cy="1989000"/>
            </a:xfrm>
          </p:grpSpPr>
          <p:grpSp>
            <p:nvGrpSpPr>
              <p:cNvPr id="584" name=""/>
              <p:cNvGrpSpPr/>
              <p:nvPr/>
            </p:nvGrpSpPr>
            <p:grpSpPr>
              <a:xfrm>
                <a:off x="914400" y="4083120"/>
                <a:ext cx="1486080" cy="1514520"/>
                <a:chOff x="914400" y="4083120"/>
                <a:chExt cx="1486080" cy="1514520"/>
              </a:xfrm>
            </p:grpSpPr>
            <p:grpSp>
              <p:nvGrpSpPr>
                <p:cNvPr id="585" name=""/>
                <p:cNvGrpSpPr/>
                <p:nvPr/>
              </p:nvGrpSpPr>
              <p:grpSpPr>
                <a:xfrm>
                  <a:off x="914400" y="4083120"/>
                  <a:ext cx="1486080" cy="1514520"/>
                  <a:chOff x="914400" y="4083120"/>
                  <a:chExt cx="1486080" cy="1514520"/>
                </a:xfrm>
              </p:grpSpPr>
              <p:sp>
                <p:nvSpPr>
                  <p:cNvPr id="586" name=""/>
                  <p:cNvSpPr/>
                  <p:nvPr/>
                </p:nvSpPr>
                <p:spPr>
                  <a:xfrm>
                    <a:off x="914400" y="408312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3300"/>
                      </a:gs>
                      <a:gs pos="100000">
                        <a:srgbClr val="602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1084320" y="410796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33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8" name=""/>
                <p:cNvSpPr/>
                <p:nvPr/>
              </p:nvSpPr>
              <p:spPr>
                <a:xfrm>
                  <a:off x="1072440" y="48542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9" name=""/>
              <p:cNvSpPr/>
              <p:nvPr/>
            </p:nvSpPr>
            <p:spPr>
              <a:xfrm>
                <a:off x="1066680" y="5683320"/>
                <a:ext cx="1206720" cy="3888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6781680" y="4038840"/>
              <a:ext cx="1523880" cy="2066760"/>
              <a:chOff x="6781680" y="4038840"/>
              <a:chExt cx="1523880" cy="2066760"/>
            </a:xfrm>
          </p:grpSpPr>
          <p:grpSp>
            <p:nvGrpSpPr>
              <p:cNvPr id="591" name=""/>
              <p:cNvGrpSpPr/>
              <p:nvPr/>
            </p:nvGrpSpPr>
            <p:grpSpPr>
              <a:xfrm>
                <a:off x="6781680" y="4038840"/>
                <a:ext cx="1523880" cy="1531800"/>
                <a:chOff x="6781680" y="4038840"/>
                <a:chExt cx="1523880" cy="1531800"/>
              </a:xfrm>
            </p:grpSpPr>
            <p:grpSp>
              <p:nvGrpSpPr>
                <p:cNvPr id="592" name=""/>
                <p:cNvGrpSpPr/>
                <p:nvPr/>
              </p:nvGrpSpPr>
              <p:grpSpPr>
                <a:xfrm>
                  <a:off x="6781680" y="4038840"/>
                  <a:ext cx="1523880" cy="1531800"/>
                  <a:chOff x="6781680" y="4038840"/>
                  <a:chExt cx="1523880" cy="1531800"/>
                </a:xfrm>
              </p:grpSpPr>
              <p:sp>
                <p:nvSpPr>
                  <p:cNvPr id="593" name=""/>
                  <p:cNvSpPr/>
                  <p:nvPr/>
                </p:nvSpPr>
                <p:spPr>
                  <a:xfrm>
                    <a:off x="6781680" y="4038840"/>
                    <a:ext cx="152388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69696"/>
                      </a:gs>
                      <a:gs pos="100000">
                        <a:srgbClr val="24242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6955920" y="4064040"/>
                    <a:ext cx="117540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6969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5" name=""/>
                <p:cNvSpPr/>
                <p:nvPr/>
              </p:nvSpPr>
              <p:spPr>
                <a:xfrm>
                  <a:off x="6924600" y="47527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6" name=""/>
              <p:cNvSpPr/>
              <p:nvPr/>
            </p:nvSpPr>
            <p:spPr>
              <a:xfrm>
                <a:off x="6824520" y="5618520"/>
                <a:ext cx="1455840" cy="4870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2819520" y="4083120"/>
              <a:ext cx="1523880" cy="2089080"/>
              <a:chOff x="2819520" y="4083120"/>
              <a:chExt cx="1523880" cy="2089080"/>
            </a:xfrm>
          </p:grpSpPr>
          <p:grpSp>
            <p:nvGrpSpPr>
              <p:cNvPr id="598" name=""/>
              <p:cNvGrpSpPr/>
              <p:nvPr/>
            </p:nvGrpSpPr>
            <p:grpSpPr>
              <a:xfrm>
                <a:off x="2819520" y="4083120"/>
                <a:ext cx="1523880" cy="1521000"/>
                <a:chOff x="2819520" y="4083120"/>
                <a:chExt cx="1523880" cy="152100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2819520" y="408312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41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2993760" y="410832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" name=""/>
              <p:cNvSpPr/>
              <p:nvPr/>
            </p:nvSpPr>
            <p:spPr>
              <a:xfrm>
                <a:off x="2895840" y="4813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819520" y="568332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4876920" y="4038840"/>
              <a:ext cx="1523880" cy="2089080"/>
              <a:chOff x="4876920" y="4038840"/>
              <a:chExt cx="1523880" cy="2089080"/>
            </a:xfrm>
          </p:grpSpPr>
          <p:grpSp>
            <p:nvGrpSpPr>
              <p:cNvPr id="604" name=""/>
              <p:cNvGrpSpPr/>
              <p:nvPr/>
            </p:nvGrpSpPr>
            <p:grpSpPr>
              <a:xfrm>
                <a:off x="4876920" y="4038840"/>
                <a:ext cx="1523880" cy="1521000"/>
                <a:chOff x="4876920" y="4038840"/>
                <a:chExt cx="1523880" cy="1521000"/>
              </a:xfrm>
            </p:grpSpPr>
            <p:grpSp>
              <p:nvGrpSpPr>
                <p:cNvPr id="605" name=""/>
                <p:cNvGrpSpPr/>
                <p:nvPr/>
              </p:nvGrpSpPr>
              <p:grpSpPr>
                <a:xfrm>
                  <a:off x="4876920" y="4038840"/>
                  <a:ext cx="1523880" cy="1521000"/>
                  <a:chOff x="4876920" y="4038840"/>
                  <a:chExt cx="1523880" cy="152100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>
                    <a:off x="4876920" y="4038840"/>
                    <a:ext cx="152388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99cc"/>
                      </a:gs>
                      <a:gs pos="100000">
                        <a:srgbClr val="004e6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5051160" y="4064040"/>
                    <a:ext cx="1175400" cy="57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0099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8" name=""/>
                <p:cNvSpPr/>
                <p:nvPr/>
              </p:nvSpPr>
              <p:spPr>
                <a:xfrm>
                  <a:off x="4953240" y="4768920"/>
                  <a:ext cx="137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9" name=""/>
              <p:cNvSpPr/>
              <p:nvPr/>
            </p:nvSpPr>
            <p:spPr>
              <a:xfrm>
                <a:off x="4876920" y="563904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981080" y="2176560"/>
            <a:ext cx="5410080" cy="664920"/>
            <a:chOff x="1981080" y="2176560"/>
            <a:chExt cx="5410080" cy="664920"/>
          </a:xfrm>
        </p:grpSpPr>
        <p:grpSp>
          <p:nvGrpSpPr>
            <p:cNvPr id="88" name=""/>
            <p:cNvGrpSpPr/>
            <p:nvPr/>
          </p:nvGrpSpPr>
          <p:grpSpPr>
            <a:xfrm>
              <a:off x="1981080" y="2176560"/>
              <a:ext cx="762120" cy="664920"/>
              <a:chOff x="1981080" y="2176560"/>
              <a:chExt cx="762120" cy="664920"/>
            </a:xfrm>
          </p:grpSpPr>
          <p:sp>
            <p:nvSpPr>
              <p:cNvPr id="89" name=""/>
              <p:cNvSpPr/>
              <p:nvPr/>
            </p:nvSpPr>
            <p:spPr>
              <a:xfrm>
                <a:off x="1987200" y="21877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981080" y="21765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025360" y="22158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3b3b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2590560" y="278568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84520" y="22525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79800" y="227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981080" y="3090960"/>
            <a:ext cx="5410080" cy="664920"/>
            <a:chOff x="1981080" y="3090960"/>
            <a:chExt cx="5410080" cy="664920"/>
          </a:xfrm>
        </p:grpSpPr>
        <p:grpSp>
          <p:nvGrpSpPr>
            <p:cNvPr id="96" name=""/>
            <p:cNvGrpSpPr/>
            <p:nvPr/>
          </p:nvGrpSpPr>
          <p:grpSpPr>
            <a:xfrm>
              <a:off x="1981080" y="3090960"/>
              <a:ext cx="762120" cy="664920"/>
              <a:chOff x="1981080" y="3090960"/>
              <a:chExt cx="762120" cy="664920"/>
            </a:xfrm>
          </p:grpSpPr>
          <p:sp>
            <p:nvSpPr>
              <p:cNvPr id="97" name=""/>
              <p:cNvSpPr/>
              <p:nvPr/>
            </p:nvSpPr>
            <p:spPr>
              <a:xfrm>
                <a:off x="1987200" y="31021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81080" y="30909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25360" y="31302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2590560" y="370008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84520" y="3166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79800" y="3188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981080" y="3983040"/>
            <a:ext cx="5410080" cy="665280"/>
            <a:chOff x="1981080" y="3983040"/>
            <a:chExt cx="5410080" cy="665280"/>
          </a:xfrm>
        </p:grpSpPr>
        <p:grpSp>
          <p:nvGrpSpPr>
            <p:cNvPr id="104" name=""/>
            <p:cNvGrpSpPr/>
            <p:nvPr/>
          </p:nvGrpSpPr>
          <p:grpSpPr>
            <a:xfrm>
              <a:off x="1981080" y="3983040"/>
              <a:ext cx="762120" cy="665280"/>
              <a:chOff x="1981080" y="3983040"/>
              <a:chExt cx="762120" cy="665280"/>
            </a:xfrm>
          </p:grpSpPr>
          <p:sp>
            <p:nvSpPr>
              <p:cNvPr id="105" name=""/>
              <p:cNvSpPr/>
              <p:nvPr/>
            </p:nvSpPr>
            <p:spPr>
              <a:xfrm>
                <a:off x="1987200" y="3994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981080" y="3983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025360" y="40222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3b3b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2590560" y="45925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84520" y="40593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79800" y="4081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81080" y="4897440"/>
            <a:ext cx="5410080" cy="665280"/>
            <a:chOff x="1981080" y="4897440"/>
            <a:chExt cx="5410080" cy="665280"/>
          </a:xfrm>
        </p:grpSpPr>
        <p:grpSp>
          <p:nvGrpSpPr>
            <p:cNvPr id="112" name=""/>
            <p:cNvGrpSpPr/>
            <p:nvPr/>
          </p:nvGrpSpPr>
          <p:grpSpPr>
            <a:xfrm>
              <a:off x="1981080" y="4897440"/>
              <a:ext cx="762120" cy="665280"/>
              <a:chOff x="1981080" y="4897440"/>
              <a:chExt cx="762120" cy="665280"/>
            </a:xfrm>
          </p:grpSpPr>
          <p:sp>
            <p:nvSpPr>
              <p:cNvPr id="113" name=""/>
              <p:cNvSpPr/>
              <p:nvPr/>
            </p:nvSpPr>
            <p:spPr>
              <a:xfrm>
                <a:off x="1987200" y="49086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981080" y="4897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25360" y="49366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2590560" y="55069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84520" y="49737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79800" y="4995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808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d528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EBA74-4871-4A0F-A1E6-78E9BE5650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2286000" y="3200400"/>
            <a:ext cx="4952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99cc"/>
                    </a:gs>
                    <a:gs pos="100000">
                      <a:srgbClr val="008080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99cc"/>
                  </a:gs>
                  <a:gs pos="100000">
                    <a:srgbClr val="008080"/>
                  </a:gs>
                </a:gsLst>
                <a:lin ang="108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1371240" y="571500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How do I incorporate my logo to a slide that will apply to all the other slides?</a:t>
            </a:r>
            <a:r>
              <a:rPr b="1" lang="en-US" sz="36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1066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8080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24" name="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d7c5c"/>
              </a:gs>
              <a:gs pos="100000">
                <a:srgbClr val="99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28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3e"/>
                    </a:gs>
                    <a:gs pos="100000">
                      <a:srgbClr val="00808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8dc5c5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a5daec"/>
                  </a:gs>
                  <a:gs pos="100000">
                    <a:srgbClr val="0099cc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0099cc">
                      <a:alpha val="48235"/>
                    </a:srgbClr>
                  </a:gs>
                  <a:gs pos="100000">
                    <a:srgbClr val="0078a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0099cc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38" name="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dd5d5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43" name="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2c2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2f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361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528d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156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1d528d"/>
              </a:solidFill>
              <a:miter/>
            </a:ln>
          </p:spPr>
        </p:cxnSp>
        <p:sp>
          <p:nvSpPr>
            <p:cNvPr id="157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8080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61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003b3b"/>
                </a:gs>
                <a:gs pos="50000">
                  <a:srgbClr val="008080"/>
                </a:gs>
                <a:gs pos="100000">
                  <a:srgbClr val="003b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1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82" name="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8080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004545"/>
                  </a:gs>
                  <a:gs pos="50000">
                    <a:srgbClr val="008080"/>
                  </a:gs>
                  <a:gs pos="100000">
                    <a:srgbClr val="00454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207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21" name="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3b"/>
                  </a:gs>
                  <a:gs pos="50000">
                    <a:srgbClr val="008080"/>
                  </a:gs>
                  <a:gs pos="100000">
                    <a:srgbClr val="003b3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65e"/>
                  </a:gs>
                  <a:gs pos="50000">
                    <a:srgbClr val="0099cc"/>
                  </a:gs>
                  <a:gs pos="100000">
                    <a:srgbClr val="00465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6e2400"/>
                  </a:gs>
                  <a:gs pos="50000">
                    <a:srgbClr val="993300"/>
                  </a:gs>
                  <a:gs pos="100000">
                    <a:srgbClr val="6e24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005c5c"/>
                  </a:gs>
                  <a:gs pos="50000">
                    <a:srgbClr val="008080"/>
                  </a:gs>
                  <a:gs pos="100000">
                    <a:srgbClr val="005c5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6c6c6c"/>
                  </a:gs>
                  <a:gs pos="50000">
                    <a:srgbClr val="969696"/>
                  </a:gs>
                  <a:gs pos="100000">
                    <a:srgbClr val="6c6c6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006e93"/>
                  </a:gs>
                  <a:gs pos="50000">
                    <a:srgbClr val="0099cc"/>
                  </a:gs>
                  <a:gs pos="100000">
                    <a:srgbClr val="006e9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36" name="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168a8a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61700"/>
                </a:gs>
                <a:gs pos="5000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3b3b"/>
                </a:gs>
                <a:gs pos="50000">
                  <a:srgbClr val="008080"/>
                </a:gs>
                <a:gs pos="100000">
                  <a:srgbClr val="00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c1c1c1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249" name="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a3a3a"/>
                  </a:gs>
                  <a:gs pos="50000">
                    <a:srgbClr val="969696"/>
                  </a:gs>
                  <a:gs pos="100000">
                    <a:srgbClr val="3a3a3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d Your Title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1:42Z</dcterms:modified>
  <cp:revision>6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