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F26-27BA-4167-8F4C-07E71A60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1B2-19E1-4701-AEE2-83E3161E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2E9-1503-4276-8995-95087EF4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7DD-6FD6-470D-BB93-6FB8E927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998-C3CF-437E-A95D-E35B008F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D3A-8648-47D9-8E19-9CD32958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9FE-9FE7-42DA-A375-ED680081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5C2-DBE3-41F9-BAEA-C76C6C9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A6E-4D02-42D9-A85B-6AF05395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4F2-9E27-4716-8487-CDB9F9B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755-2163-4468-B0A5-CBFF2D8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B6D-BC31-4AD6-AFF6-547BE5E8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42A-70A8-4E66-9E3C-3A5C431FA8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FD1-4789-4CE0-84DE-FB5CD623A7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43" name="直接连接符 864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接连接符 865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接连接符 866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867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868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869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870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直接连接符 871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接连接符 872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接连接符 873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接连接符 874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接连接符 875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876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877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878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879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880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881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882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883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884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接连接符 885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接连接符 886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887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888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889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接连接符 890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直接连接符 891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直接连接符 892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接连接符 893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接连接符 894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接连接符 895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896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897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898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899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900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901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接连接符 902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903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904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905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906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907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908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909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910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911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912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913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914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915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916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917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918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919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920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921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直接连接符 922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923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924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925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926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927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直接连接符 928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929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930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931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932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933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934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935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936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937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938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939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940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941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942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943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944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945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946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947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948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949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130" name="直接连接符 782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783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784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785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786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787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788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789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790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791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792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793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794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795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96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97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798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799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800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801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802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803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804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805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806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807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808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809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810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811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812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813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814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815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816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817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818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819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820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821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822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823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824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825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826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827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828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829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830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831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832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833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834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835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836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837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838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839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840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841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842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843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844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845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846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847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848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49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850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851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852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853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854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855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856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857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858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859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860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861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862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863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矩形 551"/>
          <p:cNvSpPr/>
          <p:nvPr/>
        </p:nvSpPr>
        <p:spPr>
          <a:xfrm>
            <a:off x="0" y="1928880"/>
            <a:ext cx="9144000" cy="292896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-360" y="1142280"/>
            <a:ext cx="9073080" cy="1385640"/>
            <a:chOff x="-360" y="1142280"/>
            <a:chExt cx="9073080" cy="1385640"/>
          </a:xfrm>
        </p:grpSpPr>
        <p:grpSp>
          <p:nvGrpSpPr>
            <p:cNvPr id="214" name=""/>
            <p:cNvGrpSpPr/>
            <p:nvPr/>
          </p:nvGrpSpPr>
          <p:grpSpPr>
            <a:xfrm>
              <a:off x="8572680" y="1642680"/>
              <a:ext cx="500040" cy="494280"/>
              <a:chOff x="8572680" y="1642680"/>
              <a:chExt cx="500040" cy="494280"/>
            </a:xfrm>
          </p:grpSpPr>
          <p:sp>
            <p:nvSpPr>
              <p:cNvPr id="215" name="Freeform 9"/>
              <p:cNvSpPr/>
              <p:nvPr/>
            </p:nvSpPr>
            <p:spPr>
              <a:xfrm>
                <a:off x="8572680" y="1642680"/>
                <a:ext cx="500040" cy="494280"/>
              </a:xfrm>
              <a:prstGeom prst="pie">
                <a:avLst/>
              </a:prstGeom>
              <a:solidFill>
                <a:srgbClr val="ff6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0"/>
              <p:cNvSpPr/>
              <p:nvPr/>
            </p:nvSpPr>
            <p:spPr>
              <a:xfrm>
                <a:off x="8592480" y="1661040"/>
                <a:ext cx="452880" cy="453960"/>
              </a:xfrm>
              <a:prstGeom prst="pie">
                <a:avLst/>
              </a:prstGeom>
              <a:solidFill>
                <a:srgbClr val="ae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1"/>
              <p:cNvSpPr/>
              <p:nvPr/>
            </p:nvSpPr>
            <p:spPr>
              <a:xfrm>
                <a:off x="8612280" y="1678680"/>
                <a:ext cx="409320" cy="423720"/>
              </a:xfrm>
              <a:prstGeom prst="pie">
                <a:avLst/>
              </a:prstGeom>
              <a:solidFill>
                <a:srgbClr val="ffd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2"/>
              <p:cNvSpPr/>
              <p:nvPr/>
            </p:nvSpPr>
            <p:spPr>
              <a:xfrm>
                <a:off x="8641080" y="1698480"/>
                <a:ext cx="355680" cy="387720"/>
              </a:xfrm>
              <a:prstGeom prst="pie">
                <a:avLst/>
              </a:prstGeom>
              <a:solidFill>
                <a:srgbClr val="b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500880" y="1506240"/>
              <a:ext cx="872280" cy="851400"/>
              <a:chOff x="6500880" y="1506240"/>
              <a:chExt cx="872280" cy="851400"/>
            </a:xfrm>
          </p:grpSpPr>
          <p:sp>
            <p:nvSpPr>
              <p:cNvPr id="220" name="Freeform 25"/>
              <p:cNvSpPr/>
              <p:nvPr/>
            </p:nvSpPr>
            <p:spPr>
              <a:xfrm rot="787200">
                <a:off x="6571080" y="1580040"/>
                <a:ext cx="731520" cy="703800"/>
              </a:xfrm>
              <a:prstGeom prst="pie">
                <a:avLst/>
              </a:prstGeom>
              <a:solidFill>
                <a:srgbClr val="ffb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6"/>
              <p:cNvSpPr/>
              <p:nvPr/>
            </p:nvSpPr>
            <p:spPr>
              <a:xfrm rot="787200">
                <a:off x="6725160" y="158508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7"/>
              <p:cNvSpPr/>
              <p:nvPr/>
            </p:nvSpPr>
            <p:spPr>
              <a:xfrm rot="787200">
                <a:off x="6765840" y="15958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8"/>
              <p:cNvSpPr/>
              <p:nvPr/>
            </p:nvSpPr>
            <p:spPr>
              <a:xfrm rot="787200">
                <a:off x="6787080" y="1638360"/>
                <a:ext cx="5040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9"/>
              <p:cNvSpPr/>
              <p:nvPr/>
            </p:nvSpPr>
            <p:spPr>
              <a:xfrm rot="787200">
                <a:off x="6747120" y="166176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0"/>
              <p:cNvSpPr/>
              <p:nvPr/>
            </p:nvSpPr>
            <p:spPr>
              <a:xfrm rot="787200">
                <a:off x="6703200" y="165276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1"/>
              <p:cNvSpPr/>
              <p:nvPr/>
            </p:nvSpPr>
            <p:spPr>
              <a:xfrm rot="787200">
                <a:off x="6688080" y="161100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2"/>
              <p:cNvSpPr/>
              <p:nvPr/>
            </p:nvSpPr>
            <p:spPr>
              <a:xfrm rot="787200">
                <a:off x="6720480" y="1615680"/>
                <a:ext cx="77040" cy="597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3"/>
              <p:cNvSpPr/>
              <p:nvPr/>
            </p:nvSpPr>
            <p:spPr>
              <a:xfrm rot="787200">
                <a:off x="6739560" y="1628280"/>
                <a:ext cx="41040" cy="320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4"/>
              <p:cNvSpPr/>
              <p:nvPr/>
            </p:nvSpPr>
            <p:spPr>
              <a:xfrm rot="787200">
                <a:off x="6910200" y="181764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5"/>
              <p:cNvSpPr/>
              <p:nvPr/>
            </p:nvSpPr>
            <p:spPr>
              <a:xfrm rot="787200">
                <a:off x="6950880" y="182844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6"/>
              <p:cNvSpPr/>
              <p:nvPr/>
            </p:nvSpPr>
            <p:spPr>
              <a:xfrm rot="787200">
                <a:off x="6972120" y="1870560"/>
                <a:ext cx="5040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7"/>
              <p:cNvSpPr/>
              <p:nvPr/>
            </p:nvSpPr>
            <p:spPr>
              <a:xfrm rot="787200">
                <a:off x="6932160" y="189360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8"/>
              <p:cNvSpPr/>
              <p:nvPr/>
            </p:nvSpPr>
            <p:spPr>
              <a:xfrm rot="787200">
                <a:off x="6887160" y="1884960"/>
                <a:ext cx="5292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9"/>
              <p:cNvSpPr/>
              <p:nvPr/>
            </p:nvSpPr>
            <p:spPr>
              <a:xfrm rot="787200">
                <a:off x="6871680" y="184284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0"/>
              <p:cNvSpPr/>
              <p:nvPr/>
            </p:nvSpPr>
            <p:spPr>
              <a:xfrm rot="787200">
                <a:off x="6905520" y="1847520"/>
                <a:ext cx="78480" cy="597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1"/>
              <p:cNvSpPr/>
              <p:nvPr/>
            </p:nvSpPr>
            <p:spPr>
              <a:xfrm rot="787200">
                <a:off x="6924600" y="1860120"/>
                <a:ext cx="39600" cy="320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2"/>
              <p:cNvSpPr/>
              <p:nvPr/>
            </p:nvSpPr>
            <p:spPr>
              <a:xfrm rot="787200">
                <a:off x="6937920" y="1616760"/>
                <a:ext cx="21240" cy="162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3"/>
              <p:cNvSpPr/>
              <p:nvPr/>
            </p:nvSpPr>
            <p:spPr>
              <a:xfrm rot="787200">
                <a:off x="6973560" y="1682280"/>
                <a:ext cx="21240" cy="21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"/>
              <p:cNvSpPr/>
              <p:nvPr/>
            </p:nvSpPr>
            <p:spPr>
              <a:xfrm rot="787200">
                <a:off x="6929640" y="166644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5"/>
              <p:cNvSpPr/>
              <p:nvPr/>
            </p:nvSpPr>
            <p:spPr>
              <a:xfrm rot="787200">
                <a:off x="6908040" y="162396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6"/>
              <p:cNvSpPr/>
              <p:nvPr/>
            </p:nvSpPr>
            <p:spPr>
              <a:xfrm rot="787200">
                <a:off x="6940440" y="1633320"/>
                <a:ext cx="46440" cy="47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"/>
              <p:cNvSpPr/>
              <p:nvPr/>
            </p:nvSpPr>
            <p:spPr>
              <a:xfrm rot="787200">
                <a:off x="6959160" y="1646640"/>
                <a:ext cx="17280" cy="183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8"/>
              <p:cNvSpPr/>
              <p:nvPr/>
            </p:nvSpPr>
            <p:spPr>
              <a:xfrm rot="787200">
                <a:off x="7178400" y="17928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9"/>
              <p:cNvSpPr/>
              <p:nvPr/>
            </p:nvSpPr>
            <p:spPr>
              <a:xfrm rot="787200">
                <a:off x="7220160" y="180396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0"/>
              <p:cNvSpPr/>
              <p:nvPr/>
            </p:nvSpPr>
            <p:spPr>
              <a:xfrm rot="787200">
                <a:off x="7240320" y="18460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1"/>
              <p:cNvSpPr/>
              <p:nvPr/>
            </p:nvSpPr>
            <p:spPr>
              <a:xfrm rot="787200">
                <a:off x="7201800" y="186840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2"/>
              <p:cNvSpPr/>
              <p:nvPr/>
            </p:nvSpPr>
            <p:spPr>
              <a:xfrm rot="787200">
                <a:off x="7156800" y="185832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53"/>
              <p:cNvSpPr/>
              <p:nvPr/>
            </p:nvSpPr>
            <p:spPr>
              <a:xfrm rot="787200">
                <a:off x="7141680" y="1816200"/>
                <a:ext cx="4896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4"/>
              <p:cNvSpPr/>
              <p:nvPr/>
            </p:nvSpPr>
            <p:spPr>
              <a:xfrm rot="787200">
                <a:off x="7175160" y="1821600"/>
                <a:ext cx="78480" cy="597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5"/>
              <p:cNvSpPr/>
              <p:nvPr/>
            </p:nvSpPr>
            <p:spPr>
              <a:xfrm rot="787200">
                <a:off x="7192800" y="1835280"/>
                <a:ext cx="41040" cy="2988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6"/>
              <p:cNvSpPr/>
              <p:nvPr/>
            </p:nvSpPr>
            <p:spPr>
              <a:xfrm rot="787200">
                <a:off x="6613920" y="179964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57"/>
              <p:cNvSpPr/>
              <p:nvPr/>
            </p:nvSpPr>
            <p:spPr>
              <a:xfrm rot="787200">
                <a:off x="6654240" y="18100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58"/>
              <p:cNvSpPr/>
              <p:nvPr/>
            </p:nvSpPr>
            <p:spPr>
              <a:xfrm rot="787200">
                <a:off x="6675840" y="18522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59"/>
              <p:cNvSpPr/>
              <p:nvPr/>
            </p:nvSpPr>
            <p:spPr>
              <a:xfrm rot="787200">
                <a:off x="6635880" y="18756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60"/>
              <p:cNvSpPr/>
              <p:nvPr/>
            </p:nvSpPr>
            <p:spPr>
              <a:xfrm rot="787200">
                <a:off x="6610680" y="1828080"/>
                <a:ext cx="77040" cy="619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61"/>
              <p:cNvSpPr/>
              <p:nvPr/>
            </p:nvSpPr>
            <p:spPr>
              <a:xfrm rot="787200">
                <a:off x="6628320" y="1842120"/>
                <a:ext cx="4104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62"/>
              <p:cNvSpPr/>
              <p:nvPr/>
            </p:nvSpPr>
            <p:spPr>
              <a:xfrm rot="787200">
                <a:off x="6778080" y="19512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63"/>
              <p:cNvSpPr/>
              <p:nvPr/>
            </p:nvSpPr>
            <p:spPr>
              <a:xfrm rot="787200">
                <a:off x="6818400" y="196200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64"/>
              <p:cNvSpPr/>
              <p:nvPr/>
            </p:nvSpPr>
            <p:spPr>
              <a:xfrm rot="787200">
                <a:off x="6840000" y="200412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5"/>
              <p:cNvSpPr/>
              <p:nvPr/>
            </p:nvSpPr>
            <p:spPr>
              <a:xfrm rot="787200">
                <a:off x="6800040" y="202752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6"/>
              <p:cNvSpPr/>
              <p:nvPr/>
            </p:nvSpPr>
            <p:spPr>
              <a:xfrm rot="787200">
                <a:off x="6755040" y="20170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7"/>
              <p:cNvSpPr/>
              <p:nvPr/>
            </p:nvSpPr>
            <p:spPr>
              <a:xfrm rot="787200">
                <a:off x="6739920" y="197568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68"/>
              <p:cNvSpPr/>
              <p:nvPr/>
            </p:nvSpPr>
            <p:spPr>
              <a:xfrm rot="787200">
                <a:off x="6773400" y="1979640"/>
                <a:ext cx="78480" cy="608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69"/>
              <p:cNvSpPr/>
              <p:nvPr/>
            </p:nvSpPr>
            <p:spPr>
              <a:xfrm rot="787200">
                <a:off x="6791040" y="1993680"/>
                <a:ext cx="4104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0"/>
              <p:cNvSpPr/>
              <p:nvPr/>
            </p:nvSpPr>
            <p:spPr>
              <a:xfrm rot="787200">
                <a:off x="6800760" y="21294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1"/>
              <p:cNvSpPr/>
              <p:nvPr/>
            </p:nvSpPr>
            <p:spPr>
              <a:xfrm rot="787200">
                <a:off x="6841080" y="21402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2"/>
              <p:cNvSpPr/>
              <p:nvPr/>
            </p:nvSpPr>
            <p:spPr>
              <a:xfrm rot="787200">
                <a:off x="6862680" y="2182320"/>
                <a:ext cx="4788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73"/>
              <p:cNvSpPr/>
              <p:nvPr/>
            </p:nvSpPr>
            <p:spPr>
              <a:xfrm rot="787200">
                <a:off x="6823440" y="2206080"/>
                <a:ext cx="45000" cy="298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74"/>
              <p:cNvSpPr/>
              <p:nvPr/>
            </p:nvSpPr>
            <p:spPr>
              <a:xfrm rot="787200">
                <a:off x="6778800" y="21960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75"/>
              <p:cNvSpPr/>
              <p:nvPr/>
            </p:nvSpPr>
            <p:spPr>
              <a:xfrm rot="787200">
                <a:off x="6763680" y="215424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76"/>
              <p:cNvSpPr/>
              <p:nvPr/>
            </p:nvSpPr>
            <p:spPr>
              <a:xfrm rot="787200">
                <a:off x="6796080" y="2157840"/>
                <a:ext cx="78480" cy="608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7"/>
              <p:cNvSpPr/>
              <p:nvPr/>
            </p:nvSpPr>
            <p:spPr>
              <a:xfrm rot="787200">
                <a:off x="6814800" y="2172240"/>
                <a:ext cx="4104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8"/>
              <p:cNvSpPr/>
              <p:nvPr/>
            </p:nvSpPr>
            <p:spPr>
              <a:xfrm rot="787200">
                <a:off x="7109640" y="19530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9"/>
              <p:cNvSpPr/>
              <p:nvPr/>
            </p:nvSpPr>
            <p:spPr>
              <a:xfrm rot="787200">
                <a:off x="7149960" y="19638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80"/>
              <p:cNvSpPr/>
              <p:nvPr/>
            </p:nvSpPr>
            <p:spPr>
              <a:xfrm rot="787200">
                <a:off x="7171560" y="2003040"/>
                <a:ext cx="3060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81"/>
              <p:cNvSpPr/>
              <p:nvPr/>
            </p:nvSpPr>
            <p:spPr>
              <a:xfrm rot="787200">
                <a:off x="7131960" y="2028960"/>
                <a:ext cx="450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82"/>
              <p:cNvSpPr/>
              <p:nvPr/>
            </p:nvSpPr>
            <p:spPr>
              <a:xfrm rot="787200">
                <a:off x="7087680" y="201924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83"/>
              <p:cNvSpPr/>
              <p:nvPr/>
            </p:nvSpPr>
            <p:spPr>
              <a:xfrm rot="787200">
                <a:off x="7072560" y="197784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84"/>
              <p:cNvSpPr/>
              <p:nvPr/>
            </p:nvSpPr>
            <p:spPr>
              <a:xfrm rot="787200">
                <a:off x="7104960" y="1981440"/>
                <a:ext cx="78480" cy="608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85"/>
              <p:cNvSpPr/>
              <p:nvPr/>
            </p:nvSpPr>
            <p:spPr>
              <a:xfrm rot="787200">
                <a:off x="7123680" y="1995840"/>
                <a:ext cx="3960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86"/>
              <p:cNvSpPr/>
              <p:nvPr/>
            </p:nvSpPr>
            <p:spPr>
              <a:xfrm rot="787200">
                <a:off x="7009560" y="208368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87"/>
              <p:cNvSpPr/>
              <p:nvPr/>
            </p:nvSpPr>
            <p:spPr>
              <a:xfrm rot="787200">
                <a:off x="6972840" y="2108520"/>
                <a:ext cx="4896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8"/>
              <p:cNvSpPr/>
              <p:nvPr/>
            </p:nvSpPr>
            <p:spPr>
              <a:xfrm rot="787200">
                <a:off x="7007400" y="2108520"/>
                <a:ext cx="47880" cy="4320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89"/>
              <p:cNvSpPr/>
              <p:nvPr/>
            </p:nvSpPr>
            <p:spPr>
              <a:xfrm rot="787200">
                <a:off x="6812280" y="1690920"/>
                <a:ext cx="27720" cy="2052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0"/>
              <p:cNvSpPr/>
              <p:nvPr/>
            </p:nvSpPr>
            <p:spPr>
              <a:xfrm rot="787200">
                <a:off x="6857640" y="179388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1"/>
              <p:cNvSpPr/>
              <p:nvPr/>
            </p:nvSpPr>
            <p:spPr>
              <a:xfrm rot="787200">
                <a:off x="7068240" y="193428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2"/>
              <p:cNvSpPr/>
              <p:nvPr/>
            </p:nvSpPr>
            <p:spPr>
              <a:xfrm rot="787200">
                <a:off x="7120080" y="1765800"/>
                <a:ext cx="2628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3"/>
              <p:cNvSpPr/>
              <p:nvPr/>
            </p:nvSpPr>
            <p:spPr>
              <a:xfrm rot="787200">
                <a:off x="6913800" y="201204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4"/>
              <p:cNvSpPr/>
              <p:nvPr/>
            </p:nvSpPr>
            <p:spPr>
              <a:xfrm rot="787200">
                <a:off x="6703560" y="210924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95"/>
              <p:cNvSpPr/>
              <p:nvPr/>
            </p:nvSpPr>
            <p:spPr>
              <a:xfrm rot="787200">
                <a:off x="6654600" y="175176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8206920" y="1651320"/>
              <a:ext cx="437040" cy="420120"/>
              <a:chOff x="8206920" y="1651320"/>
              <a:chExt cx="437040" cy="420120"/>
            </a:xfrm>
          </p:grpSpPr>
          <p:sp>
            <p:nvSpPr>
              <p:cNvPr id="292" name="Freeform 165"/>
              <p:cNvSpPr/>
              <p:nvPr/>
            </p:nvSpPr>
            <p:spPr>
              <a:xfrm rot="759000">
                <a:off x="8240400" y="1687320"/>
                <a:ext cx="369720" cy="347760"/>
              </a:xfrm>
              <a:prstGeom prst="pie">
                <a:avLst/>
              </a:prstGeom>
              <a:solidFill>
                <a:srgbClr val="ff6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6"/>
              <p:cNvSpPr/>
              <p:nvPr/>
            </p:nvSpPr>
            <p:spPr>
              <a:xfrm rot="759000">
                <a:off x="8417160" y="169704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7"/>
              <p:cNvSpPr/>
              <p:nvPr/>
            </p:nvSpPr>
            <p:spPr>
              <a:xfrm rot="759000">
                <a:off x="8319960" y="171684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68"/>
              <p:cNvSpPr/>
              <p:nvPr/>
            </p:nvSpPr>
            <p:spPr>
              <a:xfrm rot="759000">
                <a:off x="8410320" y="1808640"/>
                <a:ext cx="2268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69"/>
              <p:cNvSpPr/>
              <p:nvPr/>
            </p:nvSpPr>
            <p:spPr>
              <a:xfrm rot="759000">
                <a:off x="8327160" y="179532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70"/>
              <p:cNvSpPr/>
              <p:nvPr/>
            </p:nvSpPr>
            <p:spPr>
              <a:xfrm rot="759000">
                <a:off x="8293680" y="187092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71"/>
              <p:cNvSpPr/>
              <p:nvPr/>
            </p:nvSpPr>
            <p:spPr>
              <a:xfrm rot="759000">
                <a:off x="8379360" y="1938960"/>
                <a:ext cx="2268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72"/>
              <p:cNvSpPr/>
              <p:nvPr/>
            </p:nvSpPr>
            <p:spPr>
              <a:xfrm rot="759000">
                <a:off x="8267040" y="194256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73"/>
              <p:cNvSpPr/>
              <p:nvPr/>
            </p:nvSpPr>
            <p:spPr>
              <a:xfrm rot="759000">
                <a:off x="8255160" y="1795320"/>
                <a:ext cx="1476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74"/>
              <p:cNvSpPr/>
              <p:nvPr/>
            </p:nvSpPr>
            <p:spPr>
              <a:xfrm rot="759000">
                <a:off x="8372520" y="186948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 rot="759000">
                <a:off x="8466120" y="1748160"/>
                <a:ext cx="108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76"/>
              <p:cNvSpPr/>
              <p:nvPr/>
            </p:nvSpPr>
            <p:spPr>
              <a:xfrm rot="759000">
                <a:off x="8387280" y="1749960"/>
                <a:ext cx="2268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7"/>
              <p:cNvSpPr/>
              <p:nvPr/>
            </p:nvSpPr>
            <p:spPr>
              <a:xfrm rot="759000">
                <a:off x="8228520" y="1884240"/>
                <a:ext cx="1728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8"/>
              <p:cNvSpPr/>
              <p:nvPr/>
            </p:nvSpPr>
            <p:spPr>
              <a:xfrm rot="759000">
                <a:off x="8336520" y="1997280"/>
                <a:ext cx="2268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79"/>
              <p:cNvSpPr/>
              <p:nvPr/>
            </p:nvSpPr>
            <p:spPr>
              <a:xfrm rot="759000">
                <a:off x="8445600" y="198972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80"/>
              <p:cNvSpPr/>
              <p:nvPr/>
            </p:nvSpPr>
            <p:spPr>
              <a:xfrm rot="759000">
                <a:off x="8466840" y="189252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81"/>
              <p:cNvSpPr/>
              <p:nvPr/>
            </p:nvSpPr>
            <p:spPr>
              <a:xfrm rot="759000">
                <a:off x="8548920" y="1882800"/>
                <a:ext cx="2268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82"/>
              <p:cNvSpPr/>
              <p:nvPr/>
            </p:nvSpPr>
            <p:spPr>
              <a:xfrm rot="759000">
                <a:off x="8578800" y="1965600"/>
                <a:ext cx="10800" cy="180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83"/>
              <p:cNvSpPr/>
              <p:nvPr/>
            </p:nvSpPr>
            <p:spPr>
              <a:xfrm rot="759000">
                <a:off x="8507520" y="194256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84"/>
              <p:cNvSpPr/>
              <p:nvPr/>
            </p:nvSpPr>
            <p:spPr>
              <a:xfrm rot="759000">
                <a:off x="8515800" y="2004480"/>
                <a:ext cx="22680" cy="180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2600" y="1642320"/>
              <a:ext cx="743760" cy="715680"/>
              <a:chOff x="642600" y="1642320"/>
              <a:chExt cx="743760" cy="715680"/>
            </a:xfrm>
          </p:grpSpPr>
          <p:sp>
            <p:nvSpPr>
              <p:cNvPr id="313" name="Freeform 188"/>
              <p:cNvSpPr/>
              <p:nvPr/>
            </p:nvSpPr>
            <p:spPr>
              <a:xfrm rot="9617400">
                <a:off x="717120" y="1726200"/>
                <a:ext cx="594000" cy="547560"/>
              </a:xfrm>
              <a:prstGeom prst="pie">
                <a:avLst/>
              </a:prstGeom>
              <a:solidFill>
                <a:srgbClr val="975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9"/>
              <p:cNvSpPr/>
              <p:nvPr/>
            </p:nvSpPr>
            <p:spPr>
              <a:xfrm rot="9617400">
                <a:off x="1117440" y="172476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0"/>
              <p:cNvSpPr/>
              <p:nvPr/>
            </p:nvSpPr>
            <p:spPr>
              <a:xfrm rot="9617400">
                <a:off x="1117440" y="172476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91"/>
              <p:cNvSpPr/>
              <p:nvPr/>
            </p:nvSpPr>
            <p:spPr>
              <a:xfrm rot="9617400">
                <a:off x="1172160" y="177012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92"/>
              <p:cNvSpPr/>
              <p:nvPr/>
            </p:nvSpPr>
            <p:spPr>
              <a:xfrm rot="9617400">
                <a:off x="1213200" y="17517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93"/>
              <p:cNvSpPr/>
              <p:nvPr/>
            </p:nvSpPr>
            <p:spPr>
              <a:xfrm rot="9617400">
                <a:off x="1199160" y="179244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94"/>
              <p:cNvSpPr/>
              <p:nvPr/>
            </p:nvSpPr>
            <p:spPr>
              <a:xfrm rot="9617400">
                <a:off x="1144800" y="180324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95"/>
              <p:cNvSpPr/>
              <p:nvPr/>
            </p:nvSpPr>
            <p:spPr>
              <a:xfrm rot="9617400">
                <a:off x="1125000" y="17708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96"/>
              <p:cNvSpPr/>
              <p:nvPr/>
            </p:nvSpPr>
            <p:spPr>
              <a:xfrm rot="9617400">
                <a:off x="1172520" y="1733760"/>
                <a:ext cx="1188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7"/>
              <p:cNvSpPr/>
              <p:nvPr/>
            </p:nvSpPr>
            <p:spPr>
              <a:xfrm rot="9617400">
                <a:off x="992520" y="185328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98"/>
              <p:cNvSpPr/>
              <p:nvPr/>
            </p:nvSpPr>
            <p:spPr>
              <a:xfrm rot="9617400">
                <a:off x="992520" y="185328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99"/>
              <p:cNvSpPr/>
              <p:nvPr/>
            </p:nvSpPr>
            <p:spPr>
              <a:xfrm rot="9617400">
                <a:off x="1047600" y="1899000"/>
                <a:ext cx="1188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00"/>
              <p:cNvSpPr/>
              <p:nvPr/>
            </p:nvSpPr>
            <p:spPr>
              <a:xfrm rot="9617400">
                <a:off x="1088280" y="188064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01"/>
              <p:cNvSpPr/>
              <p:nvPr/>
            </p:nvSpPr>
            <p:spPr>
              <a:xfrm rot="9617400">
                <a:off x="1073520" y="1920600"/>
                <a:ext cx="1188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02"/>
              <p:cNvSpPr/>
              <p:nvPr/>
            </p:nvSpPr>
            <p:spPr>
              <a:xfrm rot="9617400">
                <a:off x="1020240" y="193320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03"/>
              <p:cNvSpPr/>
              <p:nvPr/>
            </p:nvSpPr>
            <p:spPr>
              <a:xfrm rot="9617400">
                <a:off x="999720" y="18986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4"/>
              <p:cNvSpPr/>
              <p:nvPr/>
            </p:nvSpPr>
            <p:spPr>
              <a:xfrm rot="9617400">
                <a:off x="1046880" y="186264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5"/>
              <p:cNvSpPr/>
              <p:nvPr/>
            </p:nvSpPr>
            <p:spPr>
              <a:xfrm rot="9617400">
                <a:off x="993600" y="201060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6"/>
              <p:cNvSpPr/>
              <p:nvPr/>
            </p:nvSpPr>
            <p:spPr>
              <a:xfrm rot="9617400">
                <a:off x="993600" y="201060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07"/>
              <p:cNvSpPr/>
              <p:nvPr/>
            </p:nvSpPr>
            <p:spPr>
              <a:xfrm rot="9617400">
                <a:off x="1048320" y="205596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9"/>
              <p:cNvSpPr/>
              <p:nvPr/>
            </p:nvSpPr>
            <p:spPr>
              <a:xfrm rot="9617400">
                <a:off x="1089360" y="20379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10"/>
              <p:cNvSpPr/>
              <p:nvPr/>
            </p:nvSpPr>
            <p:spPr>
              <a:xfrm rot="9617400">
                <a:off x="1074240" y="207720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11"/>
              <p:cNvSpPr/>
              <p:nvPr/>
            </p:nvSpPr>
            <p:spPr>
              <a:xfrm rot="9617400">
                <a:off x="1020960" y="2090160"/>
                <a:ext cx="1404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12"/>
              <p:cNvSpPr/>
              <p:nvPr/>
            </p:nvSpPr>
            <p:spPr>
              <a:xfrm rot="9617400">
                <a:off x="1000800" y="205560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13"/>
              <p:cNvSpPr/>
              <p:nvPr/>
            </p:nvSpPr>
            <p:spPr>
              <a:xfrm rot="9617400">
                <a:off x="1049040" y="201996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14"/>
              <p:cNvSpPr/>
              <p:nvPr/>
            </p:nvSpPr>
            <p:spPr>
              <a:xfrm rot="9617400">
                <a:off x="669240" y="1848600"/>
                <a:ext cx="90000" cy="882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15"/>
              <p:cNvSpPr/>
              <p:nvPr/>
            </p:nvSpPr>
            <p:spPr>
              <a:xfrm rot="9617400">
                <a:off x="687240" y="188424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16"/>
              <p:cNvSpPr/>
              <p:nvPr/>
            </p:nvSpPr>
            <p:spPr>
              <a:xfrm rot="9617400">
                <a:off x="695160" y="189432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17"/>
              <p:cNvSpPr/>
              <p:nvPr/>
            </p:nvSpPr>
            <p:spPr>
              <a:xfrm rot="9617400">
                <a:off x="735480" y="1875960"/>
                <a:ext cx="1404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18"/>
              <p:cNvSpPr/>
              <p:nvPr/>
            </p:nvSpPr>
            <p:spPr>
              <a:xfrm rot="9617400">
                <a:off x="721440" y="191520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19"/>
              <p:cNvSpPr/>
              <p:nvPr/>
            </p:nvSpPr>
            <p:spPr>
              <a:xfrm rot="9617400">
                <a:off x="698400" y="1857960"/>
                <a:ext cx="10800" cy="828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20"/>
              <p:cNvSpPr/>
              <p:nvPr/>
            </p:nvSpPr>
            <p:spPr>
              <a:xfrm rot="9617400">
                <a:off x="806760" y="182268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21"/>
              <p:cNvSpPr/>
              <p:nvPr/>
            </p:nvSpPr>
            <p:spPr>
              <a:xfrm rot="9617400">
                <a:off x="806760" y="182268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22"/>
              <p:cNvSpPr/>
              <p:nvPr/>
            </p:nvSpPr>
            <p:spPr>
              <a:xfrm rot="9617400">
                <a:off x="860760" y="186840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3"/>
              <p:cNvSpPr/>
              <p:nvPr/>
            </p:nvSpPr>
            <p:spPr>
              <a:xfrm rot="9617400">
                <a:off x="902520" y="1850040"/>
                <a:ext cx="1188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24"/>
              <p:cNvSpPr/>
              <p:nvPr/>
            </p:nvSpPr>
            <p:spPr>
              <a:xfrm rot="9617400">
                <a:off x="887040" y="189072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25"/>
              <p:cNvSpPr/>
              <p:nvPr/>
            </p:nvSpPr>
            <p:spPr>
              <a:xfrm rot="9617400">
                <a:off x="834840" y="190260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26"/>
              <p:cNvSpPr/>
              <p:nvPr/>
            </p:nvSpPr>
            <p:spPr>
              <a:xfrm rot="9617400">
                <a:off x="813240" y="18687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27"/>
              <p:cNvSpPr/>
              <p:nvPr/>
            </p:nvSpPr>
            <p:spPr>
              <a:xfrm rot="9617400">
                <a:off x="861120" y="183204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28"/>
              <p:cNvSpPr/>
              <p:nvPr/>
            </p:nvSpPr>
            <p:spPr>
              <a:xfrm rot="9617400">
                <a:off x="813600" y="1954080"/>
                <a:ext cx="117360" cy="939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29"/>
              <p:cNvSpPr/>
              <p:nvPr/>
            </p:nvSpPr>
            <p:spPr>
              <a:xfrm rot="9617400">
                <a:off x="813600" y="1954080"/>
                <a:ext cx="117360" cy="93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30"/>
              <p:cNvSpPr/>
              <p:nvPr/>
            </p:nvSpPr>
            <p:spPr>
              <a:xfrm rot="9617400">
                <a:off x="866160" y="2000880"/>
                <a:ext cx="14040" cy="90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31"/>
              <p:cNvSpPr/>
              <p:nvPr/>
            </p:nvSpPr>
            <p:spPr>
              <a:xfrm rot="9617400">
                <a:off x="909000" y="19814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32"/>
              <p:cNvSpPr/>
              <p:nvPr/>
            </p:nvSpPr>
            <p:spPr>
              <a:xfrm rot="9617400">
                <a:off x="892800" y="2022840"/>
                <a:ext cx="1404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3"/>
              <p:cNvSpPr/>
              <p:nvPr/>
            </p:nvSpPr>
            <p:spPr>
              <a:xfrm rot="9617400">
                <a:off x="841320" y="203436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34"/>
              <p:cNvSpPr/>
              <p:nvPr/>
            </p:nvSpPr>
            <p:spPr>
              <a:xfrm rot="9617400">
                <a:off x="818280" y="199908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35"/>
              <p:cNvSpPr/>
              <p:nvPr/>
            </p:nvSpPr>
            <p:spPr>
              <a:xfrm rot="9617400">
                <a:off x="867960" y="196308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6"/>
              <p:cNvSpPr/>
              <p:nvPr/>
            </p:nvSpPr>
            <p:spPr>
              <a:xfrm rot="9617400">
                <a:off x="871920" y="2096280"/>
                <a:ext cx="68400" cy="630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37"/>
              <p:cNvSpPr/>
              <p:nvPr/>
            </p:nvSpPr>
            <p:spPr>
              <a:xfrm rot="9617400">
                <a:off x="919080" y="2154960"/>
                <a:ext cx="9720" cy="9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38"/>
              <p:cNvSpPr/>
              <p:nvPr/>
            </p:nvSpPr>
            <p:spPr>
              <a:xfrm rot="9617400">
                <a:off x="876240" y="2139120"/>
                <a:ext cx="1080" cy="21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39"/>
              <p:cNvSpPr/>
              <p:nvPr/>
            </p:nvSpPr>
            <p:spPr>
              <a:xfrm rot="9617400">
                <a:off x="918720" y="2125800"/>
                <a:ext cx="1188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40"/>
              <p:cNvSpPr/>
              <p:nvPr/>
            </p:nvSpPr>
            <p:spPr>
              <a:xfrm rot="9617400">
                <a:off x="877680" y="210708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1"/>
              <p:cNvSpPr/>
              <p:nvPr/>
            </p:nvSpPr>
            <p:spPr>
              <a:xfrm rot="9617400">
                <a:off x="1032840" y="219708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42"/>
              <p:cNvSpPr/>
              <p:nvPr/>
            </p:nvSpPr>
            <p:spPr>
              <a:xfrm rot="9617400">
                <a:off x="1005480" y="2156400"/>
                <a:ext cx="94680" cy="738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43"/>
              <p:cNvSpPr/>
              <p:nvPr/>
            </p:nvSpPr>
            <p:spPr>
              <a:xfrm rot="9617400">
                <a:off x="1035720" y="2199600"/>
                <a:ext cx="11880" cy="90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44"/>
              <p:cNvSpPr/>
              <p:nvPr/>
            </p:nvSpPr>
            <p:spPr>
              <a:xfrm rot="9617400">
                <a:off x="1075680" y="218160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45"/>
              <p:cNvSpPr/>
              <p:nvPr/>
            </p:nvSpPr>
            <p:spPr>
              <a:xfrm rot="9617400">
                <a:off x="1035360" y="2163600"/>
                <a:ext cx="1188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46"/>
              <p:cNvSpPr/>
              <p:nvPr/>
            </p:nvSpPr>
            <p:spPr>
              <a:xfrm rot="9617400">
                <a:off x="1195200" y="2116800"/>
                <a:ext cx="1080" cy="14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47"/>
              <p:cNvSpPr/>
              <p:nvPr/>
            </p:nvSpPr>
            <p:spPr>
              <a:xfrm rot="9617400">
                <a:off x="1149840" y="2085840"/>
                <a:ext cx="85680" cy="856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48"/>
              <p:cNvSpPr/>
              <p:nvPr/>
            </p:nvSpPr>
            <p:spPr>
              <a:xfrm rot="9617400">
                <a:off x="1185840" y="2163960"/>
                <a:ext cx="4320" cy="39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49"/>
              <p:cNvSpPr/>
              <p:nvPr/>
            </p:nvSpPr>
            <p:spPr>
              <a:xfrm rot="9617400">
                <a:off x="1177560" y="216036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50"/>
              <p:cNvSpPr/>
              <p:nvPr/>
            </p:nvSpPr>
            <p:spPr>
              <a:xfrm rot="9617400">
                <a:off x="1155240" y="21261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51"/>
              <p:cNvSpPr/>
              <p:nvPr/>
            </p:nvSpPr>
            <p:spPr>
              <a:xfrm rot="9617400">
                <a:off x="1213200" y="2090880"/>
                <a:ext cx="4320" cy="57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2"/>
              <p:cNvSpPr/>
              <p:nvPr/>
            </p:nvSpPr>
            <p:spPr>
              <a:xfrm rot="9617400">
                <a:off x="1204200" y="208908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53"/>
              <p:cNvSpPr/>
              <p:nvPr/>
            </p:nvSpPr>
            <p:spPr>
              <a:xfrm rot="9617400">
                <a:off x="975240" y="174276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54"/>
              <p:cNvSpPr/>
              <p:nvPr/>
            </p:nvSpPr>
            <p:spPr>
              <a:xfrm rot="9617400">
                <a:off x="959400" y="1734120"/>
                <a:ext cx="93600" cy="597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55"/>
              <p:cNvSpPr/>
              <p:nvPr/>
            </p:nvSpPr>
            <p:spPr>
              <a:xfrm rot="9617400">
                <a:off x="986400" y="1753200"/>
                <a:ext cx="10800" cy="72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56"/>
              <p:cNvSpPr/>
              <p:nvPr/>
            </p:nvSpPr>
            <p:spPr>
              <a:xfrm rot="9617400">
                <a:off x="1025640" y="17330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57"/>
              <p:cNvSpPr/>
              <p:nvPr/>
            </p:nvSpPr>
            <p:spPr>
              <a:xfrm rot="9617400">
                <a:off x="1009440" y="1772640"/>
                <a:ext cx="1404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58"/>
              <p:cNvSpPr/>
              <p:nvPr/>
            </p:nvSpPr>
            <p:spPr>
              <a:xfrm rot="9617400">
                <a:off x="1189440" y="1872360"/>
                <a:ext cx="82440" cy="864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59"/>
              <p:cNvSpPr/>
              <p:nvPr/>
            </p:nvSpPr>
            <p:spPr>
              <a:xfrm rot="9617400">
                <a:off x="1236240" y="190368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60"/>
              <p:cNvSpPr/>
              <p:nvPr/>
            </p:nvSpPr>
            <p:spPr>
              <a:xfrm rot="9617400">
                <a:off x="1250640" y="1912680"/>
                <a:ext cx="6480" cy="828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61"/>
              <p:cNvSpPr/>
              <p:nvPr/>
            </p:nvSpPr>
            <p:spPr>
              <a:xfrm rot="9617400">
                <a:off x="1244160" y="1912680"/>
                <a:ext cx="1188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62"/>
              <p:cNvSpPr/>
              <p:nvPr/>
            </p:nvSpPr>
            <p:spPr>
              <a:xfrm rot="9617400">
                <a:off x="1217160" y="194688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63"/>
              <p:cNvSpPr/>
              <p:nvPr/>
            </p:nvSpPr>
            <p:spPr>
              <a:xfrm rot="9617400">
                <a:off x="1195560" y="191232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64"/>
              <p:cNvSpPr/>
              <p:nvPr/>
            </p:nvSpPr>
            <p:spPr>
              <a:xfrm rot="9617400">
                <a:off x="1254600" y="1877040"/>
                <a:ext cx="2160" cy="57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65"/>
              <p:cNvSpPr/>
              <p:nvPr/>
            </p:nvSpPr>
            <p:spPr>
              <a:xfrm rot="9617400">
                <a:off x="1244880" y="187560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8880" y="1714320"/>
              <a:ext cx="515520" cy="459720"/>
              <a:chOff x="1928880" y="1714320"/>
              <a:chExt cx="515520" cy="459720"/>
            </a:xfrm>
          </p:grpSpPr>
          <p:sp>
            <p:nvSpPr>
              <p:cNvPr id="391" name="Freeform 266"/>
              <p:cNvSpPr/>
              <p:nvPr/>
            </p:nvSpPr>
            <p:spPr>
              <a:xfrm>
                <a:off x="1928880" y="1714320"/>
                <a:ext cx="515520" cy="459720"/>
              </a:xfrm>
              <a:prstGeom prst="pie">
                <a:avLst/>
              </a:prstGeom>
              <a:solidFill>
                <a:srgbClr val="83d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67"/>
              <p:cNvSpPr/>
              <p:nvPr/>
            </p:nvSpPr>
            <p:spPr>
              <a:xfrm>
                <a:off x="1945440" y="1953360"/>
                <a:ext cx="28800" cy="27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68"/>
              <p:cNvSpPr/>
              <p:nvPr/>
            </p:nvSpPr>
            <p:spPr>
              <a:xfrm>
                <a:off x="2031840" y="191952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69"/>
              <p:cNvSpPr/>
              <p:nvPr/>
            </p:nvSpPr>
            <p:spPr>
              <a:xfrm>
                <a:off x="2035800" y="200088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70"/>
              <p:cNvSpPr/>
              <p:nvPr/>
            </p:nvSpPr>
            <p:spPr>
              <a:xfrm>
                <a:off x="1948680" y="2048400"/>
                <a:ext cx="2736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71"/>
              <p:cNvSpPr/>
              <p:nvPr/>
            </p:nvSpPr>
            <p:spPr>
              <a:xfrm>
                <a:off x="2028600" y="207504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72"/>
              <p:cNvSpPr/>
              <p:nvPr/>
            </p:nvSpPr>
            <p:spPr>
              <a:xfrm>
                <a:off x="2126520" y="207504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73"/>
              <p:cNvSpPr/>
              <p:nvPr/>
            </p:nvSpPr>
            <p:spPr>
              <a:xfrm>
                <a:off x="2121840" y="196956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74"/>
              <p:cNvSpPr/>
              <p:nvPr/>
            </p:nvSpPr>
            <p:spPr>
              <a:xfrm>
                <a:off x="2186280" y="214452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75"/>
              <p:cNvSpPr/>
              <p:nvPr/>
            </p:nvSpPr>
            <p:spPr>
              <a:xfrm>
                <a:off x="2265120" y="207036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76"/>
              <p:cNvSpPr/>
              <p:nvPr/>
            </p:nvSpPr>
            <p:spPr>
              <a:xfrm>
                <a:off x="2216880" y="199116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77"/>
              <p:cNvSpPr/>
              <p:nvPr/>
            </p:nvSpPr>
            <p:spPr>
              <a:xfrm>
                <a:off x="2154960" y="187380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78"/>
              <p:cNvSpPr/>
              <p:nvPr/>
            </p:nvSpPr>
            <p:spPr>
              <a:xfrm>
                <a:off x="2080080" y="1833480"/>
                <a:ext cx="2304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79"/>
              <p:cNvSpPr/>
              <p:nvPr/>
            </p:nvSpPr>
            <p:spPr>
              <a:xfrm>
                <a:off x="2117880" y="1756800"/>
                <a:ext cx="2808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80"/>
              <p:cNvSpPr/>
              <p:nvPr/>
            </p:nvSpPr>
            <p:spPr>
              <a:xfrm>
                <a:off x="2222280" y="1729440"/>
                <a:ext cx="26280" cy="248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81"/>
              <p:cNvSpPr/>
              <p:nvPr/>
            </p:nvSpPr>
            <p:spPr>
              <a:xfrm>
                <a:off x="2210400" y="180036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82"/>
              <p:cNvSpPr/>
              <p:nvPr/>
            </p:nvSpPr>
            <p:spPr>
              <a:xfrm>
                <a:off x="2274120" y="187848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3"/>
              <p:cNvSpPr/>
              <p:nvPr/>
            </p:nvSpPr>
            <p:spPr>
              <a:xfrm>
                <a:off x="2351160" y="1908360"/>
                <a:ext cx="21600" cy="27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4"/>
              <p:cNvSpPr/>
              <p:nvPr/>
            </p:nvSpPr>
            <p:spPr>
              <a:xfrm>
                <a:off x="2336760" y="200988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85"/>
              <p:cNvSpPr/>
              <p:nvPr/>
            </p:nvSpPr>
            <p:spPr>
              <a:xfrm>
                <a:off x="2381760" y="209124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86"/>
              <p:cNvSpPr/>
              <p:nvPr/>
            </p:nvSpPr>
            <p:spPr>
              <a:xfrm>
                <a:off x="2302920" y="213228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87"/>
              <p:cNvSpPr/>
              <p:nvPr/>
            </p:nvSpPr>
            <p:spPr>
              <a:xfrm>
                <a:off x="2386800" y="2153160"/>
                <a:ext cx="28800" cy="1512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88"/>
              <p:cNvSpPr/>
              <p:nvPr/>
            </p:nvSpPr>
            <p:spPr>
              <a:xfrm>
                <a:off x="2288520" y="1788120"/>
                <a:ext cx="18360" cy="216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572080" y="1571400"/>
              <a:ext cx="685800" cy="662400"/>
              <a:chOff x="5572080" y="1571400"/>
              <a:chExt cx="685800" cy="662400"/>
            </a:xfrm>
          </p:grpSpPr>
          <p:sp>
            <p:nvSpPr>
              <p:cNvPr id="415" name="Freeform 312"/>
              <p:cNvSpPr/>
              <p:nvPr/>
            </p:nvSpPr>
            <p:spPr>
              <a:xfrm rot="535200">
                <a:off x="5612760" y="1614600"/>
                <a:ext cx="603720" cy="575640"/>
              </a:xfrm>
              <a:prstGeom prst="pie">
                <a:avLst/>
              </a:pr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5600880" y="1605240"/>
                <a:ext cx="631800" cy="583560"/>
                <a:chOff x="5600880" y="1605240"/>
                <a:chExt cx="631800" cy="583560"/>
              </a:xfrm>
            </p:grpSpPr>
            <p:sp>
              <p:nvSpPr>
                <p:cNvPr id="417" name="Freeform 313"/>
                <p:cNvSpPr/>
                <p:nvPr/>
              </p:nvSpPr>
              <p:spPr>
                <a:xfrm rot="535200">
                  <a:off x="5636160" y="1645560"/>
                  <a:ext cx="560880" cy="50256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14"/>
                <p:cNvSpPr/>
                <p:nvPr/>
              </p:nvSpPr>
              <p:spPr>
                <a:xfrm rot="535200">
                  <a:off x="5650560" y="1689120"/>
                  <a:ext cx="508320" cy="432720"/>
                </a:xfrm>
                <a:prstGeom prst="pie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5"/>
                <p:cNvSpPr/>
                <p:nvPr/>
              </p:nvSpPr>
              <p:spPr>
                <a:xfrm rot="535200">
                  <a:off x="5671800" y="1746720"/>
                  <a:ext cx="441720" cy="34776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16"/>
                <p:cNvSpPr/>
                <p:nvPr/>
              </p:nvSpPr>
              <p:spPr>
                <a:xfrm rot="535200">
                  <a:off x="5710320" y="1786680"/>
                  <a:ext cx="368640" cy="285120"/>
                </a:xfrm>
                <a:prstGeom prst="pie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" name=""/>
            <p:cNvGrpSpPr/>
            <p:nvPr/>
          </p:nvGrpSpPr>
          <p:grpSpPr>
            <a:xfrm>
              <a:off x="-360" y="1565280"/>
              <a:ext cx="721440" cy="719280"/>
              <a:chOff x="-360" y="1565280"/>
              <a:chExt cx="721440" cy="719280"/>
            </a:xfrm>
          </p:grpSpPr>
          <p:sp>
            <p:nvSpPr>
              <p:cNvPr id="422" name="Freeform 9"/>
              <p:cNvSpPr/>
              <p:nvPr/>
            </p:nvSpPr>
            <p:spPr>
              <a:xfrm rot="1518600">
                <a:off x="88560" y="1655280"/>
                <a:ext cx="543240" cy="538560"/>
              </a:xfrm>
              <a:prstGeom prst="pie">
                <a:avLst/>
              </a:prstGeom>
              <a:solidFill>
                <a:srgbClr val="ff6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0"/>
              <p:cNvSpPr/>
              <p:nvPr/>
            </p:nvSpPr>
            <p:spPr>
              <a:xfrm rot="1518600">
                <a:off x="111600" y="1674000"/>
                <a:ext cx="492120" cy="494640"/>
              </a:xfrm>
              <a:prstGeom prst="pie">
                <a:avLst/>
              </a:prstGeom>
              <a:solidFill>
                <a:srgbClr val="ae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"/>
              <p:cNvSpPr/>
              <p:nvPr/>
            </p:nvSpPr>
            <p:spPr>
              <a:xfrm rot="1518600">
                <a:off x="132120" y="1692000"/>
                <a:ext cx="444960" cy="461520"/>
              </a:xfrm>
              <a:prstGeom prst="pie">
                <a:avLst/>
              </a:prstGeom>
              <a:solidFill>
                <a:srgbClr val="ffd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 rot="1518600">
                <a:off x="162360" y="1714680"/>
                <a:ext cx="386280" cy="422280"/>
              </a:xfrm>
              <a:prstGeom prst="pie">
                <a:avLst/>
              </a:prstGeom>
              <a:solidFill>
                <a:srgbClr val="b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285920" y="1499400"/>
              <a:ext cx="771480" cy="776520"/>
              <a:chOff x="1285920" y="1499400"/>
              <a:chExt cx="771480" cy="776520"/>
            </a:xfrm>
          </p:grpSpPr>
          <p:sp>
            <p:nvSpPr>
              <p:cNvPr id="427" name="Freeform 165"/>
              <p:cNvSpPr/>
              <p:nvPr/>
            </p:nvSpPr>
            <p:spPr>
              <a:xfrm>
                <a:off x="1285920" y="1499400"/>
                <a:ext cx="771480" cy="776520"/>
              </a:xfrm>
              <a:prstGeom prst="pie">
                <a:avLst/>
              </a:prstGeom>
              <a:solidFill>
                <a:srgbClr val="ff6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6"/>
              <p:cNvSpPr/>
              <p:nvPr/>
            </p:nvSpPr>
            <p:spPr>
              <a:xfrm>
                <a:off x="1584000" y="152784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67"/>
              <p:cNvSpPr/>
              <p:nvPr/>
            </p:nvSpPr>
            <p:spPr>
              <a:xfrm>
                <a:off x="1395720" y="161748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68"/>
              <p:cNvSpPr/>
              <p:nvPr/>
            </p:nvSpPr>
            <p:spPr>
              <a:xfrm>
                <a:off x="1620720" y="1773720"/>
                <a:ext cx="4716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69"/>
              <p:cNvSpPr/>
              <p:nvPr/>
            </p:nvSpPr>
            <p:spPr>
              <a:xfrm>
                <a:off x="1445760" y="178596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0"/>
              <p:cNvSpPr/>
              <p:nvPr/>
            </p:nvSpPr>
            <p:spPr>
              <a:xfrm>
                <a:off x="1411920" y="196632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1"/>
              <p:cNvSpPr/>
              <p:nvPr/>
            </p:nvSpPr>
            <p:spPr>
              <a:xfrm>
                <a:off x="1618200" y="2072520"/>
                <a:ext cx="471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2"/>
              <p:cNvSpPr/>
              <p:nvPr/>
            </p:nvSpPr>
            <p:spPr>
              <a:xfrm>
                <a:off x="1390320" y="213480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3"/>
              <p:cNvSpPr/>
              <p:nvPr/>
            </p:nvSpPr>
            <p:spPr>
              <a:xfrm>
                <a:off x="1299240" y="1822320"/>
                <a:ext cx="309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4"/>
              <p:cNvSpPr/>
              <p:nvPr/>
            </p:nvSpPr>
            <p:spPr>
              <a:xfrm>
                <a:off x="1572120" y="192420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5"/>
              <p:cNvSpPr/>
              <p:nvPr/>
            </p:nvSpPr>
            <p:spPr>
              <a:xfrm>
                <a:off x="1707480" y="1617480"/>
                <a:ext cx="2304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6"/>
              <p:cNvSpPr/>
              <p:nvPr/>
            </p:nvSpPr>
            <p:spPr>
              <a:xfrm>
                <a:off x="1547640" y="1656720"/>
                <a:ext cx="4716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77"/>
              <p:cNvSpPr/>
              <p:nvPr/>
            </p:nvSpPr>
            <p:spPr>
              <a:xfrm>
                <a:off x="1285920" y="2028960"/>
                <a:ext cx="363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78"/>
              <p:cNvSpPr/>
              <p:nvPr/>
            </p:nvSpPr>
            <p:spPr>
              <a:xfrm>
                <a:off x="1557000" y="2220480"/>
                <a:ext cx="471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79"/>
              <p:cNvSpPr/>
              <p:nvPr/>
            </p:nvSpPr>
            <p:spPr>
              <a:xfrm>
                <a:off x="1775520" y="215100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0"/>
              <p:cNvSpPr/>
              <p:nvPr/>
            </p:nvSpPr>
            <p:spPr>
              <a:xfrm>
                <a:off x="1774080" y="192852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1"/>
              <p:cNvSpPr/>
              <p:nvPr/>
            </p:nvSpPr>
            <p:spPr>
              <a:xfrm>
                <a:off x="1936800" y="1867320"/>
                <a:ext cx="4716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2"/>
              <p:cNvSpPr/>
              <p:nvPr/>
            </p:nvSpPr>
            <p:spPr>
              <a:xfrm>
                <a:off x="2034360" y="2036880"/>
                <a:ext cx="23040" cy="406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3"/>
              <p:cNvSpPr/>
              <p:nvPr/>
            </p:nvSpPr>
            <p:spPr>
              <a:xfrm>
                <a:off x="1879920" y="201816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4"/>
              <p:cNvSpPr/>
              <p:nvPr/>
            </p:nvSpPr>
            <p:spPr>
              <a:xfrm>
                <a:off x="1924560" y="2148480"/>
                <a:ext cx="47160" cy="406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571560" y="1142280"/>
              <a:ext cx="1398600" cy="1385640"/>
              <a:chOff x="3571560" y="1142280"/>
              <a:chExt cx="1398600" cy="1385640"/>
            </a:xfrm>
          </p:grpSpPr>
          <p:sp>
            <p:nvSpPr>
              <p:cNvPr id="448" name="Freeform 25"/>
              <p:cNvSpPr/>
              <p:nvPr/>
            </p:nvSpPr>
            <p:spPr>
              <a:xfrm rot="19623600">
                <a:off x="3756240" y="1343160"/>
                <a:ext cx="1029240" cy="983880"/>
              </a:xfrm>
              <a:prstGeom prst="pie">
                <a:avLst/>
              </a:prstGeom>
              <a:solidFill>
                <a:srgbClr val="ffb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6"/>
              <p:cNvSpPr/>
              <p:nvPr/>
            </p:nvSpPr>
            <p:spPr>
              <a:xfrm rot="19623600">
                <a:off x="3724920" y="168048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7"/>
              <p:cNvSpPr/>
              <p:nvPr/>
            </p:nvSpPr>
            <p:spPr>
              <a:xfrm rot="19623600">
                <a:off x="3773160" y="164880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8"/>
              <p:cNvSpPr/>
              <p:nvPr/>
            </p:nvSpPr>
            <p:spPr>
              <a:xfrm rot="19623600">
                <a:off x="3837240" y="1668600"/>
                <a:ext cx="709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9"/>
              <p:cNvSpPr/>
              <p:nvPr/>
            </p:nvSpPr>
            <p:spPr>
              <a:xfrm rot="19623600">
                <a:off x="3823200" y="173196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0"/>
              <p:cNvSpPr/>
              <p:nvPr/>
            </p:nvSpPr>
            <p:spPr>
              <a:xfrm rot="19623600">
                <a:off x="3769200" y="176688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1"/>
              <p:cNvSpPr/>
              <p:nvPr/>
            </p:nvSpPr>
            <p:spPr>
              <a:xfrm rot="19623600">
                <a:off x="3713040" y="174240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2"/>
              <p:cNvSpPr/>
              <p:nvPr/>
            </p:nvSpPr>
            <p:spPr>
              <a:xfrm rot="19623600">
                <a:off x="3754080" y="1695600"/>
                <a:ext cx="108360" cy="83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3"/>
              <p:cNvSpPr/>
              <p:nvPr/>
            </p:nvSpPr>
            <p:spPr>
              <a:xfrm rot="19623600">
                <a:off x="3778920" y="1712880"/>
                <a:ext cx="57960" cy="446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4"/>
              <p:cNvSpPr/>
              <p:nvPr/>
            </p:nvSpPr>
            <p:spPr>
              <a:xfrm rot="19623600">
                <a:off x="4139640" y="171828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5"/>
              <p:cNvSpPr/>
              <p:nvPr/>
            </p:nvSpPr>
            <p:spPr>
              <a:xfrm rot="19623600">
                <a:off x="4187880" y="168696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6"/>
              <p:cNvSpPr/>
              <p:nvPr/>
            </p:nvSpPr>
            <p:spPr>
              <a:xfrm rot="19623600">
                <a:off x="4251960" y="1706040"/>
                <a:ext cx="709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7"/>
              <p:cNvSpPr/>
              <p:nvPr/>
            </p:nvSpPr>
            <p:spPr>
              <a:xfrm rot="19623600">
                <a:off x="4238280" y="177012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8"/>
              <p:cNvSpPr/>
              <p:nvPr/>
            </p:nvSpPr>
            <p:spPr>
              <a:xfrm rot="19623600">
                <a:off x="4182120" y="1805040"/>
                <a:ext cx="7488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9"/>
              <p:cNvSpPr/>
              <p:nvPr/>
            </p:nvSpPr>
            <p:spPr>
              <a:xfrm rot="19623600">
                <a:off x="4126320" y="178092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0"/>
              <p:cNvSpPr/>
              <p:nvPr/>
            </p:nvSpPr>
            <p:spPr>
              <a:xfrm rot="19623600">
                <a:off x="4168800" y="1733040"/>
                <a:ext cx="110160" cy="83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1"/>
              <p:cNvSpPr/>
              <p:nvPr/>
            </p:nvSpPr>
            <p:spPr>
              <a:xfrm rot="19623600">
                <a:off x="4194000" y="1750680"/>
                <a:ext cx="55800" cy="446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2"/>
              <p:cNvSpPr/>
              <p:nvPr/>
            </p:nvSpPr>
            <p:spPr>
              <a:xfrm rot="19623600">
                <a:off x="3957480" y="1514520"/>
                <a:ext cx="29880" cy="23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3"/>
              <p:cNvSpPr/>
              <p:nvPr/>
            </p:nvSpPr>
            <p:spPr>
              <a:xfrm rot="19623600">
                <a:off x="4061880" y="1540440"/>
                <a:ext cx="29880" cy="30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4"/>
              <p:cNvSpPr/>
              <p:nvPr/>
            </p:nvSpPr>
            <p:spPr>
              <a:xfrm rot="19623600">
                <a:off x="4004280" y="155160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5"/>
              <p:cNvSpPr/>
              <p:nvPr/>
            </p:nvSpPr>
            <p:spPr>
              <a:xfrm rot="19623600">
                <a:off x="3940200" y="153216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6"/>
              <p:cNvSpPr/>
              <p:nvPr/>
            </p:nvSpPr>
            <p:spPr>
              <a:xfrm rot="19623600">
                <a:off x="3986640" y="1508760"/>
                <a:ext cx="65520" cy="662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7"/>
              <p:cNvSpPr/>
              <p:nvPr/>
            </p:nvSpPr>
            <p:spPr>
              <a:xfrm rot="19623600">
                <a:off x="4010400" y="1523160"/>
                <a:ext cx="24120" cy="2592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8"/>
              <p:cNvSpPr/>
              <p:nvPr/>
            </p:nvSpPr>
            <p:spPr>
              <a:xfrm rot="19623600">
                <a:off x="4376880" y="142344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9"/>
              <p:cNvSpPr/>
              <p:nvPr/>
            </p:nvSpPr>
            <p:spPr>
              <a:xfrm rot="19623600">
                <a:off x="4426920" y="139140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0"/>
              <p:cNvSpPr/>
              <p:nvPr/>
            </p:nvSpPr>
            <p:spPr>
              <a:xfrm rot="19623600">
                <a:off x="4488840" y="14108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1"/>
              <p:cNvSpPr/>
              <p:nvPr/>
            </p:nvSpPr>
            <p:spPr>
              <a:xfrm rot="19623600">
                <a:off x="4476240" y="147276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2"/>
              <p:cNvSpPr/>
              <p:nvPr/>
            </p:nvSpPr>
            <p:spPr>
              <a:xfrm rot="19623600">
                <a:off x="4419720" y="150732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53"/>
              <p:cNvSpPr/>
              <p:nvPr/>
            </p:nvSpPr>
            <p:spPr>
              <a:xfrm rot="19623600">
                <a:off x="4363920" y="1482840"/>
                <a:ext cx="691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54"/>
              <p:cNvSpPr/>
              <p:nvPr/>
            </p:nvSpPr>
            <p:spPr>
              <a:xfrm rot="19623600">
                <a:off x="4406040" y="1434600"/>
                <a:ext cx="110160" cy="83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55"/>
              <p:cNvSpPr/>
              <p:nvPr/>
            </p:nvSpPr>
            <p:spPr>
              <a:xfrm rot="19623600">
                <a:off x="4430160" y="1455480"/>
                <a:ext cx="57960" cy="417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6"/>
              <p:cNvSpPr/>
              <p:nvPr/>
            </p:nvSpPr>
            <p:spPr>
              <a:xfrm rot="19623600">
                <a:off x="3831840" y="200052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7"/>
              <p:cNvSpPr/>
              <p:nvPr/>
            </p:nvSpPr>
            <p:spPr>
              <a:xfrm rot="19623600">
                <a:off x="3880440" y="19688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58"/>
              <p:cNvSpPr/>
              <p:nvPr/>
            </p:nvSpPr>
            <p:spPr>
              <a:xfrm rot="19623600">
                <a:off x="3943800" y="198792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59"/>
              <p:cNvSpPr/>
              <p:nvPr/>
            </p:nvSpPr>
            <p:spPr>
              <a:xfrm rot="19623600">
                <a:off x="3930120" y="205236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60"/>
              <p:cNvSpPr/>
              <p:nvPr/>
            </p:nvSpPr>
            <p:spPr>
              <a:xfrm rot="19623600">
                <a:off x="3861720" y="2011680"/>
                <a:ext cx="108360" cy="8640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61"/>
              <p:cNvSpPr/>
              <p:nvPr/>
            </p:nvSpPr>
            <p:spPr>
              <a:xfrm rot="19623600">
                <a:off x="3885480" y="2032560"/>
                <a:ext cx="5796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62"/>
              <p:cNvSpPr/>
              <p:nvPr/>
            </p:nvSpPr>
            <p:spPr>
              <a:xfrm rot="19623600">
                <a:off x="4145400" y="198144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3"/>
              <p:cNvSpPr/>
              <p:nvPr/>
            </p:nvSpPr>
            <p:spPr>
              <a:xfrm rot="19623600">
                <a:off x="4193640" y="195048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64"/>
              <p:cNvSpPr/>
              <p:nvPr/>
            </p:nvSpPr>
            <p:spPr>
              <a:xfrm rot="19623600">
                <a:off x="4257000" y="196956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65"/>
              <p:cNvSpPr/>
              <p:nvPr/>
            </p:nvSpPr>
            <p:spPr>
              <a:xfrm rot="19623600">
                <a:off x="4243320" y="203328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6"/>
              <p:cNvSpPr/>
              <p:nvPr/>
            </p:nvSpPr>
            <p:spPr>
              <a:xfrm rot="19623600">
                <a:off x="4187160" y="20678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7"/>
              <p:cNvSpPr/>
              <p:nvPr/>
            </p:nvSpPr>
            <p:spPr>
              <a:xfrm rot="19623600">
                <a:off x="4131360" y="204336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8"/>
              <p:cNvSpPr/>
              <p:nvPr/>
            </p:nvSpPr>
            <p:spPr>
              <a:xfrm rot="19623600">
                <a:off x="4173120" y="1993680"/>
                <a:ext cx="110160" cy="849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9"/>
              <p:cNvSpPr/>
              <p:nvPr/>
            </p:nvSpPr>
            <p:spPr>
              <a:xfrm rot="19623600">
                <a:off x="4197600" y="2014920"/>
                <a:ext cx="5796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70"/>
              <p:cNvSpPr/>
              <p:nvPr/>
            </p:nvSpPr>
            <p:spPr>
              <a:xfrm rot="19623600">
                <a:off x="4347360" y="213156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71"/>
              <p:cNvSpPr/>
              <p:nvPr/>
            </p:nvSpPr>
            <p:spPr>
              <a:xfrm rot="19623600">
                <a:off x="4395600" y="21002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2"/>
              <p:cNvSpPr/>
              <p:nvPr/>
            </p:nvSpPr>
            <p:spPr>
              <a:xfrm rot="19623600">
                <a:off x="4459680" y="2120400"/>
                <a:ext cx="673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3"/>
              <p:cNvSpPr/>
              <p:nvPr/>
            </p:nvSpPr>
            <p:spPr>
              <a:xfrm rot="19623600">
                <a:off x="4442040" y="2185200"/>
                <a:ext cx="63360" cy="417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74"/>
              <p:cNvSpPr/>
              <p:nvPr/>
            </p:nvSpPr>
            <p:spPr>
              <a:xfrm rot="19623600">
                <a:off x="4390920" y="221688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75"/>
              <p:cNvSpPr/>
              <p:nvPr/>
            </p:nvSpPr>
            <p:spPr>
              <a:xfrm rot="19623600">
                <a:off x="4334400" y="219204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76"/>
              <p:cNvSpPr/>
              <p:nvPr/>
            </p:nvSpPr>
            <p:spPr>
              <a:xfrm rot="19623600">
                <a:off x="4375080" y="2143440"/>
                <a:ext cx="110160" cy="849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77"/>
              <p:cNvSpPr/>
              <p:nvPr/>
            </p:nvSpPr>
            <p:spPr>
              <a:xfrm rot="19623600">
                <a:off x="4400640" y="2163960"/>
                <a:ext cx="5796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78"/>
              <p:cNvSpPr/>
              <p:nvPr/>
            </p:nvSpPr>
            <p:spPr>
              <a:xfrm rot="19623600">
                <a:off x="4471200" y="164808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79"/>
              <p:cNvSpPr/>
              <p:nvPr/>
            </p:nvSpPr>
            <p:spPr>
              <a:xfrm rot="19623600">
                <a:off x="4519440" y="161676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0"/>
              <p:cNvSpPr/>
              <p:nvPr/>
            </p:nvSpPr>
            <p:spPr>
              <a:xfrm rot="19623600">
                <a:off x="4584960" y="1642320"/>
                <a:ext cx="4284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1"/>
              <p:cNvSpPr/>
              <p:nvPr/>
            </p:nvSpPr>
            <p:spPr>
              <a:xfrm rot="19623600">
                <a:off x="4569120" y="1701000"/>
                <a:ext cx="6336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2"/>
              <p:cNvSpPr/>
              <p:nvPr/>
            </p:nvSpPr>
            <p:spPr>
              <a:xfrm rot="19623600">
                <a:off x="4514760" y="173376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3"/>
              <p:cNvSpPr/>
              <p:nvPr/>
            </p:nvSpPr>
            <p:spPr>
              <a:xfrm rot="19623600">
                <a:off x="4458960" y="170856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84"/>
              <p:cNvSpPr/>
              <p:nvPr/>
            </p:nvSpPr>
            <p:spPr>
              <a:xfrm rot="19623600">
                <a:off x="4499280" y="1660320"/>
                <a:ext cx="110160" cy="849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85"/>
              <p:cNvSpPr/>
              <p:nvPr/>
            </p:nvSpPr>
            <p:spPr>
              <a:xfrm rot="19623600">
                <a:off x="4525560" y="1681200"/>
                <a:ext cx="5580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86"/>
              <p:cNvSpPr/>
              <p:nvPr/>
            </p:nvSpPr>
            <p:spPr>
              <a:xfrm rot="19623600">
                <a:off x="4505040" y="187560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87"/>
              <p:cNvSpPr/>
              <p:nvPr/>
            </p:nvSpPr>
            <p:spPr>
              <a:xfrm rot="19623600">
                <a:off x="4492080" y="1936800"/>
                <a:ext cx="691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88"/>
              <p:cNvSpPr/>
              <p:nvPr/>
            </p:nvSpPr>
            <p:spPr>
              <a:xfrm rot="19623600">
                <a:off x="4529520" y="1901880"/>
                <a:ext cx="67320" cy="6048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9"/>
              <p:cNvSpPr/>
              <p:nvPr/>
            </p:nvSpPr>
            <p:spPr>
              <a:xfrm rot="19623600">
                <a:off x="3910320" y="1709640"/>
                <a:ext cx="39240" cy="2880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90"/>
              <p:cNvSpPr/>
              <p:nvPr/>
            </p:nvSpPr>
            <p:spPr>
              <a:xfrm rot="19623600">
                <a:off x="4059000" y="176436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91"/>
              <p:cNvSpPr/>
              <p:nvPr/>
            </p:nvSpPr>
            <p:spPr>
              <a:xfrm rot="19623600">
                <a:off x="4406040" y="168768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92"/>
              <p:cNvSpPr/>
              <p:nvPr/>
            </p:nvSpPr>
            <p:spPr>
              <a:xfrm rot="19623600">
                <a:off x="4286520" y="1471680"/>
                <a:ext cx="370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93"/>
              <p:cNvSpPr/>
              <p:nvPr/>
            </p:nvSpPr>
            <p:spPr>
              <a:xfrm rot="19623600">
                <a:off x="4332960" y="191916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94"/>
              <p:cNvSpPr/>
              <p:nvPr/>
            </p:nvSpPr>
            <p:spPr>
              <a:xfrm rot="19623600">
                <a:off x="4226400" y="222588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95"/>
              <p:cNvSpPr/>
              <p:nvPr/>
            </p:nvSpPr>
            <p:spPr>
              <a:xfrm rot="19623600">
                <a:off x="3817440" y="192924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021120" y="1483200"/>
              <a:ext cx="959040" cy="961560"/>
              <a:chOff x="3021120" y="1483200"/>
              <a:chExt cx="959040" cy="961560"/>
            </a:xfrm>
          </p:grpSpPr>
          <p:sp>
            <p:nvSpPr>
              <p:cNvPr id="520" name="Freeform 165"/>
              <p:cNvSpPr/>
              <p:nvPr/>
            </p:nvSpPr>
            <p:spPr>
              <a:xfrm rot="18824400">
                <a:off x="3142800" y="1642320"/>
                <a:ext cx="715320" cy="642960"/>
              </a:xfrm>
              <a:prstGeom prst="pie">
                <a:avLst/>
              </a:prstGeom>
              <a:solidFill>
                <a:srgbClr val="ff6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66"/>
              <p:cNvSpPr/>
              <p:nvPr/>
            </p:nvSpPr>
            <p:spPr>
              <a:xfrm rot="18824400">
                <a:off x="3236400" y="179424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67"/>
              <p:cNvSpPr/>
              <p:nvPr/>
            </p:nvSpPr>
            <p:spPr>
              <a:xfrm rot="18824400">
                <a:off x="3169800" y="19713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68"/>
              <p:cNvSpPr/>
              <p:nvPr/>
            </p:nvSpPr>
            <p:spPr>
              <a:xfrm rot="18824400">
                <a:off x="3407040" y="1911240"/>
                <a:ext cx="4392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69"/>
              <p:cNvSpPr/>
              <p:nvPr/>
            </p:nvSpPr>
            <p:spPr>
              <a:xfrm rot="18824400">
                <a:off x="3302640" y="20343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0"/>
              <p:cNvSpPr/>
              <p:nvPr/>
            </p:nvSpPr>
            <p:spPr>
              <a:xfrm rot="18824400">
                <a:off x="3388680" y="21603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1"/>
              <p:cNvSpPr/>
              <p:nvPr/>
            </p:nvSpPr>
            <p:spPr>
              <a:xfrm rot="18824400">
                <a:off x="3584520" y="2083680"/>
                <a:ext cx="4392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2"/>
              <p:cNvSpPr/>
              <p:nvPr/>
            </p:nvSpPr>
            <p:spPr>
              <a:xfrm rot="18824400">
                <a:off x="3475800" y="227160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3"/>
              <p:cNvSpPr/>
              <p:nvPr/>
            </p:nvSpPr>
            <p:spPr>
              <a:xfrm rot="18824400">
                <a:off x="3233160" y="2159280"/>
                <a:ext cx="288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4"/>
              <p:cNvSpPr/>
              <p:nvPr/>
            </p:nvSpPr>
            <p:spPr>
              <a:xfrm rot="18824400">
                <a:off x="3466440" y="20289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5"/>
              <p:cNvSpPr/>
              <p:nvPr/>
            </p:nvSpPr>
            <p:spPr>
              <a:xfrm rot="18824400">
                <a:off x="3372840" y="1771200"/>
                <a:ext cx="2124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76"/>
              <p:cNvSpPr/>
              <p:nvPr/>
            </p:nvSpPr>
            <p:spPr>
              <a:xfrm rot="18824400">
                <a:off x="3290400" y="1892880"/>
                <a:ext cx="4392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7"/>
              <p:cNvSpPr/>
              <p:nvPr/>
            </p:nvSpPr>
            <p:spPr>
              <a:xfrm rot="18824400">
                <a:off x="3346920" y="2284560"/>
                <a:ext cx="3384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78"/>
              <p:cNvSpPr/>
              <p:nvPr/>
            </p:nvSpPr>
            <p:spPr>
              <a:xfrm rot="18824400">
                <a:off x="3633840" y="2208960"/>
                <a:ext cx="4392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9"/>
              <p:cNvSpPr/>
              <p:nvPr/>
            </p:nvSpPr>
            <p:spPr>
              <a:xfrm rot="18824400">
                <a:off x="3732480" y="202248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0"/>
              <p:cNvSpPr/>
              <p:nvPr/>
            </p:nvSpPr>
            <p:spPr>
              <a:xfrm rot="18824400">
                <a:off x="3597840" y="189648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1"/>
              <p:cNvSpPr/>
              <p:nvPr/>
            </p:nvSpPr>
            <p:spPr>
              <a:xfrm rot="18824400">
                <a:off x="3665880" y="1752480"/>
                <a:ext cx="4392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2"/>
              <p:cNvSpPr/>
              <p:nvPr/>
            </p:nvSpPr>
            <p:spPr>
              <a:xfrm rot="18824400">
                <a:off x="3831480" y="1793520"/>
                <a:ext cx="21240" cy="334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3"/>
              <p:cNvSpPr/>
              <p:nvPr/>
            </p:nvSpPr>
            <p:spPr>
              <a:xfrm rot="18824400">
                <a:off x="3719520" y="187668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4"/>
              <p:cNvSpPr/>
              <p:nvPr/>
            </p:nvSpPr>
            <p:spPr>
              <a:xfrm rot="18824400">
                <a:off x="3823920" y="1922760"/>
                <a:ext cx="43920" cy="334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7429320" y="1657800"/>
              <a:ext cx="500040" cy="535680"/>
              <a:chOff x="7429320" y="1657800"/>
              <a:chExt cx="500040" cy="535680"/>
            </a:xfrm>
          </p:grpSpPr>
          <p:sp>
            <p:nvSpPr>
              <p:cNvPr id="541" name="Freeform 188"/>
              <p:cNvSpPr/>
              <p:nvPr/>
            </p:nvSpPr>
            <p:spPr>
              <a:xfrm rot="10363800">
                <a:off x="7457760" y="1683720"/>
                <a:ext cx="442440" cy="483480"/>
              </a:xfrm>
              <a:prstGeom prst="pie">
                <a:avLst/>
              </a:prstGeom>
              <a:solidFill>
                <a:srgbClr val="975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89"/>
              <p:cNvSpPr/>
              <p:nvPr/>
            </p:nvSpPr>
            <p:spPr>
              <a:xfrm rot="10363800">
                <a:off x="7787160" y="172224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0"/>
              <p:cNvSpPr/>
              <p:nvPr/>
            </p:nvSpPr>
            <p:spPr>
              <a:xfrm rot="10363800">
                <a:off x="7787160" y="172224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1"/>
              <p:cNvSpPr/>
              <p:nvPr/>
            </p:nvSpPr>
            <p:spPr>
              <a:xfrm rot="10363800">
                <a:off x="7827480" y="176220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2"/>
              <p:cNvSpPr/>
              <p:nvPr/>
            </p:nvSpPr>
            <p:spPr>
              <a:xfrm rot="10363800">
                <a:off x="7859880" y="175500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3"/>
              <p:cNvSpPr/>
              <p:nvPr/>
            </p:nvSpPr>
            <p:spPr>
              <a:xfrm rot="10363800">
                <a:off x="7843680" y="17866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4"/>
              <p:cNvSpPr/>
              <p:nvPr/>
            </p:nvSpPr>
            <p:spPr>
              <a:xfrm rot="10363800">
                <a:off x="7802640" y="178524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5"/>
              <p:cNvSpPr/>
              <p:nvPr/>
            </p:nvSpPr>
            <p:spPr>
              <a:xfrm rot="10363800">
                <a:off x="7792920" y="175248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6"/>
              <p:cNvSpPr/>
              <p:nvPr/>
            </p:nvSpPr>
            <p:spPr>
              <a:xfrm rot="10363800">
                <a:off x="7833240" y="1731240"/>
                <a:ext cx="86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7"/>
              <p:cNvSpPr/>
              <p:nvPr/>
            </p:nvSpPr>
            <p:spPr>
              <a:xfrm rot="10363800">
                <a:off x="7677000" y="180648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98"/>
              <p:cNvSpPr/>
              <p:nvPr/>
            </p:nvSpPr>
            <p:spPr>
              <a:xfrm rot="10363800">
                <a:off x="7677000" y="180648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99"/>
              <p:cNvSpPr/>
              <p:nvPr/>
            </p:nvSpPr>
            <p:spPr>
              <a:xfrm rot="10363800">
                <a:off x="7717320" y="1846800"/>
                <a:ext cx="864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00"/>
              <p:cNvSpPr/>
              <p:nvPr/>
            </p:nvSpPr>
            <p:spPr>
              <a:xfrm rot="10363800">
                <a:off x="7749720" y="183960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01"/>
              <p:cNvSpPr/>
              <p:nvPr/>
            </p:nvSpPr>
            <p:spPr>
              <a:xfrm rot="10363800">
                <a:off x="7733520" y="1870560"/>
                <a:ext cx="864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2"/>
              <p:cNvSpPr/>
              <p:nvPr/>
            </p:nvSpPr>
            <p:spPr>
              <a:xfrm rot="10363800">
                <a:off x="7692480" y="187056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03"/>
              <p:cNvSpPr/>
              <p:nvPr/>
            </p:nvSpPr>
            <p:spPr>
              <a:xfrm rot="10363800">
                <a:off x="7682760" y="18363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04"/>
              <p:cNvSpPr/>
              <p:nvPr/>
            </p:nvSpPr>
            <p:spPr>
              <a:xfrm rot="10363800">
                <a:off x="7722000" y="18154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05"/>
              <p:cNvSpPr/>
              <p:nvPr/>
            </p:nvSpPr>
            <p:spPr>
              <a:xfrm rot="10363800">
                <a:off x="7655040" y="194112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06"/>
              <p:cNvSpPr/>
              <p:nvPr/>
            </p:nvSpPr>
            <p:spPr>
              <a:xfrm rot="10363800">
                <a:off x="7655040" y="194112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07"/>
              <p:cNvSpPr/>
              <p:nvPr/>
            </p:nvSpPr>
            <p:spPr>
              <a:xfrm rot="10363800">
                <a:off x="7695000" y="198108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09"/>
              <p:cNvSpPr/>
              <p:nvPr/>
            </p:nvSpPr>
            <p:spPr>
              <a:xfrm rot="10363800">
                <a:off x="7727400" y="197424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10"/>
              <p:cNvSpPr/>
              <p:nvPr/>
            </p:nvSpPr>
            <p:spPr>
              <a:xfrm rot="10363800">
                <a:off x="7711200" y="200520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11"/>
              <p:cNvSpPr/>
              <p:nvPr/>
            </p:nvSpPr>
            <p:spPr>
              <a:xfrm rot="10363800">
                <a:off x="7670520" y="2005200"/>
                <a:ext cx="104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12"/>
              <p:cNvSpPr/>
              <p:nvPr/>
            </p:nvSpPr>
            <p:spPr>
              <a:xfrm rot="10363800">
                <a:off x="7660440" y="197100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13"/>
              <p:cNvSpPr/>
              <p:nvPr/>
            </p:nvSpPr>
            <p:spPr>
              <a:xfrm rot="10363800">
                <a:off x="7701120" y="195048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14"/>
              <p:cNvSpPr/>
              <p:nvPr/>
            </p:nvSpPr>
            <p:spPr>
              <a:xfrm rot="10363800">
                <a:off x="7441200" y="1732320"/>
                <a:ext cx="66960" cy="777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15"/>
              <p:cNvSpPr/>
              <p:nvPr/>
            </p:nvSpPr>
            <p:spPr>
              <a:xfrm rot="10363800">
                <a:off x="7455960" y="175896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16"/>
              <p:cNvSpPr/>
              <p:nvPr/>
            </p:nvSpPr>
            <p:spPr>
              <a:xfrm rot="10363800">
                <a:off x="7459560" y="176976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17"/>
              <p:cNvSpPr/>
              <p:nvPr/>
            </p:nvSpPr>
            <p:spPr>
              <a:xfrm rot="10363800">
                <a:off x="7491960" y="1762200"/>
                <a:ext cx="104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18"/>
              <p:cNvSpPr/>
              <p:nvPr/>
            </p:nvSpPr>
            <p:spPr>
              <a:xfrm rot="10363800">
                <a:off x="7475760" y="179352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19"/>
              <p:cNvSpPr/>
              <p:nvPr/>
            </p:nvSpPr>
            <p:spPr>
              <a:xfrm rot="10363800">
                <a:off x="7467120" y="1739520"/>
                <a:ext cx="7920" cy="72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20"/>
              <p:cNvSpPr/>
              <p:nvPr/>
            </p:nvSpPr>
            <p:spPr>
              <a:xfrm rot="10363800">
                <a:off x="7545240" y="174168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21"/>
              <p:cNvSpPr/>
              <p:nvPr/>
            </p:nvSpPr>
            <p:spPr>
              <a:xfrm rot="10363800">
                <a:off x="7545240" y="174168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22"/>
              <p:cNvSpPr/>
              <p:nvPr/>
            </p:nvSpPr>
            <p:spPr>
              <a:xfrm rot="10363800">
                <a:off x="7584480" y="178200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23"/>
              <p:cNvSpPr/>
              <p:nvPr/>
            </p:nvSpPr>
            <p:spPr>
              <a:xfrm rot="10363800">
                <a:off x="7618320" y="1774800"/>
                <a:ext cx="864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24"/>
              <p:cNvSpPr/>
              <p:nvPr/>
            </p:nvSpPr>
            <p:spPr>
              <a:xfrm rot="10363800">
                <a:off x="7601040" y="180684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25"/>
              <p:cNvSpPr/>
              <p:nvPr/>
            </p:nvSpPr>
            <p:spPr>
              <a:xfrm rot="10363800">
                <a:off x="7560360" y="180576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26"/>
              <p:cNvSpPr/>
              <p:nvPr/>
            </p:nvSpPr>
            <p:spPr>
              <a:xfrm rot="10363800">
                <a:off x="7549560" y="17722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27"/>
              <p:cNvSpPr/>
              <p:nvPr/>
            </p:nvSpPr>
            <p:spPr>
              <a:xfrm rot="10363800">
                <a:off x="7590240" y="175068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28"/>
              <p:cNvSpPr/>
              <p:nvPr/>
            </p:nvSpPr>
            <p:spPr>
              <a:xfrm rot="10363800">
                <a:off x="7531200" y="1855440"/>
                <a:ext cx="87480" cy="828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29"/>
              <p:cNvSpPr/>
              <p:nvPr/>
            </p:nvSpPr>
            <p:spPr>
              <a:xfrm rot="10363800">
                <a:off x="7531200" y="1855440"/>
                <a:ext cx="8748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30"/>
              <p:cNvSpPr/>
              <p:nvPr/>
            </p:nvSpPr>
            <p:spPr>
              <a:xfrm rot="10363800">
                <a:off x="7569720" y="1896480"/>
                <a:ext cx="10440" cy="79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31"/>
              <p:cNvSpPr/>
              <p:nvPr/>
            </p:nvSpPr>
            <p:spPr>
              <a:xfrm rot="10363800">
                <a:off x="7603920" y="18885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32"/>
              <p:cNvSpPr/>
              <p:nvPr/>
            </p:nvSpPr>
            <p:spPr>
              <a:xfrm rot="10363800">
                <a:off x="7585920" y="1920960"/>
                <a:ext cx="104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33"/>
              <p:cNvSpPr/>
              <p:nvPr/>
            </p:nvSpPr>
            <p:spPr>
              <a:xfrm rot="10363800">
                <a:off x="7546680" y="191952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34"/>
              <p:cNvSpPr/>
              <p:nvPr/>
            </p:nvSpPr>
            <p:spPr>
              <a:xfrm rot="10363800">
                <a:off x="7534800" y="188532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35"/>
              <p:cNvSpPr/>
              <p:nvPr/>
            </p:nvSpPr>
            <p:spPr>
              <a:xfrm rot="10363800">
                <a:off x="7576200" y="186444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36"/>
              <p:cNvSpPr/>
              <p:nvPr/>
            </p:nvSpPr>
            <p:spPr>
              <a:xfrm rot="10363800">
                <a:off x="7555680" y="1983960"/>
                <a:ext cx="50760" cy="558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37"/>
              <p:cNvSpPr/>
              <p:nvPr/>
            </p:nvSpPr>
            <p:spPr>
              <a:xfrm rot="10363800">
                <a:off x="7586280" y="2039400"/>
                <a:ext cx="7200" cy="86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38"/>
              <p:cNvSpPr/>
              <p:nvPr/>
            </p:nvSpPr>
            <p:spPr>
              <a:xfrm rot="10363800">
                <a:off x="7557840" y="2015640"/>
                <a:ext cx="720" cy="21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39"/>
              <p:cNvSpPr/>
              <p:nvPr/>
            </p:nvSpPr>
            <p:spPr>
              <a:xfrm rot="10363800">
                <a:off x="7590600" y="2013840"/>
                <a:ext cx="86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40"/>
              <p:cNvSpPr/>
              <p:nvPr/>
            </p:nvSpPr>
            <p:spPr>
              <a:xfrm rot="10363800">
                <a:off x="7562880" y="199008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41"/>
              <p:cNvSpPr/>
              <p:nvPr/>
            </p:nvSpPr>
            <p:spPr>
              <a:xfrm rot="10363800">
                <a:off x="7664040" y="209772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42"/>
              <p:cNvSpPr/>
              <p:nvPr/>
            </p:nvSpPr>
            <p:spPr>
              <a:xfrm rot="10363800">
                <a:off x="7644600" y="2066040"/>
                <a:ext cx="70200" cy="651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43"/>
              <p:cNvSpPr/>
              <p:nvPr/>
            </p:nvSpPr>
            <p:spPr>
              <a:xfrm rot="10363800">
                <a:off x="7665480" y="2101680"/>
                <a:ext cx="8640" cy="79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44"/>
              <p:cNvSpPr/>
              <p:nvPr/>
            </p:nvSpPr>
            <p:spPr>
              <a:xfrm rot="10363800">
                <a:off x="7697160" y="20944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5"/>
              <p:cNvSpPr/>
              <p:nvPr/>
            </p:nvSpPr>
            <p:spPr>
              <a:xfrm rot="10363800">
                <a:off x="7670880" y="2070360"/>
                <a:ext cx="86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46"/>
              <p:cNvSpPr/>
              <p:nvPr/>
            </p:nvSpPr>
            <p:spPr>
              <a:xfrm rot="10363800">
                <a:off x="7794720" y="2062440"/>
                <a:ext cx="720" cy="14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47"/>
              <p:cNvSpPr/>
              <p:nvPr/>
            </p:nvSpPr>
            <p:spPr>
              <a:xfrm rot="10363800">
                <a:off x="7759800" y="2034720"/>
                <a:ext cx="63720" cy="756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48"/>
              <p:cNvSpPr/>
              <p:nvPr/>
            </p:nvSpPr>
            <p:spPr>
              <a:xfrm rot="10363800">
                <a:off x="7781040" y="2101320"/>
                <a:ext cx="3240" cy="36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49"/>
              <p:cNvSpPr/>
              <p:nvPr/>
            </p:nvSpPr>
            <p:spPr>
              <a:xfrm rot="10363800">
                <a:off x="7775640" y="20973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50"/>
              <p:cNvSpPr/>
              <p:nvPr/>
            </p:nvSpPr>
            <p:spPr>
              <a:xfrm rot="10363800">
                <a:off x="7763760" y="20638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51"/>
              <p:cNvSpPr/>
              <p:nvPr/>
            </p:nvSpPr>
            <p:spPr>
              <a:xfrm rot="10363800">
                <a:off x="7812000" y="2044800"/>
                <a:ext cx="3240" cy="50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52"/>
              <p:cNvSpPr/>
              <p:nvPr/>
            </p:nvSpPr>
            <p:spPr>
              <a:xfrm rot="10363800">
                <a:off x="7805160" y="204228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53"/>
              <p:cNvSpPr/>
              <p:nvPr/>
            </p:nvSpPr>
            <p:spPr>
              <a:xfrm rot="10363800">
                <a:off x="7687440" y="169668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54"/>
              <p:cNvSpPr/>
              <p:nvPr/>
            </p:nvSpPr>
            <p:spPr>
              <a:xfrm rot="10363800">
                <a:off x="7672680" y="1695240"/>
                <a:ext cx="69480" cy="529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55"/>
              <p:cNvSpPr/>
              <p:nvPr/>
            </p:nvSpPr>
            <p:spPr>
              <a:xfrm rot="10363800">
                <a:off x="7693920" y="1708920"/>
                <a:ext cx="7920" cy="648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56"/>
              <p:cNvSpPr/>
              <p:nvPr/>
            </p:nvSpPr>
            <p:spPr>
              <a:xfrm rot="10363800">
                <a:off x="7725600" y="16995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57"/>
              <p:cNvSpPr/>
              <p:nvPr/>
            </p:nvSpPr>
            <p:spPr>
              <a:xfrm rot="10363800">
                <a:off x="7707240" y="1730520"/>
                <a:ext cx="1044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58"/>
              <p:cNvSpPr/>
              <p:nvPr/>
            </p:nvSpPr>
            <p:spPr>
              <a:xfrm rot="10363800">
                <a:off x="7819200" y="1859400"/>
                <a:ext cx="61560" cy="763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59"/>
              <p:cNvSpPr/>
              <p:nvPr/>
            </p:nvSpPr>
            <p:spPr>
              <a:xfrm rot="10363800">
                <a:off x="7855920" y="188892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60"/>
              <p:cNvSpPr/>
              <p:nvPr/>
            </p:nvSpPr>
            <p:spPr>
              <a:xfrm rot="10363800">
                <a:off x="7864560" y="1900080"/>
                <a:ext cx="4680" cy="72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61"/>
              <p:cNvSpPr/>
              <p:nvPr/>
            </p:nvSpPr>
            <p:spPr>
              <a:xfrm rot="10363800">
                <a:off x="7859880" y="1899000"/>
                <a:ext cx="864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62"/>
              <p:cNvSpPr/>
              <p:nvPr/>
            </p:nvSpPr>
            <p:spPr>
              <a:xfrm rot="10363800">
                <a:off x="7835040" y="192276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63"/>
              <p:cNvSpPr/>
              <p:nvPr/>
            </p:nvSpPr>
            <p:spPr>
              <a:xfrm rot="10363800">
                <a:off x="7823880" y="188856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64"/>
              <p:cNvSpPr/>
              <p:nvPr/>
            </p:nvSpPr>
            <p:spPr>
              <a:xfrm rot="10363800">
                <a:off x="7872840" y="1869480"/>
                <a:ext cx="1440" cy="50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65"/>
              <p:cNvSpPr/>
              <p:nvPr/>
            </p:nvSpPr>
            <p:spPr>
              <a:xfrm rot="10363800">
                <a:off x="7865640" y="18669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357280" y="1499760"/>
              <a:ext cx="1004040" cy="1000440"/>
              <a:chOff x="2357280" y="1499760"/>
              <a:chExt cx="1004040" cy="1000440"/>
            </a:xfrm>
          </p:grpSpPr>
          <p:sp>
            <p:nvSpPr>
              <p:cNvPr id="619" name="Freeform 312"/>
              <p:cNvSpPr/>
              <p:nvPr/>
            </p:nvSpPr>
            <p:spPr>
              <a:xfrm rot="19618800">
                <a:off x="2493720" y="1640520"/>
                <a:ext cx="730800" cy="718200"/>
              </a:xfrm>
              <a:prstGeom prst="pie">
                <a:avLst/>
              </a:pr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400840" y="1545840"/>
                <a:ext cx="911160" cy="896040"/>
                <a:chOff x="2400840" y="1545840"/>
                <a:chExt cx="911160" cy="896040"/>
              </a:xfrm>
            </p:grpSpPr>
            <p:sp>
              <p:nvSpPr>
                <p:cNvPr id="621" name="Freeform 313"/>
                <p:cNvSpPr/>
                <p:nvPr/>
              </p:nvSpPr>
              <p:spPr>
                <a:xfrm rot="19618800">
                  <a:off x="2516760" y="1680120"/>
                  <a:ext cx="678960" cy="62712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314"/>
                <p:cNvSpPr/>
                <p:nvPr/>
              </p:nvSpPr>
              <p:spPr>
                <a:xfrm rot="19618800">
                  <a:off x="2545200" y="1740960"/>
                  <a:ext cx="615240" cy="540000"/>
                </a:xfrm>
                <a:prstGeom prst="pie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315"/>
                <p:cNvSpPr/>
                <p:nvPr/>
              </p:nvSpPr>
              <p:spPr>
                <a:xfrm rot="19618800">
                  <a:off x="2586960" y="1818360"/>
                  <a:ext cx="534600" cy="43380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316"/>
                <p:cNvSpPr/>
                <p:nvPr/>
              </p:nvSpPr>
              <p:spPr>
                <a:xfrm rot="19618800">
                  <a:off x="2640600" y="1864080"/>
                  <a:ext cx="446040" cy="356040"/>
                </a:xfrm>
                <a:prstGeom prst="pie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"/>
            <p:cNvGrpSpPr/>
            <p:nvPr/>
          </p:nvGrpSpPr>
          <p:grpSpPr>
            <a:xfrm>
              <a:off x="4601160" y="1603800"/>
              <a:ext cx="1024920" cy="789840"/>
              <a:chOff x="4601160" y="1603800"/>
              <a:chExt cx="1024920" cy="7898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5197320" y="1667520"/>
                <a:ext cx="428760" cy="470520"/>
                <a:chOff x="5197320" y="1667520"/>
                <a:chExt cx="428760" cy="470520"/>
              </a:xfrm>
            </p:grpSpPr>
            <p:sp>
              <p:nvSpPr>
                <p:cNvPr id="627" name="Freeform 266"/>
                <p:cNvSpPr/>
                <p:nvPr/>
              </p:nvSpPr>
              <p:spPr>
                <a:xfrm rot="6260400">
                  <a:off x="5212440" y="1732320"/>
                  <a:ext cx="398520" cy="340560"/>
                </a:xfrm>
                <a:prstGeom prst="pie">
                  <a:avLst/>
                </a:prstGeom>
                <a:solidFill>
                  <a:srgbClr val="83d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67"/>
                <p:cNvSpPr/>
                <p:nvPr/>
              </p:nvSpPr>
              <p:spPr>
                <a:xfrm rot="6260400">
                  <a:off x="5427720" y="1718640"/>
                  <a:ext cx="22320" cy="201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268"/>
                <p:cNvSpPr/>
                <p:nvPr/>
              </p:nvSpPr>
              <p:spPr>
                <a:xfrm rot="6260400">
                  <a:off x="5435640" y="178848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69"/>
                <p:cNvSpPr/>
                <p:nvPr/>
              </p:nvSpPr>
              <p:spPr>
                <a:xfrm rot="6260400">
                  <a:off x="5375880" y="177660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70"/>
                <p:cNvSpPr/>
                <p:nvPr/>
              </p:nvSpPr>
              <p:spPr>
                <a:xfrm rot="6260400">
                  <a:off x="5358960" y="1702440"/>
                  <a:ext cx="2088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71"/>
                <p:cNvSpPr/>
                <p:nvPr/>
              </p:nvSpPr>
              <p:spPr>
                <a:xfrm rot="6260400">
                  <a:off x="5323680" y="175788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72"/>
                <p:cNvSpPr/>
                <p:nvPr/>
              </p:nvSpPr>
              <p:spPr>
                <a:xfrm rot="6260400">
                  <a:off x="5305320" y="183096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73"/>
                <p:cNvSpPr/>
                <p:nvPr/>
              </p:nvSpPr>
              <p:spPr>
                <a:xfrm rot="6260400">
                  <a:off x="5381640" y="184680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74"/>
                <p:cNvSpPr/>
                <p:nvPr/>
              </p:nvSpPr>
              <p:spPr>
                <a:xfrm rot="6260400">
                  <a:off x="5244480" y="186300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75"/>
                <p:cNvSpPr/>
                <p:nvPr/>
              </p:nvSpPr>
              <p:spPr>
                <a:xfrm rot="6260400">
                  <a:off x="5281560" y="193572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76"/>
                <p:cNvSpPr/>
                <p:nvPr/>
              </p:nvSpPr>
              <p:spPr>
                <a:xfrm rot="6260400">
                  <a:off x="5348160" y="191412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77"/>
                <p:cNvSpPr/>
                <p:nvPr/>
              </p:nvSpPr>
              <p:spPr>
                <a:xfrm rot="6260400">
                  <a:off x="5443920" y="188928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78"/>
                <p:cNvSpPr/>
                <p:nvPr/>
              </p:nvSpPr>
              <p:spPr>
                <a:xfrm rot="6260400">
                  <a:off x="5490360" y="1838880"/>
                  <a:ext cx="180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79"/>
                <p:cNvSpPr/>
                <p:nvPr/>
              </p:nvSpPr>
              <p:spPr>
                <a:xfrm rot="6260400">
                  <a:off x="5535360" y="1882800"/>
                  <a:ext cx="2160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280"/>
                <p:cNvSpPr/>
                <p:nvPr/>
              </p:nvSpPr>
              <p:spPr>
                <a:xfrm rot="6260400">
                  <a:off x="5537160" y="1967040"/>
                  <a:ext cx="20520" cy="183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281"/>
                <p:cNvSpPr/>
                <p:nvPr/>
              </p:nvSpPr>
              <p:spPr>
                <a:xfrm rot="6260400">
                  <a:off x="5486760" y="194400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82"/>
                <p:cNvSpPr/>
                <p:nvPr/>
              </p:nvSpPr>
              <p:spPr>
                <a:xfrm rot="6260400">
                  <a:off x="5417640" y="197784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83"/>
                <p:cNvSpPr/>
                <p:nvPr/>
              </p:nvSpPr>
              <p:spPr>
                <a:xfrm rot="6260400">
                  <a:off x="5385960" y="2027880"/>
                  <a:ext cx="16560" cy="201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84"/>
                <p:cNvSpPr/>
                <p:nvPr/>
              </p:nvSpPr>
              <p:spPr>
                <a:xfrm rot="6260400">
                  <a:off x="5311440" y="200088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85"/>
                <p:cNvSpPr/>
                <p:nvPr/>
              </p:nvSpPr>
              <p:spPr>
                <a:xfrm rot="6260400">
                  <a:off x="5244120" y="201960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86"/>
                <p:cNvSpPr/>
                <p:nvPr/>
              </p:nvSpPr>
              <p:spPr>
                <a:xfrm rot="6260400">
                  <a:off x="5230440" y="195264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87"/>
                <p:cNvSpPr/>
                <p:nvPr/>
              </p:nvSpPr>
              <p:spPr>
                <a:xfrm rot="6260400">
                  <a:off x="5204160" y="2017800"/>
                  <a:ext cx="22320" cy="111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88"/>
                <p:cNvSpPr/>
                <p:nvPr/>
              </p:nvSpPr>
              <p:spPr>
                <a:xfrm rot="6260400">
                  <a:off x="5487840" y="2004480"/>
                  <a:ext cx="14040" cy="158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601160" y="1603800"/>
                <a:ext cx="743760" cy="789840"/>
                <a:chOff x="4601160" y="1603800"/>
                <a:chExt cx="743760" cy="789840"/>
              </a:xfrm>
            </p:grpSpPr>
            <p:sp>
              <p:nvSpPr>
                <p:cNvPr id="651" name="Freeform 188"/>
                <p:cNvSpPr/>
                <p:nvPr/>
              </p:nvSpPr>
              <p:spPr>
                <a:xfrm rot="10363800">
                  <a:off x="4643640" y="1642320"/>
                  <a:ext cx="658800" cy="712080"/>
                </a:xfrm>
                <a:prstGeom prst="pie">
                  <a:avLst/>
                </a:prstGeom>
                <a:solidFill>
                  <a:srgbClr val="975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89"/>
                <p:cNvSpPr/>
                <p:nvPr/>
              </p:nvSpPr>
              <p:spPr>
                <a:xfrm rot="10363800">
                  <a:off x="5134320" y="169884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90"/>
                <p:cNvSpPr/>
                <p:nvPr/>
              </p:nvSpPr>
              <p:spPr>
                <a:xfrm rot="10363800">
                  <a:off x="5134320" y="169884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91"/>
                <p:cNvSpPr/>
                <p:nvPr/>
              </p:nvSpPr>
              <p:spPr>
                <a:xfrm rot="10363800">
                  <a:off x="5193720" y="175788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92"/>
                <p:cNvSpPr/>
                <p:nvPr/>
              </p:nvSpPr>
              <p:spPr>
                <a:xfrm rot="10363800">
                  <a:off x="5242320" y="174744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93"/>
                <p:cNvSpPr/>
                <p:nvPr/>
              </p:nvSpPr>
              <p:spPr>
                <a:xfrm rot="10363800">
                  <a:off x="5217840" y="17938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94"/>
                <p:cNvSpPr/>
                <p:nvPr/>
              </p:nvSpPr>
              <p:spPr>
                <a:xfrm rot="10363800">
                  <a:off x="5156640" y="179208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195"/>
                <p:cNvSpPr/>
                <p:nvPr/>
              </p:nvSpPr>
              <p:spPr>
                <a:xfrm rot="10363800">
                  <a:off x="5142240" y="17434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96"/>
                <p:cNvSpPr/>
                <p:nvPr/>
              </p:nvSpPr>
              <p:spPr>
                <a:xfrm rot="10363800">
                  <a:off x="5203080" y="1711800"/>
                  <a:ext cx="1296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197"/>
                <p:cNvSpPr/>
                <p:nvPr/>
              </p:nvSpPr>
              <p:spPr>
                <a:xfrm rot="10363800">
                  <a:off x="4969800" y="182340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98"/>
                <p:cNvSpPr/>
                <p:nvPr/>
              </p:nvSpPr>
              <p:spPr>
                <a:xfrm rot="10363800">
                  <a:off x="4969800" y="182340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99"/>
                <p:cNvSpPr/>
                <p:nvPr/>
              </p:nvSpPr>
              <p:spPr>
                <a:xfrm rot="10363800">
                  <a:off x="5029560" y="1882440"/>
                  <a:ext cx="1296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00"/>
                <p:cNvSpPr/>
                <p:nvPr/>
              </p:nvSpPr>
              <p:spPr>
                <a:xfrm rot="10363800">
                  <a:off x="5077800" y="187164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01"/>
                <p:cNvSpPr/>
                <p:nvPr/>
              </p:nvSpPr>
              <p:spPr>
                <a:xfrm rot="10363800">
                  <a:off x="5053680" y="1917720"/>
                  <a:ext cx="1296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02"/>
                <p:cNvSpPr/>
                <p:nvPr/>
              </p:nvSpPr>
              <p:spPr>
                <a:xfrm rot="10363800">
                  <a:off x="4992840" y="191772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203"/>
                <p:cNvSpPr/>
                <p:nvPr/>
              </p:nvSpPr>
              <p:spPr>
                <a:xfrm rot="10363800">
                  <a:off x="4977720" y="186732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04"/>
                <p:cNvSpPr/>
                <p:nvPr/>
              </p:nvSpPr>
              <p:spPr>
                <a:xfrm rot="10363800">
                  <a:off x="5037120" y="183672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05"/>
                <p:cNvSpPr/>
                <p:nvPr/>
              </p:nvSpPr>
              <p:spPr>
                <a:xfrm rot="10363800">
                  <a:off x="4936680" y="202176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06"/>
                <p:cNvSpPr/>
                <p:nvPr/>
              </p:nvSpPr>
              <p:spPr>
                <a:xfrm rot="10363800">
                  <a:off x="4936680" y="202176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07"/>
                <p:cNvSpPr/>
                <p:nvPr/>
              </p:nvSpPr>
              <p:spPr>
                <a:xfrm rot="10363800">
                  <a:off x="4996440" y="208080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09"/>
                <p:cNvSpPr/>
                <p:nvPr/>
              </p:nvSpPr>
              <p:spPr>
                <a:xfrm rot="10363800">
                  <a:off x="5044680" y="207036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10"/>
                <p:cNvSpPr/>
                <p:nvPr/>
              </p:nvSpPr>
              <p:spPr>
                <a:xfrm rot="10363800">
                  <a:off x="5020200" y="211608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11"/>
                <p:cNvSpPr/>
                <p:nvPr/>
              </p:nvSpPr>
              <p:spPr>
                <a:xfrm rot="10363800">
                  <a:off x="4959720" y="2116080"/>
                  <a:ext cx="1548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12"/>
                <p:cNvSpPr/>
                <p:nvPr/>
              </p:nvSpPr>
              <p:spPr>
                <a:xfrm rot="10363800">
                  <a:off x="4944600" y="20656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13"/>
                <p:cNvSpPr/>
                <p:nvPr/>
              </p:nvSpPr>
              <p:spPr>
                <a:xfrm rot="10363800">
                  <a:off x="5005440" y="20350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214"/>
                <p:cNvSpPr/>
                <p:nvPr/>
              </p:nvSpPr>
              <p:spPr>
                <a:xfrm rot="10363800">
                  <a:off x="4618440" y="1715040"/>
                  <a:ext cx="100080" cy="1144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15"/>
                <p:cNvSpPr/>
                <p:nvPr/>
              </p:nvSpPr>
              <p:spPr>
                <a:xfrm rot="10363800">
                  <a:off x="4641120" y="175392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16"/>
                <p:cNvSpPr/>
                <p:nvPr/>
              </p:nvSpPr>
              <p:spPr>
                <a:xfrm rot="10363800">
                  <a:off x="4646520" y="176976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17"/>
                <p:cNvSpPr/>
                <p:nvPr/>
              </p:nvSpPr>
              <p:spPr>
                <a:xfrm rot="10363800">
                  <a:off x="4695120" y="1758960"/>
                  <a:ext cx="1548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18"/>
                <p:cNvSpPr/>
                <p:nvPr/>
              </p:nvSpPr>
              <p:spPr>
                <a:xfrm rot="10363800">
                  <a:off x="4670280" y="180468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19"/>
                <p:cNvSpPr/>
                <p:nvPr/>
              </p:nvSpPr>
              <p:spPr>
                <a:xfrm rot="10363800">
                  <a:off x="4658040" y="1724760"/>
                  <a:ext cx="11880" cy="1080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20"/>
                <p:cNvSpPr/>
                <p:nvPr/>
              </p:nvSpPr>
              <p:spPr>
                <a:xfrm rot="10363800">
                  <a:off x="4773960" y="172836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21"/>
                <p:cNvSpPr/>
                <p:nvPr/>
              </p:nvSpPr>
              <p:spPr>
                <a:xfrm rot="10363800">
                  <a:off x="4773960" y="172836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22"/>
                <p:cNvSpPr/>
                <p:nvPr/>
              </p:nvSpPr>
              <p:spPr>
                <a:xfrm rot="10363800">
                  <a:off x="4832280" y="178776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223"/>
                <p:cNvSpPr/>
                <p:nvPr/>
              </p:nvSpPr>
              <p:spPr>
                <a:xfrm rot="10363800">
                  <a:off x="4882680" y="1776600"/>
                  <a:ext cx="1296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224"/>
                <p:cNvSpPr/>
                <p:nvPr/>
              </p:nvSpPr>
              <p:spPr>
                <a:xfrm rot="10363800">
                  <a:off x="4856760" y="182376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25"/>
                <p:cNvSpPr/>
                <p:nvPr/>
              </p:nvSpPr>
              <p:spPr>
                <a:xfrm rot="10363800">
                  <a:off x="4796640" y="18226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26"/>
                <p:cNvSpPr/>
                <p:nvPr/>
              </p:nvSpPr>
              <p:spPr>
                <a:xfrm rot="10363800">
                  <a:off x="4780800" y="177300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27"/>
                <p:cNvSpPr/>
                <p:nvPr/>
              </p:nvSpPr>
              <p:spPr>
                <a:xfrm rot="10363800">
                  <a:off x="4841280" y="174168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28"/>
                <p:cNvSpPr/>
                <p:nvPr/>
              </p:nvSpPr>
              <p:spPr>
                <a:xfrm rot="10363800">
                  <a:off x="4753080" y="1895760"/>
                  <a:ext cx="130320" cy="12204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29"/>
                <p:cNvSpPr/>
                <p:nvPr/>
              </p:nvSpPr>
              <p:spPr>
                <a:xfrm rot="10363800">
                  <a:off x="4753080" y="1895760"/>
                  <a:ext cx="130320" cy="1220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30"/>
                <p:cNvSpPr/>
                <p:nvPr/>
              </p:nvSpPr>
              <p:spPr>
                <a:xfrm rot="10363800">
                  <a:off x="4810680" y="1956240"/>
                  <a:ext cx="15480" cy="1188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31"/>
                <p:cNvSpPr/>
                <p:nvPr/>
              </p:nvSpPr>
              <p:spPr>
                <a:xfrm rot="10363800">
                  <a:off x="4861080" y="194436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32"/>
                <p:cNvSpPr/>
                <p:nvPr/>
              </p:nvSpPr>
              <p:spPr>
                <a:xfrm rot="10363800">
                  <a:off x="4834440" y="1992240"/>
                  <a:ext cx="1548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33"/>
                <p:cNvSpPr/>
                <p:nvPr/>
              </p:nvSpPr>
              <p:spPr>
                <a:xfrm rot="10363800">
                  <a:off x="4775760" y="19900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34"/>
                <p:cNvSpPr/>
                <p:nvPr/>
              </p:nvSpPr>
              <p:spPr>
                <a:xfrm rot="10363800">
                  <a:off x="4758480" y="194004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35"/>
                <p:cNvSpPr/>
                <p:nvPr/>
              </p:nvSpPr>
              <p:spPr>
                <a:xfrm rot="10363800">
                  <a:off x="4820040" y="19090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36"/>
                <p:cNvSpPr/>
                <p:nvPr/>
              </p:nvSpPr>
              <p:spPr>
                <a:xfrm rot="10363800">
                  <a:off x="4788720" y="2085480"/>
                  <a:ext cx="75960" cy="82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37"/>
                <p:cNvSpPr/>
                <p:nvPr/>
              </p:nvSpPr>
              <p:spPr>
                <a:xfrm rot="10363800">
                  <a:off x="4834440" y="2166480"/>
                  <a:ext cx="10800" cy="12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38"/>
                <p:cNvSpPr/>
                <p:nvPr/>
              </p:nvSpPr>
              <p:spPr>
                <a:xfrm rot="10363800">
                  <a:off x="4791960" y="2131920"/>
                  <a:ext cx="1080" cy="324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39"/>
                <p:cNvSpPr/>
                <p:nvPr/>
              </p:nvSpPr>
              <p:spPr>
                <a:xfrm rot="10363800">
                  <a:off x="4840920" y="2129400"/>
                  <a:ext cx="1296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240"/>
                <p:cNvSpPr/>
                <p:nvPr/>
              </p:nvSpPr>
              <p:spPr>
                <a:xfrm rot="10363800">
                  <a:off x="4799880" y="209412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241"/>
                <p:cNvSpPr/>
                <p:nvPr/>
              </p:nvSpPr>
              <p:spPr>
                <a:xfrm rot="10363800">
                  <a:off x="4950360" y="225252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242"/>
                <p:cNvSpPr/>
                <p:nvPr/>
              </p:nvSpPr>
              <p:spPr>
                <a:xfrm rot="10363800">
                  <a:off x="4920840" y="2205360"/>
                  <a:ext cx="104760" cy="9612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243"/>
                <p:cNvSpPr/>
                <p:nvPr/>
              </p:nvSpPr>
              <p:spPr>
                <a:xfrm rot="10363800">
                  <a:off x="4952520" y="2257920"/>
                  <a:ext cx="12960" cy="1188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244"/>
                <p:cNvSpPr/>
                <p:nvPr/>
              </p:nvSpPr>
              <p:spPr>
                <a:xfrm rot="10363800">
                  <a:off x="4999320" y="22474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245"/>
                <p:cNvSpPr/>
                <p:nvPr/>
              </p:nvSpPr>
              <p:spPr>
                <a:xfrm rot="10363800">
                  <a:off x="4960080" y="2212560"/>
                  <a:ext cx="1296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246"/>
                <p:cNvSpPr/>
                <p:nvPr/>
              </p:nvSpPr>
              <p:spPr>
                <a:xfrm rot="10363800">
                  <a:off x="5145120" y="2200680"/>
                  <a:ext cx="1080" cy="21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247"/>
                <p:cNvSpPr/>
                <p:nvPr/>
              </p:nvSpPr>
              <p:spPr>
                <a:xfrm rot="10363800">
                  <a:off x="5092200" y="2158920"/>
                  <a:ext cx="95040" cy="11124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248"/>
                <p:cNvSpPr/>
                <p:nvPr/>
              </p:nvSpPr>
              <p:spPr>
                <a:xfrm rot="10363800">
                  <a:off x="5124600" y="2257200"/>
                  <a:ext cx="4680" cy="540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249"/>
                <p:cNvSpPr/>
                <p:nvPr/>
              </p:nvSpPr>
              <p:spPr>
                <a:xfrm rot="10363800">
                  <a:off x="5115960" y="225144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250"/>
                <p:cNvSpPr/>
                <p:nvPr/>
              </p:nvSpPr>
              <p:spPr>
                <a:xfrm rot="10363800">
                  <a:off x="5098320" y="220212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251"/>
                <p:cNvSpPr/>
                <p:nvPr/>
              </p:nvSpPr>
              <p:spPr>
                <a:xfrm rot="10363800">
                  <a:off x="5169960" y="2173680"/>
                  <a:ext cx="4680" cy="75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252"/>
                <p:cNvSpPr/>
                <p:nvPr/>
              </p:nvSpPr>
              <p:spPr>
                <a:xfrm rot="10363800">
                  <a:off x="5160240" y="217008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253"/>
                <p:cNvSpPr/>
                <p:nvPr/>
              </p:nvSpPr>
              <p:spPr>
                <a:xfrm rot="10363800">
                  <a:off x="4986000" y="166176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254"/>
                <p:cNvSpPr/>
                <p:nvPr/>
              </p:nvSpPr>
              <p:spPr>
                <a:xfrm rot="10363800">
                  <a:off x="4963320" y="1659600"/>
                  <a:ext cx="103680" cy="777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255"/>
                <p:cNvSpPr/>
                <p:nvPr/>
              </p:nvSpPr>
              <p:spPr>
                <a:xfrm rot="10363800">
                  <a:off x="4995360" y="1679760"/>
                  <a:ext cx="11880" cy="972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256"/>
                <p:cNvSpPr/>
                <p:nvPr/>
              </p:nvSpPr>
              <p:spPr>
                <a:xfrm rot="10363800">
                  <a:off x="5042160" y="16660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57"/>
                <p:cNvSpPr/>
                <p:nvPr/>
              </p:nvSpPr>
              <p:spPr>
                <a:xfrm rot="10363800">
                  <a:off x="5015160" y="1711440"/>
                  <a:ext cx="1548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258"/>
                <p:cNvSpPr/>
                <p:nvPr/>
              </p:nvSpPr>
              <p:spPr>
                <a:xfrm rot="10363800">
                  <a:off x="5181480" y="1901160"/>
                  <a:ext cx="91440" cy="11232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259"/>
                <p:cNvSpPr/>
                <p:nvPr/>
              </p:nvSpPr>
              <p:spPr>
                <a:xfrm rot="10363800">
                  <a:off x="5236200" y="194436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260"/>
                <p:cNvSpPr/>
                <p:nvPr/>
              </p:nvSpPr>
              <p:spPr>
                <a:xfrm rot="10363800">
                  <a:off x="5248800" y="1960920"/>
                  <a:ext cx="7200" cy="1080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261"/>
                <p:cNvSpPr/>
                <p:nvPr/>
              </p:nvSpPr>
              <p:spPr>
                <a:xfrm rot="10363800">
                  <a:off x="5241600" y="1959120"/>
                  <a:ext cx="1296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262"/>
                <p:cNvSpPr/>
                <p:nvPr/>
              </p:nvSpPr>
              <p:spPr>
                <a:xfrm rot="10363800">
                  <a:off x="5204160" y="199404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263"/>
                <p:cNvSpPr/>
                <p:nvPr/>
              </p:nvSpPr>
              <p:spPr>
                <a:xfrm rot="10363800">
                  <a:off x="5188320" y="194400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64"/>
                <p:cNvSpPr/>
                <p:nvPr/>
              </p:nvSpPr>
              <p:spPr>
                <a:xfrm rot="10363800">
                  <a:off x="5261040" y="1915920"/>
                  <a:ext cx="2160" cy="75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65"/>
                <p:cNvSpPr/>
                <p:nvPr/>
              </p:nvSpPr>
              <p:spPr>
                <a:xfrm rot="10363800">
                  <a:off x="5249880" y="191232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8" name=""/>
            <p:cNvGrpSpPr/>
            <p:nvPr/>
          </p:nvGrpSpPr>
          <p:grpSpPr>
            <a:xfrm>
              <a:off x="6215040" y="1642680"/>
              <a:ext cx="532800" cy="530280"/>
              <a:chOff x="6215040" y="1642680"/>
              <a:chExt cx="532800" cy="530280"/>
            </a:xfrm>
          </p:grpSpPr>
          <p:sp>
            <p:nvSpPr>
              <p:cNvPr id="729" name="Freeform 9"/>
              <p:cNvSpPr/>
              <p:nvPr/>
            </p:nvSpPr>
            <p:spPr>
              <a:xfrm rot="21165000">
                <a:off x="6242760" y="1670760"/>
                <a:ext cx="476640" cy="474120"/>
              </a:xfrm>
              <a:prstGeom prst="pie">
                <a:avLst/>
              </a:prstGeom>
              <a:solidFill>
                <a:srgbClr val="ff6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0"/>
              <p:cNvSpPr/>
              <p:nvPr/>
            </p:nvSpPr>
            <p:spPr>
              <a:xfrm rot="21165000">
                <a:off x="6261480" y="1688760"/>
                <a:ext cx="431640" cy="435240"/>
              </a:xfrm>
              <a:prstGeom prst="pie">
                <a:avLst/>
              </a:prstGeom>
              <a:solidFill>
                <a:srgbClr val="ae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1"/>
              <p:cNvSpPr/>
              <p:nvPr/>
            </p:nvSpPr>
            <p:spPr>
              <a:xfrm rot="21165000">
                <a:off x="6280920" y="1706040"/>
                <a:ext cx="390240" cy="406440"/>
              </a:xfrm>
              <a:prstGeom prst="pie">
                <a:avLst/>
              </a:prstGeom>
              <a:solidFill>
                <a:srgbClr val="ffd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2"/>
              <p:cNvSpPr/>
              <p:nvPr/>
            </p:nvSpPr>
            <p:spPr>
              <a:xfrm rot="21165000">
                <a:off x="6308640" y="1724760"/>
                <a:ext cx="338760" cy="371880"/>
              </a:xfrm>
              <a:prstGeom prst="pie">
                <a:avLst/>
              </a:prstGeom>
              <a:solidFill>
                <a:srgbClr val="b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7834320" y="1619640"/>
              <a:ext cx="452520" cy="449640"/>
              <a:chOff x="7834320" y="1619640"/>
              <a:chExt cx="452520" cy="449640"/>
            </a:xfrm>
          </p:grpSpPr>
          <p:sp>
            <p:nvSpPr>
              <p:cNvPr id="734" name="Freeform 266"/>
              <p:cNvSpPr/>
              <p:nvPr/>
            </p:nvSpPr>
            <p:spPr>
              <a:xfrm rot="2311800">
                <a:off x="7895520" y="1688040"/>
                <a:ext cx="329760" cy="312120"/>
              </a:xfrm>
              <a:prstGeom prst="pie">
                <a:avLst/>
              </a:prstGeom>
              <a:solidFill>
                <a:srgbClr val="83d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7"/>
              <p:cNvSpPr/>
              <p:nvPr/>
            </p:nvSpPr>
            <p:spPr>
              <a:xfrm rot="2311800">
                <a:off x="7928280" y="1756800"/>
                <a:ext cx="18360" cy="18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268"/>
              <p:cNvSpPr/>
              <p:nvPr/>
            </p:nvSpPr>
            <p:spPr>
              <a:xfrm rot="2311800">
                <a:off x="7985880" y="177300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69"/>
              <p:cNvSpPr/>
              <p:nvPr/>
            </p:nvSpPr>
            <p:spPr>
              <a:xfrm rot="2311800">
                <a:off x="7952760" y="181836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70"/>
              <p:cNvSpPr/>
              <p:nvPr/>
            </p:nvSpPr>
            <p:spPr>
              <a:xfrm rot="2311800">
                <a:off x="7889400" y="1808280"/>
                <a:ext cx="1728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71"/>
              <p:cNvSpPr/>
              <p:nvPr/>
            </p:nvSpPr>
            <p:spPr>
              <a:xfrm rot="2311800">
                <a:off x="7917840" y="185472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72"/>
              <p:cNvSpPr/>
              <p:nvPr/>
            </p:nvSpPr>
            <p:spPr>
              <a:xfrm rot="2311800">
                <a:off x="7967160" y="189324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73"/>
              <p:cNvSpPr/>
              <p:nvPr/>
            </p:nvSpPr>
            <p:spPr>
              <a:xfrm rot="2311800">
                <a:off x="8009280" y="183564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74"/>
              <p:cNvSpPr/>
              <p:nvPr/>
            </p:nvSpPr>
            <p:spPr>
              <a:xfrm rot="2311800">
                <a:off x="7967880" y="195372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75"/>
              <p:cNvSpPr/>
              <p:nvPr/>
            </p:nvSpPr>
            <p:spPr>
              <a:xfrm rot="2311800">
                <a:off x="8038080" y="194616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76"/>
              <p:cNvSpPr/>
              <p:nvPr/>
            </p:nvSpPr>
            <p:spPr>
              <a:xfrm rot="2311800">
                <a:off x="8047800" y="188496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77"/>
              <p:cNvSpPr/>
              <p:nvPr/>
            </p:nvSpPr>
            <p:spPr>
              <a:xfrm rot="2311800">
                <a:off x="8066160" y="179748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78"/>
              <p:cNvSpPr/>
              <p:nvPr/>
            </p:nvSpPr>
            <p:spPr>
              <a:xfrm rot="2311800">
                <a:off x="8046720" y="1745280"/>
                <a:ext cx="147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79"/>
              <p:cNvSpPr/>
              <p:nvPr/>
            </p:nvSpPr>
            <p:spPr>
              <a:xfrm rot="2311800">
                <a:off x="8097120" y="1720800"/>
                <a:ext cx="1800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80"/>
              <p:cNvSpPr/>
              <p:nvPr/>
            </p:nvSpPr>
            <p:spPr>
              <a:xfrm rot="2311800">
                <a:off x="8162280" y="1747800"/>
                <a:ext cx="16920" cy="1692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81"/>
              <p:cNvSpPr/>
              <p:nvPr/>
            </p:nvSpPr>
            <p:spPr>
              <a:xfrm rot="2311800">
                <a:off x="8125560" y="178056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82"/>
              <p:cNvSpPr/>
              <p:nvPr/>
            </p:nvSpPr>
            <p:spPr>
              <a:xfrm rot="2311800">
                <a:off x="8123760" y="184788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83"/>
              <p:cNvSpPr/>
              <p:nvPr/>
            </p:nvSpPr>
            <p:spPr>
              <a:xfrm rot="2311800">
                <a:off x="8150760" y="1893240"/>
                <a:ext cx="13680" cy="18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84"/>
              <p:cNvSpPr/>
              <p:nvPr/>
            </p:nvSpPr>
            <p:spPr>
              <a:xfrm rot="2311800">
                <a:off x="8100000" y="194256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85"/>
              <p:cNvSpPr/>
              <p:nvPr/>
            </p:nvSpPr>
            <p:spPr>
              <a:xfrm rot="2311800">
                <a:off x="8087760" y="200412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86"/>
              <p:cNvSpPr/>
              <p:nvPr/>
            </p:nvSpPr>
            <p:spPr>
              <a:xfrm rot="2311800">
                <a:off x="8031240" y="199440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87"/>
              <p:cNvSpPr/>
              <p:nvPr/>
            </p:nvSpPr>
            <p:spPr>
              <a:xfrm rot="2311800">
                <a:off x="8066880" y="2039400"/>
                <a:ext cx="18360" cy="10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88"/>
              <p:cNvSpPr/>
              <p:nvPr/>
            </p:nvSpPr>
            <p:spPr>
              <a:xfrm rot="2311800">
                <a:off x="8171640" y="1803960"/>
                <a:ext cx="11520" cy="147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6572520" y="3786480"/>
            <a:ext cx="1623600" cy="1625400"/>
            <a:chOff x="6572520" y="3786480"/>
            <a:chExt cx="1623600" cy="1625400"/>
          </a:xfrm>
        </p:grpSpPr>
        <p:sp>
          <p:nvSpPr>
            <p:cNvPr id="758" name="Freeform 9"/>
            <p:cNvSpPr/>
            <p:nvPr/>
          </p:nvSpPr>
          <p:spPr>
            <a:xfrm rot="3012000">
              <a:off x="6804360" y="4025160"/>
              <a:ext cx="1159200" cy="114768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0"/>
            <p:cNvSpPr/>
            <p:nvPr/>
          </p:nvSpPr>
          <p:spPr>
            <a:xfrm rot="3012000">
              <a:off x="6856920" y="4062600"/>
              <a:ext cx="1049760" cy="10537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"/>
            <p:cNvSpPr/>
            <p:nvPr/>
          </p:nvSpPr>
          <p:spPr>
            <a:xfrm rot="3012000">
              <a:off x="6900480" y="4097880"/>
              <a:ext cx="948960" cy="98352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"/>
            <p:cNvSpPr/>
            <p:nvPr/>
          </p:nvSpPr>
          <p:spPr>
            <a:xfrm rot="3012000">
              <a:off x="6962040" y="4146120"/>
              <a:ext cx="824040" cy="89964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235728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e305c"/>
                </a:solidFill>
                <a:latin typeface="Vladimir Script"/>
              </a:rPr>
              <a:t>Happy Mother’s Da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 rot="21133800">
            <a:off x="3798360" y="4239360"/>
            <a:ext cx="3578400" cy="42876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4d21"/>
                </a:solidFill>
                <a:latin typeface="Arial"/>
              </a:rPr>
              <a:t>To the world's number one mom! </a:t>
            </a:r>
            <a:r>
              <a:rPr b="0" lang="en-US" sz="1800" spc="-1" strike="noStrike">
                <a:solidFill>
                  <a:srgbClr val="754d21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3"/>
          <p:cNvSpPr/>
          <p:nvPr/>
        </p:nvSpPr>
        <p:spPr>
          <a:xfrm>
            <a:off x="642960" y="60721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Calibri"/>
              </a:rPr>
              <a:t>Find more free PowerPoint templates on Acoolsof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39320" y="4032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生日卡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9" descr=""/>
          <p:cNvPicPr/>
          <p:nvPr/>
        </p:nvPicPr>
        <p:blipFill>
          <a:blip r:embed="rId2"/>
          <a:stretch/>
        </p:blipFill>
        <p:spPr>
          <a:xfrm flipH="1">
            <a:off x="7855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11" descr=""/>
          <p:cNvPicPr/>
          <p:nvPr/>
        </p:nvPicPr>
        <p:blipFill>
          <a:blip r:embed="rId4"/>
          <a:stretch/>
        </p:blipFill>
        <p:spPr>
          <a:xfrm flipH="1">
            <a:off x="2356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13" descr=""/>
          <p:cNvPicPr/>
          <p:nvPr/>
        </p:nvPicPr>
        <p:blipFill>
          <a:blip r:embed="rId6"/>
          <a:stretch/>
        </p:blipFill>
        <p:spPr>
          <a:xfrm flipH="1">
            <a:off x="39286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15" descr=""/>
          <p:cNvPicPr/>
          <p:nvPr/>
        </p:nvPicPr>
        <p:blipFill>
          <a:blip r:embed="rId8"/>
          <a:stretch/>
        </p:blipFill>
        <p:spPr>
          <a:xfrm flipH="1">
            <a:off x="55004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17" descr=""/>
          <p:cNvPicPr/>
          <p:nvPr/>
        </p:nvPicPr>
        <p:blipFill>
          <a:blip r:embed="rId10"/>
          <a:stretch/>
        </p:blipFill>
        <p:spPr>
          <a:xfrm flipH="1">
            <a:off x="70718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18" descr=""/>
          <p:cNvPicPr/>
          <p:nvPr/>
        </p:nvPicPr>
        <p:blipFill>
          <a:blip r:embed="rId11"/>
          <a:stretch/>
        </p:blipFill>
        <p:spPr>
          <a:xfrm flipH="1">
            <a:off x="78577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780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2" name="图片 5" descr=""/>
          <p:cNvPicPr/>
          <p:nvPr/>
        </p:nvPicPr>
        <p:blipFill>
          <a:blip r:embed="rId13"/>
          <a:stretch/>
        </p:blipFill>
        <p:spPr>
          <a:xfrm>
            <a:off x="714240" y="428760"/>
            <a:ext cx="852480" cy="7855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 txBox="1"/>
          <p:nvPr/>
        </p:nvSpPr>
        <p:spPr>
          <a:xfrm>
            <a:off x="457200" y="16002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little things that I should have said and done to show my gratitude, but it is appreciated what you 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矩形 7"/>
          <p:cNvSpPr/>
          <p:nvPr/>
        </p:nvSpPr>
        <p:spPr>
          <a:xfrm>
            <a:off x="928800" y="3143160"/>
            <a:ext cx="2286000" cy="228600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0"/>
          <p:cNvSpPr/>
          <p:nvPr/>
        </p:nvSpPr>
        <p:spPr>
          <a:xfrm>
            <a:off x="1071720" y="3274920"/>
            <a:ext cx="2011320" cy="2011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1"/>
          <p:cNvSpPr/>
          <p:nvPr/>
        </p:nvSpPr>
        <p:spPr>
          <a:xfrm>
            <a:off x="3394080" y="3154320"/>
            <a:ext cx="2286000" cy="228600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2"/>
          <p:cNvSpPr/>
          <p:nvPr/>
        </p:nvSpPr>
        <p:spPr>
          <a:xfrm>
            <a:off x="3537000" y="3286080"/>
            <a:ext cx="2011320" cy="2011320"/>
          </a:xfrm>
          <a:prstGeom prst="rect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3"/>
          <p:cNvSpPr/>
          <p:nvPr/>
        </p:nvSpPr>
        <p:spPr>
          <a:xfrm>
            <a:off x="5857920" y="3154320"/>
            <a:ext cx="2286000" cy="2286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14"/>
          <p:cNvSpPr/>
          <p:nvPr/>
        </p:nvSpPr>
        <p:spPr>
          <a:xfrm>
            <a:off x="6000840" y="3286080"/>
            <a:ext cx="2011320" cy="2011320"/>
          </a:xfrm>
          <a:prstGeom prst="rect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715360" y="4928760"/>
            <a:ext cx="590760" cy="589680"/>
            <a:chOff x="5715360" y="4928760"/>
            <a:chExt cx="590760" cy="589680"/>
          </a:xfrm>
        </p:grpSpPr>
        <p:sp>
          <p:nvSpPr>
            <p:cNvPr id="791" name="Freeform 9"/>
            <p:cNvSpPr/>
            <p:nvPr/>
          </p:nvSpPr>
          <p:spPr>
            <a:xfrm rot="1808400">
              <a:off x="5793840" y="5008320"/>
              <a:ext cx="433440" cy="43020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 rot="1808400">
              <a:off x="5812200" y="5022720"/>
              <a:ext cx="392760" cy="3949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 rot="1808400">
              <a:off x="5828760" y="5037120"/>
              <a:ext cx="354960" cy="36864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 rot="1808400">
              <a:off x="5852520" y="5055120"/>
              <a:ext cx="308160" cy="33732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286440" y="4928760"/>
            <a:ext cx="657000" cy="651600"/>
            <a:chOff x="3286440" y="4928760"/>
            <a:chExt cx="657000" cy="651600"/>
          </a:xfrm>
        </p:grpSpPr>
        <p:sp>
          <p:nvSpPr>
            <p:cNvPr id="796" name="Freeform 25"/>
            <p:cNvSpPr/>
            <p:nvPr/>
          </p:nvSpPr>
          <p:spPr>
            <a:xfrm rot="19623600">
              <a:off x="3373560" y="5022720"/>
              <a:ext cx="482400" cy="463680"/>
            </a:xfrm>
            <a:prstGeom prst="pie">
              <a:avLst/>
            </a:prstGeom>
            <a:solidFill>
              <a:srgbClr val="ffb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"/>
            <p:cNvSpPr/>
            <p:nvPr/>
          </p:nvSpPr>
          <p:spPr>
            <a:xfrm rot="19623600">
              <a:off x="3358440" y="518112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7"/>
            <p:cNvSpPr/>
            <p:nvPr/>
          </p:nvSpPr>
          <p:spPr>
            <a:xfrm rot="19623600">
              <a:off x="3380400" y="51660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8"/>
            <p:cNvSpPr/>
            <p:nvPr/>
          </p:nvSpPr>
          <p:spPr>
            <a:xfrm rot="19623600">
              <a:off x="3410640" y="517572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9"/>
            <p:cNvSpPr/>
            <p:nvPr/>
          </p:nvSpPr>
          <p:spPr>
            <a:xfrm rot="19623600">
              <a:off x="3404160" y="520560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0"/>
            <p:cNvSpPr/>
            <p:nvPr/>
          </p:nvSpPr>
          <p:spPr>
            <a:xfrm rot="19623600">
              <a:off x="3378960" y="52218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1"/>
            <p:cNvSpPr/>
            <p:nvPr/>
          </p:nvSpPr>
          <p:spPr>
            <a:xfrm rot="19623600">
              <a:off x="3352680" y="52102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2"/>
            <p:cNvSpPr/>
            <p:nvPr/>
          </p:nvSpPr>
          <p:spPr>
            <a:xfrm rot="19623600">
              <a:off x="3372120" y="5188320"/>
              <a:ext cx="5076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3"/>
            <p:cNvSpPr/>
            <p:nvPr/>
          </p:nvSpPr>
          <p:spPr>
            <a:xfrm rot="19623600">
              <a:off x="3383640" y="5196240"/>
              <a:ext cx="2700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4"/>
            <p:cNvSpPr/>
            <p:nvPr/>
          </p:nvSpPr>
          <p:spPr>
            <a:xfrm rot="19623600">
              <a:off x="3552840" y="51994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5"/>
            <p:cNvSpPr/>
            <p:nvPr/>
          </p:nvSpPr>
          <p:spPr>
            <a:xfrm rot="19623600">
              <a:off x="3575520" y="51843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6"/>
            <p:cNvSpPr/>
            <p:nvPr/>
          </p:nvSpPr>
          <p:spPr>
            <a:xfrm rot="19623600">
              <a:off x="3605760" y="519408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7"/>
            <p:cNvSpPr/>
            <p:nvPr/>
          </p:nvSpPr>
          <p:spPr>
            <a:xfrm rot="19623600">
              <a:off x="3599280" y="522396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8"/>
            <p:cNvSpPr/>
            <p:nvPr/>
          </p:nvSpPr>
          <p:spPr>
            <a:xfrm rot="19623600">
              <a:off x="3573360" y="5240520"/>
              <a:ext cx="349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39"/>
            <p:cNvSpPr/>
            <p:nvPr/>
          </p:nvSpPr>
          <p:spPr>
            <a:xfrm rot="19623600">
              <a:off x="3547080" y="522864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0"/>
            <p:cNvSpPr/>
            <p:nvPr/>
          </p:nvSpPr>
          <p:spPr>
            <a:xfrm rot="19623600">
              <a:off x="3566880" y="520632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"/>
            <p:cNvSpPr/>
            <p:nvPr/>
          </p:nvSpPr>
          <p:spPr>
            <a:xfrm rot="19623600">
              <a:off x="3578400" y="5214600"/>
              <a:ext cx="2628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2"/>
            <p:cNvSpPr/>
            <p:nvPr/>
          </p:nvSpPr>
          <p:spPr>
            <a:xfrm rot="19623600">
              <a:off x="3467160" y="5103000"/>
              <a:ext cx="14040" cy="108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3"/>
            <p:cNvSpPr/>
            <p:nvPr/>
          </p:nvSpPr>
          <p:spPr>
            <a:xfrm rot="19623600">
              <a:off x="3516120" y="5115600"/>
              <a:ext cx="14040" cy="140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4"/>
            <p:cNvSpPr/>
            <p:nvPr/>
          </p:nvSpPr>
          <p:spPr>
            <a:xfrm rot="19623600">
              <a:off x="3489120" y="512064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5"/>
            <p:cNvSpPr/>
            <p:nvPr/>
          </p:nvSpPr>
          <p:spPr>
            <a:xfrm rot="19623600">
              <a:off x="3459240" y="511164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"/>
            <p:cNvSpPr/>
            <p:nvPr/>
          </p:nvSpPr>
          <p:spPr>
            <a:xfrm rot="19623600">
              <a:off x="3480840" y="5100480"/>
              <a:ext cx="30600" cy="3132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7"/>
            <p:cNvSpPr/>
            <p:nvPr/>
          </p:nvSpPr>
          <p:spPr>
            <a:xfrm rot="19623600">
              <a:off x="3492000" y="5107680"/>
              <a:ext cx="11160" cy="122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8"/>
            <p:cNvSpPr/>
            <p:nvPr/>
          </p:nvSpPr>
          <p:spPr>
            <a:xfrm rot="19623600">
              <a:off x="3663720" y="50608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9"/>
            <p:cNvSpPr/>
            <p:nvPr/>
          </p:nvSpPr>
          <p:spPr>
            <a:xfrm rot="19623600">
              <a:off x="3687120" y="504576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0"/>
            <p:cNvSpPr/>
            <p:nvPr/>
          </p:nvSpPr>
          <p:spPr>
            <a:xfrm rot="19623600">
              <a:off x="3716280" y="50547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1"/>
            <p:cNvSpPr/>
            <p:nvPr/>
          </p:nvSpPr>
          <p:spPr>
            <a:xfrm rot="19623600">
              <a:off x="3710880" y="508428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2"/>
            <p:cNvSpPr/>
            <p:nvPr/>
          </p:nvSpPr>
          <p:spPr>
            <a:xfrm rot="19623600">
              <a:off x="3684240" y="510048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3"/>
            <p:cNvSpPr/>
            <p:nvPr/>
          </p:nvSpPr>
          <p:spPr>
            <a:xfrm rot="19623600">
              <a:off x="3657960" y="5088600"/>
              <a:ext cx="3240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4"/>
            <p:cNvSpPr/>
            <p:nvPr/>
          </p:nvSpPr>
          <p:spPr>
            <a:xfrm rot="19623600">
              <a:off x="3677760" y="506628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5"/>
            <p:cNvSpPr/>
            <p:nvPr/>
          </p:nvSpPr>
          <p:spPr>
            <a:xfrm rot="19623600">
              <a:off x="3688920" y="5076360"/>
              <a:ext cx="27000" cy="194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6"/>
            <p:cNvSpPr/>
            <p:nvPr/>
          </p:nvSpPr>
          <p:spPr>
            <a:xfrm rot="19623600">
              <a:off x="3408480" y="533160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7"/>
            <p:cNvSpPr/>
            <p:nvPr/>
          </p:nvSpPr>
          <p:spPr>
            <a:xfrm rot="19623600">
              <a:off x="3431160" y="53168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8"/>
            <p:cNvSpPr/>
            <p:nvPr/>
          </p:nvSpPr>
          <p:spPr>
            <a:xfrm rot="19623600">
              <a:off x="3461040" y="53262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9"/>
            <p:cNvSpPr/>
            <p:nvPr/>
          </p:nvSpPr>
          <p:spPr>
            <a:xfrm rot="19623600">
              <a:off x="3454920" y="53560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0"/>
            <p:cNvSpPr/>
            <p:nvPr/>
          </p:nvSpPr>
          <p:spPr>
            <a:xfrm rot="19623600">
              <a:off x="3422880" y="5337360"/>
              <a:ext cx="50760" cy="4068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1"/>
            <p:cNvSpPr/>
            <p:nvPr/>
          </p:nvSpPr>
          <p:spPr>
            <a:xfrm rot="19623600">
              <a:off x="3433680" y="534744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2"/>
            <p:cNvSpPr/>
            <p:nvPr/>
          </p:nvSpPr>
          <p:spPr>
            <a:xfrm rot="19623600">
              <a:off x="3555720" y="53233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3"/>
            <p:cNvSpPr/>
            <p:nvPr/>
          </p:nvSpPr>
          <p:spPr>
            <a:xfrm rot="19623600">
              <a:off x="3578400" y="530892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4"/>
            <p:cNvSpPr/>
            <p:nvPr/>
          </p:nvSpPr>
          <p:spPr>
            <a:xfrm rot="19623600">
              <a:off x="3608280" y="531792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5"/>
            <p:cNvSpPr/>
            <p:nvPr/>
          </p:nvSpPr>
          <p:spPr>
            <a:xfrm rot="19623600">
              <a:off x="3602160" y="534780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6"/>
            <p:cNvSpPr/>
            <p:nvPr/>
          </p:nvSpPr>
          <p:spPr>
            <a:xfrm rot="19623600">
              <a:off x="3575520" y="53640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7"/>
            <p:cNvSpPr/>
            <p:nvPr/>
          </p:nvSpPr>
          <p:spPr>
            <a:xfrm rot="19623600">
              <a:off x="3549600" y="53524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8"/>
            <p:cNvSpPr/>
            <p:nvPr/>
          </p:nvSpPr>
          <p:spPr>
            <a:xfrm rot="19623600">
              <a:off x="3568680" y="532908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9"/>
            <p:cNvSpPr/>
            <p:nvPr/>
          </p:nvSpPr>
          <p:spPr>
            <a:xfrm rot="19623600">
              <a:off x="3580560" y="533916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0"/>
            <p:cNvSpPr/>
            <p:nvPr/>
          </p:nvSpPr>
          <p:spPr>
            <a:xfrm rot="19623600">
              <a:off x="3650400" y="53942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1"/>
            <p:cNvSpPr/>
            <p:nvPr/>
          </p:nvSpPr>
          <p:spPr>
            <a:xfrm rot="19623600">
              <a:off x="3673440" y="537912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"/>
            <p:cNvSpPr/>
            <p:nvPr/>
          </p:nvSpPr>
          <p:spPr>
            <a:xfrm rot="19623600">
              <a:off x="3703680" y="5389200"/>
              <a:ext cx="313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3"/>
            <p:cNvSpPr/>
            <p:nvPr/>
          </p:nvSpPr>
          <p:spPr>
            <a:xfrm rot="19623600">
              <a:off x="3695400" y="5419800"/>
              <a:ext cx="29520" cy="194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4"/>
            <p:cNvSpPr/>
            <p:nvPr/>
          </p:nvSpPr>
          <p:spPr>
            <a:xfrm rot="19623600">
              <a:off x="3671280" y="54342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5"/>
            <p:cNvSpPr/>
            <p:nvPr/>
          </p:nvSpPr>
          <p:spPr>
            <a:xfrm rot="19623600">
              <a:off x="3645000" y="54226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6"/>
            <p:cNvSpPr/>
            <p:nvPr/>
          </p:nvSpPr>
          <p:spPr>
            <a:xfrm rot="19623600">
              <a:off x="3664080" y="540000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7"/>
            <p:cNvSpPr/>
            <p:nvPr/>
          </p:nvSpPr>
          <p:spPr>
            <a:xfrm rot="19623600">
              <a:off x="3676320" y="540936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8"/>
            <p:cNvSpPr/>
            <p:nvPr/>
          </p:nvSpPr>
          <p:spPr>
            <a:xfrm rot="19623600">
              <a:off x="3708360" y="51670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9"/>
            <p:cNvSpPr/>
            <p:nvPr/>
          </p:nvSpPr>
          <p:spPr>
            <a:xfrm rot="19623600">
              <a:off x="3731040" y="51516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80"/>
            <p:cNvSpPr/>
            <p:nvPr/>
          </p:nvSpPr>
          <p:spPr>
            <a:xfrm rot="19623600">
              <a:off x="3762000" y="5164560"/>
              <a:ext cx="2016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81"/>
            <p:cNvSpPr/>
            <p:nvPr/>
          </p:nvSpPr>
          <p:spPr>
            <a:xfrm rot="19623600">
              <a:off x="3754440" y="5191920"/>
              <a:ext cx="295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2"/>
            <p:cNvSpPr/>
            <p:nvPr/>
          </p:nvSpPr>
          <p:spPr>
            <a:xfrm rot="19623600">
              <a:off x="3728880" y="520704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3"/>
            <p:cNvSpPr/>
            <p:nvPr/>
          </p:nvSpPr>
          <p:spPr>
            <a:xfrm rot="19623600">
              <a:off x="3702960" y="51951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4"/>
            <p:cNvSpPr/>
            <p:nvPr/>
          </p:nvSpPr>
          <p:spPr>
            <a:xfrm rot="19623600">
              <a:off x="3721680" y="517248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5"/>
            <p:cNvSpPr/>
            <p:nvPr/>
          </p:nvSpPr>
          <p:spPr>
            <a:xfrm rot="19623600">
              <a:off x="3733920" y="5182200"/>
              <a:ext cx="2628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6"/>
            <p:cNvSpPr/>
            <p:nvPr/>
          </p:nvSpPr>
          <p:spPr>
            <a:xfrm rot="19623600">
              <a:off x="3724560" y="527400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7"/>
            <p:cNvSpPr/>
            <p:nvPr/>
          </p:nvSpPr>
          <p:spPr>
            <a:xfrm rot="19623600">
              <a:off x="3718800" y="5302440"/>
              <a:ext cx="324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8"/>
            <p:cNvSpPr/>
            <p:nvPr/>
          </p:nvSpPr>
          <p:spPr>
            <a:xfrm rot="19623600">
              <a:off x="3736080" y="5285880"/>
              <a:ext cx="31320" cy="284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9"/>
            <p:cNvSpPr/>
            <p:nvPr/>
          </p:nvSpPr>
          <p:spPr>
            <a:xfrm rot="19623600">
              <a:off x="3445200" y="5195160"/>
              <a:ext cx="18360" cy="1332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0"/>
            <p:cNvSpPr/>
            <p:nvPr/>
          </p:nvSpPr>
          <p:spPr>
            <a:xfrm rot="19623600">
              <a:off x="3514680" y="52207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91"/>
            <p:cNvSpPr/>
            <p:nvPr/>
          </p:nvSpPr>
          <p:spPr>
            <a:xfrm rot="19623600">
              <a:off x="3677760" y="518508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92"/>
            <p:cNvSpPr/>
            <p:nvPr/>
          </p:nvSpPr>
          <p:spPr>
            <a:xfrm rot="19623600">
              <a:off x="3621600" y="5083560"/>
              <a:ext cx="1728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3"/>
            <p:cNvSpPr/>
            <p:nvPr/>
          </p:nvSpPr>
          <p:spPr>
            <a:xfrm rot="19623600">
              <a:off x="3643920" y="52941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94"/>
            <p:cNvSpPr/>
            <p:nvPr/>
          </p:nvSpPr>
          <p:spPr>
            <a:xfrm rot="19623600">
              <a:off x="3593880" y="54385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5"/>
            <p:cNvSpPr/>
            <p:nvPr/>
          </p:nvSpPr>
          <p:spPr>
            <a:xfrm rot="19623600">
              <a:off x="3402000" y="52981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786240" y="4929480"/>
            <a:ext cx="610560" cy="573840"/>
            <a:chOff x="786240" y="4929480"/>
            <a:chExt cx="610560" cy="573840"/>
          </a:xfrm>
        </p:grpSpPr>
        <p:sp>
          <p:nvSpPr>
            <p:cNvPr id="868" name="Freeform 188"/>
            <p:cNvSpPr/>
            <p:nvPr/>
          </p:nvSpPr>
          <p:spPr>
            <a:xfrm rot="10363800">
              <a:off x="815760" y="4962240"/>
              <a:ext cx="550800" cy="507960"/>
            </a:xfrm>
            <a:prstGeom prst="pie">
              <a:avLst/>
            </a:prstGeom>
            <a:solidFill>
              <a:srgbClr val="975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9"/>
            <p:cNvSpPr/>
            <p:nvPr/>
          </p:nvSpPr>
          <p:spPr>
            <a:xfrm rot="10363800">
              <a:off x="1229760" y="499824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90"/>
            <p:cNvSpPr/>
            <p:nvPr/>
          </p:nvSpPr>
          <p:spPr>
            <a:xfrm rot="10363800">
              <a:off x="1229760" y="499824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1"/>
            <p:cNvSpPr/>
            <p:nvPr/>
          </p:nvSpPr>
          <p:spPr>
            <a:xfrm rot="10363800">
              <a:off x="1279440" y="504072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92"/>
            <p:cNvSpPr/>
            <p:nvPr/>
          </p:nvSpPr>
          <p:spPr>
            <a:xfrm rot="10363800">
              <a:off x="1320120" y="50320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93"/>
            <p:cNvSpPr/>
            <p:nvPr/>
          </p:nvSpPr>
          <p:spPr>
            <a:xfrm rot="10363800">
              <a:off x="1298880" y="50662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94"/>
            <p:cNvSpPr/>
            <p:nvPr/>
          </p:nvSpPr>
          <p:spPr>
            <a:xfrm rot="10363800">
              <a:off x="1248120" y="5065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95"/>
            <p:cNvSpPr/>
            <p:nvPr/>
          </p:nvSpPr>
          <p:spPr>
            <a:xfrm rot="10363800">
              <a:off x="1236600" y="503100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96"/>
            <p:cNvSpPr/>
            <p:nvPr/>
          </p:nvSpPr>
          <p:spPr>
            <a:xfrm rot="10363800">
              <a:off x="1287360" y="500760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97"/>
            <p:cNvSpPr/>
            <p:nvPr/>
          </p:nvSpPr>
          <p:spPr>
            <a:xfrm rot="10363800">
              <a:off x="1090800" y="508968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98"/>
            <p:cNvSpPr/>
            <p:nvPr/>
          </p:nvSpPr>
          <p:spPr>
            <a:xfrm rot="10363800">
              <a:off x="1090800" y="508968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99"/>
            <p:cNvSpPr/>
            <p:nvPr/>
          </p:nvSpPr>
          <p:spPr>
            <a:xfrm rot="10363800">
              <a:off x="1140480" y="513216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00"/>
            <p:cNvSpPr/>
            <p:nvPr/>
          </p:nvSpPr>
          <p:spPr>
            <a:xfrm rot="10363800">
              <a:off x="1181160" y="51238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01"/>
            <p:cNvSpPr/>
            <p:nvPr/>
          </p:nvSpPr>
          <p:spPr>
            <a:xfrm rot="10363800">
              <a:off x="1159920" y="515736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02"/>
            <p:cNvSpPr/>
            <p:nvPr/>
          </p:nvSpPr>
          <p:spPr>
            <a:xfrm rot="10363800">
              <a:off x="1109160" y="515808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03"/>
            <p:cNvSpPr/>
            <p:nvPr/>
          </p:nvSpPr>
          <p:spPr>
            <a:xfrm rot="10363800">
              <a:off x="1097640" y="512208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04"/>
            <p:cNvSpPr/>
            <p:nvPr/>
          </p:nvSpPr>
          <p:spPr>
            <a:xfrm rot="10363800">
              <a:off x="1147320" y="50994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05"/>
            <p:cNvSpPr/>
            <p:nvPr/>
          </p:nvSpPr>
          <p:spPr>
            <a:xfrm rot="10363800">
              <a:off x="1059840" y="523224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06"/>
            <p:cNvSpPr/>
            <p:nvPr/>
          </p:nvSpPr>
          <p:spPr>
            <a:xfrm rot="10363800">
              <a:off x="1059840" y="523224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7"/>
            <p:cNvSpPr/>
            <p:nvPr/>
          </p:nvSpPr>
          <p:spPr>
            <a:xfrm rot="10363800">
              <a:off x="1109880" y="527508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09"/>
            <p:cNvSpPr/>
            <p:nvPr/>
          </p:nvSpPr>
          <p:spPr>
            <a:xfrm rot="10363800">
              <a:off x="1150560" y="52664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10"/>
            <p:cNvSpPr/>
            <p:nvPr/>
          </p:nvSpPr>
          <p:spPr>
            <a:xfrm rot="10363800">
              <a:off x="1129680" y="5299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11"/>
            <p:cNvSpPr/>
            <p:nvPr/>
          </p:nvSpPr>
          <p:spPr>
            <a:xfrm rot="10363800">
              <a:off x="1078200" y="530064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12"/>
            <p:cNvSpPr/>
            <p:nvPr/>
          </p:nvSpPr>
          <p:spPr>
            <a:xfrm rot="10363800">
              <a:off x="1067040" y="52646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3"/>
            <p:cNvSpPr/>
            <p:nvPr/>
          </p:nvSpPr>
          <p:spPr>
            <a:xfrm rot="10363800">
              <a:off x="1118160" y="524160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14"/>
            <p:cNvSpPr/>
            <p:nvPr/>
          </p:nvSpPr>
          <p:spPr>
            <a:xfrm rot="10363800">
              <a:off x="799200" y="5018040"/>
              <a:ext cx="83520" cy="81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15"/>
            <p:cNvSpPr/>
            <p:nvPr/>
          </p:nvSpPr>
          <p:spPr>
            <a:xfrm rot="10363800">
              <a:off x="818280" y="504612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16"/>
            <p:cNvSpPr/>
            <p:nvPr/>
          </p:nvSpPr>
          <p:spPr>
            <a:xfrm rot="10363800">
              <a:off x="822600" y="505764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17"/>
            <p:cNvSpPr/>
            <p:nvPr/>
          </p:nvSpPr>
          <p:spPr>
            <a:xfrm rot="10363800">
              <a:off x="862920" y="504900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18"/>
            <p:cNvSpPr/>
            <p:nvPr/>
          </p:nvSpPr>
          <p:spPr>
            <a:xfrm rot="10363800">
              <a:off x="842400" y="508212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19"/>
            <p:cNvSpPr/>
            <p:nvPr/>
          </p:nvSpPr>
          <p:spPr>
            <a:xfrm rot="10363800">
              <a:off x="832320" y="5024880"/>
              <a:ext cx="10080" cy="756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20"/>
            <p:cNvSpPr/>
            <p:nvPr/>
          </p:nvSpPr>
          <p:spPr>
            <a:xfrm rot="10363800">
              <a:off x="928800" y="502488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21"/>
            <p:cNvSpPr/>
            <p:nvPr/>
          </p:nvSpPr>
          <p:spPr>
            <a:xfrm rot="10363800">
              <a:off x="928800" y="502488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2"/>
            <p:cNvSpPr/>
            <p:nvPr/>
          </p:nvSpPr>
          <p:spPr>
            <a:xfrm rot="10363800">
              <a:off x="977400" y="506772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23"/>
            <p:cNvSpPr/>
            <p:nvPr/>
          </p:nvSpPr>
          <p:spPr>
            <a:xfrm rot="10363800">
              <a:off x="1019520" y="505908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24"/>
            <p:cNvSpPr/>
            <p:nvPr/>
          </p:nvSpPr>
          <p:spPr>
            <a:xfrm rot="10363800">
              <a:off x="997200" y="50929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25"/>
            <p:cNvSpPr/>
            <p:nvPr/>
          </p:nvSpPr>
          <p:spPr>
            <a:xfrm rot="10363800">
              <a:off x="947520" y="50932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26"/>
            <p:cNvSpPr/>
            <p:nvPr/>
          </p:nvSpPr>
          <p:spPr>
            <a:xfrm rot="10363800">
              <a:off x="934560" y="50580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27"/>
            <p:cNvSpPr/>
            <p:nvPr/>
          </p:nvSpPr>
          <p:spPr>
            <a:xfrm rot="10363800">
              <a:off x="985680" y="503460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28"/>
            <p:cNvSpPr/>
            <p:nvPr/>
          </p:nvSpPr>
          <p:spPr>
            <a:xfrm rot="10363800">
              <a:off x="908280" y="5144760"/>
              <a:ext cx="108720" cy="871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29"/>
            <p:cNvSpPr/>
            <p:nvPr/>
          </p:nvSpPr>
          <p:spPr>
            <a:xfrm rot="10363800">
              <a:off x="908280" y="5144760"/>
              <a:ext cx="108720" cy="87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30"/>
            <p:cNvSpPr/>
            <p:nvPr/>
          </p:nvSpPr>
          <p:spPr>
            <a:xfrm rot="10363800">
              <a:off x="956160" y="5188320"/>
              <a:ext cx="1296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31"/>
            <p:cNvSpPr/>
            <p:nvPr/>
          </p:nvSpPr>
          <p:spPr>
            <a:xfrm rot="10363800">
              <a:off x="999000" y="51789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32"/>
            <p:cNvSpPr/>
            <p:nvPr/>
          </p:nvSpPr>
          <p:spPr>
            <a:xfrm rot="10363800">
              <a:off x="975600" y="521388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33"/>
            <p:cNvSpPr/>
            <p:nvPr/>
          </p:nvSpPr>
          <p:spPr>
            <a:xfrm rot="10363800">
              <a:off x="927000" y="52131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34"/>
            <p:cNvSpPr/>
            <p:nvPr/>
          </p:nvSpPr>
          <p:spPr>
            <a:xfrm rot="10363800">
              <a:off x="913320" y="517788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35"/>
            <p:cNvSpPr/>
            <p:nvPr/>
          </p:nvSpPr>
          <p:spPr>
            <a:xfrm rot="10363800">
              <a:off x="965520" y="51548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36"/>
            <p:cNvSpPr/>
            <p:nvPr/>
          </p:nvSpPr>
          <p:spPr>
            <a:xfrm rot="10363800">
              <a:off x="936000" y="5280480"/>
              <a:ext cx="63360" cy="586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37"/>
            <p:cNvSpPr/>
            <p:nvPr/>
          </p:nvSpPr>
          <p:spPr>
            <a:xfrm rot="10363800">
              <a:off x="973080" y="5338080"/>
              <a:ext cx="9000" cy="90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38"/>
            <p:cNvSpPr/>
            <p:nvPr/>
          </p:nvSpPr>
          <p:spPr>
            <a:xfrm rot="10363800">
              <a:off x="938520" y="5314680"/>
              <a:ext cx="720" cy="21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9"/>
            <p:cNvSpPr/>
            <p:nvPr/>
          </p:nvSpPr>
          <p:spPr>
            <a:xfrm rot="10363800">
              <a:off x="979200" y="531144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0"/>
            <p:cNvSpPr/>
            <p:nvPr/>
          </p:nvSpPr>
          <p:spPr>
            <a:xfrm rot="10363800">
              <a:off x="945720" y="528732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41"/>
            <p:cNvSpPr/>
            <p:nvPr/>
          </p:nvSpPr>
          <p:spPr>
            <a:xfrm rot="10363800">
              <a:off x="1069200" y="539820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42"/>
            <p:cNvSpPr/>
            <p:nvPr/>
          </p:nvSpPr>
          <p:spPr>
            <a:xfrm rot="10363800">
              <a:off x="1044000" y="5364360"/>
              <a:ext cx="87480" cy="68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43"/>
            <p:cNvSpPr/>
            <p:nvPr/>
          </p:nvSpPr>
          <p:spPr>
            <a:xfrm rot="10363800">
              <a:off x="1070280" y="5402160"/>
              <a:ext cx="1080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44"/>
            <p:cNvSpPr/>
            <p:nvPr/>
          </p:nvSpPr>
          <p:spPr>
            <a:xfrm rot="10363800">
              <a:off x="1109880" y="53938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45"/>
            <p:cNvSpPr/>
            <p:nvPr/>
          </p:nvSpPr>
          <p:spPr>
            <a:xfrm rot="10363800">
              <a:off x="1077120" y="536940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46"/>
            <p:cNvSpPr/>
            <p:nvPr/>
          </p:nvSpPr>
          <p:spPr>
            <a:xfrm rot="10363800">
              <a:off x="1231560" y="5358240"/>
              <a:ext cx="72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47"/>
            <p:cNvSpPr/>
            <p:nvPr/>
          </p:nvSpPr>
          <p:spPr>
            <a:xfrm rot="10363800">
              <a:off x="1187640" y="5328360"/>
              <a:ext cx="79560" cy="795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48"/>
            <p:cNvSpPr/>
            <p:nvPr/>
          </p:nvSpPr>
          <p:spPr>
            <a:xfrm rot="10363800">
              <a:off x="1213560" y="5398920"/>
              <a:ext cx="3960" cy="36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49"/>
            <p:cNvSpPr/>
            <p:nvPr/>
          </p:nvSpPr>
          <p:spPr>
            <a:xfrm rot="10363800">
              <a:off x="1206720" y="53949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50"/>
            <p:cNvSpPr/>
            <p:nvPr/>
          </p:nvSpPr>
          <p:spPr>
            <a:xfrm rot="10363800">
              <a:off x="1193040" y="53600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51"/>
            <p:cNvSpPr/>
            <p:nvPr/>
          </p:nvSpPr>
          <p:spPr>
            <a:xfrm rot="10363800">
              <a:off x="1252800" y="5338440"/>
              <a:ext cx="396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52"/>
            <p:cNvSpPr/>
            <p:nvPr/>
          </p:nvSpPr>
          <p:spPr>
            <a:xfrm rot="10363800">
              <a:off x="1244520" y="533628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3"/>
            <p:cNvSpPr/>
            <p:nvPr/>
          </p:nvSpPr>
          <p:spPr>
            <a:xfrm rot="10363800">
              <a:off x="1107720" y="497520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54"/>
            <p:cNvSpPr/>
            <p:nvPr/>
          </p:nvSpPr>
          <p:spPr>
            <a:xfrm rot="10363800">
              <a:off x="1087920" y="4972680"/>
              <a:ext cx="86760" cy="55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55"/>
            <p:cNvSpPr/>
            <p:nvPr/>
          </p:nvSpPr>
          <p:spPr>
            <a:xfrm rot="10363800">
              <a:off x="1114560" y="4987440"/>
              <a:ext cx="10080" cy="68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56"/>
            <p:cNvSpPr/>
            <p:nvPr/>
          </p:nvSpPr>
          <p:spPr>
            <a:xfrm rot="10363800">
              <a:off x="1154520" y="497700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57"/>
            <p:cNvSpPr/>
            <p:nvPr/>
          </p:nvSpPr>
          <p:spPr>
            <a:xfrm rot="10363800">
              <a:off x="1131120" y="5010480"/>
              <a:ext cx="1296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58"/>
            <p:cNvSpPr/>
            <p:nvPr/>
          </p:nvSpPr>
          <p:spPr>
            <a:xfrm rot="10363800">
              <a:off x="1265400" y="5142600"/>
              <a:ext cx="76680" cy="802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59"/>
            <p:cNvSpPr/>
            <p:nvPr/>
          </p:nvSpPr>
          <p:spPr>
            <a:xfrm rot="10363800">
              <a:off x="1311840" y="517320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60"/>
            <p:cNvSpPr/>
            <p:nvPr/>
          </p:nvSpPr>
          <p:spPr>
            <a:xfrm rot="10363800">
              <a:off x="1322280" y="5185080"/>
              <a:ext cx="5760" cy="756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61"/>
            <p:cNvSpPr/>
            <p:nvPr/>
          </p:nvSpPr>
          <p:spPr>
            <a:xfrm rot="10363800">
              <a:off x="1316160" y="518364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62"/>
            <p:cNvSpPr/>
            <p:nvPr/>
          </p:nvSpPr>
          <p:spPr>
            <a:xfrm rot="10363800">
              <a:off x="1284480" y="52099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 rot="10363800">
              <a:off x="1271880" y="51739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64"/>
            <p:cNvSpPr/>
            <p:nvPr/>
          </p:nvSpPr>
          <p:spPr>
            <a:xfrm rot="10363800">
              <a:off x="1333440" y="5152320"/>
              <a:ext cx="180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65"/>
            <p:cNvSpPr/>
            <p:nvPr/>
          </p:nvSpPr>
          <p:spPr>
            <a:xfrm rot="10363800">
              <a:off x="1324080" y="51501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5214960" y="2928600"/>
            <a:ext cx="657360" cy="651600"/>
            <a:chOff x="5214960" y="2928600"/>
            <a:chExt cx="657360" cy="651600"/>
          </a:xfrm>
        </p:grpSpPr>
        <p:sp>
          <p:nvSpPr>
            <p:cNvPr id="946" name="Freeform 25"/>
            <p:cNvSpPr/>
            <p:nvPr/>
          </p:nvSpPr>
          <p:spPr>
            <a:xfrm rot="19623600">
              <a:off x="5302080" y="3022200"/>
              <a:ext cx="482760" cy="463680"/>
            </a:xfrm>
            <a:prstGeom prst="pie">
              <a:avLst/>
            </a:prstGeom>
            <a:solidFill>
              <a:srgbClr val="ffb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 rot="19623600">
              <a:off x="5286960" y="318096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7"/>
            <p:cNvSpPr/>
            <p:nvPr/>
          </p:nvSpPr>
          <p:spPr>
            <a:xfrm rot="19623600">
              <a:off x="5308920" y="31658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8"/>
            <p:cNvSpPr/>
            <p:nvPr/>
          </p:nvSpPr>
          <p:spPr>
            <a:xfrm rot="19623600">
              <a:off x="5339160" y="317556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9"/>
            <p:cNvSpPr/>
            <p:nvPr/>
          </p:nvSpPr>
          <p:spPr>
            <a:xfrm rot="19623600">
              <a:off x="5332680" y="320544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0"/>
            <p:cNvSpPr/>
            <p:nvPr/>
          </p:nvSpPr>
          <p:spPr>
            <a:xfrm rot="19623600">
              <a:off x="5307480" y="32216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1"/>
            <p:cNvSpPr/>
            <p:nvPr/>
          </p:nvSpPr>
          <p:spPr>
            <a:xfrm rot="19623600">
              <a:off x="5281560" y="32097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 rot="19623600">
              <a:off x="5300640" y="3188160"/>
              <a:ext cx="5076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 rot="19623600">
              <a:off x="5312160" y="3196080"/>
              <a:ext cx="2700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 rot="19623600">
              <a:off x="5481720" y="31993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 rot="19623600">
              <a:off x="5504040" y="31842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 rot="19623600">
              <a:off x="5534280" y="319392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 rot="19623600">
              <a:off x="5527800" y="322380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 rot="19623600">
              <a:off x="5501880" y="3240360"/>
              <a:ext cx="349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9"/>
            <p:cNvSpPr/>
            <p:nvPr/>
          </p:nvSpPr>
          <p:spPr>
            <a:xfrm rot="19623600">
              <a:off x="5475600" y="32284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0"/>
            <p:cNvSpPr/>
            <p:nvPr/>
          </p:nvSpPr>
          <p:spPr>
            <a:xfrm rot="19623600">
              <a:off x="5495400" y="320616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1"/>
            <p:cNvSpPr/>
            <p:nvPr/>
          </p:nvSpPr>
          <p:spPr>
            <a:xfrm rot="19623600">
              <a:off x="5506920" y="3214440"/>
              <a:ext cx="2628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"/>
            <p:cNvSpPr/>
            <p:nvPr/>
          </p:nvSpPr>
          <p:spPr>
            <a:xfrm rot="19623600">
              <a:off x="5396040" y="3102840"/>
              <a:ext cx="14040" cy="108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3"/>
            <p:cNvSpPr/>
            <p:nvPr/>
          </p:nvSpPr>
          <p:spPr>
            <a:xfrm rot="19623600">
              <a:off x="5444640" y="3115440"/>
              <a:ext cx="14040" cy="140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4"/>
            <p:cNvSpPr/>
            <p:nvPr/>
          </p:nvSpPr>
          <p:spPr>
            <a:xfrm rot="19623600">
              <a:off x="5417640" y="312048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5"/>
            <p:cNvSpPr/>
            <p:nvPr/>
          </p:nvSpPr>
          <p:spPr>
            <a:xfrm rot="19623600">
              <a:off x="5387760" y="311148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"/>
            <p:cNvSpPr/>
            <p:nvPr/>
          </p:nvSpPr>
          <p:spPr>
            <a:xfrm rot="19623600">
              <a:off x="5409720" y="3100320"/>
              <a:ext cx="30600" cy="3132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7"/>
            <p:cNvSpPr/>
            <p:nvPr/>
          </p:nvSpPr>
          <p:spPr>
            <a:xfrm rot="19623600">
              <a:off x="5420880" y="3107520"/>
              <a:ext cx="11160" cy="122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8"/>
            <p:cNvSpPr/>
            <p:nvPr/>
          </p:nvSpPr>
          <p:spPr>
            <a:xfrm rot="19623600">
              <a:off x="5592600" y="30607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9"/>
            <p:cNvSpPr/>
            <p:nvPr/>
          </p:nvSpPr>
          <p:spPr>
            <a:xfrm rot="19623600">
              <a:off x="5616000" y="304560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0"/>
            <p:cNvSpPr/>
            <p:nvPr/>
          </p:nvSpPr>
          <p:spPr>
            <a:xfrm rot="19623600">
              <a:off x="5645160" y="30546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1"/>
            <p:cNvSpPr/>
            <p:nvPr/>
          </p:nvSpPr>
          <p:spPr>
            <a:xfrm rot="19623600">
              <a:off x="5639400" y="308412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2"/>
            <p:cNvSpPr/>
            <p:nvPr/>
          </p:nvSpPr>
          <p:spPr>
            <a:xfrm rot="19623600">
              <a:off x="5612760" y="30999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3"/>
            <p:cNvSpPr/>
            <p:nvPr/>
          </p:nvSpPr>
          <p:spPr>
            <a:xfrm rot="19623600">
              <a:off x="5586840" y="3088440"/>
              <a:ext cx="3240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4"/>
            <p:cNvSpPr/>
            <p:nvPr/>
          </p:nvSpPr>
          <p:spPr>
            <a:xfrm rot="19623600">
              <a:off x="5606640" y="306612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5"/>
            <p:cNvSpPr/>
            <p:nvPr/>
          </p:nvSpPr>
          <p:spPr>
            <a:xfrm rot="19623600">
              <a:off x="5617800" y="3075840"/>
              <a:ext cx="27000" cy="194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6"/>
            <p:cNvSpPr/>
            <p:nvPr/>
          </p:nvSpPr>
          <p:spPr>
            <a:xfrm rot="19623600">
              <a:off x="5337000" y="33314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"/>
            <p:cNvSpPr/>
            <p:nvPr/>
          </p:nvSpPr>
          <p:spPr>
            <a:xfrm rot="19623600">
              <a:off x="5360040" y="331668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8"/>
            <p:cNvSpPr/>
            <p:nvPr/>
          </p:nvSpPr>
          <p:spPr>
            <a:xfrm rot="19623600">
              <a:off x="5389920" y="33260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9"/>
            <p:cNvSpPr/>
            <p:nvPr/>
          </p:nvSpPr>
          <p:spPr>
            <a:xfrm rot="19623600">
              <a:off x="5383440" y="33559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0"/>
            <p:cNvSpPr/>
            <p:nvPr/>
          </p:nvSpPr>
          <p:spPr>
            <a:xfrm rot="19623600">
              <a:off x="5351400" y="3337200"/>
              <a:ext cx="50760" cy="4068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1"/>
            <p:cNvSpPr/>
            <p:nvPr/>
          </p:nvSpPr>
          <p:spPr>
            <a:xfrm rot="19623600">
              <a:off x="5362200" y="334728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62"/>
            <p:cNvSpPr/>
            <p:nvPr/>
          </p:nvSpPr>
          <p:spPr>
            <a:xfrm rot="19623600">
              <a:off x="5484240" y="332316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3"/>
            <p:cNvSpPr/>
            <p:nvPr/>
          </p:nvSpPr>
          <p:spPr>
            <a:xfrm rot="19623600">
              <a:off x="5507280" y="330876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4"/>
            <p:cNvSpPr/>
            <p:nvPr/>
          </p:nvSpPr>
          <p:spPr>
            <a:xfrm rot="19623600">
              <a:off x="5537160" y="331776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5"/>
            <p:cNvSpPr/>
            <p:nvPr/>
          </p:nvSpPr>
          <p:spPr>
            <a:xfrm rot="19623600">
              <a:off x="5530680" y="33476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6"/>
            <p:cNvSpPr/>
            <p:nvPr/>
          </p:nvSpPr>
          <p:spPr>
            <a:xfrm rot="19623600">
              <a:off x="5504040" y="33638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7"/>
            <p:cNvSpPr/>
            <p:nvPr/>
          </p:nvSpPr>
          <p:spPr>
            <a:xfrm rot="19623600">
              <a:off x="5478120" y="33519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8"/>
            <p:cNvSpPr/>
            <p:nvPr/>
          </p:nvSpPr>
          <p:spPr>
            <a:xfrm rot="19623600">
              <a:off x="5497200" y="332892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9"/>
            <p:cNvSpPr/>
            <p:nvPr/>
          </p:nvSpPr>
          <p:spPr>
            <a:xfrm rot="19623600">
              <a:off x="5509080" y="333900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0"/>
            <p:cNvSpPr/>
            <p:nvPr/>
          </p:nvSpPr>
          <p:spPr>
            <a:xfrm rot="19623600">
              <a:off x="5579280" y="33937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71"/>
            <p:cNvSpPr/>
            <p:nvPr/>
          </p:nvSpPr>
          <p:spPr>
            <a:xfrm rot="19623600">
              <a:off x="5601960" y="33789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72"/>
            <p:cNvSpPr/>
            <p:nvPr/>
          </p:nvSpPr>
          <p:spPr>
            <a:xfrm rot="19623600">
              <a:off x="5632560" y="3388680"/>
              <a:ext cx="313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73"/>
            <p:cNvSpPr/>
            <p:nvPr/>
          </p:nvSpPr>
          <p:spPr>
            <a:xfrm rot="19623600">
              <a:off x="5624280" y="3419280"/>
              <a:ext cx="29520" cy="194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4"/>
            <p:cNvSpPr/>
            <p:nvPr/>
          </p:nvSpPr>
          <p:spPr>
            <a:xfrm rot="19623600">
              <a:off x="5600160" y="343368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5"/>
            <p:cNvSpPr/>
            <p:nvPr/>
          </p:nvSpPr>
          <p:spPr>
            <a:xfrm rot="19623600">
              <a:off x="5573880" y="34221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6"/>
            <p:cNvSpPr/>
            <p:nvPr/>
          </p:nvSpPr>
          <p:spPr>
            <a:xfrm rot="19623600">
              <a:off x="5592600" y="339984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7"/>
            <p:cNvSpPr/>
            <p:nvPr/>
          </p:nvSpPr>
          <p:spPr>
            <a:xfrm rot="19623600">
              <a:off x="5604840" y="340920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8"/>
            <p:cNvSpPr/>
            <p:nvPr/>
          </p:nvSpPr>
          <p:spPr>
            <a:xfrm rot="19623600">
              <a:off x="5637240" y="316656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9"/>
            <p:cNvSpPr/>
            <p:nvPr/>
          </p:nvSpPr>
          <p:spPr>
            <a:xfrm rot="19623600">
              <a:off x="5659920" y="31514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0"/>
            <p:cNvSpPr/>
            <p:nvPr/>
          </p:nvSpPr>
          <p:spPr>
            <a:xfrm rot="19623600">
              <a:off x="5690520" y="3164040"/>
              <a:ext cx="2016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1"/>
            <p:cNvSpPr/>
            <p:nvPr/>
          </p:nvSpPr>
          <p:spPr>
            <a:xfrm rot="19623600">
              <a:off x="5683320" y="3191400"/>
              <a:ext cx="295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2"/>
            <p:cNvSpPr/>
            <p:nvPr/>
          </p:nvSpPr>
          <p:spPr>
            <a:xfrm rot="19623600">
              <a:off x="5657760" y="320688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3"/>
            <p:cNvSpPr/>
            <p:nvPr/>
          </p:nvSpPr>
          <p:spPr>
            <a:xfrm rot="19623600">
              <a:off x="5631480" y="319464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4"/>
            <p:cNvSpPr/>
            <p:nvPr/>
          </p:nvSpPr>
          <p:spPr>
            <a:xfrm rot="19623600">
              <a:off x="5650200" y="317232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5"/>
            <p:cNvSpPr/>
            <p:nvPr/>
          </p:nvSpPr>
          <p:spPr>
            <a:xfrm rot="19623600">
              <a:off x="5662800" y="3181680"/>
              <a:ext cx="2628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6"/>
            <p:cNvSpPr/>
            <p:nvPr/>
          </p:nvSpPr>
          <p:spPr>
            <a:xfrm rot="19623600">
              <a:off x="5653440" y="32738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7"/>
            <p:cNvSpPr/>
            <p:nvPr/>
          </p:nvSpPr>
          <p:spPr>
            <a:xfrm rot="19623600">
              <a:off x="5647320" y="3302280"/>
              <a:ext cx="324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8"/>
            <p:cNvSpPr/>
            <p:nvPr/>
          </p:nvSpPr>
          <p:spPr>
            <a:xfrm rot="19623600">
              <a:off x="5664960" y="3285720"/>
              <a:ext cx="31320" cy="284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"/>
            <p:cNvSpPr/>
            <p:nvPr/>
          </p:nvSpPr>
          <p:spPr>
            <a:xfrm rot="19623600">
              <a:off x="5373720" y="3195000"/>
              <a:ext cx="18360" cy="1332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90"/>
            <p:cNvSpPr/>
            <p:nvPr/>
          </p:nvSpPr>
          <p:spPr>
            <a:xfrm rot="19623600">
              <a:off x="5443200" y="32205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"/>
            <p:cNvSpPr/>
            <p:nvPr/>
          </p:nvSpPr>
          <p:spPr>
            <a:xfrm rot="19623600">
              <a:off x="5606640" y="31849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92"/>
            <p:cNvSpPr/>
            <p:nvPr/>
          </p:nvSpPr>
          <p:spPr>
            <a:xfrm rot="19623600">
              <a:off x="5550120" y="3083040"/>
              <a:ext cx="1728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93"/>
            <p:cNvSpPr/>
            <p:nvPr/>
          </p:nvSpPr>
          <p:spPr>
            <a:xfrm rot="19623600">
              <a:off x="5572800" y="329400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4"/>
            <p:cNvSpPr/>
            <p:nvPr/>
          </p:nvSpPr>
          <p:spPr>
            <a:xfrm rot="19623600">
              <a:off x="5522400" y="34383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5"/>
            <p:cNvSpPr/>
            <p:nvPr/>
          </p:nvSpPr>
          <p:spPr>
            <a:xfrm rot="19623600">
              <a:off x="5330520" y="32979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7786800" y="3071880"/>
            <a:ext cx="433440" cy="430200"/>
            <a:chOff x="7786800" y="3071880"/>
            <a:chExt cx="433440" cy="430200"/>
          </a:xfrm>
        </p:grpSpPr>
        <p:sp>
          <p:nvSpPr>
            <p:cNvPr id="1018" name="Freeform 9"/>
            <p:cNvSpPr/>
            <p:nvPr/>
          </p:nvSpPr>
          <p:spPr>
            <a:xfrm>
              <a:off x="7786800" y="3071880"/>
              <a:ext cx="433440" cy="43020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0"/>
            <p:cNvSpPr/>
            <p:nvPr/>
          </p:nvSpPr>
          <p:spPr>
            <a:xfrm>
              <a:off x="7803720" y="3087720"/>
              <a:ext cx="392760" cy="3949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1"/>
            <p:cNvSpPr/>
            <p:nvPr/>
          </p:nvSpPr>
          <p:spPr>
            <a:xfrm>
              <a:off x="7821000" y="3103200"/>
              <a:ext cx="354960" cy="36864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"/>
            <p:cNvSpPr/>
            <p:nvPr/>
          </p:nvSpPr>
          <p:spPr>
            <a:xfrm>
              <a:off x="7846200" y="3120480"/>
              <a:ext cx="308160" cy="33732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758320" y="2968560"/>
            <a:ext cx="667080" cy="637200"/>
            <a:chOff x="2758320" y="2968560"/>
            <a:chExt cx="667080" cy="637200"/>
          </a:xfrm>
        </p:grpSpPr>
        <p:sp>
          <p:nvSpPr>
            <p:cNvPr id="1023" name="Freeform 188"/>
            <p:cNvSpPr/>
            <p:nvPr/>
          </p:nvSpPr>
          <p:spPr>
            <a:xfrm rot="11734200">
              <a:off x="2816280" y="3033000"/>
              <a:ext cx="550800" cy="507960"/>
            </a:xfrm>
            <a:prstGeom prst="pie">
              <a:avLst/>
            </a:prstGeom>
            <a:solidFill>
              <a:srgbClr val="975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89"/>
            <p:cNvSpPr/>
            <p:nvPr/>
          </p:nvSpPr>
          <p:spPr>
            <a:xfrm rot="11734200">
              <a:off x="3282480" y="315756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90"/>
            <p:cNvSpPr/>
            <p:nvPr/>
          </p:nvSpPr>
          <p:spPr>
            <a:xfrm rot="11734200">
              <a:off x="3282480" y="315756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91"/>
            <p:cNvSpPr/>
            <p:nvPr/>
          </p:nvSpPr>
          <p:spPr>
            <a:xfrm rot="11734200">
              <a:off x="3330720" y="320040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92"/>
            <p:cNvSpPr/>
            <p:nvPr/>
          </p:nvSpPr>
          <p:spPr>
            <a:xfrm rot="11734200">
              <a:off x="3371400" y="32086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93"/>
            <p:cNvSpPr/>
            <p:nvPr/>
          </p:nvSpPr>
          <p:spPr>
            <a:xfrm rot="11734200">
              <a:off x="3338640" y="32317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94"/>
            <p:cNvSpPr/>
            <p:nvPr/>
          </p:nvSpPr>
          <p:spPr>
            <a:xfrm rot="11734200">
              <a:off x="3292200" y="3211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95"/>
            <p:cNvSpPr/>
            <p:nvPr/>
          </p:nvSpPr>
          <p:spPr>
            <a:xfrm rot="11734200">
              <a:off x="3295080" y="317484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96"/>
            <p:cNvSpPr/>
            <p:nvPr/>
          </p:nvSpPr>
          <p:spPr>
            <a:xfrm rot="11734200">
              <a:off x="3351240" y="317304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7"/>
            <p:cNvSpPr/>
            <p:nvPr/>
          </p:nvSpPr>
          <p:spPr>
            <a:xfrm rot="11734200">
              <a:off x="3118680" y="318780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98"/>
            <p:cNvSpPr/>
            <p:nvPr/>
          </p:nvSpPr>
          <p:spPr>
            <a:xfrm rot="11734200">
              <a:off x="3118680" y="318780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9"/>
            <p:cNvSpPr/>
            <p:nvPr/>
          </p:nvSpPr>
          <p:spPr>
            <a:xfrm rot="11734200">
              <a:off x="3166920" y="323100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00"/>
            <p:cNvSpPr/>
            <p:nvPr/>
          </p:nvSpPr>
          <p:spPr>
            <a:xfrm rot="11734200">
              <a:off x="3207600" y="32392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01"/>
            <p:cNvSpPr/>
            <p:nvPr/>
          </p:nvSpPr>
          <p:spPr>
            <a:xfrm rot="11734200">
              <a:off x="3175560" y="326124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02"/>
            <p:cNvSpPr/>
            <p:nvPr/>
          </p:nvSpPr>
          <p:spPr>
            <a:xfrm rot="11734200">
              <a:off x="3128400" y="324252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03"/>
            <p:cNvSpPr/>
            <p:nvPr/>
          </p:nvSpPr>
          <p:spPr>
            <a:xfrm rot="11734200">
              <a:off x="3131640" y="320508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204"/>
            <p:cNvSpPr/>
            <p:nvPr/>
          </p:nvSpPr>
          <p:spPr>
            <a:xfrm rot="11734200">
              <a:off x="3186000" y="32036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05"/>
            <p:cNvSpPr/>
            <p:nvPr/>
          </p:nvSpPr>
          <p:spPr>
            <a:xfrm rot="11734200">
              <a:off x="3035160" y="330732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06"/>
            <p:cNvSpPr/>
            <p:nvPr/>
          </p:nvSpPr>
          <p:spPr>
            <a:xfrm rot="11734200">
              <a:off x="3035160" y="330732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207"/>
            <p:cNvSpPr/>
            <p:nvPr/>
          </p:nvSpPr>
          <p:spPr>
            <a:xfrm rot="11734200">
              <a:off x="3083400" y="335052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09"/>
            <p:cNvSpPr/>
            <p:nvPr/>
          </p:nvSpPr>
          <p:spPr>
            <a:xfrm rot="11734200">
              <a:off x="3124440" y="33588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10"/>
            <p:cNvSpPr/>
            <p:nvPr/>
          </p:nvSpPr>
          <p:spPr>
            <a:xfrm rot="11734200">
              <a:off x="3092040" y="338112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11"/>
            <p:cNvSpPr/>
            <p:nvPr/>
          </p:nvSpPr>
          <p:spPr>
            <a:xfrm rot="11734200">
              <a:off x="3044520" y="336204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12"/>
            <p:cNvSpPr/>
            <p:nvPr/>
          </p:nvSpPr>
          <p:spPr>
            <a:xfrm rot="11734200">
              <a:off x="3047760" y="33246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3"/>
            <p:cNvSpPr/>
            <p:nvPr/>
          </p:nvSpPr>
          <p:spPr>
            <a:xfrm rot="11734200">
              <a:off x="3103920" y="33231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4"/>
            <p:cNvSpPr/>
            <p:nvPr/>
          </p:nvSpPr>
          <p:spPr>
            <a:xfrm rot="11734200">
              <a:off x="2880000" y="3004560"/>
              <a:ext cx="83520" cy="81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5"/>
            <p:cNvSpPr/>
            <p:nvPr/>
          </p:nvSpPr>
          <p:spPr>
            <a:xfrm rot="11734200">
              <a:off x="2905920" y="302436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6"/>
            <p:cNvSpPr/>
            <p:nvPr/>
          </p:nvSpPr>
          <p:spPr>
            <a:xfrm rot="11734200">
              <a:off x="2903400" y="303876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17"/>
            <p:cNvSpPr/>
            <p:nvPr/>
          </p:nvSpPr>
          <p:spPr>
            <a:xfrm rot="11734200">
              <a:off x="2943720" y="304668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18"/>
            <p:cNvSpPr/>
            <p:nvPr/>
          </p:nvSpPr>
          <p:spPr>
            <a:xfrm rot="11734200">
              <a:off x="2911680" y="30693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19"/>
            <p:cNvSpPr/>
            <p:nvPr/>
          </p:nvSpPr>
          <p:spPr>
            <a:xfrm rot="11734200">
              <a:off x="2925000" y="3012120"/>
              <a:ext cx="10080" cy="756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20"/>
            <p:cNvSpPr/>
            <p:nvPr/>
          </p:nvSpPr>
          <p:spPr>
            <a:xfrm rot="11734200">
              <a:off x="2994840" y="306540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21"/>
            <p:cNvSpPr/>
            <p:nvPr/>
          </p:nvSpPr>
          <p:spPr>
            <a:xfrm rot="11734200">
              <a:off x="2994840" y="306540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22"/>
            <p:cNvSpPr/>
            <p:nvPr/>
          </p:nvSpPr>
          <p:spPr>
            <a:xfrm rot="11734200">
              <a:off x="3042000" y="310824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23"/>
            <p:cNvSpPr/>
            <p:nvPr/>
          </p:nvSpPr>
          <p:spPr>
            <a:xfrm rot="11734200">
              <a:off x="3084120" y="311616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24"/>
            <p:cNvSpPr/>
            <p:nvPr/>
          </p:nvSpPr>
          <p:spPr>
            <a:xfrm rot="11734200">
              <a:off x="3050280" y="31392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25"/>
            <p:cNvSpPr/>
            <p:nvPr/>
          </p:nvSpPr>
          <p:spPr>
            <a:xfrm rot="11734200">
              <a:off x="3004200" y="31201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26"/>
            <p:cNvSpPr/>
            <p:nvPr/>
          </p:nvSpPr>
          <p:spPr>
            <a:xfrm rot="11734200">
              <a:off x="3006000" y="30826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27"/>
            <p:cNvSpPr/>
            <p:nvPr/>
          </p:nvSpPr>
          <p:spPr>
            <a:xfrm rot="11734200">
              <a:off x="3062520" y="308052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28"/>
            <p:cNvSpPr/>
            <p:nvPr/>
          </p:nvSpPr>
          <p:spPr>
            <a:xfrm rot="11734200">
              <a:off x="2929680" y="3168000"/>
              <a:ext cx="108720" cy="871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229"/>
            <p:cNvSpPr/>
            <p:nvPr/>
          </p:nvSpPr>
          <p:spPr>
            <a:xfrm rot="11734200">
              <a:off x="2929680" y="3168000"/>
              <a:ext cx="108720" cy="87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30"/>
            <p:cNvSpPr/>
            <p:nvPr/>
          </p:nvSpPr>
          <p:spPr>
            <a:xfrm rot="11734200">
              <a:off x="2975760" y="3211560"/>
              <a:ext cx="1296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31"/>
            <p:cNvSpPr/>
            <p:nvPr/>
          </p:nvSpPr>
          <p:spPr>
            <a:xfrm rot="11734200">
              <a:off x="3018600" y="321912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32"/>
            <p:cNvSpPr/>
            <p:nvPr/>
          </p:nvSpPr>
          <p:spPr>
            <a:xfrm rot="11734200">
              <a:off x="2983680" y="324252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33"/>
            <p:cNvSpPr/>
            <p:nvPr/>
          </p:nvSpPr>
          <p:spPr>
            <a:xfrm rot="11734200">
              <a:off x="2939040" y="322272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34"/>
            <p:cNvSpPr/>
            <p:nvPr/>
          </p:nvSpPr>
          <p:spPr>
            <a:xfrm rot="11734200">
              <a:off x="2940120" y="3184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35"/>
            <p:cNvSpPr/>
            <p:nvPr/>
          </p:nvSpPr>
          <p:spPr>
            <a:xfrm rot="11734200">
              <a:off x="2997000" y="31838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36"/>
            <p:cNvSpPr/>
            <p:nvPr/>
          </p:nvSpPr>
          <p:spPr>
            <a:xfrm rot="11734200">
              <a:off x="2909520" y="3296160"/>
              <a:ext cx="63360" cy="586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37"/>
            <p:cNvSpPr/>
            <p:nvPr/>
          </p:nvSpPr>
          <p:spPr>
            <a:xfrm rot="11734200">
              <a:off x="2932920" y="3355560"/>
              <a:ext cx="9000" cy="90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38"/>
            <p:cNvSpPr/>
            <p:nvPr/>
          </p:nvSpPr>
          <p:spPr>
            <a:xfrm rot="11734200">
              <a:off x="2912040" y="3318480"/>
              <a:ext cx="720" cy="21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39"/>
            <p:cNvSpPr/>
            <p:nvPr/>
          </p:nvSpPr>
          <p:spPr>
            <a:xfrm rot="11734200">
              <a:off x="2949120" y="333360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40"/>
            <p:cNvSpPr/>
            <p:nvPr/>
          </p:nvSpPr>
          <p:spPr>
            <a:xfrm rot="11734200">
              <a:off x="2927520" y="329796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41"/>
            <p:cNvSpPr/>
            <p:nvPr/>
          </p:nvSpPr>
          <p:spPr>
            <a:xfrm rot="11734200">
              <a:off x="3000600" y="344628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42"/>
            <p:cNvSpPr/>
            <p:nvPr/>
          </p:nvSpPr>
          <p:spPr>
            <a:xfrm rot="11734200">
              <a:off x="2973600" y="3419640"/>
              <a:ext cx="87480" cy="68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43"/>
            <p:cNvSpPr/>
            <p:nvPr/>
          </p:nvSpPr>
          <p:spPr>
            <a:xfrm rot="11734200">
              <a:off x="2997720" y="3452400"/>
              <a:ext cx="1080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44"/>
            <p:cNvSpPr/>
            <p:nvPr/>
          </p:nvSpPr>
          <p:spPr>
            <a:xfrm rot="11734200">
              <a:off x="3037320" y="34603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45"/>
            <p:cNvSpPr/>
            <p:nvPr/>
          </p:nvSpPr>
          <p:spPr>
            <a:xfrm rot="11734200">
              <a:off x="3017160" y="342504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46"/>
            <p:cNvSpPr/>
            <p:nvPr/>
          </p:nvSpPr>
          <p:spPr>
            <a:xfrm rot="11734200">
              <a:off x="3165480" y="3472560"/>
              <a:ext cx="72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7"/>
            <p:cNvSpPr/>
            <p:nvPr/>
          </p:nvSpPr>
          <p:spPr>
            <a:xfrm rot="11734200">
              <a:off x="3117960" y="3440520"/>
              <a:ext cx="79560" cy="795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8"/>
            <p:cNvSpPr/>
            <p:nvPr/>
          </p:nvSpPr>
          <p:spPr>
            <a:xfrm rot="11734200">
              <a:off x="3132360" y="3503880"/>
              <a:ext cx="3960" cy="36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49"/>
            <p:cNvSpPr/>
            <p:nvPr/>
          </p:nvSpPr>
          <p:spPr>
            <a:xfrm rot="11734200">
              <a:off x="3125880" y="349848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50"/>
            <p:cNvSpPr/>
            <p:nvPr/>
          </p:nvSpPr>
          <p:spPr>
            <a:xfrm rot="11734200">
              <a:off x="3126960" y="34614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1"/>
            <p:cNvSpPr/>
            <p:nvPr/>
          </p:nvSpPr>
          <p:spPr>
            <a:xfrm rot="11734200">
              <a:off x="3191760" y="3463200"/>
              <a:ext cx="396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52"/>
            <p:cNvSpPr/>
            <p:nvPr/>
          </p:nvSpPr>
          <p:spPr>
            <a:xfrm rot="11734200">
              <a:off x="3184200" y="345924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53"/>
            <p:cNvSpPr/>
            <p:nvPr/>
          </p:nvSpPr>
          <p:spPr>
            <a:xfrm rot="11734200">
              <a:off x="3200400" y="307152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4"/>
            <p:cNvSpPr/>
            <p:nvPr/>
          </p:nvSpPr>
          <p:spPr>
            <a:xfrm rot="11734200">
              <a:off x="3168720" y="3076560"/>
              <a:ext cx="86760" cy="55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55"/>
            <p:cNvSpPr/>
            <p:nvPr/>
          </p:nvSpPr>
          <p:spPr>
            <a:xfrm rot="11734200">
              <a:off x="3200040" y="3087360"/>
              <a:ext cx="10080" cy="68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56"/>
            <p:cNvSpPr/>
            <p:nvPr/>
          </p:nvSpPr>
          <p:spPr>
            <a:xfrm rot="11734200">
              <a:off x="3240000" y="309312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57"/>
            <p:cNvSpPr/>
            <p:nvPr/>
          </p:nvSpPr>
          <p:spPr>
            <a:xfrm rot="11734200">
              <a:off x="3205800" y="3115080"/>
              <a:ext cx="1296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58"/>
            <p:cNvSpPr/>
            <p:nvPr/>
          </p:nvSpPr>
          <p:spPr>
            <a:xfrm rot="11734200">
              <a:off x="3261960" y="3299040"/>
              <a:ext cx="76680" cy="802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9"/>
            <p:cNvSpPr/>
            <p:nvPr/>
          </p:nvSpPr>
          <p:spPr>
            <a:xfrm rot="11734200">
              <a:off x="3311640" y="333324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60"/>
            <p:cNvSpPr/>
            <p:nvPr/>
          </p:nvSpPr>
          <p:spPr>
            <a:xfrm rot="11734200">
              <a:off x="3314880" y="3349080"/>
              <a:ext cx="5760" cy="756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61"/>
            <p:cNvSpPr/>
            <p:nvPr/>
          </p:nvSpPr>
          <p:spPr>
            <a:xfrm rot="11734200">
              <a:off x="3308760" y="334656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62"/>
            <p:cNvSpPr/>
            <p:nvPr/>
          </p:nvSpPr>
          <p:spPr>
            <a:xfrm rot="11734200">
              <a:off x="3269880" y="33584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63"/>
            <p:cNvSpPr/>
            <p:nvPr/>
          </p:nvSpPr>
          <p:spPr>
            <a:xfrm rot="11734200">
              <a:off x="3272040" y="33206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64"/>
            <p:cNvSpPr/>
            <p:nvPr/>
          </p:nvSpPr>
          <p:spPr>
            <a:xfrm rot="11734200">
              <a:off x="3338280" y="3322440"/>
              <a:ext cx="180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65"/>
            <p:cNvSpPr/>
            <p:nvPr/>
          </p:nvSpPr>
          <p:spPr>
            <a:xfrm rot="11734200">
              <a:off x="3329280" y="331884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68256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6E9-85EC-4875-8C20-47429FEA48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DEC-E425-4B77-B041-2E30C54BA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1106" name="直接连接符 105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106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直接连接符 107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直接连接符 108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直接连接符 109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110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直接连接符 111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直接连接符 112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直接连接符 113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直接连接符 114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直接连接符 115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直接连接符 116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直接连接符 117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直接连接符 118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直接连接符 119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直接连接符 120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直接连接符 121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直接连接符 122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直接连接符 123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直接连接符 124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直接连接符 125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126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直接连接符 127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直接连接符 128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直接连接符 129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直接连接符 130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直接连接符 131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直接连接符 132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直接连接符 133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直接连接符 134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直接连接符 135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136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直接连接符 137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直接连接符 138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直接连接符 139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直接连接符 140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直接连接符 141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直接连接符 142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直接连接符 143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直接连接符 144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直接连接符 145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直接连接符 146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直接连接符 147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直接连接符 148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直接连接符 149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直接连接符 150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直接连接符 151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直接连接符 152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直接连接符 153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直接连接符 154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直接连接符 155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直接连接符 156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直接连接符 157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直接连接符 158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直接连接符 159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直接连接符 160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直接连接符 161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直接连接符 162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直接连接符 163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直接连接符 164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直接连接符 165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直接连接符 166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直接连接符 167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直接连接符 168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直接连接符 169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直接连接符 170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直接连接符 171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直接连接符 172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直接连接符 173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直接连接符 174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直接连接符 175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直接连接符 176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直接连接符 177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178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直接连接符 179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180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直接连接符 181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直接连接符 182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直接连接符 183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直接连接符 184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直接连接符 185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直接连接符 186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直接连接符 187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直接连接符 188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直接连接符 189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直接连接符 190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1193" name="直接连接符 23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直接连接符 24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直接连接符 25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直接连接符 26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27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28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29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30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31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32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33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34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35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36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37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直接连接符 38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直接连接符 39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直接连接符 40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直接连接符 41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直接连接符 42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直接连接符 43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直接连接符 44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直接连接符 45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直接连接符 46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直接连接符 47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直接连接符 48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直接连接符 49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直接连接符 50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直接连接符 51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直接连接符 52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直接连接符 53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直接连接符 54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5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直接连接符 56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直接连接符 57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直接连接符 58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直接连接符 59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直接连接符 60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直接连接符 61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直接连接符 62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直接连接符 63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直接连接符 64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直接连接符 65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直接连接符 66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直接连接符 67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直接连接符 68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直接连接符 69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直接连接符 70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直接连接符 71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直接连接符 72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直接连接符 73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直接连接符 74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直接连接符 75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直接连接符 76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直接连接符 77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直接连接符 78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直接连接符 79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直接连接符 80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直接连接符 81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直接连接符 82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直接连接符 83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直接连接符 84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直接连接符 85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直接连接符 86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87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88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89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0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91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直接连接符 92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直接连接符 93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直接连接符 94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直接连接符 95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直接连接符 96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直接连接符 97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直接连接符 98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直接连接符 99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直接连接符 100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直接连接符 101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直接连接符 102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直接连接符 103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直接连接符 104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5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77" name="图片 9" descr=""/>
          <p:cNvPicPr/>
          <p:nvPr/>
        </p:nvPicPr>
        <p:blipFill>
          <a:blip r:embed="rId2"/>
          <a:stretch/>
        </p:blipFill>
        <p:spPr>
          <a:xfrm flipH="1">
            <a:off x="7855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78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79" name="图片 11" descr=""/>
          <p:cNvPicPr/>
          <p:nvPr/>
        </p:nvPicPr>
        <p:blipFill>
          <a:blip r:embed="rId4"/>
          <a:stretch/>
        </p:blipFill>
        <p:spPr>
          <a:xfrm flipH="1">
            <a:off x="2356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0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1" name="图片 13" descr=""/>
          <p:cNvPicPr/>
          <p:nvPr/>
        </p:nvPicPr>
        <p:blipFill>
          <a:blip r:embed="rId6"/>
          <a:stretch/>
        </p:blipFill>
        <p:spPr>
          <a:xfrm flipH="1">
            <a:off x="39286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2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3" name="图片 15" descr=""/>
          <p:cNvPicPr/>
          <p:nvPr/>
        </p:nvPicPr>
        <p:blipFill>
          <a:blip r:embed="rId8"/>
          <a:stretch/>
        </p:blipFill>
        <p:spPr>
          <a:xfrm flipH="1">
            <a:off x="55004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4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85" name="图片 17" descr=""/>
          <p:cNvPicPr/>
          <p:nvPr/>
        </p:nvPicPr>
        <p:blipFill>
          <a:blip r:embed="rId10"/>
          <a:stretch/>
        </p:blipFill>
        <p:spPr>
          <a:xfrm flipH="1">
            <a:off x="70718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6" name="图片 18" descr=""/>
          <p:cNvPicPr/>
          <p:nvPr/>
        </p:nvPicPr>
        <p:blipFill>
          <a:blip r:embed="rId11"/>
          <a:stretch/>
        </p:blipFill>
        <p:spPr>
          <a:xfrm flipH="1">
            <a:off x="78577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7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1288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矩形 206"/>
          <p:cNvSpPr/>
          <p:nvPr/>
        </p:nvSpPr>
        <p:spPr>
          <a:xfrm>
            <a:off x="0" y="2071800"/>
            <a:ext cx="9144000" cy="228600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30080" y="2799720"/>
            <a:ext cx="1239120" cy="1272960"/>
            <a:chOff x="730080" y="2799720"/>
            <a:chExt cx="1239120" cy="1272960"/>
          </a:xfrm>
        </p:grpSpPr>
        <p:sp>
          <p:nvSpPr>
            <p:cNvPr id="1291" name="Freeform 188"/>
            <p:cNvSpPr/>
            <p:nvPr/>
          </p:nvSpPr>
          <p:spPr>
            <a:xfrm rot="9246000">
              <a:off x="897840" y="2948040"/>
              <a:ext cx="903240" cy="976320"/>
            </a:xfrm>
            <a:prstGeom prst="pie">
              <a:avLst/>
            </a:prstGeom>
            <a:solidFill>
              <a:srgbClr val="975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89"/>
            <p:cNvSpPr/>
            <p:nvPr/>
          </p:nvSpPr>
          <p:spPr>
            <a:xfrm rot="9246000">
              <a:off x="1449720" y="294300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90"/>
            <p:cNvSpPr/>
            <p:nvPr/>
          </p:nvSpPr>
          <p:spPr>
            <a:xfrm rot="9246000">
              <a:off x="1449720" y="294300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91"/>
            <p:cNvSpPr/>
            <p:nvPr/>
          </p:nvSpPr>
          <p:spPr>
            <a:xfrm rot="9246000">
              <a:off x="1533960" y="302328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2"/>
            <p:cNvSpPr/>
            <p:nvPr/>
          </p:nvSpPr>
          <p:spPr>
            <a:xfrm rot="9246000">
              <a:off x="1591920" y="298800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93"/>
            <p:cNvSpPr/>
            <p:nvPr/>
          </p:nvSpPr>
          <p:spPr>
            <a:xfrm rot="9246000">
              <a:off x="1580760" y="305964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94"/>
            <p:cNvSpPr/>
            <p:nvPr/>
          </p:nvSpPr>
          <p:spPr>
            <a:xfrm rot="9246000">
              <a:off x="1500840" y="308376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95"/>
            <p:cNvSpPr/>
            <p:nvPr/>
          </p:nvSpPr>
          <p:spPr>
            <a:xfrm rot="9246000">
              <a:off x="1460520" y="302760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96"/>
            <p:cNvSpPr/>
            <p:nvPr/>
          </p:nvSpPr>
          <p:spPr>
            <a:xfrm rot="9246000">
              <a:off x="1524600" y="2959920"/>
              <a:ext cx="180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97"/>
            <p:cNvSpPr/>
            <p:nvPr/>
          </p:nvSpPr>
          <p:spPr>
            <a:xfrm rot="9246000">
              <a:off x="1290600" y="317700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8"/>
            <p:cNvSpPr/>
            <p:nvPr/>
          </p:nvSpPr>
          <p:spPr>
            <a:xfrm rot="9246000">
              <a:off x="1290600" y="317700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99"/>
            <p:cNvSpPr/>
            <p:nvPr/>
          </p:nvSpPr>
          <p:spPr>
            <a:xfrm rot="9246000">
              <a:off x="1374840" y="3257280"/>
              <a:ext cx="180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00"/>
            <p:cNvSpPr/>
            <p:nvPr/>
          </p:nvSpPr>
          <p:spPr>
            <a:xfrm rot="9246000">
              <a:off x="1433520" y="322200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01"/>
            <p:cNvSpPr/>
            <p:nvPr/>
          </p:nvSpPr>
          <p:spPr>
            <a:xfrm rot="9246000">
              <a:off x="1421640" y="3292560"/>
              <a:ext cx="180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2"/>
            <p:cNvSpPr/>
            <p:nvPr/>
          </p:nvSpPr>
          <p:spPr>
            <a:xfrm rot="9246000">
              <a:off x="1342080" y="331920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03"/>
            <p:cNvSpPr/>
            <p:nvPr/>
          </p:nvSpPr>
          <p:spPr>
            <a:xfrm rot="9246000">
              <a:off x="1301040" y="326016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4"/>
            <p:cNvSpPr/>
            <p:nvPr/>
          </p:nvSpPr>
          <p:spPr>
            <a:xfrm rot="9246000">
              <a:off x="1364760" y="319428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05"/>
            <p:cNvSpPr/>
            <p:nvPr/>
          </p:nvSpPr>
          <p:spPr>
            <a:xfrm rot="9246000">
              <a:off x="1334880" y="344916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06"/>
            <p:cNvSpPr/>
            <p:nvPr/>
          </p:nvSpPr>
          <p:spPr>
            <a:xfrm rot="9246000">
              <a:off x="1334880" y="344916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07"/>
            <p:cNvSpPr/>
            <p:nvPr/>
          </p:nvSpPr>
          <p:spPr>
            <a:xfrm rot="9246000">
              <a:off x="1419120" y="352908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09"/>
            <p:cNvSpPr/>
            <p:nvPr/>
          </p:nvSpPr>
          <p:spPr>
            <a:xfrm rot="9246000">
              <a:off x="1477440" y="34945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210"/>
            <p:cNvSpPr/>
            <p:nvPr/>
          </p:nvSpPr>
          <p:spPr>
            <a:xfrm rot="9246000">
              <a:off x="1465560" y="356436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211"/>
            <p:cNvSpPr/>
            <p:nvPr/>
          </p:nvSpPr>
          <p:spPr>
            <a:xfrm rot="9246000">
              <a:off x="1386360" y="3591000"/>
              <a:ext cx="2124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2"/>
            <p:cNvSpPr/>
            <p:nvPr/>
          </p:nvSpPr>
          <p:spPr>
            <a:xfrm rot="9246000">
              <a:off x="1344960" y="35323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213"/>
            <p:cNvSpPr/>
            <p:nvPr/>
          </p:nvSpPr>
          <p:spPr>
            <a:xfrm rot="9246000">
              <a:off x="1410120" y="346608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14"/>
            <p:cNvSpPr/>
            <p:nvPr/>
          </p:nvSpPr>
          <p:spPr>
            <a:xfrm rot="9246000">
              <a:off x="786240" y="3196800"/>
              <a:ext cx="137160" cy="1573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15"/>
            <p:cNvSpPr/>
            <p:nvPr/>
          </p:nvSpPr>
          <p:spPr>
            <a:xfrm rot="9246000">
              <a:off x="812160" y="326340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16"/>
            <p:cNvSpPr/>
            <p:nvPr/>
          </p:nvSpPr>
          <p:spPr>
            <a:xfrm rot="9246000">
              <a:off x="827640" y="327852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17"/>
            <p:cNvSpPr/>
            <p:nvPr/>
          </p:nvSpPr>
          <p:spPr>
            <a:xfrm rot="9246000">
              <a:off x="885960" y="3242880"/>
              <a:ext cx="2124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18"/>
            <p:cNvSpPr/>
            <p:nvPr/>
          </p:nvSpPr>
          <p:spPr>
            <a:xfrm rot="9246000">
              <a:off x="874800" y="331344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9"/>
            <p:cNvSpPr/>
            <p:nvPr/>
          </p:nvSpPr>
          <p:spPr>
            <a:xfrm rot="9246000">
              <a:off x="822600" y="3215160"/>
              <a:ext cx="16200" cy="1476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0"/>
            <p:cNvSpPr/>
            <p:nvPr/>
          </p:nvSpPr>
          <p:spPr>
            <a:xfrm rot="9246000">
              <a:off x="994680" y="313920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21"/>
            <p:cNvSpPr/>
            <p:nvPr/>
          </p:nvSpPr>
          <p:spPr>
            <a:xfrm rot="9246000">
              <a:off x="994680" y="313920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22"/>
            <p:cNvSpPr/>
            <p:nvPr/>
          </p:nvSpPr>
          <p:spPr>
            <a:xfrm rot="9246000">
              <a:off x="1077480" y="321984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3"/>
            <p:cNvSpPr/>
            <p:nvPr/>
          </p:nvSpPr>
          <p:spPr>
            <a:xfrm rot="9246000">
              <a:off x="1137600" y="3184200"/>
              <a:ext cx="180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4"/>
            <p:cNvSpPr/>
            <p:nvPr/>
          </p:nvSpPr>
          <p:spPr>
            <a:xfrm rot="9246000">
              <a:off x="1124280" y="325620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25"/>
            <p:cNvSpPr/>
            <p:nvPr/>
          </p:nvSpPr>
          <p:spPr>
            <a:xfrm rot="9246000">
              <a:off x="1046520" y="328104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26"/>
            <p:cNvSpPr/>
            <p:nvPr/>
          </p:nvSpPr>
          <p:spPr>
            <a:xfrm rot="9246000">
              <a:off x="1004040" y="322416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27"/>
            <p:cNvSpPr/>
            <p:nvPr/>
          </p:nvSpPr>
          <p:spPr>
            <a:xfrm rot="9246000">
              <a:off x="1068120" y="315684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28"/>
            <p:cNvSpPr/>
            <p:nvPr/>
          </p:nvSpPr>
          <p:spPr>
            <a:xfrm rot="9246000">
              <a:off x="1040760" y="3366000"/>
              <a:ext cx="178560" cy="167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29"/>
            <p:cNvSpPr/>
            <p:nvPr/>
          </p:nvSpPr>
          <p:spPr>
            <a:xfrm rot="9246000">
              <a:off x="1040760" y="3366000"/>
              <a:ext cx="178560" cy="16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30"/>
            <p:cNvSpPr/>
            <p:nvPr/>
          </p:nvSpPr>
          <p:spPr>
            <a:xfrm rot="9246000">
              <a:off x="1122120" y="3448440"/>
              <a:ext cx="21240" cy="162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31"/>
            <p:cNvSpPr/>
            <p:nvPr/>
          </p:nvSpPr>
          <p:spPr>
            <a:xfrm rot="9246000">
              <a:off x="1182960" y="341172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32"/>
            <p:cNvSpPr/>
            <p:nvPr/>
          </p:nvSpPr>
          <p:spPr>
            <a:xfrm rot="9246000">
              <a:off x="1169280" y="3485160"/>
              <a:ext cx="2124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3"/>
            <p:cNvSpPr/>
            <p:nvPr/>
          </p:nvSpPr>
          <p:spPr>
            <a:xfrm rot="9246000">
              <a:off x="1091880" y="350856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34"/>
            <p:cNvSpPr/>
            <p:nvPr/>
          </p:nvSpPr>
          <p:spPr>
            <a:xfrm rot="9246000">
              <a:off x="1047960" y="345024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35"/>
            <p:cNvSpPr/>
            <p:nvPr/>
          </p:nvSpPr>
          <p:spPr>
            <a:xfrm rot="9246000">
              <a:off x="1114560" y="338328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36"/>
            <p:cNvSpPr/>
            <p:nvPr/>
          </p:nvSpPr>
          <p:spPr>
            <a:xfrm rot="9246000">
              <a:off x="1164240" y="3609720"/>
              <a:ext cx="104040" cy="1126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37"/>
            <p:cNvSpPr/>
            <p:nvPr/>
          </p:nvSpPr>
          <p:spPr>
            <a:xfrm rot="9246000">
              <a:off x="1245960" y="3711600"/>
              <a:ext cx="14760" cy="176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38"/>
            <p:cNvSpPr/>
            <p:nvPr/>
          </p:nvSpPr>
          <p:spPr>
            <a:xfrm rot="9246000">
              <a:off x="1173600" y="3688200"/>
              <a:ext cx="1440" cy="43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39"/>
            <p:cNvSpPr/>
            <p:nvPr/>
          </p:nvSpPr>
          <p:spPr>
            <a:xfrm rot="9246000">
              <a:off x="1237680" y="3660480"/>
              <a:ext cx="180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40"/>
            <p:cNvSpPr/>
            <p:nvPr/>
          </p:nvSpPr>
          <p:spPr>
            <a:xfrm rot="9246000">
              <a:off x="1168560" y="363276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1"/>
            <p:cNvSpPr/>
            <p:nvPr/>
          </p:nvSpPr>
          <p:spPr>
            <a:xfrm rot="9246000">
              <a:off x="1432080" y="377532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2"/>
            <p:cNvSpPr/>
            <p:nvPr/>
          </p:nvSpPr>
          <p:spPr>
            <a:xfrm rot="9246000">
              <a:off x="1390320" y="3701160"/>
              <a:ext cx="143640" cy="1317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43"/>
            <p:cNvSpPr/>
            <p:nvPr/>
          </p:nvSpPr>
          <p:spPr>
            <a:xfrm rot="9246000">
              <a:off x="1438200" y="3778920"/>
              <a:ext cx="18000" cy="162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44"/>
            <p:cNvSpPr/>
            <p:nvPr/>
          </p:nvSpPr>
          <p:spPr>
            <a:xfrm rot="9246000">
              <a:off x="1495800" y="374436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45"/>
            <p:cNvSpPr/>
            <p:nvPr/>
          </p:nvSpPr>
          <p:spPr>
            <a:xfrm rot="9246000">
              <a:off x="1428120" y="3716280"/>
              <a:ext cx="180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246"/>
            <p:cNvSpPr/>
            <p:nvPr/>
          </p:nvSpPr>
          <p:spPr>
            <a:xfrm rot="9246000">
              <a:off x="1662120" y="3622320"/>
              <a:ext cx="1440" cy="28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247"/>
            <p:cNvSpPr/>
            <p:nvPr/>
          </p:nvSpPr>
          <p:spPr>
            <a:xfrm rot="9246000">
              <a:off x="1595520" y="3567600"/>
              <a:ext cx="130680" cy="1526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248"/>
            <p:cNvSpPr/>
            <p:nvPr/>
          </p:nvSpPr>
          <p:spPr>
            <a:xfrm rot="9246000">
              <a:off x="1661040" y="3704760"/>
              <a:ext cx="6480" cy="7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49"/>
            <p:cNvSpPr/>
            <p:nvPr/>
          </p:nvSpPr>
          <p:spPr>
            <a:xfrm rot="9246000">
              <a:off x="1648080" y="369864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50"/>
            <p:cNvSpPr/>
            <p:nvPr/>
          </p:nvSpPr>
          <p:spPr>
            <a:xfrm rot="9246000">
              <a:off x="1604160" y="36421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51"/>
            <p:cNvSpPr/>
            <p:nvPr/>
          </p:nvSpPr>
          <p:spPr>
            <a:xfrm rot="9246000">
              <a:off x="1683720" y="3576960"/>
              <a:ext cx="6480" cy="10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52"/>
            <p:cNvSpPr/>
            <p:nvPr/>
          </p:nvSpPr>
          <p:spPr>
            <a:xfrm rot="9246000">
              <a:off x="1669680" y="357408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53"/>
            <p:cNvSpPr/>
            <p:nvPr/>
          </p:nvSpPr>
          <p:spPr>
            <a:xfrm rot="9246000">
              <a:off x="1219680" y="299232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4"/>
            <p:cNvSpPr/>
            <p:nvPr/>
          </p:nvSpPr>
          <p:spPr>
            <a:xfrm rot="9246000">
              <a:off x="1202040" y="2974680"/>
              <a:ext cx="142200" cy="1065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55"/>
            <p:cNvSpPr/>
            <p:nvPr/>
          </p:nvSpPr>
          <p:spPr>
            <a:xfrm rot="9246000">
              <a:off x="1240920" y="3009240"/>
              <a:ext cx="16200" cy="1332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6"/>
            <p:cNvSpPr/>
            <p:nvPr/>
          </p:nvSpPr>
          <p:spPr>
            <a:xfrm rot="9246000">
              <a:off x="1296000" y="297036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57"/>
            <p:cNvSpPr/>
            <p:nvPr/>
          </p:nvSpPr>
          <p:spPr>
            <a:xfrm rot="9246000">
              <a:off x="1281600" y="3041280"/>
              <a:ext cx="2124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58"/>
            <p:cNvSpPr/>
            <p:nvPr/>
          </p:nvSpPr>
          <p:spPr>
            <a:xfrm rot="9246000">
              <a:off x="1598760" y="3194280"/>
              <a:ext cx="125640" cy="1540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59"/>
            <p:cNvSpPr/>
            <p:nvPr/>
          </p:nvSpPr>
          <p:spPr>
            <a:xfrm rot="9246000">
              <a:off x="1668600" y="325008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60"/>
            <p:cNvSpPr/>
            <p:nvPr/>
          </p:nvSpPr>
          <p:spPr>
            <a:xfrm rot="9246000">
              <a:off x="1693800" y="3264120"/>
              <a:ext cx="9720" cy="1476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61"/>
            <p:cNvSpPr/>
            <p:nvPr/>
          </p:nvSpPr>
          <p:spPr>
            <a:xfrm rot="9246000">
              <a:off x="1683720" y="3264120"/>
              <a:ext cx="180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262"/>
            <p:cNvSpPr/>
            <p:nvPr/>
          </p:nvSpPr>
          <p:spPr>
            <a:xfrm rot="9246000">
              <a:off x="1650960" y="332568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63"/>
            <p:cNvSpPr/>
            <p:nvPr/>
          </p:nvSpPr>
          <p:spPr>
            <a:xfrm rot="9246000">
              <a:off x="1608120" y="32677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64"/>
            <p:cNvSpPr/>
            <p:nvPr/>
          </p:nvSpPr>
          <p:spPr>
            <a:xfrm rot="9246000">
              <a:off x="1689480" y="3202200"/>
              <a:ext cx="3240" cy="10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5"/>
            <p:cNvSpPr/>
            <p:nvPr/>
          </p:nvSpPr>
          <p:spPr>
            <a:xfrm rot="9246000">
              <a:off x="1674360" y="319932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Rectangle 1"/>
          <p:cNvSpPr/>
          <p:nvPr/>
        </p:nvSpPr>
        <p:spPr>
          <a:xfrm>
            <a:off x="3000240" y="3468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52103"/>
                </a:solidFill>
                <a:latin typeface="Verdana"/>
                <a:ea typeface="宋体"/>
              </a:rPr>
              <a:t>You can find more free PowerPoint templates on</a:t>
            </a:r>
            <a:r>
              <a:rPr b="0" lang="en-US" sz="1600" spc="-1" strike="noStrike">
                <a:solidFill>
                  <a:srgbClr val="452103"/>
                </a:solidFill>
                <a:latin typeface="Verdana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标题 662"/>
          <p:cNvSpPr/>
          <p:nvPr/>
        </p:nvSpPr>
        <p:spPr>
          <a:xfrm>
            <a:off x="2143080" y="2428920"/>
            <a:ext cx="6929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305c"/>
                </a:solidFill>
                <a:latin typeface="Vladimir Script"/>
                <a:ea typeface="Calibri"/>
              </a:rPr>
              <a:t>Happy Mot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1065600" y="2045520"/>
            <a:ext cx="2005200" cy="2003760"/>
            <a:chOff x="1065600" y="2045520"/>
            <a:chExt cx="2005200" cy="2003760"/>
          </a:xfrm>
        </p:grpSpPr>
        <p:sp>
          <p:nvSpPr>
            <p:cNvPr id="1371" name="Freeform 9"/>
            <p:cNvSpPr/>
            <p:nvPr/>
          </p:nvSpPr>
          <p:spPr>
            <a:xfrm rot="2433000">
              <a:off x="1353600" y="2340000"/>
              <a:ext cx="1428840" cy="141444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"/>
            <p:cNvSpPr/>
            <p:nvPr/>
          </p:nvSpPr>
          <p:spPr>
            <a:xfrm rot="2433000">
              <a:off x="1416240" y="2387160"/>
              <a:ext cx="1294200" cy="12985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"/>
            <p:cNvSpPr/>
            <p:nvPr/>
          </p:nvSpPr>
          <p:spPr>
            <a:xfrm rot="2433000">
              <a:off x="1469880" y="2432160"/>
              <a:ext cx="1169640" cy="121212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 rot="2433000">
              <a:off x="1546920" y="2491560"/>
              <a:ext cx="1015920" cy="110880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6:0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7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