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D34-8890-4C64-AEEE-92396288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F9C-5BFA-41DD-8932-7E57BF03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BEE-AF71-4D00-BAEE-1F8AD057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0D1-BDC6-4211-B337-EFDDDD59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3AD-0CE8-491B-BCAF-35E57A8C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E51-1C1F-441D-B763-24166AD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DDD-4041-45C3-BE47-D7205995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F97-668F-40CE-A5D9-37EDCA36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A7E-464F-4A41-98F8-23F39E88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0BD-13AD-4B86-A19B-F3C5343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4EB-4C25-426E-B676-45EA1797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677-C104-457F-8945-83D1600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4A8F-6E0D-4CEC-879B-FAA287DCC1D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066D-D25C-4EFF-99AB-EE4B29E844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1214280" y="4429080"/>
            <a:ext cx="6789960" cy="1370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23520" y="11592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生日庆祝卡通幻灯片在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占位符 11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0" y="357120"/>
            <a:ext cx="9144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5"/>
          <p:cNvSpPr/>
          <p:nvPr/>
        </p:nvSpPr>
        <p:spPr>
          <a:xfrm>
            <a:off x="135360" y="45594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6"/>
          <p:cNvSpPr/>
          <p:nvPr/>
        </p:nvSpPr>
        <p:spPr>
          <a:xfrm>
            <a:off x="4635720" y="45594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7"/>
          <p:cNvSpPr/>
          <p:nvPr/>
        </p:nvSpPr>
        <p:spPr>
          <a:xfrm>
            <a:off x="2286000" y="2066760"/>
            <a:ext cx="4929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Way to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2560" y="499680"/>
            <a:ext cx="4357800" cy="442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2920" y="499680"/>
            <a:ext cx="4357800" cy="44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9FE-2D62-4888-91F5-97122C20E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占位符 16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21"/>
          <p:cNvSpPr/>
          <p:nvPr/>
        </p:nvSpPr>
        <p:spPr>
          <a:xfrm>
            <a:off x="3214800" y="0"/>
            <a:ext cx="592920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142920" y="0"/>
            <a:ext cx="30002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Way to Show th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V through DVD .PlayerShare PowerPoint in Popular Video Form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PowerPoint online in Flash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28640" y="214200"/>
            <a:ext cx="2714760" cy="250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14680" y="214200"/>
            <a:ext cx="2714760" cy="250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214680" y="2785680"/>
            <a:ext cx="2714760" cy="25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428640" y="2785680"/>
            <a:ext cx="2714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7"/>
          <p:cNvSpPr/>
          <p:nvPr/>
        </p:nvSpPr>
        <p:spPr>
          <a:xfrm>
            <a:off x="142920" y="142920"/>
            <a:ext cx="7215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4"/>
          <p:cNvSpPr/>
          <p:nvPr/>
        </p:nvSpPr>
        <p:spPr>
          <a:xfrm>
            <a:off x="257760" y="2430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9"/>
          <p:cNvSpPr/>
          <p:nvPr/>
        </p:nvSpPr>
        <p:spPr>
          <a:xfrm>
            <a:off x="3758040" y="2430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0"/>
          <p:cNvSpPr/>
          <p:nvPr/>
        </p:nvSpPr>
        <p:spPr>
          <a:xfrm rot="5400000">
            <a:off x="5654160" y="1940040"/>
            <a:ext cx="4572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42840" y="357120"/>
            <a:ext cx="342900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2560" y="357120"/>
            <a:ext cx="3429000" cy="585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C90-CADE-4C19-98E4-F5450A562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7"/>
          <p:cNvSpPr/>
          <p:nvPr/>
        </p:nvSpPr>
        <p:spPr>
          <a:xfrm>
            <a:off x="500040" y="214200"/>
            <a:ext cx="82152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0"/>
          <p:cNvSpPr/>
          <p:nvPr/>
        </p:nvSpPr>
        <p:spPr>
          <a:xfrm>
            <a:off x="500040" y="4214880"/>
            <a:ext cx="564372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lay Power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on TV through DVD .Player Share PowerPoint in Popular Video Form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Upload PowerPoint online in Flash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2960" y="356760"/>
            <a:ext cx="3929040" cy="1785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2920" y="356760"/>
            <a:ext cx="3929400" cy="1785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42960" y="2214360"/>
            <a:ext cx="392904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642920" y="2214360"/>
            <a:ext cx="3929400" cy="1785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65894"/>
                </a:solidFill>
                <a:uFillTx/>
                <a:latin typeface="Arial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B91-7528-473E-BE52-2628D63BA6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3"/>
          <p:cNvSpPr/>
          <p:nvPr/>
        </p:nvSpPr>
        <p:spPr>
          <a:xfrm>
            <a:off x="1925280" y="4071960"/>
            <a:ext cx="526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5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2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