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865-9734-4424-91BA-8CCAF12F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83E-C662-4163-A738-B13E7E4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D38-9C63-4AB1-9AD7-D77F8A1E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719-1467-4C8E-930E-03699C54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DE3B-EEDE-4F90-A928-77D8B163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445-6F37-4EE4-807C-4108BB2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530-6F2E-435E-AE02-F797E217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83D-52B1-458D-B2BB-1C0AB10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24E1-6B3F-4F09-8222-11B8B98F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080-EDF3-4C86-B674-C1A57DE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CD6D-F864-42B8-8DB2-CDD25F00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478-438B-4197-9ED6-7B23F1C3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6A7-7C1F-4B7E-A25C-540581B8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175-AEE1-4774-BB8B-0B600F7F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98A-30A3-4FCB-84BF-CAC86B63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B8E2-D7C4-45B3-BCD6-2CA4B384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432A-49F1-4D82-A3A4-7312EA0C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DAC-CA1B-4E10-85AD-F3FF6F1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392-A8A2-47AD-B34B-F3215F4B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7BC-736D-4548-BD2D-3ED1F00A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AE4-B03A-47E0-980C-A04B02C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7BD-9D88-472A-B4D9-B665B56C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585-D3AA-4C8B-BB5D-01A63BC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57F-1201-4A4B-AEE3-D5B47BC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8BD-7748-4C31-B268-12183E0EDC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2287-DAF4-42C1-9DD9-45A0B27A70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AA6F-CB0B-440A-BECC-FA6D1C0868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B0B3-FFE0-4E55-880E-F45B9E15FF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a87c5"/>
                </a:solidFill>
                <a:latin typeface="微软雅黑"/>
                <a:ea typeface="微软雅黑"/>
              </a:rPr>
              <a:t>时尚扁平年终工作总结</a:t>
            </a:r>
            <a:r>
              <a:rPr b="0" lang="en-US" sz="40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803840" y="4216320"/>
            <a:ext cx="28018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9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3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7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81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4"/>
          <p:cNvSpPr/>
          <p:nvPr/>
        </p:nvSpPr>
        <p:spPr>
          <a:xfrm>
            <a:off x="6865920" y="246204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43a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43a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9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9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miter/>
            <a:tailEnd len="med" type="triangle" w="med"/>
          </a:ln>
        </p:spPr>
      </p:cxnSp>
      <p:sp>
        <p:nvSpPr>
          <p:cNvPr id="330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dc7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dc7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dc7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dc7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7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5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0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8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1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26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4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2B1-4C9E-48A1-BA84-A0AC25EBAF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"/>
          <p:cNvSpPr/>
          <p:nvPr/>
        </p:nvSpPr>
        <p:spPr>
          <a:xfrm>
            <a:off x="4694400" y="4282920"/>
            <a:ext cx="2801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4"/>
          <p:cNvSpPr/>
          <p:nvPr/>
        </p:nvSpPr>
        <p:spPr>
          <a:xfrm>
            <a:off x="6926400" y="246204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43a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43a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8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dc7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dc7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dc7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dc7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dc7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dc7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cedc7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dc7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8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2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6794640" y="2486160"/>
            <a:ext cx="14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43a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43a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3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11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6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5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10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9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4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8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31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4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7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40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6:4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45Z</dcterms:modified>
  <cp:revision>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