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A883-2021-4836-B4DA-16EB9C98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5F9E-7143-4757-88D0-FBA55A74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4F76-CB25-43BB-9693-35AF8076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D7DB-0B41-4CF8-8808-2DA7A886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9DCF-094F-4E3A-B2D5-582172C9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F303-12D1-4A2D-84B1-AFF15895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3365-FE25-47A1-8725-6485B248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7766-0EC2-46C9-87F1-DBE783C0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91BE-C72D-4657-B935-B49434E7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1455-6577-45D9-A993-1935A6EF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0641-D7C7-421E-9C0E-86E98D94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DB56-68C9-4108-B90A-1444450E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7E6B-26E2-470E-92EC-927EF41A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B279-FB49-4808-9A0A-07376BC2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2FE6-77D2-417F-B3D0-BCD09BD4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851B-A481-4879-81DE-39D35797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F410-E325-4F08-9D8B-CA0D6D31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031A-BDEC-4CB3-895D-25D4B315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2EBC-DAB3-454D-94D0-F7F891EE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5E7B-E877-4B69-9261-D389C963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CB37-4DFF-4F65-9E25-0453B6A8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7F17-0BF4-445B-AFC6-1512F9D6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1BE7-C5F6-4830-867B-7C224D86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C341-9367-438E-B584-9250A8BD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online.sccnn.com/html/design/vi/20120306152046(2).htm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E2A0-76B3-4FE2-9C3A-FAA4C7DC4F5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0" y="3386160"/>
            <a:ext cx="9144000" cy="933480"/>
          </a:xfrm>
          <a:prstGeom prst="rect">
            <a:avLst/>
          </a:prstGeom>
          <a:solidFill>
            <a:srgbClr val="de2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online.sccnn.com/img2/1045/tbf120306-0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47840"/>
            <a:ext cx="5715000" cy="3876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0A25-2695-438A-922D-39BE6C7D5DC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4"/>
          <p:cNvSpPr/>
          <p:nvPr/>
        </p:nvSpPr>
        <p:spPr>
          <a:xfrm>
            <a:off x="3780000" y="441180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篮球时尚运动模版系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4857840" y="4995720"/>
            <a:ext cx="38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北京国通联合广告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05160" y="476280"/>
            <a:ext cx="48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尚篮球运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幻灯片下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FD9B-F98B-4986-BFD6-860A1AA496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直接连接符 9"/>
          <p:cNvSpPr/>
          <p:nvPr/>
        </p:nvSpPr>
        <p:spPr>
          <a:xfrm>
            <a:off x="3851280" y="1484280"/>
            <a:ext cx="4897440" cy="0"/>
          </a:xfrm>
          <a:prstGeom prst="line">
            <a:avLst/>
          </a:prstGeom>
          <a:ln w="9360">
            <a:solidFill>
              <a:srgbClr val="de29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6084720" y="83664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5927760" y="25336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5927760" y="33465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5927760" y="41590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5927760" y="49719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5:51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0:50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