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C772-5904-4B75-9440-733261FAF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598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5460120"/>
            <a:ext cx="598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5F14-79E2-442E-ADE0-FB014E33F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546012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546012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58F7-5C24-4870-9225-9D153AB73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3040" y="518148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5520" y="518148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546012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3040" y="546012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5520" y="546012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9820-3904-4780-A260-5615BD06F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00200" y="5181480"/>
            <a:ext cx="5981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598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918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240" y="5181480"/>
            <a:ext cx="2918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41144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5240" y="5181480"/>
            <a:ext cx="2918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00200" y="546012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5181480"/>
            <a:ext cx="5981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BD8A-8212-498A-B267-8609ABF5A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918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5240" y="546012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524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00200" y="5460120"/>
            <a:ext cx="598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598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600200" y="5460120"/>
            <a:ext cx="598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24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600200" y="546012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5240" y="546012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23040" y="518148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45520" y="518148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600200" y="546012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23040" y="546012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645520" y="5460120"/>
            <a:ext cx="1926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598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03AE-6D96-4799-A63F-531C9D01B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918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5181480"/>
            <a:ext cx="2918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756B-9D8E-478E-8276-109264EDE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049B-78F1-407C-9935-E34BE37DB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1144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49DC-147D-4DD1-A58C-9D7F2E7DA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5181480"/>
            <a:ext cx="2918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546012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79F1-0EC1-42B9-A236-0BE76989D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918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546012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899D-D060-4736-ABC1-E0465B796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5181480"/>
            <a:ext cx="2918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5460120"/>
            <a:ext cx="598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2A17-7854-46CD-992D-C9F295AC2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07920"/>
            <a:ext cx="395280" cy="5964480"/>
          </a:xfrm>
          <a:prstGeom prst="rect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0ac5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28c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E87D-83B3-487F-BFA8-C57616E490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385280" y="50432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ompany Log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468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608360"/>
            <a:ext cx="9144000" cy="2276640"/>
          </a:xfrm>
          <a:prstGeom prst="rect">
            <a:avLst/>
          </a:prstGeom>
          <a:gradFill rotWithShape="0">
            <a:gsLst>
              <a:gs pos="0">
                <a:srgbClr val="34405e"/>
              </a:gs>
              <a:gs pos="100000">
                <a:srgbClr val="728c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85080" y="187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17080" y="1872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748720" y="187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85080" y="619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17080" y="6192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48720" y="619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85080" y="10508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7080" y="10508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748720" y="10508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5080" y="148284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17080" y="148284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48720" y="148284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5080" y="191772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7080" y="191772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48720" y="191772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85080" y="23493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17080" y="234936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748720" y="23493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85080" y="2779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17080" y="277956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779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5080" y="32130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32130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720" y="32130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5080" y="364500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17080" y="364500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748720" y="364500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1280" y="187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3280" y="1872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1280" y="619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3280" y="6192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1280" y="10508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23280" y="10508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1280" y="148284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23280" y="148284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1280" y="191772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23280" y="191772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1280" y="23493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23280" y="234936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1280" y="2779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3280" y="277956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1280" y="32130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3280" y="32130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1280" y="364500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23280" y="364500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726080"/>
            <a:ext cx="21564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114800"/>
            <a:ext cx="9144000" cy="54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e7"/>
                </a:solidFill>
                <a:latin typeface="Arial"/>
                <a:ea typeface="宋体"/>
              </a:rPr>
              <a:t>手术室完整版</a:t>
            </a:r>
            <a:r>
              <a:rPr b="1" lang="en-US" sz="4000" spc="-1" strike="noStrike">
                <a:solidFill>
                  <a:srgbClr val="ffffe7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e7"/>
                </a:solidFill>
                <a:latin typeface="Arial"/>
                <a:ea typeface="宋体"/>
              </a:rPr>
              <a:t>模板打包下载</a:t>
            </a: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600200" y="5181480"/>
            <a:ext cx="5981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66680" y="2362320"/>
            <a:ext cx="7016760" cy="2971800"/>
            <a:chOff x="1066680" y="2362320"/>
            <a:chExt cx="7016760" cy="2971800"/>
          </a:xfrm>
        </p:grpSpPr>
        <p:sp>
          <p:nvSpPr>
            <p:cNvPr id="330" name=""/>
            <p:cNvSpPr/>
            <p:nvPr/>
          </p:nvSpPr>
          <p:spPr>
            <a:xfrm>
              <a:off x="3052800" y="309888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67400" y="309888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0a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0ac5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0ac5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276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5e5c2c"/>
                </a:gs>
                <a:gs pos="50000">
                  <a:srgbClr val="b0ac52"/>
                </a:gs>
                <a:gs pos="100000">
                  <a:srgbClr val="5e5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5608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b0ac52">
                    <a:alpha val="0"/>
                  </a:srgbClr>
                </a:gs>
                <a:gs pos="100000">
                  <a:srgbClr val="6f6c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19800" y="258444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99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9700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98440" y="24955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8268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307880" y="2602080"/>
              <a:ext cx="1503360" cy="1511280"/>
              <a:chOff x="1307880" y="2602080"/>
              <a:chExt cx="1503360" cy="1511280"/>
            </a:xfrm>
          </p:grpSpPr>
          <p:sp>
            <p:nvSpPr>
              <p:cNvPr id="343" name=""/>
              <p:cNvSpPr/>
              <p:nvPr/>
            </p:nvSpPr>
            <p:spPr>
              <a:xfrm>
                <a:off x="13078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269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424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241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8cc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34405e"/>
                </a:gs>
                <a:gs pos="100000">
                  <a:srgbClr val="728cc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130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3d4b6f"/>
                </a:gs>
                <a:gs pos="50000">
                  <a:srgbClr val="728cce"/>
                </a:gs>
                <a:gs pos="100000">
                  <a:srgbClr val="3d4b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14480" y="250200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728cce">
                    <a:alpha val="0"/>
                  </a:srgbClr>
                </a:gs>
                <a:gs pos="100000">
                  <a:srgbClr val="4858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8720" y="25844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824280" y="2602080"/>
              <a:ext cx="1503360" cy="1511280"/>
              <a:chOff x="3824280" y="2602080"/>
              <a:chExt cx="1503360" cy="1511280"/>
            </a:xfrm>
          </p:grpSpPr>
          <p:sp>
            <p:nvSpPr>
              <p:cNvPr id="353" name=""/>
              <p:cNvSpPr/>
              <p:nvPr/>
            </p:nvSpPr>
            <p:spPr>
              <a:xfrm>
                <a:off x="38242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433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588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405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348240" y="2602080"/>
              <a:ext cx="1505160" cy="1511280"/>
              <a:chOff x="6348240" y="2602080"/>
              <a:chExt cx="1505160" cy="1511280"/>
            </a:xfrm>
          </p:grpSpPr>
          <p:sp>
            <p:nvSpPr>
              <p:cNvPr id="358" name=""/>
              <p:cNvSpPr/>
              <p:nvPr/>
            </p:nvSpPr>
            <p:spPr>
              <a:xfrm>
                <a:off x="634824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67320" y="261036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280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6488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11096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255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563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58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9832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194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371600" y="1447920"/>
            <a:ext cx="7086600" cy="4476600"/>
            <a:chOff x="1371600" y="1447920"/>
            <a:chExt cx="7086600" cy="4476600"/>
          </a:xfrm>
        </p:grpSpPr>
        <p:sp>
          <p:nvSpPr>
            <p:cNvPr id="370" name=""/>
            <p:cNvSpPr/>
            <p:nvPr/>
          </p:nvSpPr>
          <p:spPr>
            <a:xfrm>
              <a:off x="1371600" y="18860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728cce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91320" y="340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20876400">
              <a:off x="3621240" y="48769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52840" y="365760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73360" y="366732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91000" y="3683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83160" y="372744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70440" y="42847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0826600">
              <a:off x="1778040" y="426708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701720" y="3276720"/>
              <a:ext cx="1371240" cy="1441080"/>
              <a:chOff x="1701720" y="3276720"/>
              <a:chExt cx="1371240" cy="1441080"/>
            </a:xfrm>
          </p:grpSpPr>
          <p:sp>
            <p:nvSpPr>
              <p:cNvPr id="380" name=""/>
              <p:cNvSpPr/>
              <p:nvPr/>
            </p:nvSpPr>
            <p:spPr>
              <a:xfrm>
                <a:off x="1701720" y="32767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719720" y="328500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32680" y="329832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04320" y="333504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2160" y="3782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600200" y="251172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76520" y="1905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89120" y="1909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00280" y="19209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54280" y="194652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73440" y="2254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670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894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88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052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1640" y="14763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5964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2760" y="35812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591200" y="1828800"/>
            <a:ext cx="6444360" cy="3770280"/>
            <a:chOff x="1591200" y="1828800"/>
            <a:chExt cx="6444360" cy="3770280"/>
          </a:xfrm>
        </p:grpSpPr>
        <p:sp>
          <p:nvSpPr>
            <p:cNvPr id="400" name=""/>
            <p:cNvSpPr/>
            <p:nvPr/>
          </p:nvSpPr>
          <p:spPr>
            <a:xfrm rot="17973000">
              <a:off x="456192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3465600">
              <a:off x="4612320" y="464436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4368800">
              <a:off x="339336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534800">
              <a:off x="3354480" y="4610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9120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6232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e5b3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7672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e5b3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8184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e5b3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e5b3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8184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e5b3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624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e5b3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0ac5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4024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0ac5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e5c2c"/>
                </a:gs>
                <a:gs pos="50000">
                  <a:srgbClr val="b0ac52"/>
                </a:gs>
                <a:gs pos="100000">
                  <a:srgbClr val="5e5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68760" y="29718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b0ac52">
                    <a:alpha val="0"/>
                  </a:srgbClr>
                </a:gs>
                <a:gs pos="100000">
                  <a:srgbClr val="6f6c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3751200" y="3087720"/>
              <a:ext cx="1290960" cy="1278000"/>
              <a:chOff x="3751200" y="3087720"/>
              <a:chExt cx="1290960" cy="1278000"/>
            </a:xfrm>
          </p:grpSpPr>
          <p:sp>
            <p:nvSpPr>
              <p:cNvPr id="424" name=""/>
              <p:cNvSpPr/>
              <p:nvPr/>
            </p:nvSpPr>
            <p:spPr>
              <a:xfrm>
                <a:off x="3751200" y="308772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6776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81080" y="310716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5128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219320" y="1676520"/>
            <a:ext cx="6781320" cy="4006440"/>
            <a:chOff x="1219320" y="1676520"/>
            <a:chExt cx="6781320" cy="4006440"/>
          </a:xfrm>
        </p:grpSpPr>
        <p:sp>
          <p:nvSpPr>
            <p:cNvPr id="431" name=""/>
            <p:cNvSpPr/>
            <p:nvPr/>
          </p:nvSpPr>
          <p:spPr>
            <a:xfrm>
              <a:off x="12193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cc66"/>
                </a:gs>
                <a:gs pos="100000">
                  <a:srgbClr val="dff7eb"/>
                </a:gs>
              </a:gsLst>
              <a:lin ang="5400000"/>
            </a:gradFill>
            <a:ln w="255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" descr=""/>
            <p:cNvPicPr/>
            <p:nvPr/>
          </p:nvPicPr>
          <p:blipFill>
            <a:blip r:embed="rId1"/>
            <a:stretch/>
          </p:blipFill>
          <p:spPr>
            <a:xfrm>
              <a:off x="1404000" y="229284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52748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5e2f"/>
                </a:gs>
                <a:gs pos="50000">
                  <a:srgbClr val="00cc66"/>
                </a:gs>
                <a:gs pos="100000">
                  <a:srgbClr val="00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509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9348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717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728cce"/>
                </a:gs>
                <a:gs pos="100000">
                  <a:srgbClr val="d7def0"/>
                </a:gs>
              </a:gsLst>
              <a:lin ang="5400000"/>
            </a:gradFill>
            <a:ln w="25560">
              <a:solidFill>
                <a:srgbClr val="728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2"/>
            <a:stretch/>
          </p:blipFill>
          <p:spPr>
            <a:xfrm>
              <a:off x="4856400" y="229284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498024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405e"/>
                </a:gs>
                <a:gs pos="50000">
                  <a:srgbClr val="728cce"/>
                </a:gs>
                <a:gs pos="100000">
                  <a:srgbClr val="344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033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4588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43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50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58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72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77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1752480"/>
            <a:ext cx="9144000" cy="4188960"/>
            <a:chOff x="0" y="1752480"/>
            <a:chExt cx="9144000" cy="4188960"/>
          </a:xfrm>
        </p:grpSpPr>
        <p:grpSp>
          <p:nvGrpSpPr>
            <p:cNvPr id="488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379520" y="2609640"/>
              <a:ext cx="1931760" cy="3265200"/>
              <a:chOff x="1379520" y="2609640"/>
              <a:chExt cx="1931760" cy="326520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1785240" y="3450240"/>
                <a:ext cx="1526040" cy="2424600"/>
                <a:chOff x="1785240" y="3450240"/>
                <a:chExt cx="1526040" cy="242460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1785240" y="3607920"/>
                  <a:ext cx="1420200" cy="2266920"/>
                  <a:chOff x="1785240" y="3607920"/>
                  <a:chExt cx="1420200" cy="226692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3876600">
                    <a:off x="135756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3876600">
                    <a:off x="2724840" y="53740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2221560" y="3450240"/>
                  <a:ext cx="1089720" cy="1739520"/>
                  <a:chOff x="2221560" y="3450240"/>
                  <a:chExt cx="1089720" cy="17395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 rot="3876600">
                    <a:off x="1892880" y="41310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V="1" rot="3876600">
                    <a:off x="2926800" y="48132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1379520" y="2609640"/>
                <a:ext cx="1270440" cy="1309320"/>
                <a:chOff x="1379520" y="2609640"/>
                <a:chExt cx="1270440" cy="13093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13795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795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463400" y="26946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463400" y="269748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518120" y="275256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1533240" y="2768040"/>
                  <a:ext cx="962280" cy="992880"/>
                  <a:chOff x="1533240" y="2768040"/>
                  <a:chExt cx="962280" cy="99288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1533240" y="276804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1545480" y="277344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1555200" y="278280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607760" y="280836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0" name=""/>
              <p:cNvSpPr/>
              <p:nvPr/>
            </p:nvSpPr>
            <p:spPr>
              <a:xfrm rot="3925800">
                <a:off x="174636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3925800">
                <a:off x="220788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3127320" y="2609640"/>
              <a:ext cx="1931040" cy="3265200"/>
              <a:chOff x="3127320" y="2609640"/>
              <a:chExt cx="1931040" cy="326520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531960" y="3450240"/>
                <a:ext cx="1526400" cy="2424600"/>
                <a:chOff x="3531960" y="3450240"/>
                <a:chExt cx="1526400" cy="242460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3531960" y="3607920"/>
                  <a:ext cx="1420200" cy="2266920"/>
                  <a:chOff x="3531960" y="3607920"/>
                  <a:chExt cx="1420200" cy="22669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3876600">
                    <a:off x="310428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3876600">
                    <a:off x="4471560" y="537372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3968280" y="3450240"/>
                  <a:ext cx="1090080" cy="1739520"/>
                  <a:chOff x="3968280" y="3450240"/>
                  <a:chExt cx="1090080" cy="17395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V="1" rot="3876600">
                    <a:off x="3639960" y="413100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V="1" rot="3876600">
                    <a:off x="4673880" y="48121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3127320" y="2609640"/>
                <a:ext cx="1270440" cy="1309320"/>
                <a:chOff x="3127320" y="2609640"/>
                <a:chExt cx="1270440" cy="13093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1273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1273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211200" y="26946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211200" y="269748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265920" y="275256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3281040" y="2768040"/>
                  <a:ext cx="962280" cy="992880"/>
                  <a:chOff x="3281040" y="2768040"/>
                  <a:chExt cx="962280" cy="99288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3281040" y="276804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293280" y="277344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3303000" y="278280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355560" y="280836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1" name=""/>
              <p:cNvSpPr/>
              <p:nvPr/>
            </p:nvSpPr>
            <p:spPr>
              <a:xfrm rot="3925800">
                <a:off x="348768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925800">
                <a:off x="394992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4930920" y="2609640"/>
              <a:ext cx="1931760" cy="3265200"/>
              <a:chOff x="4930920" y="2609640"/>
              <a:chExt cx="1931760" cy="326520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5336640" y="3450240"/>
                <a:ext cx="1526040" cy="2424600"/>
                <a:chOff x="5336640" y="3450240"/>
                <a:chExt cx="1526040" cy="242460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5336640" y="3607920"/>
                  <a:ext cx="1420200" cy="2266920"/>
                  <a:chOff x="5336640" y="3607920"/>
                  <a:chExt cx="1420200" cy="226692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3876600">
                    <a:off x="490896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3876600">
                    <a:off x="6276240" y="53740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5772960" y="3450240"/>
                  <a:ext cx="1089720" cy="1739520"/>
                  <a:chOff x="5772960" y="3450240"/>
                  <a:chExt cx="1089720" cy="17395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flipV="1" rot="3876600">
                    <a:off x="5444280" y="41310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 rot="3876600">
                    <a:off x="6478200" y="48132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4930920" y="2609640"/>
                <a:ext cx="1272240" cy="1309320"/>
                <a:chOff x="4930920" y="2609640"/>
                <a:chExt cx="1272240" cy="13093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4930920" y="260964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930920" y="260964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015160" y="26946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015160" y="269748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069880" y="275256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5085000" y="2768040"/>
                  <a:ext cx="963720" cy="992880"/>
                  <a:chOff x="5085000" y="2768040"/>
                  <a:chExt cx="963720" cy="9928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5085000" y="276804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5097240" y="277344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5107320" y="278280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5159520" y="280836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"/>
              <p:cNvSpPr/>
              <p:nvPr/>
            </p:nvSpPr>
            <p:spPr>
              <a:xfrm rot="3925800">
                <a:off x="530100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3925800">
                <a:off x="576288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707160" y="2465280"/>
              <a:ext cx="2122200" cy="3476160"/>
              <a:chOff x="6707160" y="2465280"/>
              <a:chExt cx="2122200" cy="3476160"/>
            </a:xfrm>
          </p:grpSpPr>
          <p:grpSp>
            <p:nvGrpSpPr>
              <p:cNvPr id="555" name=""/>
              <p:cNvGrpSpPr/>
              <p:nvPr/>
            </p:nvGrpSpPr>
            <p:grpSpPr>
              <a:xfrm>
                <a:off x="7303320" y="3516840"/>
                <a:ext cx="1526040" cy="2424600"/>
                <a:chOff x="7303320" y="3516840"/>
                <a:chExt cx="1526040" cy="2424600"/>
              </a:xfrm>
            </p:grpSpPr>
            <p:grpSp>
              <p:nvGrpSpPr>
                <p:cNvPr id="556" name=""/>
                <p:cNvGrpSpPr/>
                <p:nvPr/>
              </p:nvGrpSpPr>
              <p:grpSpPr>
                <a:xfrm>
                  <a:off x="7303320" y="3674520"/>
                  <a:ext cx="1420200" cy="2266920"/>
                  <a:chOff x="7303320" y="3674520"/>
                  <a:chExt cx="1420200" cy="226692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rot="3876600">
                    <a:off x="6875640" y="45615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rot="3876600">
                    <a:off x="8242920" y="54406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7739640" y="3516840"/>
                  <a:ext cx="1089720" cy="1739520"/>
                  <a:chOff x="7739640" y="3516840"/>
                  <a:chExt cx="1089720" cy="173952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 flipV="1" rot="3876600">
                    <a:off x="7410960" y="41976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 rot="3876600">
                    <a:off x="8444880" y="48798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2" name=""/>
              <p:cNvSpPr/>
              <p:nvPr/>
            </p:nvSpPr>
            <p:spPr>
              <a:xfrm>
                <a:off x="6707160" y="246528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707160" y="246528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808680" y="256860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10480" y="257148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873840" y="263664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6892920" y="2655720"/>
                <a:ext cx="1157400" cy="1190160"/>
                <a:chOff x="6892920" y="2655720"/>
                <a:chExt cx="1157400" cy="11901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6892920" y="265572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907680" y="266220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919560" y="267372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982560" y="270396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 rot="3925800">
                <a:off x="7253280" y="4569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3925800">
                <a:off x="7713720" y="4290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1719000" y="1752480"/>
              <a:ext cx="6056640" cy="407880"/>
              <a:chOff x="1719000" y="1752480"/>
              <a:chExt cx="6056640" cy="407880"/>
            </a:xfrm>
          </p:grpSpPr>
          <p:sp>
            <p:nvSpPr>
              <p:cNvPr id="575" name=""/>
              <p:cNvSpPr/>
              <p:nvPr/>
            </p:nvSpPr>
            <p:spPr>
              <a:xfrm>
                <a:off x="171900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47292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21928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009560" y="1752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9" name=""/>
              <p:cNvCxnSpPr>
                <a:stCxn id="575" idx="3"/>
                <a:endCxn id="576" idx="1"/>
              </p:cNvCxnSpPr>
              <p:nvPr/>
            </p:nvCxnSpPr>
            <p:spPr>
              <a:xfrm>
                <a:off x="2455560" y="197604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80" name=""/>
              <p:cNvCxnSpPr>
                <a:stCxn id="576" idx="3"/>
                <a:endCxn id="577" idx="1"/>
              </p:cNvCxnSpPr>
              <p:nvPr/>
            </p:nvCxnSpPr>
            <p:spPr>
              <a:xfrm>
                <a:off x="4209480" y="197604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81" name=""/>
              <p:cNvCxnSpPr/>
              <p:nvPr/>
            </p:nvCxnSpPr>
            <p:spPr>
              <a:xfrm>
                <a:off x="5955840" y="198072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371600" y="2057400"/>
            <a:ext cx="6858000" cy="3428640"/>
            <a:chOff x="1371600" y="2057400"/>
            <a:chExt cx="6858000" cy="3428640"/>
          </a:xfrm>
        </p:grpSpPr>
        <p:sp>
          <p:nvSpPr>
            <p:cNvPr id="584" name=""/>
            <p:cNvSpPr/>
            <p:nvPr/>
          </p:nvSpPr>
          <p:spPr>
            <a:xfrm>
              <a:off x="5666400" y="282672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cda93"/>
                </a:gs>
                <a:gs pos="100000">
                  <a:srgbClr val="00cc6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190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7c485"/>
                </a:gs>
                <a:gs pos="100000">
                  <a:srgbClr val="b0ac52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716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baedb"/>
                </a:gs>
                <a:gs pos="100000">
                  <a:srgbClr val="728cce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7932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baedb"/>
                </a:gs>
                <a:gs pos="100000">
                  <a:srgbClr val="728cc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68784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7c485"/>
                </a:gs>
                <a:gs pos="100000">
                  <a:srgbClr val="b0ac52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0500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cda93"/>
                </a:gs>
                <a:gs pos="100000">
                  <a:srgbClr val="00cc6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0396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60836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925720" y="31291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1932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280160" y="1558800"/>
            <a:ext cx="6214680" cy="1324440"/>
            <a:chOff x="1280160" y="1558800"/>
            <a:chExt cx="6214680" cy="1324440"/>
          </a:xfrm>
        </p:grpSpPr>
        <p:sp>
          <p:nvSpPr>
            <p:cNvPr id="596" name=""/>
            <p:cNvSpPr/>
            <p:nvPr/>
          </p:nvSpPr>
          <p:spPr>
            <a:xfrm rot="3418800">
              <a:off x="148788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b0ac52"/>
                </a:gs>
                <a:gs pos="100000">
                  <a:srgbClr val="514f2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2410920" y="1939680"/>
              <a:ext cx="901080" cy="124200"/>
              <a:chOff x="2410920" y="1939680"/>
              <a:chExt cx="901080" cy="124200"/>
            </a:xfrm>
          </p:grpSpPr>
          <p:sp>
            <p:nvSpPr>
              <p:cNvPr id="598" name=""/>
              <p:cNvSpPr/>
              <p:nvPr/>
            </p:nvSpPr>
            <p:spPr>
              <a:xfrm>
                <a:off x="2410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49732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175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24828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rot="3418800">
              <a:off x="3152520" y="1704240"/>
              <a:ext cx="874080" cy="97092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4075560" y="1939680"/>
              <a:ext cx="901080" cy="124200"/>
              <a:chOff x="4075560" y="1939680"/>
              <a:chExt cx="901080" cy="124200"/>
            </a:xfrm>
          </p:grpSpPr>
          <p:sp>
            <p:nvSpPr>
              <p:cNvPr id="604" name=""/>
              <p:cNvSpPr/>
              <p:nvPr/>
            </p:nvSpPr>
            <p:spPr>
              <a:xfrm>
                <a:off x="407556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6196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84020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91292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 rot="3418800">
              <a:off x="4747680" y="170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b0ac52"/>
                </a:gs>
                <a:gs pos="100000">
                  <a:srgbClr val="514f2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5740200" y="1939680"/>
              <a:ext cx="1178280" cy="124200"/>
              <a:chOff x="5740200" y="1939680"/>
              <a:chExt cx="1178280" cy="124200"/>
            </a:xfrm>
          </p:grpSpPr>
          <p:sp>
            <p:nvSpPr>
              <p:cNvPr id="610" name=""/>
              <p:cNvSpPr/>
              <p:nvPr/>
            </p:nvSpPr>
            <p:spPr>
              <a:xfrm>
                <a:off x="574020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53240" y="19404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73992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3532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 rot="3418800">
              <a:off x="6412320" y="1704240"/>
              <a:ext cx="874080" cy="97092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5948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904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366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5322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6012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2950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9906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8592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164600" y="1325880"/>
            <a:ext cx="6879600" cy="4804560"/>
            <a:chOff x="1164600" y="1325880"/>
            <a:chExt cx="6879600" cy="4804560"/>
          </a:xfrm>
        </p:grpSpPr>
        <p:sp>
          <p:nvSpPr>
            <p:cNvPr id="625" name=""/>
            <p:cNvSpPr/>
            <p:nvPr/>
          </p:nvSpPr>
          <p:spPr>
            <a:xfrm>
              <a:off x="236232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1506600" y="23522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601600">
              <a:off x="1563480" y="21902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1477800" y="217620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1455840" y="22071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601600">
              <a:off x="1487520" y="218736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rot="20602200">
              <a:off x="1469880" y="21949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601600">
              <a:off x="3024360" y="29048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33964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4476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2092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46800" y="32032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539200">
              <a:off x="1482120" y="220572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646520" y="36846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20920" y="3660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6844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633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0601600">
              <a:off x="3125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822920" y="40798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590840" y="1797120"/>
            <a:ext cx="5419080" cy="4755600"/>
            <a:chOff x="1590840" y="1797120"/>
            <a:chExt cx="5419080" cy="4755600"/>
          </a:xfrm>
        </p:grpSpPr>
        <p:sp>
          <p:nvSpPr>
            <p:cNvPr id="646" name=""/>
            <p:cNvSpPr/>
            <p:nvPr/>
          </p:nvSpPr>
          <p:spPr>
            <a:xfrm>
              <a:off x="5257080" y="260280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53240" y="4181400"/>
              <a:ext cx="1177200" cy="326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02080" y="6078600"/>
              <a:ext cx="1707840" cy="474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04680" y="480132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3770000">
              <a:off x="4833360" y="4079880"/>
              <a:ext cx="899280" cy="1796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856000">
              <a:off x="2973240" y="3659400"/>
              <a:ext cx="945720" cy="1620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852000" y="2436120"/>
              <a:ext cx="1594800" cy="1719360"/>
              <a:chOff x="3852000" y="2436120"/>
              <a:chExt cx="1594800" cy="1719360"/>
            </a:xfrm>
          </p:grpSpPr>
          <p:sp>
            <p:nvSpPr>
              <p:cNvPr id="653" name=""/>
              <p:cNvSpPr/>
              <p:nvPr/>
            </p:nvSpPr>
            <p:spPr>
              <a:xfrm rot="18394200">
                <a:off x="4952160" y="2634840"/>
                <a:ext cx="557640" cy="12312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3852000" y="2668680"/>
                <a:ext cx="1507680" cy="1486800"/>
                <a:chOff x="3852000" y="2668680"/>
                <a:chExt cx="1507680" cy="14868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3852000" y="2668680"/>
                  <a:ext cx="1507680" cy="148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25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024080" y="2693160"/>
                  <a:ext cx="1163160" cy="560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3890160" y="33156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5164920" y="1797120"/>
              <a:ext cx="871200" cy="806760"/>
              <a:chOff x="5164920" y="1797120"/>
              <a:chExt cx="871200" cy="80676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5172480" y="1797120"/>
                <a:ext cx="816120" cy="806760"/>
                <a:chOff x="5172480" y="1797120"/>
                <a:chExt cx="816120" cy="806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5172480" y="1797120"/>
                  <a:ext cx="816120" cy="80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8cce"/>
                    </a:gs>
                    <a:gs pos="100000">
                      <a:srgbClr val="333f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265720" y="1810440"/>
                  <a:ext cx="629640" cy="304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8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"/>
              <p:cNvSpPr/>
              <p:nvPr/>
            </p:nvSpPr>
            <p:spPr>
              <a:xfrm>
                <a:off x="5164920" y="21078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590840" y="3038400"/>
              <a:ext cx="1633680" cy="1676880"/>
              <a:chOff x="1590840" y="3038400"/>
              <a:chExt cx="1633680" cy="167688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1590840" y="3038400"/>
                <a:ext cx="1633680" cy="1676880"/>
                <a:chOff x="1590840" y="3038400"/>
                <a:chExt cx="1633680" cy="167688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1590840" y="303840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100000">
                      <a:srgbClr val="009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777320" y="3066120"/>
                  <a:ext cx="1260360" cy="632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>
                <a:off x="1629000" y="37828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5108400" y="4218480"/>
              <a:ext cx="1885320" cy="1863000"/>
              <a:chOff x="5108400" y="4218480"/>
              <a:chExt cx="1885320" cy="1863000"/>
            </a:xfrm>
          </p:grpSpPr>
          <p:grpSp>
            <p:nvGrpSpPr>
              <p:cNvPr id="669" name=""/>
              <p:cNvGrpSpPr/>
              <p:nvPr/>
            </p:nvGrpSpPr>
            <p:grpSpPr>
              <a:xfrm>
                <a:off x="5108400" y="4218480"/>
                <a:ext cx="1885320" cy="1863000"/>
                <a:chOff x="5108400" y="4218480"/>
                <a:chExt cx="1885320" cy="186300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5108400" y="4218480"/>
                  <a:ext cx="1885320" cy="18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0ac52"/>
                    </a:gs>
                    <a:gs pos="100000">
                      <a:srgbClr val="5f5d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323680" y="4249080"/>
                  <a:ext cx="1454400" cy="703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b0ac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"/>
              <p:cNvSpPr/>
              <p:nvPr/>
            </p:nvSpPr>
            <p:spPr>
              <a:xfrm>
                <a:off x="5327640" y="50256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ac52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158" name="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59" name="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b0ac52"/>
                  </a:gs>
                  <a:gs pos="100000">
                    <a:srgbClr val="514f2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00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166" name="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67" name="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728cce"/>
                  </a:gs>
                  <a:gs pos="100000">
                    <a:srgbClr val="3440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00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74" name="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75" name="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b0ac52"/>
                  </a:gs>
                  <a:gs pos="100000">
                    <a:srgbClr val="514f2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00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82" name="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83" name="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728cce"/>
                  </a:gs>
                  <a:gs pos="100000">
                    <a:srgbClr val="3440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00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b0ac5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B5C2-E619-4317-9E25-4F12A99472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2133720" y="259092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00465e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600200" y="5181480"/>
            <a:ext cx="5981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0ac5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8cce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28c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728cce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728cce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728cce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728cce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ange images to the one you like, then it will apply to all the other slide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905120" y="1600200"/>
            <a:ext cx="5867280" cy="1301760"/>
            <a:chOff x="1905120" y="1600200"/>
            <a:chExt cx="5867280" cy="1301760"/>
          </a:xfrm>
        </p:grpSpPr>
        <p:sp>
          <p:nvSpPr>
            <p:cNvPr id="193" name=""/>
            <p:cNvSpPr/>
            <p:nvPr/>
          </p:nvSpPr>
          <p:spPr>
            <a:xfrm>
              <a:off x="1905120" y="16002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033280" y="1719720"/>
              <a:ext cx="1130760" cy="1064520"/>
              <a:chOff x="2033280" y="1719720"/>
              <a:chExt cx="1130760" cy="1064520"/>
            </a:xfrm>
          </p:grpSpPr>
          <p:sp>
            <p:nvSpPr>
              <p:cNvPr id="195" name=""/>
              <p:cNvSpPr/>
              <p:nvPr/>
            </p:nvSpPr>
            <p:spPr>
              <a:xfrm>
                <a:off x="2033280" y="17197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28cce"/>
                  </a:gs>
                  <a:gs pos="100000">
                    <a:srgbClr val="4f618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103840" y="17881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fe3"/>
                  </a:gs>
                  <a:gs pos="50000">
                    <a:srgbClr val="728cce">
                      <a:alpha val="0"/>
                    </a:srgbClr>
                  </a:gs>
                  <a:gs pos="100000">
                    <a:srgbClr val="b1bf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159280" y="20091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318840" y="1801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05120" y="3130560"/>
            <a:ext cx="5867280" cy="1301760"/>
            <a:chOff x="1905120" y="3130560"/>
            <a:chExt cx="5867280" cy="1301760"/>
          </a:xfrm>
        </p:grpSpPr>
        <p:sp>
          <p:nvSpPr>
            <p:cNvPr id="200" name=""/>
            <p:cNvSpPr/>
            <p:nvPr/>
          </p:nvSpPr>
          <p:spPr>
            <a:xfrm>
              <a:off x="1905120" y="31305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033280" y="3250080"/>
              <a:ext cx="1130760" cy="1064520"/>
              <a:chOff x="2033280" y="3250080"/>
              <a:chExt cx="1130760" cy="1064520"/>
            </a:xfrm>
          </p:grpSpPr>
          <p:sp>
            <p:nvSpPr>
              <p:cNvPr id="202" name=""/>
              <p:cNvSpPr/>
              <p:nvPr/>
            </p:nvSpPr>
            <p:spPr>
              <a:xfrm>
                <a:off x="2033280" y="32500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4c280"/>
                  </a:gs>
                  <a:gs pos="100000">
                    <a:srgbClr val="b0ac5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103840" y="331848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ac52">
                      <a:alpha val="0"/>
                    </a:srgbClr>
                  </a:gs>
                  <a:gs pos="100000">
                    <a:srgbClr val="dcda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59280" y="35409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318840" y="33087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905120" y="4670280"/>
            <a:ext cx="5867280" cy="1301760"/>
            <a:chOff x="1905120" y="4670280"/>
            <a:chExt cx="5867280" cy="1301760"/>
          </a:xfrm>
        </p:grpSpPr>
        <p:sp>
          <p:nvSpPr>
            <p:cNvPr id="207" name=""/>
            <p:cNvSpPr/>
            <p:nvPr/>
          </p:nvSpPr>
          <p:spPr>
            <a:xfrm>
              <a:off x="1905120" y="46702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033280" y="4789800"/>
              <a:ext cx="1130760" cy="1064520"/>
              <a:chOff x="2033280" y="4789800"/>
              <a:chExt cx="1130760" cy="1064520"/>
            </a:xfrm>
          </p:grpSpPr>
          <p:sp>
            <p:nvSpPr>
              <p:cNvPr id="209" name=""/>
              <p:cNvSpPr/>
              <p:nvPr/>
            </p:nvSpPr>
            <p:spPr>
              <a:xfrm>
                <a:off x="2033280" y="47898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cbddd"/>
                  </a:gs>
                  <a:gs pos="100000">
                    <a:srgbClr val="0099c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03840" y="48582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>
                      <a:alpha val="0"/>
                    </a:srgbClr>
                  </a:gs>
                  <a:gs pos="100000">
                    <a:srgbClr val="82cc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159280" y="5080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318840" y="48484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219320" y="3400560"/>
            <a:ext cx="2286000" cy="2666880"/>
            <a:chOff x="1219320" y="3400560"/>
            <a:chExt cx="2286000" cy="2666880"/>
          </a:xfrm>
        </p:grpSpPr>
        <p:sp>
          <p:nvSpPr>
            <p:cNvPr id="215" name=""/>
            <p:cNvSpPr/>
            <p:nvPr/>
          </p:nvSpPr>
          <p:spPr>
            <a:xfrm>
              <a:off x="121932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14720" y="3600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98680" y="330372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4b5de"/>
              </a:gs>
              <a:gs pos="100000">
                <a:srgbClr val="728cc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124080" y="1676520"/>
            <a:ext cx="2998440" cy="1601280"/>
            <a:chOff x="3124080" y="1676520"/>
            <a:chExt cx="2998440" cy="1601280"/>
          </a:xfrm>
        </p:grpSpPr>
        <p:grpSp>
          <p:nvGrpSpPr>
            <p:cNvPr id="219" name=""/>
            <p:cNvGrpSpPr/>
            <p:nvPr/>
          </p:nvGrpSpPr>
          <p:grpSpPr>
            <a:xfrm>
              <a:off x="3124080" y="1676520"/>
              <a:ext cx="2998440" cy="1601280"/>
              <a:chOff x="3124080" y="1676520"/>
              <a:chExt cx="2998440" cy="16012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24080" y="1819440"/>
                <a:ext cx="2998440" cy="1458360"/>
                <a:chOff x="3124080" y="1819440"/>
                <a:chExt cx="2998440" cy="1458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56840" y="18658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5327"/>
                    </a:gs>
                    <a:gs pos="100000">
                      <a:srgbClr val="b0ac5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124080" y="18194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0ac52"/>
                    </a:gs>
                    <a:gs pos="100000">
                      <a:srgbClr val="dbd9b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3265200" y="16765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728cce"/>
                  </a:gs>
                  <a:gs pos="100000">
                    <a:srgbClr val="3440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300120" y="16844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cd6ec"/>
                  </a:gs>
                  <a:gs pos="100000">
                    <a:srgbClr val="728cce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27120" y="16970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728cce">
                      <a:alpha val="48235"/>
                    </a:srgbClr>
                  </a:gs>
                  <a:gs pos="100000">
                    <a:srgbClr val="596ea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58880" y="17240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728cce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958920" y="18766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38680" y="3400560"/>
            <a:ext cx="2286000" cy="2666880"/>
            <a:chOff x="5638680" y="3400560"/>
            <a:chExt cx="2286000" cy="2666880"/>
          </a:xfrm>
        </p:grpSpPr>
        <p:sp>
          <p:nvSpPr>
            <p:cNvPr id="229" name=""/>
            <p:cNvSpPr/>
            <p:nvPr/>
          </p:nvSpPr>
          <p:spPr>
            <a:xfrm>
              <a:off x="563868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86360" y="36291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>
            <a:off x="4950720" y="33037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e3c7"/>
              </a:gs>
              <a:gs pos="100000">
                <a:srgbClr val="b0ac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62120" y="1645920"/>
            <a:ext cx="7328520" cy="4583520"/>
            <a:chOff x="762120" y="1645920"/>
            <a:chExt cx="7328520" cy="4583520"/>
          </a:xfrm>
        </p:grpSpPr>
        <p:sp>
          <p:nvSpPr>
            <p:cNvPr id="234" name=""/>
            <p:cNvSpPr/>
            <p:nvPr/>
          </p:nvSpPr>
          <p:spPr>
            <a:xfrm rot="20241600">
              <a:off x="1392120" y="27255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0056200">
              <a:off x="434304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056200">
              <a:off x="7010280" y="28188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56200">
              <a:off x="2895480" y="54860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0056200">
              <a:off x="5486040" y="487620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0056200">
              <a:off x="2057040" y="4038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21400" y="19810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b0ac52"/>
                </a:gs>
                <a:gs pos="100000">
                  <a:srgbClr val="3c3b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86160" y="32986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28cce"/>
                </a:gs>
                <a:gs pos="100000">
                  <a:srgbClr val="232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70240" y="47656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48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38760" y="4221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64520" y="217800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4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23400" y="3693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396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70080" y="256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68440" y="4616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34480" y="5154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9000" y="358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2080" y="237636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" name=""/>
            <p:cNvCxnSpPr/>
            <p:nvPr/>
          </p:nvCxnSpPr>
          <p:spPr>
            <a:xfrm flipH="1">
              <a:off x="887040" y="237600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3" name=""/>
            <p:cNvSpPr/>
            <p:nvPr/>
          </p:nvSpPr>
          <p:spPr>
            <a:xfrm>
              <a:off x="762120" y="19810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56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5e2f"/>
                </a:gs>
                <a:gs pos="50000">
                  <a:srgbClr val="00cc66"/>
                </a:gs>
                <a:gs pos="100000">
                  <a:srgbClr val="00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12720" y="1963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19320" y="2209680"/>
            <a:ext cx="6705000" cy="3352680"/>
            <a:chOff x="1219320" y="2209680"/>
            <a:chExt cx="6705000" cy="335268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3000600" y="3256560"/>
              <a:ext cx="460440" cy="29664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5400000">
              <a:off x="5604840" y="3206160"/>
              <a:ext cx="459000" cy="29664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0800000">
              <a:off x="4313520" y="4609800"/>
              <a:ext cx="442440" cy="30636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82560" y="2209680"/>
              <a:ext cx="2325600" cy="24004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14320" y="2344680"/>
              <a:ext cx="2060280" cy="212544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0ac5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5e5c2c"/>
                </a:gs>
                <a:gs pos="50000">
                  <a:srgbClr val="b0ac52"/>
                </a:gs>
                <a:gs pos="100000">
                  <a:srgbClr val="5e5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19320" y="370836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19320" y="3208320"/>
              <a:ext cx="16585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19320" y="270972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95600" y="370836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405e"/>
                </a:gs>
                <a:gs pos="50000">
                  <a:srgbClr val="728cce"/>
                </a:gs>
                <a:gs pos="100000">
                  <a:srgbClr val="3440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95600" y="3208320"/>
              <a:ext cx="17287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405e"/>
                </a:gs>
                <a:gs pos="50000">
                  <a:srgbClr val="728cce"/>
                </a:gs>
                <a:gs pos="100000">
                  <a:srgbClr val="3440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95600" y="270972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405e"/>
                </a:gs>
                <a:gs pos="50000">
                  <a:srgbClr val="728cce"/>
                </a:gs>
                <a:gs pos="100000">
                  <a:srgbClr val="3440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516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79560" y="5062320"/>
              <a:ext cx="352368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7580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7580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7580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7304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7304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7304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ac52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4920" y="2362320"/>
            <a:ext cx="6748920" cy="3352680"/>
            <a:chOff x="1294920" y="2362320"/>
            <a:chExt cx="6748920" cy="3352680"/>
          </a:xfrm>
        </p:grpSpPr>
        <p:sp>
          <p:nvSpPr>
            <p:cNvPr id="302" name=""/>
            <p:cNvSpPr/>
            <p:nvPr/>
          </p:nvSpPr>
          <p:spPr>
            <a:xfrm>
              <a:off x="7518240" y="2362320"/>
              <a:ext cx="5191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27400" y="2362320"/>
              <a:ext cx="301644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94440" y="3203640"/>
              <a:ext cx="5205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78240" y="3203640"/>
              <a:ext cx="324180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70640" y="4035600"/>
              <a:ext cx="5173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49720" y="4869000"/>
              <a:ext cx="5209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89280" y="4873680"/>
              <a:ext cx="36813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307880" y="4869000"/>
              <a:ext cx="20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294920" y="4038840"/>
              <a:ext cx="285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295280" y="3210120"/>
              <a:ext cx="368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295280" y="2368800"/>
              <a:ext cx="451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57280" y="236232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57280" y="32338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7280" y="405144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57280" y="48690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5920" y="2525760"/>
              <a:ext cx="165888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32080" y="2903760"/>
              <a:ext cx="2497320" cy="30456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79680" y="3743280"/>
              <a:ext cx="2721240" cy="2984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35200" y="4035600"/>
              <a:ext cx="34592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37000" y="4578480"/>
              <a:ext cx="2944800" cy="2984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87480" y="5415120"/>
              <a:ext cx="3168720" cy="29700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96160" y="2686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96160" y="3513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96160" y="4376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96160" y="518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1294920" y="570384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2:45:2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1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