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7685-27A0-4BC0-B99D-D5DDF80666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5104-1FD0-4EA5-B19D-FECA7CF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E1CD-8097-4947-B9EF-3BF43905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484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76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484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76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C732-0CF6-4D6B-87E6-62D6087A2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6C828-029C-4033-8833-944841D1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B9D9-2B45-447C-80DA-F2AEE7F0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7A2C2-43C4-476A-9AAE-DA99F1C1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EEB36-EA33-4F85-9DFD-3B9A3B35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D8BAC-CE6C-4E71-B30E-B65BB9A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84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71688-62EA-4547-85FB-A7C1FE1E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D9873-5A9B-4049-91C0-EE04BC94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32FE-C49C-4AA3-9EB9-18E48C6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98647-35A8-4481-97F0-6F71BBD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98648-08B7-4420-9E4B-DD85D0C2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8228F-3B2B-4372-87F3-2EEE1D0C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2DADD-2F93-46E1-9B59-F2C8A9CA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1176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792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484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1176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65D6A-AFE3-4816-9BEF-7C266296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9208-1D61-451B-820A-2063FE6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2CEF-B26F-42D3-8F09-DACFA100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25C4-C9F7-4918-A6A3-8DFC4D0F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84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86DF-F532-442C-8135-16293A1C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C245-8E6F-4F50-A191-030E4F81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20CC-FCB1-409C-A7CE-80DAF02E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25B7-6803-4A8C-AFA8-B43F11E8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9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767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29714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D4D1-D3A7-4FAA-8A14-0D4B15FC46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15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97e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576-C0B7-47DF-B230-60184B91F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197e7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手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幻灯片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588520" y="3581280"/>
            <a:ext cx="75960" cy="228600"/>
          </a:xfrm>
          <a:prstGeom prst="rect">
            <a:avLst/>
          </a:prstGeom>
          <a:solidFill>
            <a:srgbClr val="5db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55640" y="2203560"/>
            <a:ext cx="7632720" cy="3054240"/>
            <a:chOff x="755640" y="2203560"/>
            <a:chExt cx="7632720" cy="3054240"/>
          </a:xfrm>
        </p:grpSpPr>
        <p:sp>
          <p:nvSpPr>
            <p:cNvPr id="244" name=""/>
            <p:cNvSpPr/>
            <p:nvPr/>
          </p:nvSpPr>
          <p:spPr>
            <a:xfrm>
              <a:off x="291636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19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5164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17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2764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764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17f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69120" y="235116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0800" y="2362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d17fb6">
                    <a:alpha val="0"/>
                  </a:srgbClr>
                </a:gs>
                <a:gs pos="100000">
                  <a:srgbClr val="8450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0640" y="244476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5640" y="220356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3981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5640" y="220356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3981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6760" y="2344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a510f"/>
                </a:gs>
                <a:gs pos="50000">
                  <a:srgbClr val="e3981d"/>
                </a:gs>
                <a:gs pos="100000">
                  <a:srgbClr val="7a510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98560" y="23479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e3981d">
                    <a:alpha val="0"/>
                  </a:srgbClr>
                </a:gs>
                <a:gs pos="100000">
                  <a:srgbClr val="8f60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90720" y="243864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017720" y="2463840"/>
              <a:ext cx="1636560" cy="1636920"/>
              <a:chOff x="1017720" y="2463840"/>
              <a:chExt cx="1636560" cy="1636920"/>
            </a:xfrm>
          </p:grpSpPr>
          <p:sp>
            <p:nvSpPr>
              <p:cNvPr id="257" name=""/>
              <p:cNvSpPr/>
              <p:nvPr/>
            </p:nvSpPr>
            <p:spPr>
              <a:xfrm>
                <a:off x="1017720" y="246384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038600" y="247284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55520" y="248868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4444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349236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197e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9236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c456a"/>
                </a:gs>
                <a:gs pos="100000">
                  <a:srgbClr val="6197e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33840" y="23511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4517c"/>
                </a:gs>
                <a:gs pos="50000">
                  <a:srgbClr val="6197e7"/>
                </a:gs>
                <a:gs pos="100000">
                  <a:srgbClr val="3451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2354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97e7">
                    <a:alpha val="0"/>
                  </a:srgbClr>
                </a:gs>
                <a:gs pos="100000">
                  <a:srgbClr val="3d5f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27440" y="244476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754440" y="2463840"/>
              <a:ext cx="1636560" cy="1636920"/>
              <a:chOff x="3754440" y="2463840"/>
              <a:chExt cx="1636560" cy="1636920"/>
            </a:xfrm>
          </p:grpSpPr>
          <p:sp>
            <p:nvSpPr>
              <p:cNvPr id="267" name=""/>
              <p:cNvSpPr/>
              <p:nvPr/>
            </p:nvSpPr>
            <p:spPr>
              <a:xfrm>
                <a:off x="3754440" y="246384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75320" y="247284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92240" y="248868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8116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500880" y="2463840"/>
              <a:ext cx="1636560" cy="1636920"/>
              <a:chOff x="6500880" y="2463840"/>
              <a:chExt cx="1636560" cy="1636920"/>
            </a:xfrm>
          </p:grpSpPr>
          <p:sp>
            <p:nvSpPr>
              <p:cNvPr id="272" name=""/>
              <p:cNvSpPr/>
              <p:nvPr/>
            </p:nvSpPr>
            <p:spPr>
              <a:xfrm>
                <a:off x="6500880" y="246384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21760" y="247284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38680" y="248868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2760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8049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3844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13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22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54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386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62120" y="1619280"/>
            <a:ext cx="7162200" cy="4400640"/>
            <a:chOff x="762120" y="1619280"/>
            <a:chExt cx="7162200" cy="4400640"/>
          </a:xfrm>
        </p:grpSpPr>
        <p:sp>
          <p:nvSpPr>
            <p:cNvPr id="284" name=""/>
            <p:cNvSpPr/>
            <p:nvPr/>
          </p:nvSpPr>
          <p:spPr>
            <a:xfrm>
              <a:off x="7621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5dbda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5744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714400" y="3828960"/>
              <a:ext cx="1704600" cy="2028960"/>
              <a:chOff x="2714400" y="3828960"/>
              <a:chExt cx="1704600" cy="2028960"/>
            </a:xfrm>
          </p:grpSpPr>
          <p:sp>
            <p:nvSpPr>
              <p:cNvPr id="287" name=""/>
              <p:cNvSpPr/>
              <p:nvPr/>
            </p:nvSpPr>
            <p:spPr>
              <a:xfrm rot="20876400">
                <a:off x="2782440" y="5048280"/>
                <a:ext cx="143784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14400" y="3828960"/>
                <a:ext cx="170460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34560" y="383832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52200" y="385452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44360" y="3898800"/>
                <a:ext cx="140904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31640" y="44560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863280" y="3448080"/>
              <a:ext cx="1370880" cy="1718640"/>
              <a:chOff x="863280" y="3448080"/>
              <a:chExt cx="1370880" cy="1718640"/>
            </a:xfrm>
          </p:grpSpPr>
          <p:sp>
            <p:nvSpPr>
              <p:cNvPr id="294" name=""/>
              <p:cNvSpPr/>
              <p:nvPr/>
            </p:nvSpPr>
            <p:spPr>
              <a:xfrm rot="20826600">
                <a:off x="939240" y="4438440"/>
                <a:ext cx="113292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863280" y="3448080"/>
                <a:ext cx="1370880" cy="1441080"/>
                <a:chOff x="863280" y="3448080"/>
                <a:chExt cx="1370880" cy="14410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63280" y="3448080"/>
                  <a:ext cx="137088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81280" y="3456360"/>
                  <a:ext cx="133668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94240" y="34696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65880" y="3506400"/>
                  <a:ext cx="113184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43720" y="39542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762120" y="2076480"/>
              <a:ext cx="1099440" cy="1139760"/>
              <a:chOff x="762120" y="2076480"/>
              <a:chExt cx="1099440" cy="1139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62120" y="26830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38080" y="20764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50680" y="20811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61840" y="20923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15840" y="21178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35000" y="24256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028600" y="1619280"/>
              <a:ext cx="804240" cy="762120"/>
              <a:chOff x="2028600" y="1619280"/>
              <a:chExt cx="804240" cy="762120"/>
            </a:xfrm>
          </p:grpSpPr>
          <p:sp>
            <p:nvSpPr>
              <p:cNvPr id="309" name=""/>
              <p:cNvSpPr/>
              <p:nvPr/>
            </p:nvSpPr>
            <p:spPr>
              <a:xfrm>
                <a:off x="2028600" y="21528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50640" y="16192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60000" y="16225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66480" y="16286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02840" y="1647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20840" y="18432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7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17f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d17fb6">
                    <a:alpha val="0"/>
                  </a:srgbClr>
                </a:gs>
                <a:gs pos="100000">
                  <a:srgbClr val="8450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49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54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62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67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75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7f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0" y="1512720"/>
            <a:ext cx="9144000" cy="4366080"/>
            <a:chOff x="0" y="1512720"/>
            <a:chExt cx="9144000" cy="4366080"/>
          </a:xfrm>
        </p:grpSpPr>
        <p:sp>
          <p:nvSpPr>
            <p:cNvPr id="389" name=""/>
            <p:cNvSpPr/>
            <p:nvPr/>
          </p:nvSpPr>
          <p:spPr>
            <a:xfrm>
              <a:off x="0" y="28018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28540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96720" y="2205000"/>
              <a:ext cx="2183040" cy="3600720"/>
              <a:chOff x="396720" y="2205000"/>
              <a:chExt cx="2183040" cy="36007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73720" y="3124080"/>
                <a:ext cx="1706040" cy="2681640"/>
                <a:chOff x="873720" y="3124080"/>
                <a:chExt cx="1706040" cy="268164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873720" y="3303000"/>
                  <a:ext cx="1578600" cy="2502720"/>
                  <a:chOff x="873720" y="3303000"/>
                  <a:chExt cx="1578600" cy="25027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3876600">
                    <a:off x="410040" y="42750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3876600">
                    <a:off x="1915920" y="52437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1368360" y="3124080"/>
                  <a:ext cx="1211400" cy="1920240"/>
                  <a:chOff x="1368360" y="3124080"/>
                  <a:chExt cx="1211400" cy="19202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flipV="1" rot="3876600">
                    <a:off x="1012680" y="38700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V="1" rot="3876600">
                    <a:off x="2150640" y="4621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396720" y="2205000"/>
                <a:ext cx="1441800" cy="1440720"/>
                <a:chOff x="396720" y="2205000"/>
                <a:chExt cx="1441800" cy="14407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9672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9672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2120" y="22986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2120" y="23018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54040" y="23623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571320" y="2379600"/>
                  <a:ext cx="1092240" cy="1092960"/>
                  <a:chOff x="571320" y="2379600"/>
                  <a:chExt cx="1092240" cy="10929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571320" y="23796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85360" y="23857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96520" y="23961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55920" y="24238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"/>
              <p:cNvSpPr/>
              <p:nvPr/>
            </p:nvSpPr>
            <p:spPr>
              <a:xfrm rot="3925800">
                <a:off x="897840" y="415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925800">
                <a:off x="1401840" y="3858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2379600" y="2205000"/>
              <a:ext cx="2183040" cy="3600720"/>
              <a:chOff x="2379600" y="2205000"/>
              <a:chExt cx="2183040" cy="360072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2856600" y="3124080"/>
                <a:ext cx="1706040" cy="2681640"/>
                <a:chOff x="2856600" y="3124080"/>
                <a:chExt cx="1706040" cy="26816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856600" y="3303000"/>
                  <a:ext cx="1578600" cy="2502720"/>
                  <a:chOff x="2856600" y="3303000"/>
                  <a:chExt cx="1578600" cy="2502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3876600">
                    <a:off x="2392920" y="42750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3876600">
                    <a:off x="3898800" y="52437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3351240" y="3124080"/>
                  <a:ext cx="1211400" cy="1920240"/>
                  <a:chOff x="3351240" y="3124080"/>
                  <a:chExt cx="1211400" cy="19202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 rot="3876600">
                    <a:off x="2995560" y="38700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V="1" rot="3876600">
                    <a:off x="4133520" y="4621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2379600" y="2205000"/>
                <a:ext cx="1441800" cy="1440720"/>
                <a:chOff x="2379600" y="2205000"/>
                <a:chExt cx="1441800" cy="14407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37960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7960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475000" y="22986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475000" y="23018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536920" y="23623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2554200" y="2379600"/>
                  <a:ext cx="1092240" cy="1092960"/>
                  <a:chOff x="2554200" y="2379600"/>
                  <a:chExt cx="1092240" cy="109296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2554200" y="23796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568240" y="23857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579400" y="23961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638800" y="24238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1" name=""/>
              <p:cNvSpPr/>
              <p:nvPr/>
            </p:nvSpPr>
            <p:spPr>
              <a:xfrm rot="3925800">
                <a:off x="2874960" y="415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925800">
                <a:off x="3378240" y="3858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427640" y="2205000"/>
              <a:ext cx="2182680" cy="3600720"/>
              <a:chOff x="4427640" y="2205000"/>
              <a:chExt cx="2182680" cy="360072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904280" y="3124080"/>
                <a:ext cx="1706040" cy="2681640"/>
                <a:chOff x="4904280" y="3124080"/>
                <a:chExt cx="1706040" cy="268164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4904280" y="3303000"/>
                  <a:ext cx="1578600" cy="2502720"/>
                  <a:chOff x="4904280" y="3303000"/>
                  <a:chExt cx="1578600" cy="25027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3876600">
                    <a:off x="4440600" y="42750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3876600">
                    <a:off x="5946480" y="52437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5398920" y="3124080"/>
                  <a:ext cx="1211400" cy="1920240"/>
                  <a:chOff x="5398920" y="3124080"/>
                  <a:chExt cx="1211400" cy="19202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 rot="3876600">
                    <a:off x="5043240" y="38700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 rot="3876600">
                    <a:off x="6181200" y="4621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4427640" y="2205000"/>
                <a:ext cx="1441440" cy="1440720"/>
                <a:chOff x="4427640" y="2205000"/>
                <a:chExt cx="1441440" cy="14407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427640" y="22050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27640" y="22050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23040" y="22986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523040" y="23018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84960" y="23623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4602240" y="2379600"/>
                  <a:ext cx="1091880" cy="1092960"/>
                  <a:chOff x="4602240" y="2379600"/>
                  <a:chExt cx="1091880" cy="10929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4602240" y="23796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616280" y="23857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627440" y="23961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686840" y="24238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2" name=""/>
              <p:cNvSpPr/>
              <p:nvPr/>
            </p:nvSpPr>
            <p:spPr>
              <a:xfrm rot="3925800">
                <a:off x="4932000" y="415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3925800">
                <a:off x="5435640" y="3858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442200" y="2046240"/>
              <a:ext cx="2399760" cy="3832560"/>
              <a:chOff x="6442200" y="2046240"/>
              <a:chExt cx="2399760" cy="38325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7136280" y="3197160"/>
                <a:ext cx="1705680" cy="2681640"/>
                <a:chOff x="7136280" y="3197160"/>
                <a:chExt cx="1705680" cy="268164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7136280" y="3376080"/>
                  <a:ext cx="1578600" cy="2502720"/>
                  <a:chOff x="7136280" y="3376080"/>
                  <a:chExt cx="1578600" cy="250272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3876600">
                    <a:off x="6672600" y="43480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3876600">
                    <a:off x="8178480" y="53168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7630560" y="3197160"/>
                  <a:ext cx="1211400" cy="1920240"/>
                  <a:chOff x="7630560" y="3197160"/>
                  <a:chExt cx="1211400" cy="19202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V="1" rot="3876600">
                    <a:off x="7274880" y="39430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 rot="3876600">
                    <a:off x="8412840" y="46947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2" name=""/>
              <p:cNvSpPr/>
              <p:nvPr/>
            </p:nvSpPr>
            <p:spPr>
              <a:xfrm>
                <a:off x="6442200" y="20462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42200" y="20462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58120" y="21589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59560" y="21621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32640" y="22352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653160" y="2255760"/>
                <a:ext cx="1312920" cy="1310400"/>
                <a:chOff x="6653160" y="2255760"/>
                <a:chExt cx="1312920" cy="13104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653160" y="22557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669720" y="22629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83400" y="22755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754680" y="23090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rot="3925800">
                <a:off x="71470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925800">
                <a:off x="7649640" y="4017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77796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6840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4984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95000" y="15127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8" name=""/>
            <p:cNvCxnSpPr>
              <a:stCxn id="474" idx="3"/>
              <a:endCxn id="475" idx="1"/>
            </p:cNvCxnSpPr>
            <p:nvPr/>
          </p:nvCxnSpPr>
          <p:spPr>
            <a:xfrm>
              <a:off x="1514160" y="17395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9" name=""/>
            <p:cNvCxnSpPr>
              <a:stCxn id="475" idx="3"/>
              <a:endCxn id="476" idx="1"/>
            </p:cNvCxnSpPr>
            <p:nvPr/>
          </p:nvCxnSpPr>
          <p:spPr>
            <a:xfrm>
              <a:off x="3504960" y="173952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6" idx="3"/>
              <a:endCxn id="477" idx="1"/>
            </p:cNvCxnSpPr>
            <p:nvPr/>
          </p:nvCxnSpPr>
          <p:spPr>
            <a:xfrm>
              <a:off x="5486040" y="173988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a574e"/>
              </a:gs>
              <a:gs pos="100000">
                <a:srgbClr val="5dbda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03a53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456a"/>
              </a:gs>
              <a:gs pos="100000">
                <a:srgbClr val="6197e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456a"/>
              </a:gs>
              <a:gs pos="100000">
                <a:srgbClr val="619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03a53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574e"/>
              </a:gs>
              <a:gs pos="100000">
                <a:srgbClr val="5dbda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94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197e7"/>
                </a:gs>
                <a:gs pos="100000">
                  <a:srgbClr val="2c45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96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a57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502" name="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6197e7"/>
                </a:gs>
                <a:gs pos="100000">
                  <a:srgbClr val="2c45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a57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11280" y="1830240"/>
          <a:ext cx="7691400" cy="338472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560" y="1212480"/>
            <a:ext cx="7431480" cy="4917960"/>
            <a:chOff x="529560" y="1212480"/>
            <a:chExt cx="7431480" cy="4917960"/>
          </a:xfrm>
        </p:grpSpPr>
        <p:sp>
          <p:nvSpPr>
            <p:cNvPr id="525" name=""/>
            <p:cNvSpPr/>
            <p:nvPr/>
          </p:nvSpPr>
          <p:spPr>
            <a:xfrm>
              <a:off x="2187720" y="4465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1461960" y="23522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1517400" y="21906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382760" y="220860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1434960" y="217584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20602200">
              <a:off x="1438200" y="21895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01600">
              <a:off x="1440000" y="218808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20602200">
              <a:off x="142380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4506840" y="35114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4400280" y="32587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29560" y="1509840"/>
              <a:ext cx="6918480" cy="4356720"/>
              <a:chOff x="529560" y="1509840"/>
              <a:chExt cx="6918480" cy="4356720"/>
            </a:xfrm>
          </p:grpSpPr>
          <p:sp>
            <p:nvSpPr>
              <p:cNvPr id="536" name=""/>
              <p:cNvSpPr/>
              <p:nvPr/>
            </p:nvSpPr>
            <p:spPr>
              <a:xfrm rot="20712600">
                <a:off x="782280" y="228132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0712600">
                <a:off x="4186080" y="34794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712600">
                <a:off x="5562000" y="36475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1003680" y="1212480"/>
              <a:ext cx="6957360" cy="4863240"/>
              <a:chOff x="1003680" y="1212480"/>
              <a:chExt cx="6957360" cy="4863240"/>
            </a:xfrm>
          </p:grpSpPr>
          <p:sp>
            <p:nvSpPr>
              <p:cNvPr id="540" name=""/>
              <p:cNvSpPr/>
              <p:nvPr/>
            </p:nvSpPr>
            <p:spPr>
              <a:xfrm rot="20601600">
                <a:off x="6073560" y="35506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0539200">
                <a:off x="1323720" y="209844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601600">
                <a:off x="4757760" y="33807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 rot="20601600">
              <a:off x="2979720" y="29044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3056040" y="313956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16080" y="2725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15880" y="2268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7080" y="3030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8480" y="43257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0960" y="4554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92400" y="371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87560" y="1542960"/>
            <a:ext cx="7390800" cy="4156200"/>
            <a:chOff x="1087560" y="1542960"/>
            <a:chExt cx="7390800" cy="4156200"/>
          </a:xfrm>
        </p:grpSpPr>
        <p:sp>
          <p:nvSpPr>
            <p:cNvPr id="553" name=""/>
            <p:cNvSpPr/>
            <p:nvPr/>
          </p:nvSpPr>
          <p:spPr>
            <a:xfrm>
              <a:off x="2077920" y="2305080"/>
              <a:ext cx="553032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49320" y="1542960"/>
              <a:ext cx="579060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684"/>
                </a:gs>
                <a:gs pos="50000">
                  <a:srgbClr val="6197e7"/>
                </a:gs>
                <a:gs pos="100000">
                  <a:srgbClr val="37568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28600" y="2914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087560" y="4178160"/>
              <a:ext cx="1485720" cy="1514520"/>
              <a:chOff x="1087560" y="4178160"/>
              <a:chExt cx="1485720" cy="15145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087560" y="4178160"/>
                <a:ext cx="1485720" cy="1514520"/>
                <a:chOff x="1087560" y="4178160"/>
                <a:chExt cx="1485720" cy="15145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087560" y="4178160"/>
                  <a:ext cx="148572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257120" y="420300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1245240" y="49492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992320" y="4178160"/>
              <a:ext cx="1523520" cy="1521000"/>
              <a:chOff x="2992320" y="4178160"/>
              <a:chExt cx="1523520" cy="15210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992320" y="4178160"/>
                <a:ext cx="1523520" cy="1521000"/>
                <a:chOff x="2992320" y="4178160"/>
                <a:chExt cx="1523520" cy="15210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2992320" y="4178160"/>
                  <a:ext cx="152352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7fb6"/>
                    </a:gs>
                    <a:gs pos="100000">
                      <a:srgbClr val="6a40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66200" y="42033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d17f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3068280" y="490824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049720" y="4133880"/>
              <a:ext cx="1523520" cy="1520640"/>
              <a:chOff x="5049720" y="4133880"/>
              <a:chExt cx="1523520" cy="152064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5049720" y="4133880"/>
                <a:ext cx="1523520" cy="1520640"/>
                <a:chOff x="5049720" y="4133880"/>
                <a:chExt cx="1523520" cy="15206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5049720" y="4133880"/>
                  <a:ext cx="152352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97e7"/>
                    </a:gs>
                    <a:gs pos="100000">
                      <a:srgbClr val="314d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223600" y="41590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19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5125680" y="486360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6954480" y="4133880"/>
              <a:ext cx="1523880" cy="1531800"/>
              <a:chOff x="6954480" y="4133880"/>
              <a:chExt cx="1523880" cy="153180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6954480" y="4133880"/>
                <a:ext cx="1523880" cy="1531800"/>
                <a:chOff x="6954480" y="4133880"/>
                <a:chExt cx="1523880" cy="15318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954480" y="41338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981d"/>
                    </a:gs>
                    <a:gs pos="100000">
                      <a:srgbClr val="36240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128720" y="41590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398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7097400" y="4847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1947960"/>
            <a:ext cx="5410080" cy="664920"/>
            <a:chOff x="1828800" y="1947960"/>
            <a:chExt cx="5410080" cy="664920"/>
          </a:xfrm>
        </p:grpSpPr>
        <p:grpSp>
          <p:nvGrpSpPr>
            <p:cNvPr id="89" name=""/>
            <p:cNvGrpSpPr/>
            <p:nvPr/>
          </p:nvGrpSpPr>
          <p:grpSpPr>
            <a:xfrm>
              <a:off x="1828800" y="1947960"/>
              <a:ext cx="762120" cy="664920"/>
              <a:chOff x="1828800" y="1947960"/>
              <a:chExt cx="762120" cy="664920"/>
            </a:xfrm>
          </p:grpSpPr>
          <p:sp>
            <p:nvSpPr>
              <p:cNvPr id="90" name=""/>
              <p:cNvSpPr/>
              <p:nvPr/>
            </p:nvSpPr>
            <p:spPr>
              <a:xfrm>
                <a:off x="183492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2880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7308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dbdab"/>
                  </a:gs>
                  <a:gs pos="100000">
                    <a:srgbClr val="2a574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438280" y="25570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70120" y="2023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2752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828800" y="2862360"/>
            <a:ext cx="5410080" cy="664920"/>
            <a:chOff x="1828800" y="2862360"/>
            <a:chExt cx="5410080" cy="664920"/>
          </a:xfrm>
        </p:grpSpPr>
        <p:grpSp>
          <p:nvGrpSpPr>
            <p:cNvPr id="97" name=""/>
            <p:cNvGrpSpPr/>
            <p:nvPr/>
          </p:nvGrpSpPr>
          <p:grpSpPr>
            <a:xfrm>
              <a:off x="1828800" y="2862360"/>
              <a:ext cx="762120" cy="664920"/>
              <a:chOff x="1828800" y="2862360"/>
              <a:chExt cx="762120" cy="664920"/>
            </a:xfrm>
          </p:grpSpPr>
          <p:sp>
            <p:nvSpPr>
              <p:cNvPr id="98" name=""/>
              <p:cNvSpPr/>
              <p:nvPr/>
            </p:nvSpPr>
            <p:spPr>
              <a:xfrm>
                <a:off x="183492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2880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7308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197e7"/>
                  </a:gs>
                  <a:gs pos="100000">
                    <a:srgbClr val="2c4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438280" y="34714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0120" y="2938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752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28800" y="3754440"/>
            <a:ext cx="5410080" cy="665280"/>
            <a:chOff x="1828800" y="3754440"/>
            <a:chExt cx="5410080" cy="665280"/>
          </a:xfrm>
        </p:grpSpPr>
        <p:grpSp>
          <p:nvGrpSpPr>
            <p:cNvPr id="105" name=""/>
            <p:cNvGrpSpPr/>
            <p:nvPr/>
          </p:nvGrpSpPr>
          <p:grpSpPr>
            <a:xfrm>
              <a:off x="1828800" y="3754440"/>
              <a:ext cx="762120" cy="665280"/>
              <a:chOff x="1828800" y="3754440"/>
              <a:chExt cx="762120" cy="665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83492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2880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7308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dbdab"/>
                  </a:gs>
                  <a:gs pos="100000">
                    <a:srgbClr val="2a574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438280" y="43639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70120" y="3830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752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4668840"/>
            <a:ext cx="5410080" cy="665280"/>
            <a:chOff x="1828800" y="4668840"/>
            <a:chExt cx="5410080" cy="665280"/>
          </a:xfrm>
        </p:grpSpPr>
        <p:grpSp>
          <p:nvGrpSpPr>
            <p:cNvPr id="113" name=""/>
            <p:cNvGrpSpPr/>
            <p:nvPr/>
          </p:nvGrpSpPr>
          <p:grpSpPr>
            <a:xfrm>
              <a:off x="1828800" y="4668840"/>
              <a:ext cx="762120" cy="665280"/>
              <a:chOff x="1828800" y="4668840"/>
              <a:chExt cx="762120" cy="665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83492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2880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7308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197e7"/>
                  </a:gs>
                  <a:gs pos="100000">
                    <a:srgbClr val="2c4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438280" y="5278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70120" y="4745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752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4419720" y="739800"/>
            <a:ext cx="0" cy="58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BC0D-76B4-4575-9F81-DC838CCA6E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495680" y="2720880"/>
            <a:ext cx="4267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197e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197e7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0" name="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619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3360"/>
            <a:ext cx="822960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19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19720" y="739800"/>
            <a:ext cx="0" cy="58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51055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562720" y="3324240"/>
            <a:ext cx="2286000" cy="2666880"/>
            <a:chOff x="5562720" y="3324240"/>
            <a:chExt cx="2286000" cy="2666880"/>
          </a:xfrm>
        </p:grpSpPr>
        <p:sp>
          <p:nvSpPr>
            <p:cNvPr id="127" name=""/>
            <p:cNvSpPr/>
            <p:nvPr/>
          </p:nvSpPr>
          <p:spPr>
            <a:xfrm>
              <a:off x="5562720" y="33242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5000" y="351936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143000" y="3324240"/>
            <a:ext cx="2286000" cy="2666880"/>
            <a:chOff x="1143000" y="3324240"/>
            <a:chExt cx="2286000" cy="2666880"/>
          </a:xfrm>
        </p:grpSpPr>
        <p:sp>
          <p:nvSpPr>
            <p:cNvPr id="130" name=""/>
            <p:cNvSpPr/>
            <p:nvPr/>
          </p:nvSpPr>
          <p:spPr>
            <a:xfrm>
              <a:off x="1143000" y="33242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8400" y="35244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ae9e3"/>
              </a:gs>
              <a:gs pos="100000">
                <a:srgbClr val="5dbd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ddf6"/>
              </a:gs>
              <a:gs pos="100000">
                <a:srgbClr val="6197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8120" y="1600200"/>
            <a:ext cx="2998440" cy="1601280"/>
            <a:chOff x="3048120" y="1600200"/>
            <a:chExt cx="2998440" cy="1601280"/>
          </a:xfrm>
        </p:grpSpPr>
        <p:grpSp>
          <p:nvGrpSpPr>
            <p:cNvPr id="135" name=""/>
            <p:cNvGrpSpPr/>
            <p:nvPr/>
          </p:nvGrpSpPr>
          <p:grpSpPr>
            <a:xfrm>
              <a:off x="3048120" y="1600200"/>
              <a:ext cx="2998440" cy="1601280"/>
              <a:chOff x="3048120" y="1600200"/>
              <a:chExt cx="2998440" cy="16012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048120" y="1743120"/>
                <a:ext cx="2998440" cy="1458360"/>
                <a:chOff x="3048120" y="1743120"/>
                <a:chExt cx="2998440" cy="14583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080880" y="1789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d58"/>
                    </a:gs>
                    <a:gs pos="100000">
                      <a:srgbClr val="d17fb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17431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981d"/>
                    </a:gs>
                    <a:gs pos="100000">
                      <a:srgbClr val="f1d09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3189240" y="16002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197e7"/>
                  </a:gs>
                  <a:gs pos="100000">
                    <a:srgbClr val="2c456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4160" y="16081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7d9f5"/>
                  </a:gs>
                  <a:gs pos="100000">
                    <a:srgbClr val="6197e7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51160" y="16207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197e7">
                      <a:alpha val="48235"/>
                    </a:srgbClr>
                  </a:gs>
                  <a:gs pos="100000">
                    <a:srgbClr val="4c77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82920" y="16477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197e7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82960" y="18003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6840" y="1327320"/>
            <a:ext cx="7750080" cy="5225400"/>
            <a:chOff x="456840" y="1327320"/>
            <a:chExt cx="7750080" cy="5225400"/>
          </a:xfrm>
        </p:grpSpPr>
        <p:sp>
          <p:nvSpPr>
            <p:cNvPr id="146" name=""/>
            <p:cNvSpPr/>
            <p:nvPr/>
          </p:nvSpPr>
          <p:spPr>
            <a:xfrm rot="20241600">
              <a:off x="1077840" y="25380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1f1f1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16761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72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3200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197e7"/>
                </a:gs>
                <a:gs pos="100000">
                  <a:srgbClr val="1e2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78000" y="4897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2880" y="42670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19047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22520" y="3657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39640" y="21333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71480" y="241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1560" y="4724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0600" y="5348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6720" y="36576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3200" y="196344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H="1">
              <a:off x="456840" y="19630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" name=""/>
            <p:cNvSpPr/>
            <p:nvPr/>
          </p:nvSpPr>
          <p:spPr>
            <a:xfrm>
              <a:off x="534600" y="1523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90720" y="1687680"/>
            <a:ext cx="7010280" cy="4255920"/>
            <a:chOff x="990720" y="1687680"/>
            <a:chExt cx="7010280" cy="4255920"/>
          </a:xfrm>
        </p:grpSpPr>
        <p:sp>
          <p:nvSpPr>
            <p:cNvPr id="163" name=""/>
            <p:cNvSpPr/>
            <p:nvPr/>
          </p:nvSpPr>
          <p:spPr>
            <a:xfrm>
              <a:off x="3657600" y="403884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35053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7600" y="297180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9040" y="320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9040" y="3735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9040" y="4268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71800" y="27432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0720" y="221004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7040" y="243864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2200" y="221004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8520" y="243864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89640" y="27432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67280" y="1687680"/>
              <a:ext cx="2743200" cy="53352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03a53"/>
                </a:gs>
                <a:gs pos="50000">
                  <a:srgbClr val="d17fb6"/>
                </a:gs>
                <a:gs pos="100000">
                  <a:srgbClr val="603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24480" y="2362320"/>
              <a:ext cx="1752480" cy="533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4920" y="1833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98960" y="5334120"/>
              <a:ext cx="274320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4920" y="5567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2160" y="4724640"/>
              <a:ext cx="1755720" cy="5252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7f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184" name=""/>
            <p:cNvGrpSpPr/>
            <p:nvPr/>
          </p:nvGrpSpPr>
          <p:grpSpPr>
            <a:xfrm>
              <a:off x="2895480" y="1752480"/>
              <a:ext cx="3196800" cy="2890800"/>
              <a:chOff x="2895480" y="1752480"/>
              <a:chExt cx="3196800" cy="2890800"/>
            </a:xfrm>
          </p:grpSpPr>
          <p:sp>
            <p:nvSpPr>
              <p:cNvPr id="185" name=""/>
              <p:cNvSpPr/>
              <p:nvPr/>
            </p:nvSpPr>
            <p:spPr>
              <a:xfrm flipH="1" rot="16200000">
                <a:off x="2813400" y="286596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5400000">
                <a:off x="5683320" y="28116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0800000">
                <a:off x="4250520" y="43164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2360" y="175248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68880" y="189684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d17f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04462"/>
                  </a:gs>
                  <a:gs pos="50000">
                    <a:srgbClr val="d17fb6"/>
                  </a:gs>
                  <a:gs pos="100000">
                    <a:srgbClr val="7044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460d"/>
                </a:gs>
                <a:gs pos="50000">
                  <a:srgbClr val="e3981d"/>
                </a:gs>
                <a:gs pos="100000">
                  <a:srgbClr val="6846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460d"/>
                </a:gs>
                <a:gs pos="50000">
                  <a:srgbClr val="e3981d"/>
                </a:gs>
                <a:gs pos="100000">
                  <a:srgbClr val="6846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460d"/>
                </a:gs>
                <a:gs pos="50000">
                  <a:srgbClr val="e3981d"/>
                </a:gs>
                <a:gs pos="100000">
                  <a:srgbClr val="6846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0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8080" y="1600200"/>
            <a:ext cx="5964120" cy="4495680"/>
          </a:xfrm>
          <a:prstGeom prst="rightArrow">
            <a:avLst>
              <a:gd name="adj1" fmla="val 79306"/>
              <a:gd name="adj2" fmla="val 32859"/>
            </a:avLst>
          </a:prstGeom>
          <a:gradFill rotWithShape="0">
            <a:gsLst>
              <a:gs pos="0">
                <a:srgbClr val="6197e7">
                  <a:alpha val="50196"/>
                </a:srgbClr>
              </a:gs>
              <a:gs pos="100000">
                <a:srgbClr val="d2e1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197e7"/>
              </a:gs>
              <a:gs pos="100000">
                <a:srgbClr val="2c456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dbdab"/>
              </a:gs>
              <a:gs pos="100000">
                <a:srgbClr val="2a574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8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