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C775-7CEF-4327-9365-F8D8091E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682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34880" y="3964320"/>
            <a:ext cx="682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04D2-EF49-481A-A97B-C0DC3EE8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34440" y="160020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34880" y="396432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34440" y="396432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92AB-4FA9-43A7-B7A0-48E7FB1B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219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43920" y="1600200"/>
            <a:ext cx="219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3320" y="1600200"/>
            <a:ext cx="219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34880" y="3964320"/>
            <a:ext cx="219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43920" y="3964320"/>
            <a:ext cx="219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53320" y="3964320"/>
            <a:ext cx="219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EA5A-7B30-488A-86B9-EC5661FD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EF0B-779A-4DA4-B7E8-546CA166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34880" y="1600200"/>
            <a:ext cx="6829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E71B-7B4D-4C6C-8841-74086AB1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682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B9E8-AC7D-46C8-9601-7317B52B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333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34440" y="1600200"/>
            <a:ext cx="333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5F45-5750-4BDB-8F5F-10D1A3AE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D05C-0DB6-419A-8296-BB4D3F48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34880" y="274320"/>
            <a:ext cx="6829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5133-0748-4733-A092-30F9C910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34440" y="1600200"/>
            <a:ext cx="333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34880" y="396432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F111-8193-4A04-A187-F20A428A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34880" y="1600200"/>
            <a:ext cx="6829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4141-6DAF-41FB-A03E-10C110C7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333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34440" y="160020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34440" y="396432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117A-7A87-4940-98A4-77A35817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34440" y="160020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34880" y="3964320"/>
            <a:ext cx="682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4DEC-4025-4DB7-B7F9-DB5D7042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682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34880" y="3964320"/>
            <a:ext cx="682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BE56-85DB-490A-9A88-F2D5BF4F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34440" y="160020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34880" y="396432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34440" y="396432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1F4D-94D3-43C2-872A-24416CBE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219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43920" y="1600200"/>
            <a:ext cx="219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3320" y="1600200"/>
            <a:ext cx="219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34880" y="3964320"/>
            <a:ext cx="219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43920" y="3964320"/>
            <a:ext cx="219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53320" y="3964320"/>
            <a:ext cx="219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310B-00E6-4CBC-9F83-143AFCCB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682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7591-272D-44D0-866E-CB47FD0E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333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34440" y="1600200"/>
            <a:ext cx="333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E258-68D7-484C-82F3-85C4B623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8B36-3589-4820-916F-42083DFB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34880" y="274320"/>
            <a:ext cx="6829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EAA-3779-413B-9A76-DAFB8968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34440" y="1600200"/>
            <a:ext cx="333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34880" y="396432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27DA-6ED1-40EE-B5FD-6C4D52A9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333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34440" y="160020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34440" y="396432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D291-BEAF-4D7E-862E-9694B943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34440" y="1600200"/>
            <a:ext cx="333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34880" y="3964320"/>
            <a:ext cx="682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C439-A023-4944-9B57-F62F50A8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34880" y="1600200"/>
            <a:ext cx="682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DFB2-B570-43AE-A2C3-4C92433AFC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34880" y="1600200"/>
            <a:ext cx="682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5FB3-38F3-428A-B5A4-C14768D04F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07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商务会议背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186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a5242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C2FE-87CD-44DC-A33C-3D303395FC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34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34880" y="1600200"/>
            <a:ext cx="682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0" y="6072120"/>
            <a:ext cx="2857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2714760" y="6286680"/>
            <a:ext cx="3643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2492280"/>
            <a:ext cx="592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52421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04:55:26Z</dcterms:created>
  <dc:creator>幻灯片之家：www.eeppt.com</dc:creator>
  <dc:description/>
  <cp:keywords>幻灯片之家：www.eeppt.com</cp:keywords>
  <dc:language>en-US</dc:language>
  <cp:lastModifiedBy/>
  <dcterms:modified xsi:type="dcterms:W3CDTF">2015-09-18T13:18:04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