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4B32F-AE7B-46A3-BDC2-1B5013AA4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11280" y="3047760"/>
            <a:ext cx="673272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9280" y="5445000"/>
            <a:ext cx="799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9280" y="5723640"/>
            <a:ext cx="799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D25E1-888C-4973-977A-4E1D3298D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1280" y="3047760"/>
            <a:ext cx="673272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280" y="5445000"/>
            <a:ext cx="3900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35360" y="5445000"/>
            <a:ext cx="3900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9280" y="5723640"/>
            <a:ext cx="3900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35360" y="5723640"/>
            <a:ext cx="3900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A5144-FC6A-40DE-8B07-3465A3D91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11280" y="3047760"/>
            <a:ext cx="673272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5445000"/>
            <a:ext cx="2573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160" y="5445000"/>
            <a:ext cx="2573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4680" y="5445000"/>
            <a:ext cx="2573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39280" y="5723640"/>
            <a:ext cx="2573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160" y="5723640"/>
            <a:ext cx="2573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4680" y="5723640"/>
            <a:ext cx="2573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326D8-5E49-462E-AF1F-363FAF5FA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0BD4C-AA92-4FDB-B69C-90ED3CB4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11280" y="3047760"/>
            <a:ext cx="673272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39280" y="5445000"/>
            <a:ext cx="799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7F861-A045-46E6-AD15-944DC04D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11280" y="3047760"/>
            <a:ext cx="673272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5445000"/>
            <a:ext cx="7993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E8FA6-AB2A-449F-87F2-4AA0F1D2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11280" y="3047760"/>
            <a:ext cx="673272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5445000"/>
            <a:ext cx="3900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5360" y="5445000"/>
            <a:ext cx="3900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FB7D7-525B-4DE2-85A7-7CF044EF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11280" y="3047760"/>
            <a:ext cx="673272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DC6E7-F8AD-4EF1-9076-89F991EC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411280" y="3047760"/>
            <a:ext cx="6732720" cy="34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42C7D-E375-4F2A-8B88-6BEA0483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11280" y="3047760"/>
            <a:ext cx="673272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5445000"/>
            <a:ext cx="3900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5360" y="5445000"/>
            <a:ext cx="3900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9280" y="5723640"/>
            <a:ext cx="3900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34F58-FB4B-4B26-B7DC-AD8D7B08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11280" y="3047760"/>
            <a:ext cx="673272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539280" y="5445000"/>
            <a:ext cx="799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3140C-D0AC-462E-A31B-0D145D053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11280" y="3047760"/>
            <a:ext cx="673272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5445000"/>
            <a:ext cx="3900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5360" y="5445000"/>
            <a:ext cx="3900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35360" y="5723640"/>
            <a:ext cx="3900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42994-053A-4A81-AE7C-451CB297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11280" y="3047760"/>
            <a:ext cx="673272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280" y="5445000"/>
            <a:ext cx="3900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35360" y="5445000"/>
            <a:ext cx="3900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9280" y="5723640"/>
            <a:ext cx="799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EEE35-DB79-4D83-A276-EA098E16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11280" y="3047760"/>
            <a:ext cx="673272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5445000"/>
            <a:ext cx="799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9280" y="5723640"/>
            <a:ext cx="799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62B1D-7FE0-4FEA-AAD0-6B880467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11280" y="3047760"/>
            <a:ext cx="673272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5445000"/>
            <a:ext cx="3900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35360" y="5445000"/>
            <a:ext cx="3900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9280" y="5723640"/>
            <a:ext cx="3900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35360" y="5723640"/>
            <a:ext cx="3900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BBA7C-0512-4347-834B-B2520575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1280" y="3047760"/>
            <a:ext cx="673272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280" y="5445000"/>
            <a:ext cx="2573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42160" y="5445000"/>
            <a:ext cx="2573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4680" y="5445000"/>
            <a:ext cx="2573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9280" y="5723640"/>
            <a:ext cx="2573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42160" y="5723640"/>
            <a:ext cx="2573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4680" y="5723640"/>
            <a:ext cx="2573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BA426-BE6A-4169-BDFE-4375D97C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11280" y="3047760"/>
            <a:ext cx="673272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5445000"/>
            <a:ext cx="7993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82E56-BE09-40C8-B817-A4C98087D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11280" y="3047760"/>
            <a:ext cx="673272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5445000"/>
            <a:ext cx="3900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5360" y="5445000"/>
            <a:ext cx="3900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EFCEA-775B-47B6-ABD1-4D2A2C92F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11280" y="3047760"/>
            <a:ext cx="673272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BB5FC-246F-409A-B7D4-E10B4E860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2411280" y="3047760"/>
            <a:ext cx="6732720" cy="34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B439D-5E4C-454B-B602-1DD03388A3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11280" y="3047760"/>
            <a:ext cx="673272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5445000"/>
            <a:ext cx="3900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5360" y="5445000"/>
            <a:ext cx="3900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5723640"/>
            <a:ext cx="3900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014FD-E5DA-41B2-90F6-A587FF3A8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11280" y="3047760"/>
            <a:ext cx="673272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280" y="5445000"/>
            <a:ext cx="3900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5360" y="5445000"/>
            <a:ext cx="3900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5360" y="5723640"/>
            <a:ext cx="3900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3AB06-AF10-456D-A5BF-9D8122B9A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11280" y="3047760"/>
            <a:ext cx="673272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5445000"/>
            <a:ext cx="3900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5360" y="5445000"/>
            <a:ext cx="3900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280" y="5723640"/>
            <a:ext cx="7993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8A89A-B223-4447-B05E-C83CF0722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92200" y="4680"/>
            <a:ext cx="8551440" cy="811440"/>
            <a:chOff x="592200" y="4680"/>
            <a:chExt cx="8551440" cy="811440"/>
          </a:xfrm>
        </p:grpSpPr>
        <p:sp>
          <p:nvSpPr>
            <p:cNvPr id="1" name=""/>
            <p:cNvSpPr/>
            <p:nvPr/>
          </p:nvSpPr>
          <p:spPr>
            <a:xfrm>
              <a:off x="592200" y="4680"/>
              <a:ext cx="2066400" cy="8114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729880" y="4680"/>
              <a:ext cx="2138040" cy="811440"/>
            </a:xfrm>
            <a:prstGeom prst="rect">
              <a:avLst/>
            </a:prstGeom>
            <a:solidFill>
              <a:srgbClr val="5594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939200" y="4680"/>
              <a:ext cx="2066400" cy="8114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077240" y="4680"/>
              <a:ext cx="2066400" cy="811440"/>
            </a:xfrm>
            <a:prstGeom prst="rect">
              <a:avLst/>
            </a:prstGeom>
            <a:solidFill>
              <a:srgbClr val="5594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592200" y="4680"/>
            <a:ext cx="8551440" cy="806400"/>
            <a:chOff x="592200" y="4680"/>
            <a:chExt cx="8551440" cy="806400"/>
          </a:xfrm>
        </p:grpSpPr>
        <p:sp>
          <p:nvSpPr>
            <p:cNvPr id="6" name=""/>
            <p:cNvSpPr/>
            <p:nvPr/>
          </p:nvSpPr>
          <p:spPr>
            <a:xfrm>
              <a:off x="592200" y="4680"/>
              <a:ext cx="2066400" cy="8064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29880" y="4680"/>
              <a:ext cx="2138040" cy="806400"/>
            </a:xfrm>
            <a:prstGeom prst="rect">
              <a:avLst/>
            </a:prstGeom>
            <a:solidFill>
              <a:srgbClr val="5594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939200" y="4680"/>
              <a:ext cx="2066400" cy="8064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077240" y="4680"/>
              <a:ext cx="2066400" cy="806400"/>
            </a:xfrm>
            <a:prstGeom prst="rect">
              <a:avLst/>
            </a:prstGeom>
            <a:solidFill>
              <a:srgbClr val="5594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574560" y="685800"/>
            <a:ext cx="856944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7353360" y="1144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Gulim"/>
              </a:rPr>
              <a:t>L o g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539280" y="1371600"/>
            <a:ext cx="8147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8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5943240" y="6508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Gulim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3419640" y="65084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9C0A-9918-4925-AAFD-C10D50F417F8}" type="slidenum">
              <a:rPr b="1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2209680" cy="315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0"/>
            <a:ext cx="2286000" cy="3137040"/>
          </a:xfrm>
          <a:prstGeom prst="rect">
            <a:avLst/>
          </a:prstGeom>
          <a:solidFill>
            <a:srgbClr val="5594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0"/>
            <a:ext cx="2209680" cy="312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9360"/>
            <a:ext cx="2209680" cy="3114720"/>
          </a:xfrm>
          <a:prstGeom prst="rect">
            <a:avLst/>
          </a:prstGeom>
          <a:solidFill>
            <a:srgbClr val="5594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124080"/>
            <a:ext cx="6858000" cy="60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124080"/>
            <a:ext cx="9144000" cy="1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8440" y="326556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Gulim"/>
              </a:rPr>
              <a:t>L o g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11280" y="3047760"/>
            <a:ext cx="673272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5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0FDF-0421-4F3E-9D74-3E431250E39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11280" y="3047760"/>
            <a:ext cx="673272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PowerPoint Templ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48320" y="0"/>
          <a:ext cx="2209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0"/>
                    <a:ext cx="2209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0" y="0"/>
          <a:ext cx="2219400" cy="312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219400" cy="31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9280" y="5445000"/>
            <a:ext cx="799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960" y="4076640"/>
            <a:ext cx="434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商务会议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66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66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66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9966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66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966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9966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66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66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66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66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66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9966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66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9966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66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966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66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66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66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66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66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66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66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66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742AC-F559-4F7E-AF39-84C62F7A17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340000" y="4005360"/>
            <a:ext cx="540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594e7"/>
                    </a:gs>
                    <a:gs pos="100000">
                      <a:srgbClr val="9966ff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594e7"/>
                  </a:gs>
                  <a:gs pos="100000">
                    <a:srgbClr val="9966ff"/>
                  </a:gs>
                </a:gsLst>
                <a:lin ang="108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648320" y="0"/>
          <a:ext cx="2209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0"/>
                    <a:ext cx="2209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19400" cy="31291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539280" y="5445000"/>
            <a:ext cx="799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47800" y="21765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2f75"/>
              </a:gs>
              <a:gs pos="50000">
                <a:srgbClr val="9966ff"/>
              </a:gs>
              <a:gs pos="100000">
                <a:srgbClr val="462f75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.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2200" y="28893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85d69"/>
              </a:gs>
              <a:gs pos="50000">
                <a:srgbClr val="57cae5"/>
              </a:gs>
              <a:gs pos="100000">
                <a:srgbClr val="285d69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.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47800" y="36687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7446a"/>
              </a:gs>
              <a:gs pos="50000">
                <a:srgbClr val="5594e7"/>
              </a:gs>
              <a:gs pos="100000">
                <a:srgbClr val="27446a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. Challenges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47800" y="440208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 sty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704960"/>
            <a:ext cx="79837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ff"/>
              </a:buClr>
              <a:buSzPct val="8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On 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Gulim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 menu, point to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Gulim"/>
              </a:rPr>
              <a:t>[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, and then click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Gulim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 or Notes Master.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47800" y="2092320"/>
          <a:ext cx="7448400" cy="3305160"/>
        </p:xfrm>
        <a:graphic>
          <a:graphicData uri="http://schemas.openxmlformats.org/drawingml/2006/table">
            <a:tbl>
              <a:tblPr/>
              <a:tblGrid>
                <a:gridCol w="1488960"/>
                <a:gridCol w="1490760"/>
                <a:gridCol w="1488960"/>
                <a:gridCol w="1490760"/>
                <a:gridCol w="148896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462f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462f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462f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462f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462f75"/>
                        </a:gs>
                      </a:gsLst>
                      <a:lin ang="13500000"/>
                    </a:gra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73c6c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80808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80808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80808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808080"/>
                        </a:gs>
                      </a:gsLst>
                      <a:lin ang="13500000"/>
                    </a:gra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7cae5"/>
                        </a:gs>
                        <a:gs pos="100000">
                          <a:srgbClr val="a2e1e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80808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80808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80808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808080"/>
                        </a:gs>
                      </a:gsLst>
                      <a:lin ang="13500000"/>
                    </a:gra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594e7"/>
                        </a:gs>
                        <a:gs pos="100000">
                          <a:srgbClr val="a1c3f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80808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80808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80808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808080"/>
                        </a:gs>
                      </a:gsLst>
                      <a:lin ang="13500000"/>
                    </a:gra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4d4d4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80808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80808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80808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808080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755640" y="1557360"/>
            <a:ext cx="5926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 rot="20239200">
            <a:off x="1218960" y="2363400"/>
            <a:ext cx="6519600" cy="3062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20240400">
            <a:off x="1358640" y="2572920"/>
            <a:ext cx="5925960" cy="268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97160" y="289728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8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152568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3d3d3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02320" y="1982880"/>
            <a:ext cx="1295640" cy="121896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342357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480204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3f46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26160" y="434484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5594e7"/>
              </a:gs>
              <a:gs pos="100000">
                <a:srgbClr val="1e3452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06840" y="34304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2147400"/>
            <a:ext cx="198144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5d69"/>
              </a:gs>
              <a:gs pos="100000">
                <a:srgbClr val="57cae5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214740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040"/>
              </a:gs>
              <a:gs pos="100000">
                <a:srgbClr val="00999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214740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7446a"/>
              </a:gs>
              <a:gs pos="100000">
                <a:srgbClr val="5594e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2895480"/>
            <a:ext cx="2819520" cy="26672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5594e7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9999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7cae5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3276720"/>
            <a:ext cx="1665000" cy="259056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605">
                <a:moveTo>
                  <a:pt x="2969" y="0"/>
                </a:moveTo>
                <a:arcTo wR="2969" hR="2969" stAng="16200000" swAng="-5400000"/>
                <a:lnTo>
                  <a:pt x="0" y="30636"/>
                </a:lnTo>
                <a:arcTo wR="2969" hR="2969" stAng="10800000" swAng="-5400000"/>
                <a:lnTo>
                  <a:pt x="18631" y="3360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0844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00600" y="1782360"/>
            <a:ext cx="6436800" cy="1387800"/>
            <a:chOff x="1200600" y="1782360"/>
            <a:chExt cx="6436800" cy="1387800"/>
          </a:xfrm>
        </p:grpSpPr>
        <p:sp>
          <p:nvSpPr>
            <p:cNvPr id="141" name=""/>
            <p:cNvSpPr/>
            <p:nvPr/>
          </p:nvSpPr>
          <p:spPr>
            <a:xfrm rot="3418800">
              <a:off x="1410840" y="2007360"/>
              <a:ext cx="924480" cy="10036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2375280" y="2179080"/>
              <a:ext cx="932040" cy="131760"/>
              <a:chOff x="2375280" y="2179080"/>
              <a:chExt cx="932040" cy="131760"/>
            </a:xfrm>
          </p:grpSpPr>
          <p:sp>
            <p:nvSpPr>
              <p:cNvPr id="143" name=""/>
              <p:cNvSpPr/>
              <p:nvPr/>
            </p:nvSpPr>
            <p:spPr>
              <a:xfrm>
                <a:off x="237528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464560" y="21801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6620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4144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rot="3418800">
              <a:off x="3132000" y="1941480"/>
              <a:ext cx="924480" cy="1003680"/>
            </a:xfrm>
            <a:prstGeom prst="rect">
              <a:avLst/>
            </a:prstGeom>
            <a:solidFill>
              <a:srgbClr val="57ca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096440" y="2179080"/>
              <a:ext cx="932040" cy="131760"/>
              <a:chOff x="4096440" y="2179080"/>
              <a:chExt cx="932040" cy="131760"/>
            </a:xfrm>
          </p:grpSpPr>
          <p:sp>
            <p:nvSpPr>
              <p:cNvPr id="149" name=""/>
              <p:cNvSpPr/>
              <p:nvPr/>
            </p:nvSpPr>
            <p:spPr>
              <a:xfrm>
                <a:off x="409644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185720" y="21801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8736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96260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 rot="3418800">
              <a:off x="4781160" y="1941480"/>
              <a:ext cx="924480" cy="10040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5817600" y="2179080"/>
              <a:ext cx="1218600" cy="131760"/>
              <a:chOff x="5817600" y="2179080"/>
              <a:chExt cx="1218600" cy="131760"/>
            </a:xfrm>
          </p:grpSpPr>
          <p:sp>
            <p:nvSpPr>
              <p:cNvPr id="155" name=""/>
              <p:cNvSpPr/>
              <p:nvPr/>
            </p:nvSpPr>
            <p:spPr>
              <a:xfrm>
                <a:off x="5817600" y="21790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934240" y="21801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51520" y="21812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950160" y="22222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 rot="3418800">
              <a:off x="6502320" y="1941480"/>
              <a:ext cx="924480" cy="1004040"/>
            </a:xfrm>
            <a:prstGeom prst="rect">
              <a:avLst/>
            </a:prstGeom>
            <a:solidFill>
              <a:srgbClr val="57ca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297080" y="22654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21906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Gulim"/>
              </a:rPr>
              <a:t>Chart Docu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19280" y="1490760"/>
            <a:ext cx="583236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604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447984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601600">
            <a:off x="1636560" y="2366640"/>
            <a:ext cx="5762880" cy="3016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0601600">
            <a:off x="1699920" y="221292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6040a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0601600">
            <a:off x="1557000" y="222264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20601600">
            <a:off x="1609560" y="2190240"/>
            <a:ext cx="569844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57ca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rot="20602200">
            <a:off x="1586520" y="2221560"/>
            <a:ext cx="575352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0601600">
            <a:off x="1630440" y="2210400"/>
            <a:ext cx="56826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rot="20602200">
            <a:off x="1613880" y="220968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20601600">
            <a:off x="4681440" y="352584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20601600">
            <a:off x="4574880" y="327312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04160" y="1524240"/>
            <a:ext cx="6918480" cy="4356720"/>
            <a:chOff x="704160" y="1524240"/>
            <a:chExt cx="6918480" cy="4356720"/>
          </a:xfrm>
        </p:grpSpPr>
        <p:sp>
          <p:nvSpPr>
            <p:cNvPr id="178" name=""/>
            <p:cNvSpPr/>
            <p:nvPr/>
          </p:nvSpPr>
          <p:spPr>
            <a:xfrm rot="20712600">
              <a:off x="956880" y="2295720"/>
              <a:ext cx="6412680" cy="281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20712600">
              <a:off x="4360680" y="3493800"/>
              <a:ext cx="137736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96097"/>
                </a:gs>
              </a:gsLst>
              <a:lin ang="143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712600">
              <a:off x="5736600" y="366192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 rot="20601600">
            <a:off x="6248160" y="3565080"/>
            <a:ext cx="1555560" cy="1092240"/>
          </a:xfrm>
          <a:custGeom>
            <a:avLst/>
            <a:gdLst/>
            <a:ahLst/>
            <a:rect l="l" t="t" r="r" b="b"/>
            <a:pathLst>
              <a:path w="556" h="486">
                <a:moveTo>
                  <a:pt x="0" y="342"/>
                </a:moveTo>
                <a:lnTo>
                  <a:pt x="552" y="0"/>
                </a:lnTo>
                <a:lnTo>
                  <a:pt x="556" y="138"/>
                </a:lnTo>
                <a:cubicBezTo>
                  <a:pt x="522" y="194"/>
                  <a:pt x="438" y="280"/>
                  <a:pt x="346" y="338"/>
                </a:cubicBezTo>
                <a:cubicBezTo>
                  <a:pt x="254" y="396"/>
                  <a:pt x="64" y="485"/>
                  <a:pt x="6" y="486"/>
                </a:cubicBezTo>
                <a:cubicBezTo>
                  <a:pt x="8" y="434"/>
                  <a:pt x="1" y="372"/>
                  <a:pt x="0" y="342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0539200">
            <a:off x="1498320" y="2113200"/>
            <a:ext cx="6316920" cy="309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33" y="15040"/>
                </a:moveTo>
                <a:arcTo wR="10800" hR="10800" stAng="1386854" swAng="2493154"/>
                <a:lnTo>
                  <a:pt x="10800" y="10800"/>
                </a:lnTo>
                <a:close/>
              </a:path>
              <a:path fill="none" w="21600" h="21600">
                <a:moveTo>
                  <a:pt x="20733" y="15040"/>
                </a:moveTo>
                <a:arcTo wR="10800" hR="10800" stAng="1386854" swAng="2493154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0601600">
            <a:off x="4933440" y="3476160"/>
            <a:ext cx="1359000" cy="1594080"/>
          </a:xfrm>
          <a:custGeom>
            <a:avLst/>
            <a:gdLst/>
            <a:ahLst/>
            <a:rect l="l" t="t" r="r" b="b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ae8dd3"/>
              </a:gs>
              <a:gs pos="100000">
                <a:srgbClr val="5007a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20601600">
            <a:off x="3154320" y="291888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dfdfd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20601600">
            <a:off x="3254400" y="3171960"/>
            <a:ext cx="2587680" cy="1090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301320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217476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15000" y="263196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15000" y="362268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423216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446076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557360"/>
            <a:ext cx="5926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9:52:57Z</dcterms:created>
  <dc:creator>幻灯片之家：www.eeppt.com</dc:creator>
  <dc:description/>
  <cp:keywords>幻灯片之家：www.eeppt.com</cp:keywords>
  <dc:language>en-US</dc:language>
  <cp:lastModifiedBy/>
  <dcterms:modified xsi:type="dcterms:W3CDTF">2015-09-18T13:18:02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