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073F-CE8C-4044-B812-45C5CA73D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1460160"/>
            <a:ext cx="815328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447920" y="380988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1447920" y="408852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67AB-5B86-49A5-AE8C-C582C63E4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1460160"/>
            <a:ext cx="815328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47920" y="38098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27880" y="38098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447920" y="408852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727880" y="408852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5A35-DC2E-43C0-8FD5-D9AA2C89D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1460160"/>
            <a:ext cx="815328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47920" y="380988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611880" y="380988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776200" y="380988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1447920" y="408852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611880" y="408852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5776200" y="408852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8C7F-1F94-432B-902B-8D791ED72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5E0BA-0DB6-4221-BC4E-565FA5C5D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520" y="1460160"/>
            <a:ext cx="815328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447920" y="38098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98C30-F28B-45E8-A1B1-750BA08F0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520" y="1460160"/>
            <a:ext cx="815328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447920" y="38098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3F8A1-B4AE-40BE-A839-820970FEE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3520" y="1460160"/>
            <a:ext cx="815328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447920" y="3809880"/>
            <a:ext cx="3123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27880" y="3809880"/>
            <a:ext cx="3123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EB321-667C-40C3-82C8-D99C58F37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3520" y="1460160"/>
            <a:ext cx="815328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C88D1-70CE-4EDA-977A-9EDEFC981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533520" y="1460160"/>
            <a:ext cx="8153280" cy="31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20FF9-0451-42C3-B751-B7BE4E5F1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520" y="1460160"/>
            <a:ext cx="815328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47920" y="38098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27880" y="3809880"/>
            <a:ext cx="3123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47920" y="408852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EF6B0-E7AE-426B-9279-2594A4AA6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1460160"/>
            <a:ext cx="815328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1447920" y="38098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31C9-CC65-4B93-9807-C76B5B165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3520" y="1460160"/>
            <a:ext cx="815328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47920" y="3809880"/>
            <a:ext cx="3123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27880" y="38098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27880" y="408852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12E60-29A0-487B-BB16-C32C8ACEB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520" y="1460160"/>
            <a:ext cx="815328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447920" y="38098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27880" y="38098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447920" y="408852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609BE-E5B3-4DF6-8758-5338E1C15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1460160"/>
            <a:ext cx="815328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47920" y="380988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1447920" y="408852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EE0A6-C6F7-4B17-873C-FB0E23A6B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1460160"/>
            <a:ext cx="815328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447920" y="38098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27880" y="38098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1447920" y="408852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27880" y="408852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F56D2-D7A2-428C-ADCB-BFC77F7ED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520" y="1460160"/>
            <a:ext cx="815328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447920" y="380988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611880" y="380988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776200" y="380988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1447920" y="408852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611880" y="408852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5776200" y="408852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091A4-1DFB-4B03-85C6-9ABD8DC0D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1460160"/>
            <a:ext cx="815328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7920" y="38098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A909-8DF7-4BB5-848A-BF4D9ED22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1460160"/>
            <a:ext cx="815328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47920" y="3809880"/>
            <a:ext cx="3123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27880" y="3809880"/>
            <a:ext cx="3123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778F-BC1A-496A-AC7C-42FDEC679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1460160"/>
            <a:ext cx="815328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4DE0-9C12-4ED5-B52B-AEBFE63D9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533520" y="1460160"/>
            <a:ext cx="8153280" cy="31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B6E5-7E2D-4312-B47D-D8BE06C53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1460160"/>
            <a:ext cx="815328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47920" y="38098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7880" y="3809880"/>
            <a:ext cx="3123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47920" y="408852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509A-9520-4729-9F2C-596C57919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3520" y="1460160"/>
            <a:ext cx="815328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920" y="3809880"/>
            <a:ext cx="3123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27880" y="38098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727880" y="408852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1FEB-48BA-436B-B723-FA49EE151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520" y="1460160"/>
            <a:ext cx="815328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47920" y="38098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27880" y="380988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447920" y="408852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A759-73F7-47F1-A646-D0F66A18D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5438880"/>
            <a:ext cx="9144000" cy="1419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d0d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25560" y="76320"/>
            <a:ext cx="8534160" cy="1358640"/>
          </a:xfrm>
          <a:prstGeom prst="ellipse">
            <a:avLst/>
          </a:prstGeom>
          <a:gradFill rotWithShape="0">
            <a:gsLst>
              <a:gs pos="0">
                <a:srgbClr val="5353ff"/>
              </a:gs>
              <a:gs pos="100000">
                <a:srgbClr val="0d0d7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72720" y="6552720"/>
            <a:ext cx="2514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  <a:ea typeface="Gulim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Gulim"/>
              </a:rPr>
              <a:t>Your site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6171840" y="6552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Verdana"/>
                <a:ea typeface="Gulim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Gulim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32767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Verdana"/>
                <a:ea typeface="Gulim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D1FF7-2E82-4B56-99D0-B5E80EADF516}" type="slidenum">
              <a:rPr b="0" lang="ko-KR" sz="1200" spc="-1" strike="noStrike">
                <a:solidFill>
                  <a:srgbClr val="000000"/>
                </a:solidFill>
                <a:latin typeface="Verdana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901800"/>
            <a:ext cx="9144000" cy="535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ac8fa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9ac8f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9ab3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ac8fa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9ac8fa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5353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ac8fa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9ac8fa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ac8fa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9ac8fa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d0d7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ac8fa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9ac8fa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ac8fa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9ac8fa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ac8fa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9ac8fa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457200" y="3045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"/>
          <p:cNvSpPr/>
          <p:nvPr/>
        </p:nvSpPr>
        <p:spPr>
          <a:xfrm flipH="1" rot="19726200">
            <a:off x="7740000" y="234720"/>
            <a:ext cx="1730160" cy="760320"/>
          </a:xfrm>
          <a:prstGeom prst="blockArc">
            <a:avLst>
              <a:gd name="adj1" fmla="val 13640447"/>
              <a:gd name="adj2" fmla="val 18759553"/>
              <a:gd name="adj3" fmla="val 10569"/>
            </a:avLst>
          </a:prstGeom>
          <a:gradFill rotWithShape="0">
            <a:gsLst>
              <a:gs pos="0">
                <a:srgbClr val="9ac8fa"/>
              </a:gs>
              <a:gs pos="100000">
                <a:srgbClr val="5353ff"/>
              </a:gs>
            </a:gsLst>
            <a:lin ang="892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8258040" y="120600"/>
            <a:ext cx="376200" cy="376200"/>
            <a:chOff x="8258040" y="120600"/>
            <a:chExt cx="376200" cy="376200"/>
          </a:xfrm>
        </p:grpSpPr>
        <p:sp>
          <p:nvSpPr>
            <p:cNvPr id="11" name=""/>
            <p:cNvSpPr/>
            <p:nvPr/>
          </p:nvSpPr>
          <p:spPr>
            <a:xfrm>
              <a:off x="8258040" y="120600"/>
              <a:ext cx="376200" cy="376200"/>
            </a:xfrm>
            <a:prstGeom prst="ellipse">
              <a:avLst/>
            </a:prstGeom>
            <a:solidFill>
              <a:srgbClr val="39ab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361360" y="241200"/>
              <a:ext cx="209520" cy="209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9ab3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rot="19033200">
              <a:off x="8289360" y="178920"/>
              <a:ext cx="158760" cy="87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9ab3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748640" y="566640"/>
            <a:ext cx="479520" cy="479520"/>
            <a:chOff x="7748640" y="566640"/>
            <a:chExt cx="479520" cy="479520"/>
          </a:xfrm>
        </p:grpSpPr>
        <p:sp>
          <p:nvSpPr>
            <p:cNvPr id="15" name=""/>
            <p:cNvSpPr/>
            <p:nvPr/>
          </p:nvSpPr>
          <p:spPr>
            <a:xfrm>
              <a:off x="7748640" y="566640"/>
              <a:ext cx="479520" cy="479520"/>
            </a:xfrm>
            <a:prstGeom prst="ellipse">
              <a:avLst/>
            </a:prstGeom>
            <a:solidFill>
              <a:srgbClr val="4d8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7880400" y="720720"/>
              <a:ext cx="266760" cy="264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d8d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9033200">
              <a:off x="7787880" y="640800"/>
              <a:ext cx="203400" cy="111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d8d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" name=""/>
          <p:cNvGrpSpPr/>
          <p:nvPr/>
        </p:nvGrpSpPr>
        <p:grpSpPr>
          <a:xfrm>
            <a:off x="8881920" y="0"/>
            <a:ext cx="247680" cy="247680"/>
            <a:chOff x="8881920" y="0"/>
            <a:chExt cx="247680" cy="247680"/>
          </a:xfrm>
        </p:grpSpPr>
        <p:sp>
          <p:nvSpPr>
            <p:cNvPr id="19" name=""/>
            <p:cNvSpPr/>
            <p:nvPr/>
          </p:nvSpPr>
          <p:spPr>
            <a:xfrm>
              <a:off x="8881920" y="0"/>
              <a:ext cx="247680" cy="247680"/>
            </a:xfrm>
            <a:prstGeom prst="ellipse">
              <a:avLst/>
            </a:prstGeom>
            <a:solidFill>
              <a:srgbClr val="9ac8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950320" y="79200"/>
              <a:ext cx="136440" cy="13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ac8f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9033200">
              <a:off x="8902440" y="37800"/>
              <a:ext cx="104760" cy="57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ac8f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" name=""/>
          <p:cNvSpPr/>
          <p:nvPr/>
        </p:nvSpPr>
        <p:spPr>
          <a:xfrm>
            <a:off x="0" y="876240"/>
            <a:ext cx="9144000" cy="63720"/>
          </a:xfrm>
          <a:prstGeom prst="rect">
            <a:avLst/>
          </a:prstGeom>
          <a:gradFill rotWithShape="0">
            <a:gsLst>
              <a:gs pos="0">
                <a:srgbClr val="0d0d79"/>
              </a:gs>
              <a:gs pos="100000">
                <a:srgbClr val="9ac8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d0d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22400" y="336600"/>
            <a:ext cx="7074000" cy="6184800"/>
          </a:xfrm>
          <a:prstGeom prst="ellipse">
            <a:avLst/>
          </a:prstGeom>
          <a:gradFill rotWithShape="0">
            <a:gsLst>
              <a:gs pos="0">
                <a:srgbClr val="5353ff"/>
              </a:gs>
              <a:gs pos="100000">
                <a:srgbClr val="0d0d7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6600" y="96840"/>
            <a:ext cx="120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8dff"/>
                </a:solidFill>
                <a:latin typeface="Lucida Sans Unicode"/>
                <a:ea typeface="Gulim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3782880"/>
            <a:ext cx="9144000" cy="1663920"/>
          </a:xfrm>
          <a:prstGeom prst="rect">
            <a:avLst/>
          </a:prstGeom>
          <a:gradFill rotWithShape="0">
            <a:gsLst>
              <a:gs pos="0">
                <a:srgbClr val="5353ff"/>
              </a:gs>
              <a:gs pos="100000">
                <a:srgbClr val="0d0d7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5384880"/>
            <a:ext cx="9144000" cy="1460520"/>
          </a:xfrm>
          <a:prstGeom prst="rect">
            <a:avLst/>
          </a:prstGeom>
          <a:gradFill rotWithShape="0">
            <a:gsLst>
              <a:gs pos="0">
                <a:srgbClr val="0d0d79"/>
              </a:gs>
              <a:gs pos="100000">
                <a:srgbClr val="9ac8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25960" y="4775040"/>
            <a:ext cx="2663640" cy="508320"/>
          </a:xfrm>
          <a:prstGeom prst="ellipse">
            <a:avLst/>
          </a:prstGeom>
          <a:gradFill rotWithShape="0">
            <a:gsLst>
              <a:gs pos="0">
                <a:srgbClr val="262675"/>
              </a:gs>
              <a:gs pos="50000">
                <a:srgbClr val="5353ff"/>
              </a:gs>
              <a:gs pos="100000">
                <a:srgbClr val="2626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1460160"/>
            <a:ext cx="815328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"/>
          <p:cNvSpPr/>
          <p:nvPr/>
        </p:nvSpPr>
        <p:spPr>
          <a:xfrm rot="20754600">
            <a:off x="1917720" y="3590640"/>
            <a:ext cx="5991120" cy="2282760"/>
          </a:xfrm>
          <a:prstGeom prst="donut">
            <a:avLst>
              <a:gd name="adj" fmla="val 3069"/>
            </a:avLst>
          </a:prstGeom>
          <a:gradFill rotWithShape="0">
            <a:gsLst>
              <a:gs pos="0">
                <a:srgbClr val="0d0d79"/>
              </a:gs>
              <a:gs pos="50000">
                <a:srgbClr val="5353ff"/>
              </a:gs>
              <a:gs pos="100000">
                <a:srgbClr val="0d0d79"/>
              </a:gs>
            </a:gsLst>
            <a:lin ang="116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dt" idx="4"/>
          </p:nvPr>
        </p:nvSpPr>
        <p:spPr>
          <a:xfrm>
            <a:off x="45684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Gulim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Gulim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ftr" idx="5"/>
          </p:nvPr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Gulim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Gulim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sldNum" idx="6"/>
          </p:nvPr>
        </p:nvSpPr>
        <p:spPr>
          <a:xfrm>
            <a:off x="655272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Gulim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30387-AA72-4B6D-A75C-D730AA410B95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603840" y="5181480"/>
            <a:ext cx="1714680" cy="381240"/>
          </a:xfrm>
          <a:prstGeom prst="ellipse">
            <a:avLst/>
          </a:prstGeom>
          <a:gradFill rotWithShape="0">
            <a:gsLst>
              <a:gs pos="0">
                <a:srgbClr val="262675"/>
              </a:gs>
              <a:gs pos="50000">
                <a:srgbClr val="5353ff"/>
              </a:gs>
              <a:gs pos="100000">
                <a:srgbClr val="26267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990720" y="6324480"/>
            <a:ext cx="2050920" cy="444600"/>
          </a:xfrm>
          <a:prstGeom prst="ellipse">
            <a:avLst/>
          </a:prstGeom>
          <a:gradFill rotWithShape="0">
            <a:gsLst>
              <a:gs pos="0">
                <a:srgbClr val="4d8dff"/>
              </a:gs>
              <a:gs pos="50000">
                <a:srgbClr val="9ac8fa"/>
              </a:gs>
              <a:gs pos="100000">
                <a:srgbClr val="4d8d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0" y="5397480"/>
            <a:ext cx="9144000" cy="1434960"/>
            <a:chOff x="0" y="5397480"/>
            <a:chExt cx="9144000" cy="1434960"/>
          </a:xfrm>
        </p:grpSpPr>
        <p:sp>
          <p:nvSpPr>
            <p:cNvPr id="73" name=""/>
            <p:cNvSpPr/>
            <p:nvPr/>
          </p:nvSpPr>
          <p:spPr>
            <a:xfrm>
              <a:off x="0" y="6692760"/>
              <a:ext cx="9144000" cy="0"/>
            </a:xfrm>
            <a:prstGeom prst="line">
              <a:avLst/>
            </a:prstGeom>
            <a:ln w="38160">
              <a:solidFill>
                <a:srgbClr val="0d0d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6566040"/>
              <a:ext cx="9144000" cy="0"/>
            </a:xfrm>
            <a:prstGeom prst="line">
              <a:avLst/>
            </a:prstGeom>
            <a:ln w="38160">
              <a:solidFill>
                <a:srgbClr val="0d0d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6451560"/>
              <a:ext cx="9144000" cy="0"/>
            </a:xfrm>
            <a:prstGeom prst="line">
              <a:avLst/>
            </a:prstGeom>
            <a:ln w="38160">
              <a:solidFill>
                <a:srgbClr val="0d0d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0" y="6337440"/>
              <a:ext cx="9144000" cy="0"/>
            </a:xfrm>
            <a:prstGeom prst="line">
              <a:avLst/>
            </a:prstGeom>
            <a:ln w="38160">
              <a:solidFill>
                <a:srgbClr val="0d0d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0" y="6222960"/>
              <a:ext cx="9144000" cy="0"/>
            </a:xfrm>
            <a:prstGeom prst="line">
              <a:avLst/>
            </a:prstGeom>
            <a:ln w="38160">
              <a:solidFill>
                <a:srgbClr val="0d0d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0" y="6127560"/>
              <a:ext cx="9144000" cy="0"/>
            </a:xfrm>
            <a:prstGeom prst="line">
              <a:avLst/>
            </a:prstGeom>
            <a:ln w="38160">
              <a:solidFill>
                <a:srgbClr val="0d0d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0" y="6032520"/>
              <a:ext cx="9144000" cy="0"/>
            </a:xfrm>
            <a:prstGeom prst="line">
              <a:avLst/>
            </a:prstGeom>
            <a:ln w="38160">
              <a:solidFill>
                <a:srgbClr val="0d0d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0" y="5943600"/>
              <a:ext cx="9144000" cy="0"/>
            </a:xfrm>
            <a:prstGeom prst="line">
              <a:avLst/>
            </a:prstGeom>
            <a:ln w="38160">
              <a:solidFill>
                <a:srgbClr val="0d0d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5867280"/>
              <a:ext cx="9144000" cy="0"/>
            </a:xfrm>
            <a:prstGeom prst="line">
              <a:avLst/>
            </a:prstGeom>
            <a:ln w="38160">
              <a:solidFill>
                <a:srgbClr val="0d0d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0" y="5791320"/>
              <a:ext cx="9144000" cy="0"/>
            </a:xfrm>
            <a:prstGeom prst="line">
              <a:avLst/>
            </a:prstGeom>
            <a:ln w="38160">
              <a:solidFill>
                <a:srgbClr val="0d0d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715000"/>
              <a:ext cx="9144000" cy="0"/>
            </a:xfrm>
            <a:prstGeom prst="line">
              <a:avLst/>
            </a:prstGeom>
            <a:ln w="38160">
              <a:solidFill>
                <a:srgbClr val="0d0d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651640"/>
              <a:ext cx="9144000" cy="0"/>
            </a:xfrm>
            <a:prstGeom prst="line">
              <a:avLst/>
            </a:prstGeom>
            <a:ln w="28440">
              <a:solidFill>
                <a:srgbClr val="0d0d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587920"/>
              <a:ext cx="9144000" cy="0"/>
            </a:xfrm>
            <a:prstGeom prst="line">
              <a:avLst/>
            </a:prstGeom>
            <a:ln w="28440">
              <a:solidFill>
                <a:srgbClr val="0d0d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524560"/>
              <a:ext cx="9144000" cy="0"/>
            </a:xfrm>
            <a:prstGeom prst="line">
              <a:avLst/>
            </a:prstGeom>
            <a:ln w="28440">
              <a:solidFill>
                <a:srgbClr val="0d0d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5460840"/>
              <a:ext cx="9144000" cy="0"/>
            </a:xfrm>
            <a:prstGeom prst="line">
              <a:avLst/>
            </a:prstGeom>
            <a:ln w="28440">
              <a:solidFill>
                <a:srgbClr val="0d0d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5397480"/>
              <a:ext cx="9144000" cy="0"/>
            </a:xfrm>
            <a:prstGeom prst="line">
              <a:avLst/>
            </a:prstGeom>
            <a:ln w="28440">
              <a:solidFill>
                <a:srgbClr val="0d0d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832440"/>
              <a:ext cx="9144000" cy="0"/>
            </a:xfrm>
            <a:prstGeom prst="line">
              <a:avLst/>
            </a:prstGeom>
            <a:ln w="38160">
              <a:solidFill>
                <a:srgbClr val="0d0d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0" y="3819600"/>
            <a:ext cx="9144000" cy="1523880"/>
            <a:chOff x="0" y="3819600"/>
            <a:chExt cx="9144000" cy="1523880"/>
          </a:xfrm>
        </p:grpSpPr>
        <p:sp>
          <p:nvSpPr>
            <p:cNvPr id="91" name=""/>
            <p:cNvSpPr/>
            <p:nvPr/>
          </p:nvSpPr>
          <p:spPr>
            <a:xfrm>
              <a:off x="0" y="5343480"/>
              <a:ext cx="9144000" cy="0"/>
            </a:xfrm>
            <a:prstGeom prst="line">
              <a:avLst/>
            </a:prstGeom>
            <a:ln w="28440">
              <a:solidFill>
                <a:srgbClr val="0d0d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5305680"/>
              <a:ext cx="9144000" cy="0"/>
            </a:xfrm>
            <a:prstGeom prst="line">
              <a:avLst/>
            </a:prstGeom>
            <a:ln w="19080">
              <a:solidFill>
                <a:srgbClr val="0d0d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5267520"/>
              <a:ext cx="9144000" cy="0"/>
            </a:xfrm>
            <a:prstGeom prst="line">
              <a:avLst/>
            </a:prstGeom>
            <a:ln w="19080">
              <a:solidFill>
                <a:srgbClr val="0d0d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5229360"/>
              <a:ext cx="9144000" cy="0"/>
            </a:xfrm>
            <a:prstGeom prst="line">
              <a:avLst/>
            </a:prstGeom>
            <a:ln w="19080">
              <a:solidFill>
                <a:srgbClr val="0d0d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5191200"/>
              <a:ext cx="9144000" cy="0"/>
            </a:xfrm>
            <a:prstGeom prst="line">
              <a:avLst/>
            </a:prstGeom>
            <a:ln w="19080">
              <a:solidFill>
                <a:srgbClr val="0d0d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5153040"/>
              <a:ext cx="9144000" cy="0"/>
            </a:xfrm>
            <a:prstGeom prst="line">
              <a:avLst/>
            </a:prstGeom>
            <a:ln w="19080">
              <a:solidFill>
                <a:srgbClr val="0d0d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5114880"/>
              <a:ext cx="9144000" cy="0"/>
            </a:xfrm>
            <a:prstGeom prst="line">
              <a:avLst/>
            </a:prstGeom>
            <a:ln w="19080">
              <a:solidFill>
                <a:srgbClr val="0d0d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077080"/>
              <a:ext cx="9144000" cy="0"/>
            </a:xfrm>
            <a:prstGeom prst="line">
              <a:avLst/>
            </a:prstGeom>
            <a:ln w="19080">
              <a:solidFill>
                <a:srgbClr val="0d0d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0" y="5038920"/>
              <a:ext cx="9144000" cy="0"/>
            </a:xfrm>
            <a:prstGeom prst="line">
              <a:avLst/>
            </a:prstGeom>
            <a:ln w="19080">
              <a:solidFill>
                <a:srgbClr val="0d0d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0" y="5000760"/>
              <a:ext cx="9144000" cy="0"/>
            </a:xfrm>
            <a:prstGeom prst="line">
              <a:avLst/>
            </a:prstGeom>
            <a:ln w="19080">
              <a:solidFill>
                <a:srgbClr val="0d0d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0" y="4962600"/>
              <a:ext cx="9144000" cy="0"/>
            </a:xfrm>
            <a:prstGeom prst="line">
              <a:avLst/>
            </a:prstGeom>
            <a:ln w="19080">
              <a:solidFill>
                <a:srgbClr val="0d0d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0" y="4924440"/>
              <a:ext cx="9144000" cy="0"/>
            </a:xfrm>
            <a:prstGeom prst="line">
              <a:avLst/>
            </a:prstGeom>
            <a:ln w="19080">
              <a:solidFill>
                <a:srgbClr val="0d0d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0" y="4886280"/>
              <a:ext cx="9144000" cy="0"/>
            </a:xfrm>
            <a:prstGeom prst="line">
              <a:avLst/>
            </a:prstGeom>
            <a:ln w="19080">
              <a:solidFill>
                <a:srgbClr val="0d0d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848480"/>
              <a:ext cx="9144000" cy="0"/>
            </a:xfrm>
            <a:prstGeom prst="line">
              <a:avLst/>
            </a:prstGeom>
            <a:ln w="19080">
              <a:solidFill>
                <a:srgbClr val="0d0d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4810320"/>
              <a:ext cx="9144000" cy="0"/>
            </a:xfrm>
            <a:prstGeom prst="line">
              <a:avLst/>
            </a:prstGeom>
            <a:ln w="19080">
              <a:solidFill>
                <a:srgbClr val="0d0d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772160"/>
              <a:ext cx="9144000" cy="0"/>
            </a:xfrm>
            <a:prstGeom prst="line">
              <a:avLst/>
            </a:prstGeom>
            <a:ln w="19080">
              <a:solidFill>
                <a:srgbClr val="0d0d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0" y="4734000"/>
              <a:ext cx="9144000" cy="0"/>
            </a:xfrm>
            <a:prstGeom prst="line">
              <a:avLst/>
            </a:prstGeom>
            <a:ln w="19080">
              <a:solidFill>
                <a:srgbClr val="0d0d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0" y="4695840"/>
              <a:ext cx="9144000" cy="0"/>
            </a:xfrm>
            <a:prstGeom prst="line">
              <a:avLst/>
            </a:prstGeom>
            <a:ln w="19080">
              <a:solidFill>
                <a:srgbClr val="0d0d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4657680"/>
              <a:ext cx="9144000" cy="0"/>
            </a:xfrm>
            <a:prstGeom prst="line">
              <a:avLst/>
            </a:prstGeom>
            <a:ln w="19080">
              <a:solidFill>
                <a:srgbClr val="0d0d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0" y="4619880"/>
              <a:ext cx="9144000" cy="0"/>
            </a:xfrm>
            <a:prstGeom prst="line">
              <a:avLst/>
            </a:prstGeom>
            <a:ln w="19080">
              <a:solidFill>
                <a:srgbClr val="0d0d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0" y="4581720"/>
              <a:ext cx="9144000" cy="0"/>
            </a:xfrm>
            <a:prstGeom prst="line">
              <a:avLst/>
            </a:prstGeom>
            <a:ln w="19080">
              <a:solidFill>
                <a:srgbClr val="0d0d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0" y="4543560"/>
              <a:ext cx="9144000" cy="0"/>
            </a:xfrm>
            <a:prstGeom prst="line">
              <a:avLst/>
            </a:prstGeom>
            <a:ln w="19080">
              <a:solidFill>
                <a:srgbClr val="0d0d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0" y="4505400"/>
              <a:ext cx="9144000" cy="0"/>
            </a:xfrm>
            <a:prstGeom prst="line">
              <a:avLst/>
            </a:prstGeom>
            <a:ln w="19080">
              <a:solidFill>
                <a:srgbClr val="0d0d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4467240"/>
              <a:ext cx="9144000" cy="0"/>
            </a:xfrm>
            <a:prstGeom prst="line">
              <a:avLst/>
            </a:prstGeom>
            <a:ln w="19080">
              <a:solidFill>
                <a:srgbClr val="0d0d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4429080"/>
              <a:ext cx="9144000" cy="0"/>
            </a:xfrm>
            <a:prstGeom prst="line">
              <a:avLst/>
            </a:prstGeom>
            <a:ln w="19080">
              <a:solidFill>
                <a:srgbClr val="0d0d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0" y="4391280"/>
              <a:ext cx="9144000" cy="0"/>
            </a:xfrm>
            <a:prstGeom prst="line">
              <a:avLst/>
            </a:prstGeom>
            <a:ln w="19080">
              <a:solidFill>
                <a:srgbClr val="0d0d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0" y="4353120"/>
              <a:ext cx="9144000" cy="0"/>
            </a:xfrm>
            <a:prstGeom prst="line">
              <a:avLst/>
            </a:prstGeom>
            <a:ln w="19080">
              <a:solidFill>
                <a:srgbClr val="0d0d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0" y="4314960"/>
              <a:ext cx="9144000" cy="0"/>
            </a:xfrm>
            <a:prstGeom prst="line">
              <a:avLst/>
            </a:prstGeom>
            <a:ln w="19080">
              <a:solidFill>
                <a:srgbClr val="0d0d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0" y="4276800"/>
              <a:ext cx="9144000" cy="0"/>
            </a:xfrm>
            <a:prstGeom prst="line">
              <a:avLst/>
            </a:prstGeom>
            <a:ln w="19080">
              <a:solidFill>
                <a:srgbClr val="0d0d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0" y="4238640"/>
              <a:ext cx="9144000" cy="0"/>
            </a:xfrm>
            <a:prstGeom prst="line">
              <a:avLst/>
            </a:prstGeom>
            <a:ln w="19080">
              <a:solidFill>
                <a:srgbClr val="0d0d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0" y="4200480"/>
              <a:ext cx="9144000" cy="0"/>
            </a:xfrm>
            <a:prstGeom prst="line">
              <a:avLst/>
            </a:prstGeom>
            <a:ln w="19080">
              <a:solidFill>
                <a:srgbClr val="0d0d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0" y="4162680"/>
              <a:ext cx="9144000" cy="0"/>
            </a:xfrm>
            <a:prstGeom prst="line">
              <a:avLst/>
            </a:prstGeom>
            <a:ln w="19080">
              <a:solidFill>
                <a:srgbClr val="0d0d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0" y="4124520"/>
              <a:ext cx="9144000" cy="0"/>
            </a:xfrm>
            <a:prstGeom prst="line">
              <a:avLst/>
            </a:prstGeom>
            <a:ln w="19080">
              <a:solidFill>
                <a:srgbClr val="0d0d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0" y="4086360"/>
              <a:ext cx="9144000" cy="0"/>
            </a:xfrm>
            <a:prstGeom prst="line">
              <a:avLst/>
            </a:prstGeom>
            <a:ln w="19080">
              <a:solidFill>
                <a:srgbClr val="0d0d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4048200"/>
              <a:ext cx="9144000" cy="0"/>
            </a:xfrm>
            <a:prstGeom prst="line">
              <a:avLst/>
            </a:prstGeom>
            <a:ln w="19080">
              <a:solidFill>
                <a:srgbClr val="0d0d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0" y="4010040"/>
              <a:ext cx="9144000" cy="0"/>
            </a:xfrm>
            <a:prstGeom prst="line">
              <a:avLst/>
            </a:prstGeom>
            <a:ln w="19080">
              <a:solidFill>
                <a:srgbClr val="0d0d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0" y="3971880"/>
              <a:ext cx="9144000" cy="0"/>
            </a:xfrm>
            <a:prstGeom prst="line">
              <a:avLst/>
            </a:prstGeom>
            <a:ln w="19080">
              <a:solidFill>
                <a:srgbClr val="0d0d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0" y="3934080"/>
              <a:ext cx="9144000" cy="0"/>
            </a:xfrm>
            <a:prstGeom prst="line">
              <a:avLst/>
            </a:prstGeom>
            <a:ln w="19080">
              <a:solidFill>
                <a:srgbClr val="0d0d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0" y="3895920"/>
              <a:ext cx="9144000" cy="0"/>
            </a:xfrm>
            <a:prstGeom prst="line">
              <a:avLst/>
            </a:prstGeom>
            <a:ln w="19080">
              <a:solidFill>
                <a:srgbClr val="0d0d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0" y="3857760"/>
              <a:ext cx="9144000" cy="0"/>
            </a:xfrm>
            <a:prstGeom prst="line">
              <a:avLst/>
            </a:prstGeom>
            <a:ln w="19080">
              <a:solidFill>
                <a:srgbClr val="0d0d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0" y="3819600"/>
              <a:ext cx="9144000" cy="0"/>
            </a:xfrm>
            <a:prstGeom prst="line">
              <a:avLst/>
            </a:prstGeom>
            <a:ln w="19080">
              <a:solidFill>
                <a:srgbClr val="0d0d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0" y="3758760"/>
            <a:ext cx="9131040" cy="787320"/>
            <a:chOff x="0" y="3758760"/>
            <a:chExt cx="9131040" cy="787320"/>
          </a:xfrm>
        </p:grpSpPr>
        <p:grpSp>
          <p:nvGrpSpPr>
            <p:cNvPr id="133" name=""/>
            <p:cNvGrpSpPr/>
            <p:nvPr/>
          </p:nvGrpSpPr>
          <p:grpSpPr>
            <a:xfrm>
              <a:off x="0" y="3758760"/>
              <a:ext cx="4495680" cy="787320"/>
              <a:chOff x="0" y="3758760"/>
              <a:chExt cx="4495680" cy="787320"/>
            </a:xfrm>
          </p:grpSpPr>
          <p:sp>
            <p:nvSpPr>
              <p:cNvPr id="134" name=""/>
              <p:cNvSpPr/>
              <p:nvPr/>
            </p:nvSpPr>
            <p:spPr>
              <a:xfrm flipV="1">
                <a:off x="0" y="3758760"/>
                <a:ext cx="4419720" cy="787320"/>
              </a:xfrm>
              <a:prstGeom prst="line">
                <a:avLst/>
              </a:prstGeom>
              <a:ln w="9360">
                <a:solidFill>
                  <a:srgbClr val="4d8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V="1">
                <a:off x="0" y="3759120"/>
                <a:ext cx="4419720" cy="711360"/>
              </a:xfrm>
              <a:prstGeom prst="line">
                <a:avLst/>
              </a:prstGeom>
              <a:ln w="9360">
                <a:solidFill>
                  <a:srgbClr val="4d8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V="1">
                <a:off x="0" y="3759120"/>
                <a:ext cx="4444920" cy="596880"/>
              </a:xfrm>
              <a:prstGeom prst="line">
                <a:avLst/>
              </a:prstGeom>
              <a:ln w="9360">
                <a:solidFill>
                  <a:srgbClr val="4d8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V="1">
                <a:off x="0" y="3771360"/>
                <a:ext cx="4444920" cy="482760"/>
              </a:xfrm>
              <a:prstGeom prst="line">
                <a:avLst/>
              </a:prstGeom>
              <a:ln w="9360">
                <a:solidFill>
                  <a:srgbClr val="4d8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V="1">
                <a:off x="0" y="3759120"/>
                <a:ext cx="4444920" cy="393840"/>
              </a:xfrm>
              <a:prstGeom prst="line">
                <a:avLst/>
              </a:prstGeom>
              <a:ln w="9360">
                <a:solidFill>
                  <a:srgbClr val="4d8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V="1">
                <a:off x="0" y="3771720"/>
                <a:ext cx="4457880" cy="292320"/>
              </a:xfrm>
              <a:prstGeom prst="line">
                <a:avLst/>
              </a:prstGeom>
              <a:ln w="9360">
                <a:solidFill>
                  <a:srgbClr val="4d8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V="1">
                <a:off x="0" y="3784680"/>
                <a:ext cx="4457880" cy="203040"/>
              </a:xfrm>
              <a:prstGeom prst="line">
                <a:avLst/>
              </a:prstGeom>
              <a:ln w="9360">
                <a:solidFill>
                  <a:srgbClr val="4d8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V="1">
                <a:off x="0" y="3771720"/>
                <a:ext cx="4457880" cy="139680"/>
              </a:xfrm>
              <a:prstGeom prst="line">
                <a:avLst/>
              </a:prstGeom>
              <a:ln w="9360">
                <a:solidFill>
                  <a:srgbClr val="4d8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V="1">
                <a:off x="0" y="3771360"/>
                <a:ext cx="4495680" cy="63720"/>
              </a:xfrm>
              <a:prstGeom prst="line">
                <a:avLst/>
              </a:prstGeom>
              <a:ln w="9360">
                <a:solidFill>
                  <a:srgbClr val="4d8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4635360" y="3758760"/>
              <a:ext cx="4495680" cy="787320"/>
              <a:chOff x="4635360" y="3758760"/>
              <a:chExt cx="4495680" cy="787320"/>
            </a:xfrm>
          </p:grpSpPr>
          <p:sp>
            <p:nvSpPr>
              <p:cNvPr id="144" name=""/>
              <p:cNvSpPr/>
              <p:nvPr/>
            </p:nvSpPr>
            <p:spPr>
              <a:xfrm flipH="1" flipV="1">
                <a:off x="4711320" y="3758760"/>
                <a:ext cx="4419720" cy="787320"/>
              </a:xfrm>
              <a:prstGeom prst="line">
                <a:avLst/>
              </a:prstGeom>
              <a:ln w="9360">
                <a:solidFill>
                  <a:srgbClr val="4d8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H="1" flipV="1">
                <a:off x="4711320" y="3759120"/>
                <a:ext cx="4419720" cy="711360"/>
              </a:xfrm>
              <a:prstGeom prst="line">
                <a:avLst/>
              </a:prstGeom>
              <a:ln w="9360">
                <a:solidFill>
                  <a:srgbClr val="4d8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H="1" flipV="1">
                <a:off x="4686120" y="3759120"/>
                <a:ext cx="4444920" cy="596880"/>
              </a:xfrm>
              <a:prstGeom prst="line">
                <a:avLst/>
              </a:prstGeom>
              <a:ln w="9360">
                <a:solidFill>
                  <a:srgbClr val="4d8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H="1" flipV="1">
                <a:off x="4686120" y="3771360"/>
                <a:ext cx="4444920" cy="482760"/>
              </a:xfrm>
              <a:prstGeom prst="line">
                <a:avLst/>
              </a:prstGeom>
              <a:ln w="9360">
                <a:solidFill>
                  <a:srgbClr val="4d8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 flipV="1">
                <a:off x="4686120" y="3759120"/>
                <a:ext cx="4444920" cy="393840"/>
              </a:xfrm>
              <a:prstGeom prst="line">
                <a:avLst/>
              </a:prstGeom>
              <a:ln w="9360">
                <a:solidFill>
                  <a:srgbClr val="4d8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H="1" flipV="1">
                <a:off x="4673160" y="3771720"/>
                <a:ext cx="4457880" cy="292320"/>
              </a:xfrm>
              <a:prstGeom prst="line">
                <a:avLst/>
              </a:prstGeom>
              <a:ln w="9360">
                <a:solidFill>
                  <a:srgbClr val="4d8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H="1" flipV="1">
                <a:off x="4673160" y="3784680"/>
                <a:ext cx="4457880" cy="203040"/>
              </a:xfrm>
              <a:prstGeom prst="line">
                <a:avLst/>
              </a:prstGeom>
              <a:ln w="9360">
                <a:solidFill>
                  <a:srgbClr val="4d8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H="1" flipV="1">
                <a:off x="4673160" y="3771720"/>
                <a:ext cx="4457880" cy="139680"/>
              </a:xfrm>
              <a:prstGeom prst="line">
                <a:avLst/>
              </a:prstGeom>
              <a:ln w="9360">
                <a:solidFill>
                  <a:srgbClr val="4d8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 flipV="1">
                <a:off x="4635360" y="3771360"/>
                <a:ext cx="4495680" cy="63720"/>
              </a:xfrm>
              <a:prstGeom prst="line">
                <a:avLst/>
              </a:prstGeom>
              <a:ln w="9360">
                <a:solidFill>
                  <a:srgbClr val="4d8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3" name=""/>
          <p:cNvGrpSpPr/>
          <p:nvPr/>
        </p:nvGrpSpPr>
        <p:grpSpPr>
          <a:xfrm>
            <a:off x="-360" y="3771000"/>
            <a:ext cx="9144360" cy="3049920"/>
            <a:chOff x="-360" y="3771000"/>
            <a:chExt cx="9144360" cy="3049920"/>
          </a:xfrm>
        </p:grpSpPr>
        <p:sp>
          <p:nvSpPr>
            <p:cNvPr id="154" name=""/>
            <p:cNvSpPr/>
            <p:nvPr/>
          </p:nvSpPr>
          <p:spPr>
            <a:xfrm>
              <a:off x="4572000" y="3772080"/>
              <a:ext cx="228600" cy="3047760"/>
            </a:xfrm>
            <a:prstGeom prst="line">
              <a:avLst/>
            </a:prstGeom>
            <a:ln w="38160">
              <a:solidFill>
                <a:srgbClr val="4d8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3750120" y="3771000"/>
              <a:ext cx="830880" cy="3049920"/>
            </a:xfrm>
            <a:prstGeom prst="line">
              <a:avLst/>
            </a:prstGeom>
            <a:ln w="38160">
              <a:solidFill>
                <a:srgbClr val="4d8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2819520" y="3772080"/>
              <a:ext cx="1676160" cy="3047760"/>
            </a:xfrm>
            <a:prstGeom prst="line">
              <a:avLst/>
            </a:prstGeom>
            <a:ln w="38160">
              <a:solidFill>
                <a:srgbClr val="4d8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1828440" y="3772080"/>
              <a:ext cx="2590920" cy="3047760"/>
            </a:xfrm>
            <a:prstGeom prst="line">
              <a:avLst/>
            </a:prstGeom>
            <a:ln w="38160">
              <a:solidFill>
                <a:srgbClr val="4d8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762120" y="3772080"/>
              <a:ext cx="3657600" cy="3047760"/>
            </a:xfrm>
            <a:prstGeom prst="line">
              <a:avLst/>
            </a:prstGeom>
            <a:ln w="38160">
              <a:solidFill>
                <a:srgbClr val="4d8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-360" y="3772080"/>
              <a:ext cx="4419720" cy="2895120"/>
            </a:xfrm>
            <a:prstGeom prst="line">
              <a:avLst/>
            </a:prstGeom>
            <a:ln w="38160">
              <a:solidFill>
                <a:srgbClr val="4d8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-360" y="3772080"/>
              <a:ext cx="4419720" cy="2361960"/>
            </a:xfrm>
            <a:prstGeom prst="line">
              <a:avLst/>
            </a:prstGeom>
            <a:ln w="38160">
              <a:solidFill>
                <a:srgbClr val="4d8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-360" y="3772080"/>
              <a:ext cx="4419720" cy="1980720"/>
            </a:xfrm>
            <a:prstGeom prst="line">
              <a:avLst/>
            </a:prstGeom>
            <a:ln w="38160">
              <a:solidFill>
                <a:srgbClr val="4d8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-360" y="3772080"/>
              <a:ext cx="4419720" cy="1676160"/>
            </a:xfrm>
            <a:prstGeom prst="line">
              <a:avLst/>
            </a:prstGeom>
            <a:ln w="28440">
              <a:solidFill>
                <a:srgbClr val="4d8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-360" y="3772080"/>
              <a:ext cx="4419720" cy="1447560"/>
            </a:xfrm>
            <a:prstGeom prst="line">
              <a:avLst/>
            </a:prstGeom>
            <a:ln w="28440">
              <a:solidFill>
                <a:srgbClr val="4d8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-360" y="3772080"/>
              <a:ext cx="4419720" cy="1294920"/>
            </a:xfrm>
            <a:prstGeom prst="line">
              <a:avLst/>
            </a:prstGeom>
            <a:ln w="12600">
              <a:solidFill>
                <a:srgbClr val="4d8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-360" y="3772080"/>
              <a:ext cx="4419720" cy="1142640"/>
            </a:xfrm>
            <a:prstGeom prst="line">
              <a:avLst/>
            </a:prstGeom>
            <a:ln w="12600">
              <a:solidFill>
                <a:srgbClr val="4d8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-360" y="3772080"/>
              <a:ext cx="4419720" cy="990360"/>
            </a:xfrm>
            <a:prstGeom prst="line">
              <a:avLst/>
            </a:prstGeom>
            <a:ln w="12600">
              <a:solidFill>
                <a:srgbClr val="4d8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-360" y="3772080"/>
              <a:ext cx="4419720" cy="914040"/>
            </a:xfrm>
            <a:prstGeom prst="line">
              <a:avLst/>
            </a:prstGeom>
            <a:ln w="12600">
              <a:solidFill>
                <a:srgbClr val="4d8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0" y="3772080"/>
              <a:ext cx="4495680" cy="837720"/>
            </a:xfrm>
            <a:prstGeom prst="line">
              <a:avLst/>
            </a:prstGeom>
            <a:ln w="9360">
              <a:solidFill>
                <a:srgbClr val="4d8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72000" y="3772080"/>
              <a:ext cx="1219320" cy="3047760"/>
            </a:xfrm>
            <a:prstGeom prst="line">
              <a:avLst/>
            </a:prstGeom>
            <a:ln w="38160">
              <a:solidFill>
                <a:srgbClr val="4d8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648320" y="3772080"/>
              <a:ext cx="2133360" cy="3047760"/>
            </a:xfrm>
            <a:prstGeom prst="line">
              <a:avLst/>
            </a:prstGeom>
            <a:ln w="38160">
              <a:solidFill>
                <a:srgbClr val="4d8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724280" y="3772080"/>
              <a:ext cx="3048120" cy="3047760"/>
            </a:xfrm>
            <a:prstGeom prst="line">
              <a:avLst/>
            </a:prstGeom>
            <a:ln w="38160">
              <a:solidFill>
                <a:srgbClr val="4d8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724280" y="3772080"/>
              <a:ext cx="4038840" cy="3047760"/>
            </a:xfrm>
            <a:prstGeom prst="line">
              <a:avLst/>
            </a:prstGeom>
            <a:ln w="38160">
              <a:solidFill>
                <a:srgbClr val="4d8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724280" y="3772080"/>
              <a:ext cx="4419720" cy="2666520"/>
            </a:xfrm>
            <a:prstGeom prst="line">
              <a:avLst/>
            </a:prstGeom>
            <a:ln w="38160">
              <a:solidFill>
                <a:srgbClr val="4d8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800600" y="3772080"/>
              <a:ext cx="4343400" cy="2209320"/>
            </a:xfrm>
            <a:prstGeom prst="line">
              <a:avLst/>
            </a:prstGeom>
            <a:ln w="38160">
              <a:solidFill>
                <a:srgbClr val="4d8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00600" y="3772080"/>
              <a:ext cx="4343400" cy="1904760"/>
            </a:xfrm>
            <a:prstGeom prst="line">
              <a:avLst/>
            </a:prstGeom>
            <a:ln w="38160">
              <a:solidFill>
                <a:srgbClr val="4d8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76920" y="3772080"/>
              <a:ext cx="4267080" cy="1676160"/>
            </a:xfrm>
            <a:prstGeom prst="line">
              <a:avLst/>
            </a:prstGeom>
            <a:ln w="38160">
              <a:solidFill>
                <a:srgbClr val="4d8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952880" y="3772080"/>
              <a:ext cx="4191120" cy="1447560"/>
            </a:xfrm>
            <a:prstGeom prst="line">
              <a:avLst/>
            </a:prstGeom>
            <a:ln w="28440">
              <a:solidFill>
                <a:srgbClr val="4d8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952880" y="3772080"/>
              <a:ext cx="4191120" cy="1294920"/>
            </a:xfrm>
            <a:prstGeom prst="line">
              <a:avLst/>
            </a:prstGeom>
            <a:ln w="28440">
              <a:solidFill>
                <a:srgbClr val="4d8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029200" y="3772080"/>
              <a:ext cx="4114800" cy="1142640"/>
            </a:xfrm>
            <a:prstGeom prst="line">
              <a:avLst/>
            </a:prstGeom>
            <a:ln w="12600">
              <a:solidFill>
                <a:srgbClr val="4d8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105520" y="3772080"/>
              <a:ext cx="4038480" cy="1066320"/>
            </a:xfrm>
            <a:prstGeom prst="line">
              <a:avLst/>
            </a:prstGeom>
            <a:ln w="12600">
              <a:solidFill>
                <a:srgbClr val="4d8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952880" y="3772080"/>
              <a:ext cx="4191120" cy="914040"/>
            </a:xfrm>
            <a:prstGeom prst="line">
              <a:avLst/>
            </a:prstGeom>
            <a:ln w="12600">
              <a:solidFill>
                <a:srgbClr val="4d8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"/>
          <p:cNvSpPr/>
          <p:nvPr/>
        </p:nvSpPr>
        <p:spPr>
          <a:xfrm rot="20754600">
            <a:off x="1676520" y="3374640"/>
            <a:ext cx="5991120" cy="2282760"/>
          </a:xfrm>
          <a:prstGeom prst="donut">
            <a:avLst>
              <a:gd name="adj" fmla="val 3069"/>
            </a:avLst>
          </a:prstGeom>
          <a:gradFill rotWithShape="0">
            <a:gsLst>
              <a:gs pos="0">
                <a:srgbClr val="4d8dff"/>
              </a:gs>
              <a:gs pos="100000">
                <a:srgbClr val="ffffff"/>
              </a:gs>
            </a:gsLst>
            <a:lin ang="89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1001880" y="4203720"/>
            <a:ext cx="2057040" cy="2057040"/>
            <a:chOff x="1001880" y="4203720"/>
            <a:chExt cx="2057040" cy="2057040"/>
          </a:xfrm>
        </p:grpSpPr>
        <p:sp>
          <p:nvSpPr>
            <p:cNvPr id="184" name=""/>
            <p:cNvSpPr/>
            <p:nvPr/>
          </p:nvSpPr>
          <p:spPr>
            <a:xfrm>
              <a:off x="1001880" y="4203720"/>
              <a:ext cx="2057040" cy="2057040"/>
            </a:xfrm>
            <a:prstGeom prst="ellipse">
              <a:avLst/>
            </a:prstGeom>
            <a:solidFill>
              <a:srgbClr val="39ab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568160" y="4865400"/>
              <a:ext cx="1139040" cy="1139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9ab3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19033200">
              <a:off x="1172880" y="4521960"/>
              <a:ext cx="866160" cy="477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9ab3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3343320" y="2127240"/>
            <a:ext cx="2440080" cy="2440080"/>
            <a:chOff x="3343320" y="2127240"/>
            <a:chExt cx="2440080" cy="2440080"/>
          </a:xfrm>
        </p:grpSpPr>
        <p:sp>
          <p:nvSpPr>
            <p:cNvPr id="188" name=""/>
            <p:cNvSpPr/>
            <p:nvPr/>
          </p:nvSpPr>
          <p:spPr>
            <a:xfrm>
              <a:off x="3343320" y="2127240"/>
              <a:ext cx="2440080" cy="2440080"/>
            </a:xfrm>
            <a:prstGeom prst="ellipse">
              <a:avLst/>
            </a:prstGeom>
            <a:solidFill>
              <a:srgbClr val="4d8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016520" y="2911320"/>
              <a:ext cx="1347840" cy="1352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d8d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19033200">
              <a:off x="3549600" y="2503080"/>
              <a:ext cx="1025640" cy="56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4d8d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6607080" y="3386160"/>
            <a:ext cx="1693800" cy="1693800"/>
            <a:chOff x="6607080" y="3386160"/>
            <a:chExt cx="1693800" cy="1693800"/>
          </a:xfrm>
        </p:grpSpPr>
        <p:sp>
          <p:nvSpPr>
            <p:cNvPr id="192" name=""/>
            <p:cNvSpPr/>
            <p:nvPr/>
          </p:nvSpPr>
          <p:spPr>
            <a:xfrm>
              <a:off x="6607080" y="3386160"/>
              <a:ext cx="1693800" cy="1693800"/>
            </a:xfrm>
            <a:prstGeom prst="ellipse">
              <a:avLst/>
            </a:prstGeom>
            <a:solidFill>
              <a:srgbClr val="9ac8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073640" y="3930840"/>
              <a:ext cx="938520" cy="938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ac8fa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rot="19033200">
              <a:off x="6747840" y="3649320"/>
              <a:ext cx="714600" cy="392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ac8f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5353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d0d79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95360" y="774360"/>
            <a:ext cx="811512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Gulim"/>
              </a:rPr>
              <a:t>三维立体企业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模板下载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320840" y="1371600"/>
            <a:ext cx="64771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ac8fa"/>
                </a:solidFill>
                <a:latin typeface="Verdana"/>
                <a:ea typeface="Gulim"/>
              </a:rPr>
              <a:t>Add Your Company Slog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6360" y="6454800"/>
            <a:ext cx="5078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7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使用规范说明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9ac8fa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9ac8fa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d0d7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d0d7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9ac8fa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9ac8fa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9ac8fa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400" spc="-1" strike="noStrike">
              <a:solidFill>
                <a:srgbClr val="9ac8fa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9ac8fa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9ac8fa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9ac8fa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9ac8fa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9ac8f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9ac8f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d0d7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en-US" sz="1200" spc="-1" strike="noStrike" u="sng">
                <a:solidFill>
                  <a:srgbClr val="0d0d7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9ac8f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d0d7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zh-CN" sz="1200" spc="-1" strike="noStrike" u="sng">
                <a:solidFill>
                  <a:srgbClr val="0d0d7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en-US" sz="1200" spc="-1" strike="noStrike" u="sng">
                <a:solidFill>
                  <a:srgbClr val="0d0d7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9ac8f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d0d7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0d0d7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9ac8f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d0d7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0d0d7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9ac8f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d0d7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en-US" sz="1200" spc="-1" strike="noStrike" u="sng">
                <a:solidFill>
                  <a:srgbClr val="0d0d7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9ac8f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d0d7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en-US" sz="1200" spc="-1" strike="noStrike" u="sng">
                <a:solidFill>
                  <a:srgbClr val="0d0d7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9ac8f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d0d7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1" lang="zh-CN" sz="1200" spc="-1" strike="noStrike" u="sng">
                <a:solidFill>
                  <a:srgbClr val="0d0d7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9ac8f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d0d7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0d0d7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9ac8f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d0d7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0d0d7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9ac8f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d0d7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0d0d7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9ac8f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d0d7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0d0d7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9ac8f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9ac8f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9ac8f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9ac8f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9ac8f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9ac8f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9ac8fa"/>
              </a:solidFill>
              <a:latin typeface="Verdana"/>
            </a:endParaRPr>
          </a:p>
        </p:txBody>
      </p:sp>
      <p:sp>
        <p:nvSpPr>
          <p:cNvPr id="34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10F7-F2DA-4060-A49E-ED41F1EC9F6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95360" y="774360"/>
            <a:ext cx="811512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Gulim"/>
              </a:rPr>
              <a:t>Thank You!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"/>
          <p:cNvSpPr/>
          <p:nvPr/>
        </p:nvSpPr>
        <p:spPr>
          <a:xfrm>
            <a:off x="1320840" y="1371600"/>
            <a:ext cx="64771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ac8fa"/>
                </a:solidFill>
                <a:latin typeface="Verdana"/>
                <a:ea typeface="Gulim"/>
              </a:rPr>
              <a:t>Add Your Company Slog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Competitors </a:t>
            </a:r>
            <a:endParaRPr b="1" lang="en-US" sz="2800" spc="-1" strike="noStrike">
              <a:solidFill>
                <a:srgbClr val="9ac8fa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79"/>
                </a:solidFill>
                <a:latin typeface="Verdana"/>
                <a:ea typeface="Gulim"/>
              </a:rPr>
              <a:t> </a:t>
            </a:r>
            <a:r>
              <a:rPr b="0" lang="en-US" sz="2400" spc="-1" strike="noStrike">
                <a:solidFill>
                  <a:srgbClr val="0d0d79"/>
                </a:solidFill>
                <a:latin typeface="Verdana"/>
                <a:ea typeface="Gulim"/>
              </a:rPr>
              <a:t>You may want to allocate one slide per competi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ac8f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353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53ff"/>
                </a:solidFill>
                <a:latin typeface="Verdana"/>
                <a:ea typeface="Gulim"/>
              </a:rPr>
              <a:t>Strengths </a:t>
            </a:r>
            <a:endParaRPr b="1" lang="en-US" sz="2800" spc="-1" strike="noStrike">
              <a:solidFill>
                <a:srgbClr val="9ac8fa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0" lang="en-US" sz="2400" spc="-1" strike="noStrike">
                <a:solidFill>
                  <a:srgbClr val="0d0d79"/>
                </a:solidFill>
                <a:latin typeface="Verdana"/>
                <a:ea typeface="Gulim"/>
              </a:rPr>
              <a:t>Your strengths relative to competi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Gulim"/>
              </a:rPr>
              <a:t>Weaknesses</a:t>
            </a:r>
            <a:endParaRPr b="1" lang="en-US" sz="2800" spc="-1" strike="noStrike">
              <a:solidFill>
                <a:srgbClr val="9ac8fa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0" lang="en-US" sz="2400" spc="-1" strike="noStrike">
                <a:solidFill>
                  <a:srgbClr val="0d0d79"/>
                </a:solidFill>
                <a:latin typeface="Verdana"/>
                <a:ea typeface="Gulim"/>
              </a:rPr>
              <a:t>Your weaknesses relative to competi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ac8fa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266400" y="216000"/>
            <a:ext cx="835668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Related Document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66400" y="216000"/>
            <a:ext cx="835668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Content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1549440" y="2043000"/>
            <a:ext cx="4651200" cy="623880"/>
            <a:chOff x="1549440" y="2043000"/>
            <a:chExt cx="4651200" cy="623880"/>
          </a:xfrm>
        </p:grpSpPr>
        <p:sp>
          <p:nvSpPr>
            <p:cNvPr id="239" name=""/>
            <p:cNvSpPr/>
            <p:nvPr/>
          </p:nvSpPr>
          <p:spPr>
            <a:xfrm>
              <a:off x="1549440" y="2068560"/>
              <a:ext cx="4648320" cy="598320"/>
            </a:xfrm>
            <a:prstGeom prst="roundRect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549440" y="2043000"/>
              <a:ext cx="4651200" cy="604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rot="19033200">
              <a:off x="1575000" y="2138040"/>
              <a:ext cx="226800" cy="141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1562040" y="2881440"/>
            <a:ext cx="4651200" cy="623880"/>
            <a:chOff x="1562040" y="2881440"/>
            <a:chExt cx="4651200" cy="623880"/>
          </a:xfrm>
        </p:grpSpPr>
        <p:sp>
          <p:nvSpPr>
            <p:cNvPr id="243" name=""/>
            <p:cNvSpPr/>
            <p:nvPr/>
          </p:nvSpPr>
          <p:spPr>
            <a:xfrm>
              <a:off x="1562040" y="2907000"/>
              <a:ext cx="4648320" cy="598320"/>
            </a:xfrm>
            <a:prstGeom prst="roundRect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562040" y="2881440"/>
              <a:ext cx="4651200" cy="604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353ff"/>
                </a:gs>
                <a:gs pos="100000">
                  <a:srgbClr val="2626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rot="19033200">
              <a:off x="1587600" y="2976480"/>
              <a:ext cx="226800" cy="141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353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1549440" y="3745080"/>
            <a:ext cx="4651200" cy="623880"/>
            <a:chOff x="1549440" y="3745080"/>
            <a:chExt cx="4651200" cy="623880"/>
          </a:xfrm>
        </p:grpSpPr>
        <p:sp>
          <p:nvSpPr>
            <p:cNvPr id="247" name=""/>
            <p:cNvSpPr/>
            <p:nvPr/>
          </p:nvSpPr>
          <p:spPr>
            <a:xfrm>
              <a:off x="1549440" y="3770640"/>
              <a:ext cx="4648320" cy="598320"/>
            </a:xfrm>
            <a:prstGeom prst="roundRect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549440" y="3745080"/>
              <a:ext cx="4651200" cy="604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rot="19033200">
              <a:off x="1575000" y="3840120"/>
              <a:ext cx="226800" cy="141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1562040" y="4583160"/>
            <a:ext cx="4651200" cy="623880"/>
            <a:chOff x="1562040" y="4583160"/>
            <a:chExt cx="4651200" cy="623880"/>
          </a:xfrm>
        </p:grpSpPr>
        <p:sp>
          <p:nvSpPr>
            <p:cNvPr id="251" name=""/>
            <p:cNvSpPr/>
            <p:nvPr/>
          </p:nvSpPr>
          <p:spPr>
            <a:xfrm>
              <a:off x="1562040" y="4608720"/>
              <a:ext cx="4648320" cy="598320"/>
            </a:xfrm>
            <a:prstGeom prst="roundRect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562040" y="4583160"/>
              <a:ext cx="4651200" cy="604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353ff"/>
                </a:gs>
                <a:gs pos="100000">
                  <a:srgbClr val="2626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rot="19033200">
              <a:off x="1587600" y="4678200"/>
              <a:ext cx="226800" cy="141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353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1994040" y="2149560"/>
            <a:ext cx="36334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  <a:ea typeface="Gulim"/>
              </a:rPr>
              <a:t>1. Introdu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006640" y="2975040"/>
            <a:ext cx="36338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  <a:ea typeface="Gulim"/>
              </a:rPr>
              <a:t>2. Strate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019240" y="3838680"/>
            <a:ext cx="38880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  <a:ea typeface="Gulim"/>
              </a:rPr>
              <a:t>3. Challengers Forwa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031840" y="4676760"/>
            <a:ext cx="36338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  <a:ea typeface="Gulim"/>
              </a:rPr>
              <a:t>4. Conclu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312920" y="1432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d0d79"/>
                </a:solidFill>
                <a:uFillTx/>
                <a:latin typeface="Arial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587520" y="1368360"/>
            <a:ext cx="8072280" cy="835200"/>
          </a:xfrm>
          <a:custGeom>
            <a:avLst/>
            <a:gdLst>
              <a:gd name="textAreaLeft" fmla="*/ 0 w 8072280"/>
              <a:gd name="textAreaRight" fmla="*/ 8072280 w 8072280"/>
              <a:gd name="textAreaTop" fmla="*/ 0 h 835200"/>
              <a:gd name="textAreaBottom" fmla="*/ 835560 h 83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85" y="0"/>
                </a:lnTo>
                <a:lnTo>
                  <a:pt x="21600" y="10800"/>
                </a:lnTo>
                <a:lnTo>
                  <a:pt x="20185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9ac8f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30080" y="1809720"/>
            <a:ext cx="3610080" cy="4132440"/>
          </a:xfrm>
          <a:custGeom>
            <a:avLst/>
            <a:gdLst>
              <a:gd name="textAreaLeft" fmla="*/ 72720 w 3610080"/>
              <a:gd name="textAreaRight" fmla="*/ 3537360 w 3610080"/>
              <a:gd name="textAreaTop" fmla="*/ 72720 h 4132440"/>
              <a:gd name="textAreaBottom" fmla="*/ 4059720 h 4132440"/>
            </a:gdLst>
            <a:ahLst/>
            <a:rect l="textAreaLeft" t="textAreaTop" r="textAreaRight" b="textAreaBottom"/>
            <a:pathLst>
              <a:path w="21600" h="24725">
                <a:moveTo>
                  <a:pt x="1491" y="0"/>
                </a:moveTo>
                <a:arcTo wR="1491" hR="1491" stAng="16200000" swAng="-5400000"/>
                <a:lnTo>
                  <a:pt x="0" y="23234"/>
                </a:lnTo>
                <a:arcTo wR="1491" hR="1491" stAng="10800000" swAng="-5400000"/>
                <a:lnTo>
                  <a:pt x="20109" y="24725"/>
                </a:lnTo>
                <a:arcTo wR="1491" hR="1491" stAng="5400000" swAng="-5400000"/>
                <a:lnTo>
                  <a:pt x="21600" y="1491"/>
                </a:lnTo>
                <a:arcTo wR="1491" hR="1491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952560" y="1500120"/>
            <a:ext cx="3136680" cy="623880"/>
            <a:chOff x="952560" y="1500120"/>
            <a:chExt cx="3136680" cy="623880"/>
          </a:xfrm>
        </p:grpSpPr>
        <p:sp>
          <p:nvSpPr>
            <p:cNvPr id="262" name=""/>
            <p:cNvSpPr/>
            <p:nvPr/>
          </p:nvSpPr>
          <p:spPr>
            <a:xfrm>
              <a:off x="952560" y="1525680"/>
              <a:ext cx="3134880" cy="598320"/>
            </a:xfrm>
            <a:prstGeom prst="roundRect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52560" y="1500120"/>
              <a:ext cx="3136680" cy="604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19033200">
              <a:off x="977400" y="1595160"/>
              <a:ext cx="226440" cy="141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1397160" y="1606680"/>
            <a:ext cx="22096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  <a:ea typeface="Gulim"/>
              </a:rPr>
              <a:t>Sub Tit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691160" y="1805040"/>
            <a:ext cx="3609720" cy="4132080"/>
          </a:xfrm>
          <a:custGeom>
            <a:avLst/>
            <a:gdLst>
              <a:gd name="textAreaLeft" fmla="*/ 72720 w 3609720"/>
              <a:gd name="textAreaRight" fmla="*/ 3537000 w 3609720"/>
              <a:gd name="textAreaTop" fmla="*/ 72720 h 4132080"/>
              <a:gd name="textAreaBottom" fmla="*/ 4059360 h 4132080"/>
            </a:gdLst>
            <a:ahLst/>
            <a:rect l="textAreaLeft" t="textAreaTop" r="textAreaRight" b="textAreaBottom"/>
            <a:pathLst>
              <a:path w="21600" h="24725">
                <a:moveTo>
                  <a:pt x="1491" y="0"/>
                </a:moveTo>
                <a:arcTo wR="1491" hR="1491" stAng="16200000" swAng="-5400000"/>
                <a:lnTo>
                  <a:pt x="0" y="23234"/>
                </a:lnTo>
                <a:arcTo wR="1491" hR="1491" stAng="10800000" swAng="-5400000"/>
                <a:lnTo>
                  <a:pt x="20109" y="24725"/>
                </a:lnTo>
                <a:arcTo wR="1491" hR="1491" stAng="5400000" swAng="-5400000"/>
                <a:lnTo>
                  <a:pt x="21600" y="1491"/>
                </a:lnTo>
                <a:arcTo wR="1491" hR="1491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0d0d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4913280" y="1495440"/>
            <a:ext cx="3137040" cy="623880"/>
            <a:chOff x="4913280" y="1495440"/>
            <a:chExt cx="3137040" cy="623880"/>
          </a:xfrm>
        </p:grpSpPr>
        <p:sp>
          <p:nvSpPr>
            <p:cNvPr id="268" name=""/>
            <p:cNvSpPr/>
            <p:nvPr/>
          </p:nvSpPr>
          <p:spPr>
            <a:xfrm>
              <a:off x="4913280" y="1521000"/>
              <a:ext cx="3135240" cy="598320"/>
            </a:xfrm>
            <a:prstGeom prst="roundRect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913280" y="1495440"/>
              <a:ext cx="3137040" cy="604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353ff"/>
                </a:gs>
                <a:gs pos="100000">
                  <a:srgbClr val="2626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9033200">
              <a:off x="4938840" y="1590480"/>
              <a:ext cx="226800" cy="141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353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5357880" y="1601640"/>
            <a:ext cx="22096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  <a:ea typeface="Gulim"/>
              </a:rPr>
              <a:t>Sub Tit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66400" y="216000"/>
            <a:ext cx="835668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Click to add tit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66400" y="216000"/>
            <a:ext cx="835668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Click to add tit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"/>
          <p:cNvSpPr/>
          <p:nvPr/>
        </p:nvSpPr>
        <p:spPr>
          <a:xfrm rot="20386800">
            <a:off x="1730160" y="1992240"/>
            <a:ext cx="5576760" cy="3129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4d8dff"/>
              </a:gs>
            </a:gsLst>
            <a:lin ang="14712000"/>
          </a:gradFill>
          <a:ln w="19080">
            <a:solidFill>
              <a:srgbClr val="4d8d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20386200">
            <a:off x="1898280" y="2079720"/>
            <a:ext cx="4946760" cy="2798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9ab3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40080" y="1231920"/>
            <a:ext cx="2342880" cy="1622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39ab39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39ab3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Gulim"/>
              </a:rPr>
              <a:t>Text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862440" y="4229280"/>
            <a:ext cx="2343240" cy="1622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4d8dff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4d8d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Gulim"/>
              </a:rPr>
              <a:t>Tex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04800" y="3309840"/>
            <a:ext cx="2343240" cy="1622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ac8fa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9ac8f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Gulim"/>
              </a:rPr>
              <a:t>Tex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989680" y="1951200"/>
            <a:ext cx="2343240" cy="1622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353ff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5353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Gulim"/>
              </a:rPr>
              <a:t>Text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"/>
          <p:cNvGrpSpPr/>
          <p:nvPr/>
        </p:nvGrpSpPr>
        <p:grpSpPr>
          <a:xfrm>
            <a:off x="3666960" y="2658960"/>
            <a:ext cx="4694400" cy="836640"/>
            <a:chOff x="3666960" y="2658960"/>
            <a:chExt cx="4694400" cy="836640"/>
          </a:xfrm>
        </p:grpSpPr>
        <p:sp>
          <p:nvSpPr>
            <p:cNvPr id="281" name=""/>
            <p:cNvSpPr/>
            <p:nvPr/>
          </p:nvSpPr>
          <p:spPr>
            <a:xfrm>
              <a:off x="7759440" y="2658960"/>
              <a:ext cx="601920" cy="836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666960" y="2658960"/>
              <a:ext cx="4100400" cy="83664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3679920" y="3776760"/>
            <a:ext cx="4707000" cy="836640"/>
            <a:chOff x="3679920" y="3776760"/>
            <a:chExt cx="4707000" cy="836640"/>
          </a:xfrm>
        </p:grpSpPr>
        <p:sp>
          <p:nvSpPr>
            <p:cNvPr id="284" name=""/>
            <p:cNvSpPr/>
            <p:nvPr/>
          </p:nvSpPr>
          <p:spPr>
            <a:xfrm>
              <a:off x="7747200" y="3776760"/>
              <a:ext cx="639720" cy="836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ac8f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679920" y="3776760"/>
              <a:ext cx="4100400" cy="836640"/>
            </a:xfrm>
            <a:prstGeom prst="rect">
              <a:avLst/>
            </a:prstGeom>
            <a:gradFill rotWithShape="0">
              <a:gsLst>
                <a:gs pos="0">
                  <a:srgbClr val="9ac8fa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3692520" y="4894200"/>
            <a:ext cx="4694400" cy="836640"/>
            <a:chOff x="3692520" y="4894200"/>
            <a:chExt cx="4694400" cy="836640"/>
          </a:xfrm>
        </p:grpSpPr>
        <p:sp>
          <p:nvSpPr>
            <p:cNvPr id="287" name=""/>
            <p:cNvSpPr/>
            <p:nvPr/>
          </p:nvSpPr>
          <p:spPr>
            <a:xfrm>
              <a:off x="7785000" y="4894200"/>
              <a:ext cx="601920" cy="836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692520" y="4894200"/>
              <a:ext cx="4100400" cy="83664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3654360" y="1541520"/>
            <a:ext cx="4707000" cy="836640"/>
            <a:chOff x="3654360" y="1541520"/>
            <a:chExt cx="4707000" cy="836640"/>
          </a:xfrm>
        </p:grpSpPr>
        <p:sp>
          <p:nvSpPr>
            <p:cNvPr id="290" name=""/>
            <p:cNvSpPr/>
            <p:nvPr/>
          </p:nvSpPr>
          <p:spPr>
            <a:xfrm>
              <a:off x="7721640" y="1541520"/>
              <a:ext cx="639720" cy="836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ac8f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654360" y="1541520"/>
              <a:ext cx="4100400" cy="836640"/>
            </a:xfrm>
            <a:prstGeom prst="rect">
              <a:avLst/>
            </a:prstGeom>
            <a:gradFill rotWithShape="0">
              <a:gsLst>
                <a:gs pos="0">
                  <a:srgbClr val="9ac8fa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2692440" y="2286000"/>
            <a:ext cx="1317600" cy="339840"/>
          </a:xfrm>
          <a:custGeom>
            <a:avLst/>
            <a:gdLst/>
            <a:ahLst/>
            <a:rect l="l" t="t" r="r" b="b"/>
            <a:pathLst>
              <a:path w="814" h="198">
                <a:moveTo>
                  <a:pt x="189" y="198"/>
                </a:moveTo>
                <a:lnTo>
                  <a:pt x="814" y="140"/>
                </a:lnTo>
                <a:lnTo>
                  <a:pt x="617" y="17"/>
                </a:lnTo>
                <a:lnTo>
                  <a:pt x="0" y="0"/>
                </a:lnTo>
                <a:lnTo>
                  <a:pt x="189" y="198"/>
                </a:lnTo>
                <a:close/>
              </a:path>
            </a:pathLst>
          </a:custGeom>
          <a:gradFill rotWithShape="0">
            <a:gsLst>
              <a:gs pos="0">
                <a:srgbClr val="9ac8fa"/>
              </a:gs>
              <a:gs pos="100000">
                <a:srgbClr val="465c7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933560" y="3119400"/>
            <a:ext cx="2691000" cy="655560"/>
          </a:xfrm>
          <a:custGeom>
            <a:avLst/>
            <a:gdLst/>
            <a:ahLst/>
            <a:rect l="l" t="t" r="r" b="b"/>
            <a:pathLst>
              <a:path w="1695" h="412">
                <a:moveTo>
                  <a:pt x="304" y="412"/>
                </a:moveTo>
                <a:lnTo>
                  <a:pt x="1695" y="313"/>
                </a:lnTo>
                <a:lnTo>
                  <a:pt x="1366" y="157"/>
                </a:lnTo>
                <a:lnTo>
                  <a:pt x="0" y="0"/>
                </a:lnTo>
                <a:lnTo>
                  <a:pt x="304" y="412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52525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150920" y="3879720"/>
            <a:ext cx="4049640" cy="1057320"/>
          </a:xfrm>
          <a:custGeom>
            <a:avLst/>
            <a:gdLst/>
            <a:ahLst/>
            <a:rect l="l" t="t" r="r" b="b"/>
            <a:pathLst>
              <a:path w="2526" h="658">
                <a:moveTo>
                  <a:pt x="444" y="658"/>
                </a:moveTo>
                <a:lnTo>
                  <a:pt x="2526" y="527"/>
                </a:lnTo>
                <a:lnTo>
                  <a:pt x="2155" y="313"/>
                </a:lnTo>
                <a:lnTo>
                  <a:pt x="0" y="0"/>
                </a:lnTo>
                <a:lnTo>
                  <a:pt x="444" y="658"/>
                </a:lnTo>
                <a:close/>
              </a:path>
            </a:pathLst>
          </a:custGeom>
          <a:gradFill rotWithShape="0">
            <a:gsLst>
              <a:gs pos="0">
                <a:srgbClr val="4d8dff"/>
              </a:gs>
              <a:gs pos="100000">
                <a:srgbClr val="234075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359000" y="4702320"/>
            <a:ext cx="4284720" cy="1228680"/>
          </a:xfrm>
          <a:custGeom>
            <a:avLst/>
            <a:gdLst/>
            <a:ahLst/>
            <a:rect l="l" t="t" r="r" b="b"/>
            <a:pathLst>
              <a:path w="2699" h="774">
                <a:moveTo>
                  <a:pt x="0" y="774"/>
                </a:moveTo>
                <a:lnTo>
                  <a:pt x="2699" y="560"/>
                </a:lnTo>
                <a:lnTo>
                  <a:pt x="2403" y="0"/>
                </a:lnTo>
                <a:lnTo>
                  <a:pt x="313" y="140"/>
                </a:lnTo>
                <a:lnTo>
                  <a:pt x="0" y="774"/>
                </a:lnTo>
                <a:close/>
              </a:path>
            </a:pathLst>
          </a:custGeom>
          <a:gradFill rotWithShape="0">
            <a:gsLst>
              <a:gs pos="0">
                <a:srgbClr val="4d8dff"/>
              </a:gs>
              <a:gs pos="100000">
                <a:srgbClr val="2340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920960" y="3605040"/>
            <a:ext cx="3160800" cy="1149480"/>
          </a:xfrm>
          <a:custGeom>
            <a:avLst/>
            <a:gdLst/>
            <a:ahLst/>
            <a:rect l="l" t="t" r="r" b="b"/>
            <a:pathLst>
              <a:path w="1991" h="724">
                <a:moveTo>
                  <a:pt x="0" y="724"/>
                </a:moveTo>
                <a:lnTo>
                  <a:pt x="1991" y="584"/>
                </a:lnTo>
                <a:lnTo>
                  <a:pt x="1695" y="0"/>
                </a:lnTo>
                <a:lnTo>
                  <a:pt x="304" y="99"/>
                </a:lnTo>
                <a:lnTo>
                  <a:pt x="0" y="724"/>
                </a:lnTo>
                <a:close/>
              </a:path>
            </a:pathLst>
          </a:custGeom>
          <a:gradFill rotWithShape="0">
            <a:gsLst>
              <a:gs pos="0">
                <a:srgbClr val="525252"/>
              </a:gs>
              <a:gs pos="100000">
                <a:srgbClr val="b2b2b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455920" y="2535120"/>
            <a:ext cx="2090520" cy="1096920"/>
          </a:xfrm>
          <a:custGeom>
            <a:avLst/>
            <a:gdLst/>
            <a:ahLst/>
            <a:rect l="l" t="t" r="r" b="b"/>
            <a:pathLst>
              <a:path w="1317" h="700">
                <a:moveTo>
                  <a:pt x="0" y="700"/>
                </a:moveTo>
                <a:lnTo>
                  <a:pt x="1317" y="601"/>
                </a:lnTo>
                <a:lnTo>
                  <a:pt x="980" y="0"/>
                </a:lnTo>
                <a:lnTo>
                  <a:pt x="346" y="49"/>
                </a:lnTo>
                <a:lnTo>
                  <a:pt x="0" y="700"/>
                </a:lnTo>
                <a:close/>
              </a:path>
            </a:pathLst>
          </a:custGeom>
          <a:gradFill rotWithShape="0">
            <a:gsLst>
              <a:gs pos="0">
                <a:srgbClr val="465c73"/>
              </a:gs>
              <a:gs pos="100000">
                <a:srgbClr val="9ac8f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044880" y="1528920"/>
            <a:ext cx="900000" cy="939600"/>
          </a:xfrm>
          <a:custGeom>
            <a:avLst/>
            <a:gdLst/>
            <a:ahLst/>
            <a:rect l="l" t="t" r="r" b="b"/>
            <a:pathLst>
              <a:path w="567" h="592">
                <a:moveTo>
                  <a:pt x="0" y="592"/>
                </a:moveTo>
                <a:lnTo>
                  <a:pt x="567" y="543"/>
                </a:lnTo>
                <a:lnTo>
                  <a:pt x="288" y="0"/>
                </a:lnTo>
                <a:lnTo>
                  <a:pt x="0" y="592"/>
                </a:lnTo>
                <a:close/>
              </a:path>
            </a:pathLst>
          </a:custGeom>
          <a:gradFill rotWithShape="0">
            <a:gsLst>
              <a:gs pos="0">
                <a:srgbClr val="9ac8fa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09760" y="3879720"/>
            <a:ext cx="1358640" cy="2051280"/>
          </a:xfrm>
          <a:custGeom>
            <a:avLst/>
            <a:gdLst/>
            <a:ahLst/>
            <a:rect l="l" t="t" r="r" b="b"/>
            <a:pathLst>
              <a:path w="856" h="1292">
                <a:moveTo>
                  <a:pt x="535" y="1292"/>
                </a:moveTo>
                <a:lnTo>
                  <a:pt x="856" y="658"/>
                </a:lnTo>
                <a:lnTo>
                  <a:pt x="412" y="0"/>
                </a:lnTo>
                <a:lnTo>
                  <a:pt x="0" y="395"/>
                </a:lnTo>
                <a:lnTo>
                  <a:pt x="535" y="1292"/>
                </a:lnTo>
                <a:close/>
              </a:path>
            </a:pathLst>
          </a:custGeom>
          <a:gradFill rotWithShape="0">
            <a:gsLst>
              <a:gs pos="0">
                <a:srgbClr val="234075"/>
              </a:gs>
              <a:gs pos="100000">
                <a:srgbClr val="4d8d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254240" y="3110040"/>
            <a:ext cx="1162080" cy="1646280"/>
          </a:xfrm>
          <a:custGeom>
            <a:avLst/>
            <a:gdLst/>
            <a:ahLst/>
            <a:rect l="l" t="t" r="r" b="b"/>
            <a:pathLst>
              <a:path w="732" h="1070">
                <a:moveTo>
                  <a:pt x="428" y="1070"/>
                </a:moveTo>
                <a:lnTo>
                  <a:pt x="0" y="420"/>
                </a:lnTo>
                <a:lnTo>
                  <a:pt x="428" y="0"/>
                </a:lnTo>
                <a:lnTo>
                  <a:pt x="732" y="420"/>
                </a:lnTo>
                <a:lnTo>
                  <a:pt x="428" y="1070"/>
                </a:lnTo>
                <a:close/>
              </a:path>
            </a:pathLst>
          </a:custGeom>
          <a:gradFill rotWithShape="0">
            <a:gsLst>
              <a:gs pos="0">
                <a:srgbClr val="525252"/>
              </a:gs>
              <a:gs pos="100000">
                <a:srgbClr val="b2b2b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835360" y="1541520"/>
            <a:ext cx="666720" cy="927000"/>
          </a:xfrm>
          <a:custGeom>
            <a:avLst/>
            <a:gdLst/>
            <a:ahLst/>
            <a:rect l="l" t="t" r="r" b="b"/>
            <a:pathLst>
              <a:path w="420" h="584">
                <a:moveTo>
                  <a:pt x="140" y="584"/>
                </a:moveTo>
                <a:lnTo>
                  <a:pt x="0" y="411"/>
                </a:lnTo>
                <a:lnTo>
                  <a:pt x="420" y="0"/>
                </a:lnTo>
                <a:lnTo>
                  <a:pt x="140" y="584"/>
                </a:lnTo>
                <a:close/>
              </a:path>
            </a:pathLst>
          </a:custGeom>
          <a:gradFill rotWithShape="0">
            <a:gsLst>
              <a:gs pos="0">
                <a:srgbClr val="9ac8fa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025720" y="2287440"/>
            <a:ext cx="966600" cy="1343160"/>
          </a:xfrm>
          <a:custGeom>
            <a:avLst/>
            <a:gdLst/>
            <a:ahLst/>
            <a:rect l="l" t="t" r="r" b="b"/>
            <a:pathLst>
              <a:path w="609" h="806">
                <a:moveTo>
                  <a:pt x="280" y="806"/>
                </a:moveTo>
                <a:lnTo>
                  <a:pt x="609" y="197"/>
                </a:lnTo>
                <a:lnTo>
                  <a:pt x="428" y="0"/>
                </a:lnTo>
                <a:lnTo>
                  <a:pt x="0" y="411"/>
                </a:lnTo>
                <a:lnTo>
                  <a:pt x="280" y="806"/>
                </a:lnTo>
                <a:close/>
              </a:path>
            </a:pathLst>
          </a:custGeom>
          <a:gradFill rotWithShape="0">
            <a:gsLst>
              <a:gs pos="0">
                <a:srgbClr val="465c73"/>
              </a:gs>
              <a:gs pos="100000">
                <a:srgbClr val="9ac8f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74960" y="5062680"/>
            <a:ext cx="17924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  <a:ea typeface="Gulim"/>
              </a:rPr>
              <a:t>Text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90960" y="3970440"/>
            <a:ext cx="17920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  <a:ea typeface="Gulim"/>
              </a:rPr>
              <a:t>Text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255840" y="2878200"/>
            <a:ext cx="17924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  <a:ea typeface="Gulim"/>
              </a:rPr>
              <a:t>Text 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459240" y="1862280"/>
            <a:ext cx="17920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79"/>
                </a:solidFill>
                <a:latin typeface="Verdana"/>
                <a:ea typeface="Gulim"/>
              </a:rPr>
              <a:t>Text 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66400" y="216000"/>
            <a:ext cx="835668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Click to add tit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2282760" y="2433600"/>
            <a:ext cx="1528920" cy="74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282760" y="3174840"/>
            <a:ext cx="1528920" cy="739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282760" y="3914640"/>
            <a:ext cx="1528920" cy="741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282760" y="4656240"/>
            <a:ext cx="1528920" cy="74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811680" y="2433600"/>
            <a:ext cx="1527120" cy="74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811680" y="3174840"/>
            <a:ext cx="1527120" cy="739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811680" y="3914640"/>
            <a:ext cx="1527120" cy="741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811680" y="4656240"/>
            <a:ext cx="1527120" cy="74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338800" y="2433600"/>
            <a:ext cx="1528560" cy="74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338800" y="3174840"/>
            <a:ext cx="1528560" cy="739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338800" y="3914640"/>
            <a:ext cx="1528560" cy="741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8800" y="4656240"/>
            <a:ext cx="1528560" cy="74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867360" y="2433600"/>
            <a:ext cx="1528920" cy="74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867360" y="3174840"/>
            <a:ext cx="1528920" cy="739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867360" y="3914640"/>
            <a:ext cx="1528920" cy="741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867360" y="4656240"/>
            <a:ext cx="1528920" cy="74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41240" y="2433600"/>
            <a:ext cx="1541520" cy="741240"/>
          </a:xfrm>
          <a:prstGeom prst="rect">
            <a:avLst/>
          </a:prstGeom>
          <a:gradFill rotWithShape="0">
            <a:gsLst>
              <a:gs pos="0">
                <a:srgbClr val="39ab39"/>
              </a:gs>
              <a:gs pos="100000">
                <a:srgbClr val="1a4e1a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Gulim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41240" y="3174840"/>
            <a:ext cx="1541520" cy="739800"/>
          </a:xfrm>
          <a:prstGeom prst="rect">
            <a:avLst/>
          </a:prstGeom>
          <a:gradFill rotWithShape="0">
            <a:gsLst>
              <a:gs pos="0">
                <a:srgbClr val="39ab39"/>
              </a:gs>
              <a:gs pos="100000">
                <a:srgbClr val="1a4e1a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Gulim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741240" y="3914640"/>
            <a:ext cx="1541520" cy="741600"/>
          </a:xfrm>
          <a:prstGeom prst="rect">
            <a:avLst/>
          </a:prstGeom>
          <a:gradFill rotWithShape="0">
            <a:gsLst>
              <a:gs pos="0">
                <a:srgbClr val="39ab39"/>
              </a:gs>
              <a:gs pos="100000">
                <a:srgbClr val="1a4e1a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Gulim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741240" y="4656240"/>
            <a:ext cx="1541520" cy="741240"/>
          </a:xfrm>
          <a:prstGeom prst="rect">
            <a:avLst/>
          </a:prstGeom>
          <a:gradFill rotWithShape="0">
            <a:gsLst>
              <a:gs pos="0">
                <a:srgbClr val="39ab39"/>
              </a:gs>
              <a:gs pos="100000">
                <a:srgbClr val="1a4e1a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Gulim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282760" y="2039760"/>
            <a:ext cx="1528920" cy="393840"/>
          </a:xfrm>
          <a:prstGeom prst="rect">
            <a:avLst/>
          </a:prstGeom>
          <a:gradFill rotWithShape="0">
            <a:gsLst>
              <a:gs pos="0">
                <a:srgbClr val="5353ff"/>
              </a:gs>
              <a:gs pos="100000">
                <a:srgbClr val="262675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Gulim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811680" y="2039760"/>
            <a:ext cx="1527120" cy="393840"/>
          </a:xfrm>
          <a:prstGeom prst="rect">
            <a:avLst/>
          </a:prstGeom>
          <a:gradFill rotWithShape="0">
            <a:gsLst>
              <a:gs pos="0">
                <a:srgbClr val="5353ff"/>
              </a:gs>
              <a:gs pos="100000">
                <a:srgbClr val="262675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Gulim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338800" y="2039760"/>
            <a:ext cx="1528560" cy="393840"/>
          </a:xfrm>
          <a:prstGeom prst="rect">
            <a:avLst/>
          </a:prstGeom>
          <a:gradFill rotWithShape="0">
            <a:gsLst>
              <a:gs pos="0">
                <a:srgbClr val="5353ff"/>
              </a:gs>
              <a:gs pos="100000">
                <a:srgbClr val="262675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Gulim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867360" y="2039760"/>
            <a:ext cx="1528920" cy="393840"/>
          </a:xfrm>
          <a:prstGeom prst="rect">
            <a:avLst/>
          </a:prstGeom>
          <a:gradFill rotWithShape="0">
            <a:gsLst>
              <a:gs pos="0">
                <a:srgbClr val="5353ff"/>
              </a:gs>
              <a:gs pos="100000">
                <a:srgbClr val="262675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Gulim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41240" y="2039760"/>
            <a:ext cx="1541520" cy="393840"/>
          </a:xfrm>
          <a:prstGeom prst="rect">
            <a:avLst/>
          </a:prstGeom>
          <a:gradFill rotWithShape="0">
            <a:gsLst>
              <a:gs pos="0">
                <a:srgbClr val="5353ff"/>
              </a:gs>
              <a:gs pos="100000">
                <a:srgbClr val="262675"/>
              </a:gs>
            </a:gsLst>
            <a:lin ang="135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66400" y="216000"/>
            <a:ext cx="835668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Click to add tit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4" name=""/>
          <p:cNvGraphicFramePr/>
          <p:nvPr/>
        </p:nvGraphicFramePr>
        <p:xfrm>
          <a:off x="1316160" y="1351080"/>
          <a:ext cx="6753240" cy="501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16160" y="1351080"/>
                    <a:ext cx="6753240" cy="50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"/>
          <p:cNvSpPr/>
          <p:nvPr/>
        </p:nvSpPr>
        <p:spPr>
          <a:xfrm>
            <a:off x="266760" y="216000"/>
            <a:ext cx="83566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Chart 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7" name=""/>
          <p:cNvGraphicFramePr/>
          <p:nvPr/>
        </p:nvGraphicFramePr>
        <p:xfrm>
          <a:off x="1184400" y="1486080"/>
          <a:ext cx="677520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4400" y="1486080"/>
                    <a:ext cx="677520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9" name=""/>
          <p:cNvSpPr/>
          <p:nvPr/>
        </p:nvSpPr>
        <p:spPr>
          <a:xfrm>
            <a:off x="266760" y="216000"/>
            <a:ext cx="83566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Chart 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1T08:11:19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4:40Z</dcterms:modified>
  <cp:revision>28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