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EDEDF-A58E-4210-864E-779392DE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408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C1DB-235E-4C5F-8C29-3FA50243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D6CCF-79AF-42E8-A1DC-C25E4A17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EED99-C7A2-451D-90A6-1915F6FE9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77646-7EA8-4F40-984D-8E37C4DC0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408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B3556-23B2-49E7-93B7-AF98BA19C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408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07E15-B3BA-470E-ABA2-7FF7DAD38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1AB71-FBEA-497D-85B2-F8330A34D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D99EA-A8C8-45F0-BEDF-C1B936C40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371600"/>
            <a:ext cx="82296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D7EB8-C3E5-40D8-A97E-73436A45B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7A6A-8760-48AC-8D0F-E21AE95AD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408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421A-E8D4-482C-A0BA-E7C4A49F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B3761-79D2-4C16-929E-A92B737F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412E5-2F68-4D64-BBA5-9D58A9C2B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408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104A7-C1A2-4DEF-8C96-F9A9CA111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0A6B1-DBC8-4509-BD5B-4C43C7168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D658A-D2F6-4BD8-ACA3-A86CEC981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408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6937-B557-409B-9341-7285D1B9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E2283-C8DB-4612-AF80-D4AFA273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F092-BFAF-41C4-9950-F1420FA3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371600"/>
            <a:ext cx="82296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7AF58-BB0B-42A0-80E1-2508487CE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5B13-0F60-4189-B32B-A01F996C7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AAC7-78B5-430B-A83E-723D9FFB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C12D-F710-4529-B058-A8CC73047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408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6329-AB25-41C6-A9DF-DA7B8BB45C7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408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2AED-9CB3-4CDC-905B-316549709F8C}"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itle 1"/>
          <p:cNvSpPr/>
          <p:nvPr/>
        </p:nvSpPr>
        <p:spPr>
          <a:xfrm>
            <a:off x="5562720" y="228600"/>
            <a:ext cx="3429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Presentation Title</a:t>
            </a:r>
            <a:endParaRPr b="0" lang="en-US" sz="2800" spc="-1" strike="noStrike">
              <a:solidFill>
                <a:srgbClr val="000000"/>
              </a:solidFill>
              <a:latin typeface="Calibri"/>
            </a:endParaRPr>
          </a:p>
        </p:txBody>
      </p:sp>
      <p:sp>
        <p:nvSpPr>
          <p:cNvPr id="83" name="Content Placeholder 2"/>
          <p:cNvSpPr/>
          <p:nvPr/>
        </p:nvSpPr>
        <p:spPr>
          <a:xfrm>
            <a:off x="5943600" y="838080"/>
            <a:ext cx="3200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resentation Subtitle</a:t>
            </a:r>
            <a:endParaRPr b="0" lang="en-US" sz="2200" spc="-1" strike="noStrike">
              <a:solidFill>
                <a:srgbClr val="0000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Calibri"/>
            </a:endParaRPr>
          </a:p>
        </p:txBody>
      </p:sp>
      <p:sp>
        <p:nvSpPr>
          <p:cNvPr id="85" name=""/>
          <p:cNvSpPr/>
          <p:nvPr/>
        </p:nvSpPr>
        <p:spPr>
          <a:xfrm>
            <a:off x="2010960" y="1557360"/>
            <a:ext cx="445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试纸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457200" y="2742840"/>
            <a:ext cx="830592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orem ipsum dolor sit amet, consectetuer adip iscing elit, sed diam no nu mmy nibh euismod tincidunt ut laoreet do lore magna aliquam er at volut pat. Ut wisi enim ad mi ni m venia m, quis nostrud exerci tatio n ullamco rp 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Duis autem vel eum iriure dolor in hendrerit in vulputate velit esse mo les tie consequat, vel illum dolore eu feugiat nulla fac ilisis at vero eros et ac cu 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 name="PlaceHolder 1"/>
          <p:cNvSpPr>
            <a:spLocks noGrp="1"/>
          </p:cNvSpPr>
          <p:nvPr>
            <p:ph type="title"/>
          </p:nvPr>
        </p:nvSpPr>
        <p:spPr>
          <a:xfrm>
            <a:off x="380880" y="160020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宋体"/>
              </a:rPr>
              <a:t>Slide Maste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使用规范说明</a:t>
            </a:r>
            <a:endParaRPr b="0" lang="en-US" sz="44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en-US"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503536A9-50E4-4F2F-BB27-399A4FD875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1676520" y="1905120"/>
            <a:ext cx="723888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orem ipsum dolor sit amet, consectetuer adip iscing elit, sed d iam no nu mmy nibh euismod tincidunt ut laoreet do lore ma gn a aliquam er at volut pat. Ut wisi enim ad mi ni m venia m, q uis nostrud exerci tatio n ullamco rper susc ip it lobor tis nisl ut aliq 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Duis autem vel eum iriure dolor in hendrerit in vulputate velit es se mo les tie consequat, vel illum dolore eu feugiat nulla fac ilisis at vero eros et ac cumsan et iusto odio dign issim qui bla ndit pr 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2" name="PlaceHolder 1"/>
          <p:cNvSpPr>
            <a:spLocks noGrp="1"/>
          </p:cNvSpPr>
          <p:nvPr>
            <p:ph type="title"/>
          </p:nvPr>
        </p:nvSpPr>
        <p:spPr>
          <a:xfrm>
            <a:off x="1676520" y="380880"/>
            <a:ext cx="7238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宋体"/>
              </a:rPr>
              <a:t>Print Master</a:t>
            </a:r>
            <a:endParaRPr b="0" lang="en-US" sz="4400" spc="-1" strike="noStrike">
              <a:solidFill>
                <a:srgbClr val="000000"/>
              </a:solidFill>
              <a:latin typeface="Tahoma"/>
            </a:endParaRPr>
          </a:p>
        </p:txBody>
      </p:sp>
      <p:sp>
        <p:nvSpPr>
          <p:cNvPr id="93" name=""/>
          <p:cNvSpPr/>
          <p:nvPr/>
        </p:nvSpPr>
        <p:spPr>
          <a:xfrm>
            <a:off x="234000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1:06:24Z</dcterms:created>
  <dc:creator>幻灯片之家：www.eeppt.com</dc:creator>
  <dc:description>幻灯片之家：www.eeppt.com</dc:description>
  <cp:keywords>幻灯片之家：www.eeppt.com</cp:keywords>
  <dc:language>en-US</dc:language>
  <cp:lastModifiedBy/>
  <dcterms:modified xsi:type="dcterms:W3CDTF">2015-09-18T13:25:20Z</dcterms:modified>
  <cp:revision>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