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gif" ContentType="image/gif"/>
  <Override PartName="/ppt/media/image6.jpeg" ContentType="image/jpeg"/>
  <Override PartName="/ppt/media/image5.jpeg" ContentType="image/jpeg"/>
  <Override PartName="/ppt/media/image7.gif" ContentType="image/gif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92C4-0274-424F-9733-451D100D8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960" y="838080"/>
            <a:ext cx="342900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Eras Bold IT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960" y="1833480"/>
            <a:ext cx="342900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Eras Bold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431A-7DC8-49AD-A6C8-821910CE5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960" y="838080"/>
            <a:ext cx="16732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Eras Bold IT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33120" y="838080"/>
            <a:ext cx="16732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Eras Bold IT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960" y="1833480"/>
            <a:ext cx="16732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Eras Bold IT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33120" y="1833480"/>
            <a:ext cx="16732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Eras Bold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C71C-9718-4969-97F1-74B596A73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960" y="838080"/>
            <a:ext cx="110376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Eras Bold IT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35160" y="838080"/>
            <a:ext cx="110376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Eras Bold IT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394720" y="838080"/>
            <a:ext cx="110376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Eras Bold IT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960" y="1833480"/>
            <a:ext cx="110376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Eras Bold IT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35160" y="1833480"/>
            <a:ext cx="110376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Eras Bold IT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394720" y="1833480"/>
            <a:ext cx="110376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Eras Bold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4FDA-3935-49DF-A1F4-7525EBC6B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90BEA-A248-461B-91DC-A4AB85498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5960" y="838080"/>
            <a:ext cx="3429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Eras Bold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598DE-9EB7-46C1-A307-08361FD78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5960" y="838080"/>
            <a:ext cx="34290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Eras Bold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5F931-B735-4D02-9496-35F4AE44F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5960" y="838080"/>
            <a:ext cx="16732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Eras Bold IT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833120" y="838080"/>
            <a:ext cx="16732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Eras Bold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6ECBF-1A46-4400-BCB5-7FB2D1BB2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793BC-540A-401E-8BA3-D736A3E27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320" y="76320"/>
            <a:ext cx="899136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cc"/>
              </a:solidFill>
              <a:latin typeface="Eras Bol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0DCAA-64CA-4F8D-9F65-E0768B4FF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960" y="838080"/>
            <a:ext cx="16732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Eras Bold IT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833120" y="838080"/>
            <a:ext cx="16732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Eras Bold IT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5960" y="1833480"/>
            <a:ext cx="16732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Eras Bol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8D042-E0FE-4346-A99C-502957ACB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960" y="838080"/>
            <a:ext cx="3429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Eras Bold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84EB-125E-46A2-83ED-F15C86F5B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960" y="838080"/>
            <a:ext cx="16732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Eras Bold IT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1833120" y="838080"/>
            <a:ext cx="16732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Eras Bold IT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833120" y="1833480"/>
            <a:ext cx="16732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Eras Bol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5A062-A1F1-435F-B2D6-47BC6EA5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960" y="838080"/>
            <a:ext cx="16732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Eras Bold IT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833120" y="838080"/>
            <a:ext cx="16732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Eras Bold IT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5960" y="1833480"/>
            <a:ext cx="342900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Eras Bol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B28B0-50A4-4FC7-B0B7-2C718D7E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960" y="838080"/>
            <a:ext cx="342900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Eras Bold IT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5960" y="1833480"/>
            <a:ext cx="342900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Eras Bold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E9E3F-6789-42A1-A713-56703241D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5960" y="838080"/>
            <a:ext cx="16732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Eras Bold IT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833120" y="838080"/>
            <a:ext cx="16732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Eras Bold IT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5960" y="1833480"/>
            <a:ext cx="16732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Eras Bold IT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1833120" y="1833480"/>
            <a:ext cx="16732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Eras Bold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D40A8-EE56-44D1-AD07-855E38D2D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960" y="838080"/>
            <a:ext cx="110376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Eras Bold IT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35160" y="838080"/>
            <a:ext cx="110376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Eras Bold IT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394720" y="838080"/>
            <a:ext cx="110376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Eras Bold IT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5960" y="1833480"/>
            <a:ext cx="110376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Eras Bold IT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1235160" y="1833480"/>
            <a:ext cx="110376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Eras Bold IT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2394720" y="1833480"/>
            <a:ext cx="110376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Eras Bold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9AFCF-4147-4250-9F94-A8FF4E7CC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960" y="838080"/>
            <a:ext cx="34290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Eras Bold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88DC-0D1B-4F46-8065-15E147006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960" y="838080"/>
            <a:ext cx="16732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Eras Bold IT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33120" y="838080"/>
            <a:ext cx="16732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Eras Bold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D1A7-1433-4B32-91C1-DA0F14DA8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4874-6CEB-45DD-8A15-042C0495A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320" y="76320"/>
            <a:ext cx="899136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cc"/>
              </a:solidFill>
              <a:latin typeface="Eras Bol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DD34-C27F-4293-A3F5-98E42A29A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960" y="838080"/>
            <a:ext cx="16732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Eras Bold IT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33120" y="838080"/>
            <a:ext cx="16732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Eras Bold IT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960" y="1833480"/>
            <a:ext cx="16732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Eras Bol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FF89-E1EE-406D-B944-D78053822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960" y="838080"/>
            <a:ext cx="16732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Eras Bold IT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33120" y="838080"/>
            <a:ext cx="16732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Eras Bold IT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33120" y="1833480"/>
            <a:ext cx="16732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Eras Bol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2A74-2292-44BA-91B9-E34E4689F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960" y="838080"/>
            <a:ext cx="16732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Eras Bold IT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33120" y="838080"/>
            <a:ext cx="16732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Eras Bold IT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960" y="1833480"/>
            <a:ext cx="342900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Eras Bol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14BA-366B-4034-8239-39C968704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991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9140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ras Bold IT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Eras Bold ITC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Eras Bol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ras Bold IT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Eras Bold ITC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ras Bold IT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Eras Bold ITC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Eras Bol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ras Bold IT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Eras Bold ITC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Eras Bol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ras Bold IT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Eras Bold ITC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Eras Bol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ras Bold IT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Eras Bold ITC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Eras Bol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ras Bold IT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85ABD-D694-4195-9B56-83C907C83C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51E96-B87E-47A0-B791-A7C08BF714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Eras Bold ITC"/>
              </a:rPr>
              <a:t>Click to edit the outline text format</a:t>
            </a:r>
            <a:endParaRPr b="0" lang="en-US" sz="2400" spc="-1" strike="noStrike">
              <a:solidFill>
                <a:srgbClr val="0066cc"/>
              </a:solidFill>
              <a:latin typeface="Eras Bold ITC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Eras Bold IT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Eras Bold ITC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Eras Bold IT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Eras Bold ITC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Eras Bold ITC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Eras Bold ITC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Bold IT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Eras Bold ITC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Bold IT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Eras Bol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Bold IT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Eras Bol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Bold IT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Eras Bold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5.jpeg"/><Relationship Id="rId5" Type="http://schemas.openxmlformats.org/officeDocument/2006/relationships/image" Target="../media/image3.png"/><Relationship Id="rId6" Type="http://schemas.openxmlformats.org/officeDocument/2006/relationships/image" Target="../media/image7.gif"/><Relationship Id="rId7" Type="http://schemas.openxmlformats.org/officeDocument/2006/relationships/image" Target="../media/image4.gif"/><Relationship Id="rId8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moguls" descr=""/>
          <p:cNvPicPr/>
          <p:nvPr/>
        </p:nvPicPr>
        <p:blipFill>
          <a:blip r:embed="rId2"/>
          <a:stretch/>
        </p:blipFill>
        <p:spPr>
          <a:xfrm>
            <a:off x="2743200" y="0"/>
            <a:ext cx="7620120" cy="76201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Teamwork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75960" y="838080"/>
            <a:ext cx="3429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Eras Bold ITC"/>
              </a:rPr>
              <a:t>Your Subtitle Goes Here</a:t>
            </a:r>
            <a:endParaRPr b="0" lang="en-US" sz="2400" spc="-1" strike="noStrike">
              <a:solidFill>
                <a:srgbClr val="0066cc"/>
              </a:solidFill>
              <a:latin typeface="Eras Bold ITC"/>
            </a:endParaRPr>
          </a:p>
        </p:txBody>
      </p:sp>
      <p:sp>
        <p:nvSpPr>
          <p:cNvPr id="85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7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35880" y="158436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团结合作企业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幻灯片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expo_business_island_computers_show_hg_wht" descr=""/>
          <p:cNvPicPr/>
          <p:nvPr/>
        </p:nvPicPr>
        <p:blipFill>
          <a:blip r:embed="rId2"/>
          <a:stretch/>
        </p:blipFill>
        <p:spPr>
          <a:xfrm>
            <a:off x="6286680" y="4967280"/>
            <a:ext cx="1711080" cy="18907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991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Your Topic Goes Here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1760" y="9140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ras Bold ITC"/>
              </a:rPr>
              <a:t>Your subtopic goes here</a:t>
            </a:r>
            <a:endParaRPr b="0" lang="en-US" sz="2800" spc="-1" strike="noStrike">
              <a:solidFill>
                <a:srgbClr val="000000"/>
              </a:solidFill>
              <a:latin typeface="Eras Bol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moguls" descr=""/>
          <p:cNvPicPr/>
          <p:nvPr/>
        </p:nvPicPr>
        <p:blipFill>
          <a:blip r:embed="rId2"/>
          <a:stretch/>
        </p:blipFill>
        <p:spPr>
          <a:xfrm>
            <a:off x="2971800" y="0"/>
            <a:ext cx="7620120" cy="76201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Transitional Page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5960" y="838080"/>
            <a:ext cx="3429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Eras Bol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business_lady_cellphone_talking_hg_wht" descr=""/>
          <p:cNvPicPr/>
          <p:nvPr/>
        </p:nvPicPr>
        <p:blipFill>
          <a:blip r:embed="rId2"/>
          <a:stretch/>
        </p:blipFill>
        <p:spPr>
          <a:xfrm>
            <a:off x="6477120" y="4419720"/>
            <a:ext cx="1393560" cy="24382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991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Your Topic Goes Here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1760" y="9140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Eras Bol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Eras Bold ITC"/>
              </a:rPr>
              <a:t>Your subtopics go here</a:t>
            </a:r>
            <a:endParaRPr b="0" lang="en-US" sz="28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96" name=""/>
          <p:cNvSpPr/>
          <p:nvPr/>
        </p:nvSpPr>
        <p:spPr>
          <a:xfrm>
            <a:off x="1285920" y="302436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Impact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Eras Bold ITC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Eras Bold ITC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Eras Bold ITC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Eras Bold ITC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Eras Bold ITC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Eras Bold ITC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Eras Bold ITC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Eras Bold ITC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Eras Bold ITC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Eras Bold ITC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Eras Bold ITC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Eras Bold IT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Eras Bold ITC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Eras Bold ITC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Eras Bold ITC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FFE0-4FC5-48BA-9A98-935B84CEA8B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Elements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01" name="teamwork_prt" descr=""/>
          <p:cNvPicPr/>
          <p:nvPr/>
        </p:nvPicPr>
        <p:blipFill>
          <a:blip r:embed="rId1"/>
          <a:stretch/>
        </p:blipFill>
        <p:spPr>
          <a:xfrm>
            <a:off x="6095880" y="4495680"/>
            <a:ext cx="2819520" cy="2114640"/>
          </a:xfrm>
          <a:prstGeom prst="rect">
            <a:avLst/>
          </a:prstGeom>
          <a:ln w="0">
            <a:noFill/>
          </a:ln>
        </p:spPr>
      </p:pic>
      <p:pic>
        <p:nvPicPr>
          <p:cNvPr id="102" name="teamwork_qx" descr=""/>
          <p:cNvPicPr/>
          <p:nvPr/>
        </p:nvPicPr>
        <p:blipFill>
          <a:blip r:embed="rId2"/>
          <a:stretch/>
        </p:blipFill>
        <p:spPr>
          <a:xfrm>
            <a:off x="3048120" y="2209680"/>
            <a:ext cx="2819160" cy="2114640"/>
          </a:xfrm>
          <a:prstGeom prst="rect">
            <a:avLst/>
          </a:prstGeom>
          <a:ln w="0">
            <a:noFill/>
          </a:ln>
        </p:spPr>
      </p:pic>
      <p:pic>
        <p:nvPicPr>
          <p:cNvPr id="103" name="teamwork_sld" descr=""/>
          <p:cNvPicPr/>
          <p:nvPr/>
        </p:nvPicPr>
        <p:blipFill>
          <a:blip r:embed="rId3"/>
          <a:stretch/>
        </p:blipFill>
        <p:spPr>
          <a:xfrm>
            <a:off x="6095880" y="2209680"/>
            <a:ext cx="2819520" cy="2114640"/>
          </a:xfrm>
          <a:prstGeom prst="rect">
            <a:avLst/>
          </a:prstGeom>
          <a:ln w="0">
            <a:noFill/>
          </a:ln>
        </p:spPr>
      </p:pic>
      <p:pic>
        <p:nvPicPr>
          <p:cNvPr id="104" name="teamwork_trs" descr=""/>
          <p:cNvPicPr/>
          <p:nvPr/>
        </p:nvPicPr>
        <p:blipFill>
          <a:blip r:embed="rId4"/>
          <a:stretch/>
        </p:blipFill>
        <p:spPr>
          <a:xfrm>
            <a:off x="3048120" y="4495680"/>
            <a:ext cx="2819160" cy="2114640"/>
          </a:xfrm>
          <a:prstGeom prst="rect">
            <a:avLst/>
          </a:prstGeom>
          <a:ln w="0">
            <a:noFill/>
          </a:ln>
        </p:spPr>
      </p:pic>
      <p:pic>
        <p:nvPicPr>
          <p:cNvPr id="105" name="moguls" descr=""/>
          <p:cNvPicPr/>
          <p:nvPr/>
        </p:nvPicPr>
        <p:blipFill>
          <a:blip r:embed="rId5"/>
          <a:stretch/>
        </p:blipFill>
        <p:spPr>
          <a:xfrm>
            <a:off x="6781680" y="15228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106" name="business_lady_cellphone_talking_hg_wht" descr=""/>
          <p:cNvPicPr/>
          <p:nvPr/>
        </p:nvPicPr>
        <p:blipFill>
          <a:blip r:embed="rId6"/>
          <a:stretch/>
        </p:blipFill>
        <p:spPr>
          <a:xfrm>
            <a:off x="380880" y="2133720"/>
            <a:ext cx="1393920" cy="2438280"/>
          </a:xfrm>
          <a:prstGeom prst="rect">
            <a:avLst/>
          </a:prstGeom>
          <a:ln w="0">
            <a:noFill/>
          </a:ln>
        </p:spPr>
      </p:pic>
      <p:pic>
        <p:nvPicPr>
          <p:cNvPr id="107" name="expo_business_island_computers_show_hg_wht" descr=""/>
          <p:cNvPicPr/>
          <p:nvPr/>
        </p:nvPicPr>
        <p:blipFill>
          <a:blip r:embed="rId7"/>
          <a:stretch/>
        </p:blipFill>
        <p:spPr>
          <a:xfrm>
            <a:off x="380880" y="4724280"/>
            <a:ext cx="1711440" cy="1890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133720" y="1752480"/>
            <a:ext cx="2743200" cy="990720"/>
          </a:xfrm>
          <a:prstGeom prst="wedgeRectCallout">
            <a:avLst>
              <a:gd name="adj1" fmla="val -75694"/>
              <a:gd name="adj2" fmla="val 3221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33720" y="1752480"/>
            <a:ext cx="2819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re are some fantastic office animations on the Platinum Site. Search Bloodhound with any business related keywords!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75960" y="838080"/>
            <a:ext cx="3429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cc"/>
              </a:solidFill>
              <a:latin typeface="Eras Bol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8T20:50:29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8:14Z</dcterms:modified>
  <cp:revision>1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