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366-6D28-43BD-93E0-484A5A60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9B3-C1E4-4860-B3A7-1C0061F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E86-561F-4B8C-AEEA-4D2720B8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E9D-F4CF-49CB-AE3F-B9B44B4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663-1FDA-4653-82DB-217F5D3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C72-43B8-407E-B54C-9E5AF48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9E8-2E44-43EF-9F55-5AF307E0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3B4-25F5-408B-98C2-4B40240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414-30C9-4ADB-B81F-28F0F7B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A2B-F67C-4AB6-BFBF-71C6349B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B88-34C1-464D-8A87-157ACE4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E7F-8AE7-49F2-8453-35C00444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FF5-4971-4D53-9085-08E78297D3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84BB-D9A5-4ADC-BEE3-6824509A5A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1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8"/>
          <p:cNvSpPr/>
          <p:nvPr/>
        </p:nvSpPr>
        <p:spPr>
          <a:xfrm>
            <a:off x="1107360" y="3521160"/>
            <a:ext cx="69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的生产流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1760" y="412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天蓝色精美工作汇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17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42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43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44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4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4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6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52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2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57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直接箭头连接符 30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  <p:grpSp>
        <p:nvGrpSpPr>
          <p:cNvPr id="260" name="组合 3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61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64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3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267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75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76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7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8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8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9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89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1" name="直接箭头连接符 18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  <p:grpSp>
        <p:nvGrpSpPr>
          <p:cNvPr id="292" name="组合 19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293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01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02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0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0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0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8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09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8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12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21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15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直接箭头连接符 34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3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6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6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6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6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C:\Users\iamisis\Desktop\图片1.png"/>
          <p:cNvPicPr/>
          <p:nvPr/>
        </p:nvPicPr>
        <p:blipFill>
          <a:blip r:embed="rId7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381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0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2360" y="412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445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46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4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5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5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C:\Users\Administrator\Desktop\对勾.png"/>
          <p:cNvPicPr/>
          <p:nvPr/>
        </p:nvPicPr>
        <p:blipFill>
          <a:blip r:embed="rId11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7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52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2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2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3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3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44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601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602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60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60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6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609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1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17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52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25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组合 31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34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35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37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38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40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41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43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44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46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13 CuadroTexto"/>
          <p:cNvSpPr/>
          <p:nvPr/>
        </p:nvSpPr>
        <p:spPr>
          <a:xfrm>
            <a:off x="8252640" y="481644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79D-F7D7-4C3C-ACDD-2EFFEAE399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1"/>
          <p:cNvSpPr/>
          <p:nvPr/>
        </p:nvSpPr>
        <p:spPr>
          <a:xfrm>
            <a:off x="405324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C:\Users\iamisis\Desktop\未标题-1.png"/>
          <p:cNvPicPr/>
          <p:nvPr/>
        </p:nvPicPr>
        <p:blipFill>
          <a:blip r:embed="rId2"/>
          <a:stretch/>
        </p:blipFill>
        <p:spPr>
          <a:xfrm>
            <a:off x="2452680" y="2590920"/>
            <a:ext cx="423720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8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9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9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7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iamisis\Desktop\964b2e4e98c270f3d0c86a3c.jpg"/>
          <p:cNvPicPr/>
          <p:nvPr/>
        </p:nvPicPr>
        <p:blipFill>
          <a:blip r:embed="rId8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97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0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0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0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12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22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23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24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2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www.tuweimei.comComp_10783851_QD0pL2fbu4Czmg2COkwX13qtD9JN38YK.jp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39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40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41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4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iamisis\Desktop\崔老师的PPT\培训02.jp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56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7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58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6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6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iamisis\Desktop\图片1.pn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7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7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7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7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www.tuweimei.comComp_10410381_VJW8cYTeX0nAHfLOmrS2Ufq23wyNA9RW.jpg"/>
          <p:cNvPicPr/>
          <p:nvPr/>
        </p:nvPicPr>
        <p:blipFill>
          <a:blip r:embed="rId7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186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90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98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9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00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0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04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07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2" descr="optaros-homepage-raisethebar-thumb.gif"/>
          <p:cNvPicPr/>
          <p:nvPr/>
        </p:nvPicPr>
        <p:blipFill>
          <a:blip r:embed="rId7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10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77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2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03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