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1C4-A8C4-4CAB-94C0-03022FE6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979-6F78-4188-83A1-E3994114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F96-A58E-451C-9D40-02CE32B2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124-C692-4DDE-AF8E-FE230DEB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B7D-0E1B-47AE-ABA7-8FC4EACE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1F6-3292-4121-B60B-D9FC259B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E35-3EB2-468C-B961-37771E08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4FE6-E4E8-4D14-ABA6-35E553FA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E5C6-CC1F-450F-92B6-BD730257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DC3-9CFD-4916-8BDD-B5B96781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96B-9312-48F5-B35F-00A9A416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CE9D-7BC5-4D30-AE19-E0E153AB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2E0A-CCE8-44A0-8DE6-35E75A04731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313D-5F48-4EB0-B737-86CC1FB312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2489040" y="630864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2644560" y="5229360"/>
            <a:ext cx="45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唐老鸭与米老鼠幻灯片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Administrator\Desktop\ppt4268.jpg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07440" y="1890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唐老鸭与米老鼠卡通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2781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16C-F4B7-4DAD-A669-C2E66DC2B5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656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2"/>
          <p:cNvSpPr/>
          <p:nvPr/>
        </p:nvSpPr>
        <p:spPr>
          <a:xfrm>
            <a:off x="4500720" y="40766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14:57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53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