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53F6-BFAD-4FED-8067-2A2BCEBE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7C37-2282-469D-B1AC-F82991C2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380-F62A-452B-8CFA-6338499C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3666-ECF2-487E-82BD-326C05CD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8AE-3DBF-4260-B8F6-657548D3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DF72-3E9D-4E9A-91F4-9C3E3CAC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DA30-C8E1-4F69-82AF-D1C79210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A848-96B6-4F9F-BCA6-938EB239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BD6-179A-403C-94C9-E9D55791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ECC-68D5-4D0A-AA52-B599CBBB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D72-552A-45AB-B05A-9355BC85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07E-8D50-4FCE-9CE0-98E3033E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20F0-1A98-4C13-93A4-1968BA9126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2920" y="2276280"/>
            <a:ext cx="676908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汉仪方叠体简"/>
                <a:ea typeface="汉仪方叠体简"/>
              </a:rPr>
              <a:t>童年的色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484360" y="544500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15760" y="90972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童年的色彩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下划线"/>
          <p:cNvPicPr/>
          <p:nvPr/>
        </p:nvPicPr>
        <p:blipFill>
          <a:blip r:embed="rId2"/>
          <a:stretch/>
        </p:blipFill>
        <p:spPr>
          <a:xfrm>
            <a:off x="2052720" y="4079880"/>
            <a:ext cx="6408720" cy="635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下划线"/>
          <p:cNvPicPr/>
          <p:nvPr/>
        </p:nvPicPr>
        <p:blipFill>
          <a:blip r:embed="rId3"/>
          <a:stretch/>
        </p:blipFill>
        <p:spPr>
          <a:xfrm>
            <a:off x="2052720" y="5349960"/>
            <a:ext cx="6840360" cy="63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下划线"/>
          <p:cNvPicPr/>
          <p:nvPr/>
        </p:nvPicPr>
        <p:blipFill>
          <a:blip r:embed="rId4"/>
          <a:stretch/>
        </p:blipFill>
        <p:spPr>
          <a:xfrm>
            <a:off x="2052720" y="2692440"/>
            <a:ext cx="5545080" cy="635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下划线"/>
          <p:cNvPicPr/>
          <p:nvPr/>
        </p:nvPicPr>
        <p:blipFill>
          <a:blip r:embed="rId5"/>
          <a:stretch/>
        </p:blipFill>
        <p:spPr>
          <a:xfrm>
            <a:off x="2052720" y="1417680"/>
            <a:ext cx="4006800" cy="63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84564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装饰"/>
          <p:cNvPicPr/>
          <p:nvPr/>
        </p:nvPicPr>
        <p:blipFill>
          <a:blip r:embed="rId6"/>
          <a:stretch/>
        </p:blipFill>
        <p:spPr>
          <a:xfrm>
            <a:off x="19080" y="3429000"/>
            <a:ext cx="1905120" cy="2600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2711520" y="231156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2711520" y="36990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786040" y="4968720"/>
            <a:ext cx="52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4160" y="274320"/>
            <a:ext cx="482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46080"/>
            <a:ext cx="649296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8720" y="62028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6000" y="2205000"/>
            <a:ext cx="691344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360" y="3357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C789-191D-43EF-80CE-DCDB843FA7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5320" y="2852280"/>
            <a:ext cx="555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汉仪方叠体简"/>
                <a:ea typeface="汉仪方叠体简"/>
              </a:rPr>
              <a:t>谢谢使用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9T10:30:5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50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