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>
            <a:hlinkClick r:id="rId5"/>
          </p:cNvPr>
          <p:cNvSpPr/>
          <p:nvPr/>
        </p:nvSpPr>
        <p:spPr>
          <a:xfrm>
            <a:off x="236844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4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6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94200" y="52419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5840" y="59054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31240" y="981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台球运动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6560" y="386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2070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5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