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880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9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9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880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12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880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5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9920" y="137160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1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5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9920" y="3958560"/>
            <a:ext cx="257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8800" y="395856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600"/>
            <a:ext cx="3904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5856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7bbd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Title Here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133360" y="30481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btitle 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8672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0" y="6858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imes New Roman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类幻灯片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A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bbd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6480" y="1371600"/>
            <a:ext cx="392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514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bbd99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6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