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46A-D178-4DE7-97DA-BEB60B04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409716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1512-A597-40CE-A1CC-B1694228F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40971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5280" y="40971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FD6D-A22C-4353-9D48-063664A8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3040" y="18284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6240" y="18284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40971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3040" y="40971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6240" y="40971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FB42-1452-4803-BEEC-DD40D51D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F02C-3824-461C-BB5B-3AC60B97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50520-1017-4F6C-A422-416EFDDA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B2B9-2E2A-425D-B932-807D092F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0859-29E8-4E0F-A3AA-86E6A536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C440-AFC8-43EB-B65A-DB3005BC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600200" y="91440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052D8-35C1-4732-87FF-2C7C3AD7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40971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229E3-017E-46F4-BEFE-C16561F9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495-956B-435D-9B77-6DE669DB3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5280" y="40971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937B-F25A-4090-AAC8-FC0D7ECDC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409716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EB29-4969-4E45-B748-0C1DA927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409716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1B403-429A-4241-99E4-B0C5C7F8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40971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75280" y="40971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F042-A018-4B0C-9B0D-07CE75E4D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3040" y="18284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6240" y="182844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40971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3040" y="40971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6240" y="4097160"/>
            <a:ext cx="2183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E782B-B558-465F-8156-B38D0061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1150-E250-4F38-AD70-2431242C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36F7-5BDF-4CAB-8C29-3397AEF77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9E3-C7EF-48E1-BDE2-3F7019CB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00200" y="914400"/>
            <a:ext cx="67816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0159-2D8B-4E29-9FDB-9EDAF0AC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40971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D665-857C-48A3-B84C-3F5514DE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5280" y="409716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7850-70AB-4BC4-9D19-EB7D2290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5280" y="1828440"/>
            <a:ext cx="330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4097160"/>
            <a:ext cx="67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74F7-F275-46EF-80A8-2E136719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5162-1AFC-4D68-82D5-9B90D3923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3504960"/>
            <a:ext cx="5715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c785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8ac785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6A1C-E353-47D5-8C1C-0EE075910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71440" y="3504960"/>
            <a:ext cx="57150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ac785"/>
                </a:solidFill>
                <a:latin typeface="Times New Roman"/>
              </a:rPr>
              <a:t>FUN FIFTYTWO</a:t>
            </a:r>
            <a:endParaRPr b="0" lang="en-US" sz="4000" spc="-1" strike="noStrike">
              <a:solidFill>
                <a:srgbClr val="8ac785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971440" y="50288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ubtitle Goes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52360" y="22860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体育运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3581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r Topic Goes Her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18284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Subtopics Go 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971440" y="518148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ITIONAL P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使用规范说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77AA-7EF6-4DF0-9E6E-A6BFF08E18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5800" y="228600"/>
            <a:ext cx="2286000" cy="573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60020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22860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403848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8862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57200" y="16765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57200" y="411480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886200" y="41148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6:30:3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54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