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png" ContentType="image/png"/>
  <Override PartName="/ppt/media/image8.gif" ContentType="image/gif"/>
  <Override PartName="/ppt/media/image13.gif" ContentType="image/gif"/>
  <Override PartName="/ppt/media/image9.jpeg" ContentType="image/jpeg"/>
  <Override PartName="/ppt/media/image10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266-415A-4628-87DF-D64805B0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153036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D61-1F3A-4F44-88B2-A01F380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4AB-CAA1-4298-B0D8-CFE952EF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0600" y="13712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13712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153036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0600" y="153036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153036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2B5-2BFA-4A4E-B2E4-6DC0DE24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69CF-6FFD-449A-97F2-19F850D7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1B7-A3CE-47A6-BB0A-54868BD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04AA-F008-4517-AC12-0572CD6E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86DC-4DDA-42E1-9ABE-F5F9B965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F8B3-8540-448A-BB3C-6DF3CE9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7617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CC4-3751-4BF1-9D2B-059D9B09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C11B-FD09-4CCF-BDA5-B809E676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373-8CBD-4558-882C-DE6C2B3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1A6B-0AE6-4F59-A324-DE20E5B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153036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3B3-C5D2-4060-A52D-DF49059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153036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B96E-10A4-455B-8FE9-0D968BCE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592B-4A67-4387-8B04-473D674A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0600" y="13712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5240" y="13712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153036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0600" y="153036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5240" y="153036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4F5-1E89-4B3B-8C97-2DDCE19D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481-1762-4FEA-B150-B7C7181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B45-2330-4566-9029-CF624EC8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5BE-7D66-451C-8302-D881C55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7617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096-176B-4C98-87F7-AB2226B5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413-3315-4465-960B-DE4CE51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153036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577-5584-43C7-8C55-39A1ACD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3712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153036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604-4B2A-4B7B-BFA2-542C7A7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685440"/>
            <a:ext cx="7239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046-4AE3-43AB-B9BD-52CB7CA36252}" type="slidenum">
              <a:rPr b="1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D0B-16ED-4DCF-8BD9-B2D09E743EED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10.gif"/><Relationship Id="rId8" Type="http://schemas.openxmlformats.org/officeDocument/2006/relationships/image" Target="../media/image4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8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ennis Anyone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80760" y="76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网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685440"/>
            <a:ext cx="3543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97480" y="2895480"/>
            <a:ext cx="2846520" cy="396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685440"/>
            <a:ext cx="3543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72480" y="2286000"/>
            <a:ext cx="2171520" cy="457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17524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B0D-DF51-47BA-8C08-95176DF8F5C2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06600" y="5092560"/>
            <a:ext cx="2075040" cy="155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62360" y="5092560"/>
            <a:ext cx="2075040" cy="155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16680" y="5092560"/>
            <a:ext cx="2075040" cy="155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52280" y="5092560"/>
            <a:ext cx="2075040" cy="155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351160" cy="495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407280" y="0"/>
            <a:ext cx="2736720" cy="3809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837560" y="3046320"/>
            <a:ext cx="1131840" cy="198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672240" y="2971800"/>
            <a:ext cx="141624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334120" y="2971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3429000" y="3200400"/>
            <a:ext cx="1116000" cy="167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34340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2590920" y="3200400"/>
            <a:ext cx="84276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9Z</dcterms:modified>
  <cp:revision>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