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1.jpeg" ContentType="image/jpeg"/>
  <Override PartName="/ppt/media/image7.png" ContentType="image/png"/>
  <Override PartName="/ppt/media/image11.wmf" ContentType="image/x-wmf"/>
  <Override PartName="/ppt/media/image12.png" ContentType="image/png"/>
  <Override PartName="/ppt/media/image9.png" ContentType="image/png"/>
  <Override PartName="/ppt/media/image10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DB75D-C071-4DD2-A667-760A1A8CFE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257440" y="1905120"/>
            <a:ext cx="38862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c9bba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0" y="2743200"/>
            <a:ext cx="4114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29200" y="2942280"/>
            <a:ext cx="4114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E6DC8-3A2A-482A-8382-D36B12ED6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257440" y="1905120"/>
            <a:ext cx="38862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c9bba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029200" y="2743200"/>
            <a:ext cx="20077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7137720" y="2743200"/>
            <a:ext cx="20077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029200" y="2942280"/>
            <a:ext cx="20077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137720" y="2942280"/>
            <a:ext cx="20077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41414-1DB2-4C4C-9B4E-395A58325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257440" y="1905120"/>
            <a:ext cx="38862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c9bba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029200" y="2743200"/>
            <a:ext cx="1324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420600" y="2743200"/>
            <a:ext cx="1324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7812000" y="2743200"/>
            <a:ext cx="1324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029200" y="2942280"/>
            <a:ext cx="1324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6420600" y="2942280"/>
            <a:ext cx="1324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7812000" y="2942280"/>
            <a:ext cx="1324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5D8F7-0C0C-4D22-8594-1CB879D3AEB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A9CF21-EB69-4BD8-8510-FBF8C18F39D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257440" y="1905120"/>
            <a:ext cx="38862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c9bba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5029200" y="2743200"/>
            <a:ext cx="4114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719B12-88C3-4EB9-A19D-44500F5B8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257440" y="1905120"/>
            <a:ext cx="38862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c9bba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29200" y="2743200"/>
            <a:ext cx="4114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847393-581E-4305-B92E-3232C1D32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257440" y="1905120"/>
            <a:ext cx="38862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c9bba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29200" y="2743200"/>
            <a:ext cx="20077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137720" y="2743200"/>
            <a:ext cx="20077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D3FC25-C0B1-4FDC-8E0A-8F029EAA5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257440" y="1905120"/>
            <a:ext cx="38862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c9bb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0D528C-52D8-4E26-ACC0-5B57F8D06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5257440" y="1905120"/>
            <a:ext cx="3886200" cy="21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C8D784-8734-4F9B-AF13-34F27C6D9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257440" y="1905120"/>
            <a:ext cx="38862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c9bba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29200" y="2743200"/>
            <a:ext cx="20077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7137720" y="2743200"/>
            <a:ext cx="20077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29200" y="2942280"/>
            <a:ext cx="20077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648060-B0E6-4CC8-82BA-B5A6B67CE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257440" y="1905120"/>
            <a:ext cx="38862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c9bba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5029200" y="2743200"/>
            <a:ext cx="4114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15DF9-AD4B-4CA1-8857-963088E2F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257440" y="1905120"/>
            <a:ext cx="38862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c9bba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29200" y="2743200"/>
            <a:ext cx="20077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7137720" y="2743200"/>
            <a:ext cx="20077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7137720" y="2942280"/>
            <a:ext cx="20077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DC070C-350B-4DDC-8A9D-70183DB5D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257440" y="1905120"/>
            <a:ext cx="38862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c9bba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29200" y="2743200"/>
            <a:ext cx="20077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7137720" y="2743200"/>
            <a:ext cx="20077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029200" y="2942280"/>
            <a:ext cx="4114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FEEFFD-4D7B-4673-8D11-5FF93A8CB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257440" y="1905120"/>
            <a:ext cx="38862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c9bba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29200" y="2743200"/>
            <a:ext cx="4114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029200" y="2942280"/>
            <a:ext cx="4114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D60C71-9CD8-4F04-855E-0D1274F3E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257440" y="1905120"/>
            <a:ext cx="38862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c9bba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29200" y="2743200"/>
            <a:ext cx="20077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7137720" y="2743200"/>
            <a:ext cx="20077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029200" y="2942280"/>
            <a:ext cx="20077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7137720" y="2942280"/>
            <a:ext cx="20077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9D469F-C4B4-41D1-A770-845269CF7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257440" y="1905120"/>
            <a:ext cx="38862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c9bba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29200" y="2743200"/>
            <a:ext cx="1324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420600" y="2743200"/>
            <a:ext cx="1324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7812000" y="2743200"/>
            <a:ext cx="1324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5029200" y="2942280"/>
            <a:ext cx="1324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6420600" y="2942280"/>
            <a:ext cx="1324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7812000" y="2942280"/>
            <a:ext cx="1324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28EE43-811E-4234-8C9D-F319D812776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257440" y="1905120"/>
            <a:ext cx="38862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c9bba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29200" y="2743200"/>
            <a:ext cx="4114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A7746-D463-48FA-9EE8-CD7585D39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257440" y="1905120"/>
            <a:ext cx="38862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c9bba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29200" y="2743200"/>
            <a:ext cx="20077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7137720" y="2743200"/>
            <a:ext cx="20077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B7BEF-4D00-43DA-A5B5-F73012AF1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257440" y="1905120"/>
            <a:ext cx="38862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c9bb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BB4B1-4099-47A1-8DCD-95DFAD9FB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5257440" y="1905120"/>
            <a:ext cx="3886200" cy="21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409C5-7033-4EF8-B1A8-FACDF5CF5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257440" y="1905120"/>
            <a:ext cx="38862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c9bba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0" y="2743200"/>
            <a:ext cx="20077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137720" y="2743200"/>
            <a:ext cx="20077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0" y="2942280"/>
            <a:ext cx="20077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03402-F76B-49AC-AA75-CB5243615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257440" y="1905120"/>
            <a:ext cx="38862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c9bba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0" y="2743200"/>
            <a:ext cx="20077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137720" y="2743200"/>
            <a:ext cx="20077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137720" y="2942280"/>
            <a:ext cx="20077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01339-AA48-4D10-AD91-8E40BC6B8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257440" y="1905120"/>
            <a:ext cx="38862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c9bba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0" y="2743200"/>
            <a:ext cx="20077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137720" y="2743200"/>
            <a:ext cx="20077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029200" y="2942280"/>
            <a:ext cx="4114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7CC98-8FBF-4666-A2D4-E4F51AE42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1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723960"/>
            <a:ext cx="9144000" cy="385560"/>
          </a:xfrm>
          <a:prstGeom prst="rect">
            <a:avLst/>
          </a:prstGeom>
          <a:solidFill>
            <a:srgbClr val="32b6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723960"/>
          </a:xfrm>
          <a:prstGeom prst="rect">
            <a:avLst/>
          </a:prstGeom>
          <a:solidFill>
            <a:srgbClr val="3662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12600" y="343080"/>
            <a:ext cx="6032520" cy="679320"/>
          </a:xfrm>
          <a:custGeom>
            <a:avLst/>
            <a:gdLst/>
            <a:ahLst/>
            <a:rect l="l" t="t" r="r" b="b"/>
            <a:pathLst>
              <a:path w="3800" h="428">
                <a:moveTo>
                  <a:pt x="0" y="0"/>
                </a:moveTo>
                <a:lnTo>
                  <a:pt x="3800" y="0"/>
                </a:lnTo>
                <a:lnTo>
                  <a:pt x="3456" y="428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365960" y="6448320"/>
            <a:ext cx="137160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7181f"/>
                </a:solidFill>
                <a:latin typeface="Arial"/>
                <a:ea typeface="宋体"/>
              </a:rPr>
              <a:t>LOGO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440" y="129528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491c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2b6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6623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ldNum" idx="1"/>
          </p:nvPr>
        </p:nvSpPr>
        <p:spPr>
          <a:xfrm>
            <a:off x="3886200" y="6505560"/>
            <a:ext cx="83808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6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517AD-C5F2-4438-992A-B4A70654D130}" type="slidenum">
              <a:rPr b="0" lang="zh-CN" sz="1000" spc="-1" strike="noStrike">
                <a:solidFill>
                  <a:srgbClr val="000066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2"/>
          </p:nvPr>
        </p:nvSpPr>
        <p:spPr>
          <a:xfrm>
            <a:off x="380880" y="650556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66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66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-1440" y="-6480"/>
            <a:ext cx="1074600" cy="11178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714240" y="-792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-1440" y="357120"/>
            <a:ext cx="1073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3240" y="728640"/>
            <a:ext cx="9140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358920" y="-22320"/>
            <a:ext cx="0" cy="1155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32b6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914400"/>
            <a:ext cx="4960800" cy="51544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76520" y="4311720"/>
            <a:ext cx="4770360" cy="17542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dt" idx="3"/>
          </p:nvPr>
        </p:nvSpPr>
        <p:spPr>
          <a:xfrm>
            <a:off x="7010280" y="6552720"/>
            <a:ext cx="19814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66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66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ldNum" idx="4"/>
          </p:nvPr>
        </p:nvSpPr>
        <p:spPr>
          <a:xfrm>
            <a:off x="228600" y="6552720"/>
            <a:ext cx="3808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6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BED6A-47FB-43CC-B97E-7831C27E1C33}" type="slidenum">
              <a:rPr b="0" lang="zh-CN" sz="1200" spc="-1" strike="noStrike">
                <a:solidFill>
                  <a:srgbClr val="00006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308400" y="914400"/>
            <a:ext cx="1654200" cy="167652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17760" y="2590920"/>
            <a:ext cx="1640160" cy="170316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54200" y="4300560"/>
            <a:ext cx="1654200" cy="176688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309840" y="905040"/>
            <a:ext cx="0" cy="51908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4300560"/>
            <a:ext cx="1654200" cy="176688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2590920"/>
            <a:ext cx="49528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320" y="4302000"/>
            <a:ext cx="4949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666800" y="838080"/>
            <a:ext cx="0" cy="5257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4978440" y="2190240"/>
            <a:ext cx="4178160" cy="19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4978440" y="5568480"/>
            <a:ext cx="4178160" cy="19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890640"/>
          </a:xfrm>
          <a:prstGeom prst="rect">
            <a:avLst/>
          </a:prstGeom>
          <a:solidFill>
            <a:srgbClr val="3662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2280" y="304920"/>
            <a:ext cx="1067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ffffff"/>
                </a:solidFill>
                <a:latin typeface="Arial Black"/>
                <a:ea typeface="宋体"/>
              </a:rPr>
              <a:t>LOGO</a:t>
            </a:r>
            <a:endParaRPr b="0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2880" y="914400"/>
            <a:ext cx="419112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title"/>
          </p:nvPr>
        </p:nvSpPr>
        <p:spPr>
          <a:xfrm>
            <a:off x="5257440" y="1905120"/>
            <a:ext cx="38862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c9bba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4c9bb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6623f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66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66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hyperlink" Target="http://www.eeppt.com" TargetMode="External"/><Relationship Id="rId1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28840" y="2362320"/>
            <a:ext cx="408924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宋体"/>
              </a:rPr>
              <a:t>ThemeGallery </a:t>
            </a:r>
            <a:r>
              <a:rPr b="1" lang="en-US" sz="4000" spc="-1" strike="noStrike">
                <a:solidFill>
                  <a:srgbClr val="4c9bba"/>
                </a:solidFill>
                <a:latin typeface="Arial"/>
                <a:ea typeface="宋体"/>
              </a:rPr>
              <a:t>PowerTemplate</a:t>
            </a:r>
            <a:endParaRPr b="1" lang="en-US" sz="4000" spc="-1" strike="noStrike">
              <a:solidFill>
                <a:srgbClr val="4c9bba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5562720" y="32115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宋体"/>
              </a:rPr>
              <a:t>Add your company slogan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351480" y="4356000"/>
            <a:ext cx="1595520" cy="9781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85640" y="11736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体育运动系列</a:t>
            </a: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PPT</a:t>
            </a: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模板</a:t>
            </a:r>
            <a:r>
              <a:rPr b="0" lang="zh-CN" sz="4000" spc="-1" strike="noStrike">
                <a:solidFill>
                  <a:srgbClr val="000066"/>
                </a:solidFill>
                <a:latin typeface="Arial"/>
                <a:ea typeface="宋体"/>
              </a:rPr>
              <a:t>免费下载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235080" y="2987640"/>
            <a:ext cx="4119480" cy="245124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2"/>
          <a:stretch/>
        </p:blipFill>
        <p:spPr>
          <a:xfrm>
            <a:off x="4843440" y="2963880"/>
            <a:ext cx="4181400" cy="248616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187200" y="1676520"/>
            <a:ext cx="457200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Arial"/>
                <a:ea typeface="宋体"/>
              </a:rPr>
              <a:t>1. Describe contents for a Chart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  <a:ea typeface="宋体"/>
              </a:rPr>
              <a:t>      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     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527720" y="1676520"/>
            <a:ext cx="4572000" cy="9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Arial"/>
                <a:ea typeface="宋体"/>
              </a:rPr>
              <a:t>2. Describe contents for a Chart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  <a:ea typeface="宋体"/>
              </a:rPr>
              <a:t>      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     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553560" y="5635800"/>
            <a:ext cx="21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Chart Title in her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1266840" y="4581360"/>
            <a:ext cx="415800" cy="451080"/>
            <a:chOff x="1266840" y="4581360"/>
            <a:chExt cx="415800" cy="451080"/>
          </a:xfrm>
        </p:grpSpPr>
        <p:sp>
          <p:nvSpPr>
            <p:cNvPr id="364" name=""/>
            <p:cNvSpPr/>
            <p:nvPr/>
          </p:nvSpPr>
          <p:spPr>
            <a:xfrm>
              <a:off x="1432080" y="4581360"/>
              <a:ext cx="68040" cy="651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329840" y="4759920"/>
              <a:ext cx="96480" cy="921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510920" y="4689720"/>
              <a:ext cx="72000" cy="687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358280" y="498420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378800" y="4851720"/>
              <a:ext cx="0" cy="133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1414440" y="4739760"/>
              <a:ext cx="107640" cy="32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 flipV="1">
              <a:off x="1482480" y="4635360"/>
              <a:ext cx="42120" cy="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632240" y="464256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562040" y="4828680"/>
              <a:ext cx="57600" cy="5508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561320" y="4758120"/>
              <a:ext cx="17640" cy="83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1582920" y="4664160"/>
              <a:ext cx="53280" cy="46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266840" y="468612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296360" y="4728960"/>
              <a:ext cx="42840" cy="43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1498320" y="4867920"/>
              <a:ext cx="78120" cy="2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463400" y="486972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607760" y="4877280"/>
              <a:ext cx="17640" cy="21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615680" y="490392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897520" y="4567320"/>
            <a:ext cx="415800" cy="450720"/>
            <a:chOff x="5897520" y="4567320"/>
            <a:chExt cx="415800" cy="450720"/>
          </a:xfrm>
        </p:grpSpPr>
        <p:sp>
          <p:nvSpPr>
            <p:cNvPr id="382" name=""/>
            <p:cNvSpPr/>
            <p:nvPr/>
          </p:nvSpPr>
          <p:spPr>
            <a:xfrm>
              <a:off x="6062760" y="4567320"/>
              <a:ext cx="68040" cy="6480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960520" y="4745880"/>
              <a:ext cx="96480" cy="921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41600" y="4675680"/>
              <a:ext cx="72000" cy="687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988960" y="496980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009480" y="4837680"/>
              <a:ext cx="0" cy="133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6045120" y="4725720"/>
              <a:ext cx="107640" cy="32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6113160" y="4621320"/>
              <a:ext cx="42120" cy="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262920" y="462852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192720" y="4814640"/>
              <a:ext cx="57600" cy="5508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192000" y="4744080"/>
              <a:ext cx="17640" cy="82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>
              <a:off x="6213600" y="4649760"/>
              <a:ext cx="53280" cy="46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897520" y="467208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927040" y="4714920"/>
              <a:ext cx="42840" cy="43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6129000" y="4853520"/>
              <a:ext cx="78120" cy="2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094080" y="485568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238440" y="4862880"/>
              <a:ext cx="17640" cy="21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246360" y="488952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2043000" y="4442400"/>
            <a:ext cx="235800" cy="574560"/>
            <a:chOff x="2043000" y="4442400"/>
            <a:chExt cx="235800" cy="574560"/>
          </a:xfrm>
        </p:grpSpPr>
        <p:sp>
          <p:nvSpPr>
            <p:cNvPr id="400" name=""/>
            <p:cNvSpPr/>
            <p:nvPr/>
          </p:nvSpPr>
          <p:spPr>
            <a:xfrm rot="21490800">
              <a:off x="2048760" y="4729320"/>
              <a:ext cx="225360" cy="283680"/>
            </a:xfrm>
            <a:custGeom>
              <a:avLst/>
              <a:gdLst/>
              <a:ahLst/>
              <a:rect l="l" t="t" r="r" b="b"/>
              <a:pathLst>
                <a:path w="768" h="1200">
                  <a:moveTo>
                    <a:pt x="204" y="12"/>
                  </a:moveTo>
                  <a:lnTo>
                    <a:pt x="202" y="1084"/>
                  </a:lnTo>
                  <a:cubicBezTo>
                    <a:pt x="63" y="1127"/>
                    <a:pt x="13" y="1113"/>
                    <a:pt x="0" y="1182"/>
                  </a:cubicBezTo>
                  <a:cubicBezTo>
                    <a:pt x="0" y="1182"/>
                    <a:pt x="198" y="1194"/>
                    <a:pt x="372" y="1194"/>
                  </a:cubicBezTo>
                  <a:cubicBezTo>
                    <a:pt x="576" y="1182"/>
                    <a:pt x="768" y="1200"/>
                    <a:pt x="750" y="1146"/>
                  </a:cubicBezTo>
                  <a:cubicBezTo>
                    <a:pt x="732" y="1092"/>
                    <a:pt x="624" y="1080"/>
                    <a:pt x="517" y="1067"/>
                  </a:cubicBezTo>
                  <a:lnTo>
                    <a:pt x="504" y="0"/>
                  </a:lnTo>
                  <a:lnTo>
                    <a:pt x="204" y="12"/>
                  </a:lnTo>
                  <a:close/>
                </a:path>
              </a:pathLst>
            </a:custGeom>
            <a:solidFill>
              <a:srgbClr val="ffffff">
                <a:alpha val="60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rot="21490800">
              <a:off x="2043360" y="4876920"/>
              <a:ext cx="231120" cy="29520"/>
            </a:xfrm>
            <a:custGeom>
              <a:avLst/>
              <a:gdLst/>
              <a:ahLst/>
              <a:rect l="l" t="t" r="r" b="b"/>
              <a:pathLst>
                <a:path w="787" h="114">
                  <a:moveTo>
                    <a:pt x="262" y="24"/>
                  </a:moveTo>
                  <a:cubicBezTo>
                    <a:pt x="262" y="24"/>
                    <a:pt x="0" y="45"/>
                    <a:pt x="28" y="60"/>
                  </a:cubicBezTo>
                  <a:cubicBezTo>
                    <a:pt x="56" y="75"/>
                    <a:pt x="46" y="114"/>
                    <a:pt x="430" y="114"/>
                  </a:cubicBezTo>
                  <a:cubicBezTo>
                    <a:pt x="555" y="109"/>
                    <a:pt x="769" y="49"/>
                    <a:pt x="778" y="30"/>
                  </a:cubicBezTo>
                  <a:cubicBezTo>
                    <a:pt x="787" y="11"/>
                    <a:pt x="570" y="1"/>
                    <a:pt x="484" y="0"/>
                  </a:cubicBezTo>
                  <a:lnTo>
                    <a:pt x="262" y="2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rot="21490800">
              <a:off x="2097360" y="4579200"/>
              <a:ext cx="107280" cy="315000"/>
            </a:xfrm>
            <a:custGeom>
              <a:avLst/>
              <a:gdLst/>
              <a:ahLst/>
              <a:rect l="l" t="t" r="r" b="b"/>
              <a:pathLst>
                <a:path w="366" h="1332">
                  <a:moveTo>
                    <a:pt x="102" y="0"/>
                  </a:moveTo>
                  <a:lnTo>
                    <a:pt x="102" y="102"/>
                  </a:lnTo>
                  <a:lnTo>
                    <a:pt x="0" y="204"/>
                  </a:lnTo>
                  <a:lnTo>
                    <a:pt x="0" y="1296"/>
                  </a:lnTo>
                  <a:cubicBezTo>
                    <a:pt x="90" y="1332"/>
                    <a:pt x="113" y="1321"/>
                    <a:pt x="174" y="1320"/>
                  </a:cubicBezTo>
                  <a:cubicBezTo>
                    <a:pt x="235" y="1319"/>
                    <a:pt x="324" y="1320"/>
                    <a:pt x="366" y="1290"/>
                  </a:cubicBezTo>
                  <a:lnTo>
                    <a:pt x="336" y="192"/>
                  </a:lnTo>
                  <a:lnTo>
                    <a:pt x="222" y="102"/>
                  </a:lnTo>
                  <a:lnTo>
                    <a:pt x="216" y="0"/>
                  </a:lnTo>
                  <a:lnTo>
                    <a:pt x="102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>
              <a:off x="2094840" y="4650480"/>
              <a:ext cx="493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2096280" y="4690080"/>
              <a:ext cx="493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2097360" y="4725720"/>
              <a:ext cx="493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2098440" y="4763880"/>
              <a:ext cx="493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2099520" y="4798080"/>
              <a:ext cx="493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2102040" y="4812840"/>
              <a:ext cx="262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2102040" y="4821120"/>
              <a:ext cx="262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2102400" y="4832640"/>
              <a:ext cx="262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2100600" y="4771440"/>
              <a:ext cx="262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2100960" y="4780080"/>
              <a:ext cx="262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2101320" y="4791240"/>
              <a:ext cx="262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2099520" y="4733640"/>
              <a:ext cx="2592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2099520" y="4741920"/>
              <a:ext cx="262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2099880" y="4753440"/>
              <a:ext cx="262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2098440" y="4699440"/>
              <a:ext cx="2592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2098440" y="4708080"/>
              <a:ext cx="262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>
              <a:off x="2098800" y="4719240"/>
              <a:ext cx="262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flipV="1">
              <a:off x="2097000" y="4659840"/>
              <a:ext cx="262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flipV="1">
              <a:off x="2097360" y="4668120"/>
              <a:ext cx="262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2097720" y="4679640"/>
              <a:ext cx="262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2640" y="4442400"/>
              <a:ext cx="5760" cy="137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2125080" y="4586400"/>
              <a:ext cx="29880" cy="7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6678360" y="4484880"/>
            <a:ext cx="219600" cy="539640"/>
            <a:chOff x="6678360" y="4484880"/>
            <a:chExt cx="219600" cy="539640"/>
          </a:xfrm>
        </p:grpSpPr>
        <p:sp>
          <p:nvSpPr>
            <p:cNvPr id="426" name=""/>
            <p:cNvSpPr/>
            <p:nvPr/>
          </p:nvSpPr>
          <p:spPr>
            <a:xfrm rot="21490800">
              <a:off x="6683400" y="4754520"/>
              <a:ext cx="210240" cy="266400"/>
            </a:xfrm>
            <a:custGeom>
              <a:avLst/>
              <a:gdLst/>
              <a:ahLst/>
              <a:rect l="l" t="t" r="r" b="b"/>
              <a:pathLst>
                <a:path w="768" h="1200">
                  <a:moveTo>
                    <a:pt x="204" y="12"/>
                  </a:moveTo>
                  <a:lnTo>
                    <a:pt x="202" y="1084"/>
                  </a:lnTo>
                  <a:cubicBezTo>
                    <a:pt x="63" y="1127"/>
                    <a:pt x="13" y="1113"/>
                    <a:pt x="0" y="1182"/>
                  </a:cubicBezTo>
                  <a:cubicBezTo>
                    <a:pt x="0" y="1182"/>
                    <a:pt x="198" y="1194"/>
                    <a:pt x="372" y="1194"/>
                  </a:cubicBezTo>
                  <a:cubicBezTo>
                    <a:pt x="576" y="1182"/>
                    <a:pt x="768" y="1200"/>
                    <a:pt x="750" y="1146"/>
                  </a:cubicBezTo>
                  <a:cubicBezTo>
                    <a:pt x="732" y="1092"/>
                    <a:pt x="624" y="1080"/>
                    <a:pt x="517" y="1067"/>
                  </a:cubicBezTo>
                  <a:lnTo>
                    <a:pt x="504" y="0"/>
                  </a:lnTo>
                  <a:lnTo>
                    <a:pt x="204" y="12"/>
                  </a:lnTo>
                  <a:close/>
                </a:path>
              </a:pathLst>
            </a:custGeom>
            <a:solidFill>
              <a:srgbClr val="ffffff">
                <a:alpha val="60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21490800">
              <a:off x="6678720" y="4893120"/>
              <a:ext cx="215280" cy="27720"/>
            </a:xfrm>
            <a:custGeom>
              <a:avLst/>
              <a:gdLst/>
              <a:ahLst/>
              <a:rect l="l" t="t" r="r" b="b"/>
              <a:pathLst>
                <a:path w="787" h="114">
                  <a:moveTo>
                    <a:pt x="262" y="24"/>
                  </a:moveTo>
                  <a:cubicBezTo>
                    <a:pt x="262" y="24"/>
                    <a:pt x="0" y="45"/>
                    <a:pt x="28" y="60"/>
                  </a:cubicBezTo>
                  <a:cubicBezTo>
                    <a:pt x="56" y="75"/>
                    <a:pt x="46" y="114"/>
                    <a:pt x="430" y="114"/>
                  </a:cubicBezTo>
                  <a:cubicBezTo>
                    <a:pt x="555" y="109"/>
                    <a:pt x="769" y="49"/>
                    <a:pt x="778" y="30"/>
                  </a:cubicBezTo>
                  <a:cubicBezTo>
                    <a:pt x="787" y="11"/>
                    <a:pt x="570" y="1"/>
                    <a:pt x="484" y="0"/>
                  </a:cubicBezTo>
                  <a:lnTo>
                    <a:pt x="262" y="2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21490800">
              <a:off x="6728760" y="4613760"/>
              <a:ext cx="100080" cy="295560"/>
            </a:xfrm>
            <a:custGeom>
              <a:avLst/>
              <a:gdLst/>
              <a:ahLst/>
              <a:rect l="l" t="t" r="r" b="b"/>
              <a:pathLst>
                <a:path w="366" h="1332">
                  <a:moveTo>
                    <a:pt x="102" y="0"/>
                  </a:moveTo>
                  <a:lnTo>
                    <a:pt x="102" y="102"/>
                  </a:lnTo>
                  <a:lnTo>
                    <a:pt x="0" y="204"/>
                  </a:lnTo>
                  <a:lnTo>
                    <a:pt x="0" y="1296"/>
                  </a:lnTo>
                  <a:cubicBezTo>
                    <a:pt x="90" y="1332"/>
                    <a:pt x="113" y="1321"/>
                    <a:pt x="174" y="1320"/>
                  </a:cubicBezTo>
                  <a:cubicBezTo>
                    <a:pt x="235" y="1319"/>
                    <a:pt x="324" y="1320"/>
                    <a:pt x="366" y="1290"/>
                  </a:cubicBezTo>
                  <a:lnTo>
                    <a:pt x="336" y="192"/>
                  </a:lnTo>
                  <a:lnTo>
                    <a:pt x="222" y="102"/>
                  </a:lnTo>
                  <a:lnTo>
                    <a:pt x="216" y="0"/>
                  </a:lnTo>
                  <a:lnTo>
                    <a:pt x="102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6726600" y="4680720"/>
              <a:ext cx="457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6727680" y="4717800"/>
              <a:ext cx="457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6728760" y="4751280"/>
              <a:ext cx="457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6729840" y="4787280"/>
              <a:ext cx="457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6730920" y="4819320"/>
              <a:ext cx="457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6733080" y="4833000"/>
              <a:ext cx="244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6733440" y="4840920"/>
              <a:ext cx="244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6733800" y="4851360"/>
              <a:ext cx="244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>
              <a:off x="6732000" y="4794120"/>
              <a:ext cx="244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6732000" y="4802400"/>
              <a:ext cx="244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6732360" y="4812840"/>
              <a:ext cx="244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6730560" y="4758120"/>
              <a:ext cx="244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6730920" y="4766400"/>
              <a:ext cx="244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6731280" y="4776840"/>
              <a:ext cx="244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6729840" y="4726440"/>
              <a:ext cx="244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6729840" y="4734360"/>
              <a:ext cx="244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 flipV="1">
              <a:off x="6730200" y="4744800"/>
              <a:ext cx="244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6728400" y="4689000"/>
              <a:ext cx="244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>
              <a:off x="6728760" y="4696920"/>
              <a:ext cx="244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>
              <a:off x="6729120" y="4707720"/>
              <a:ext cx="244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761160" y="4484880"/>
              <a:ext cx="5760" cy="1292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6753960" y="4620240"/>
              <a:ext cx="27720" cy="7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3153960" y="4548240"/>
            <a:ext cx="611280" cy="485280"/>
            <a:chOff x="3153960" y="4548240"/>
            <a:chExt cx="611280" cy="485280"/>
          </a:xfrm>
        </p:grpSpPr>
        <p:sp>
          <p:nvSpPr>
            <p:cNvPr id="452" name=""/>
            <p:cNvSpPr/>
            <p:nvPr/>
          </p:nvSpPr>
          <p:spPr>
            <a:xfrm flipH="1">
              <a:off x="3153600" y="4646880"/>
              <a:ext cx="307800" cy="386640"/>
            </a:xfrm>
            <a:custGeom>
              <a:avLst/>
              <a:gdLst/>
              <a:ahLst/>
              <a:rect l="l" t="t" r="r" b="b"/>
              <a:pathLst>
                <a:path w="2614" h="2630">
                  <a:moveTo>
                    <a:pt x="1176" y="0"/>
                  </a:moveTo>
                  <a:cubicBezTo>
                    <a:pt x="1196" y="78"/>
                    <a:pt x="1274" y="182"/>
                    <a:pt x="1316" y="180"/>
                  </a:cubicBezTo>
                  <a:cubicBezTo>
                    <a:pt x="1358" y="178"/>
                    <a:pt x="1412" y="78"/>
                    <a:pt x="1448" y="0"/>
                  </a:cubicBezTo>
                  <a:cubicBezTo>
                    <a:pt x="1976" y="0"/>
                    <a:pt x="2504" y="0"/>
                    <a:pt x="2504" y="0"/>
                  </a:cubicBezTo>
                  <a:cubicBezTo>
                    <a:pt x="2576" y="4"/>
                    <a:pt x="2612" y="94"/>
                    <a:pt x="2610" y="146"/>
                  </a:cubicBezTo>
                  <a:cubicBezTo>
                    <a:pt x="2610" y="194"/>
                    <a:pt x="2614" y="294"/>
                    <a:pt x="2492" y="312"/>
                  </a:cubicBezTo>
                  <a:cubicBezTo>
                    <a:pt x="2104" y="312"/>
                    <a:pt x="1716" y="312"/>
                    <a:pt x="1716" y="312"/>
                  </a:cubicBezTo>
                  <a:lnTo>
                    <a:pt x="2180" y="2278"/>
                  </a:lnTo>
                  <a:cubicBezTo>
                    <a:pt x="2210" y="2506"/>
                    <a:pt x="2116" y="2574"/>
                    <a:pt x="2048" y="2586"/>
                  </a:cubicBezTo>
                  <a:cubicBezTo>
                    <a:pt x="1982" y="2614"/>
                    <a:pt x="1826" y="2600"/>
                    <a:pt x="1770" y="2454"/>
                  </a:cubicBezTo>
                  <a:cubicBezTo>
                    <a:pt x="1681" y="2159"/>
                    <a:pt x="1592" y="1864"/>
                    <a:pt x="1592" y="1864"/>
                  </a:cubicBezTo>
                  <a:cubicBezTo>
                    <a:pt x="1520" y="1604"/>
                    <a:pt x="1380" y="1490"/>
                    <a:pt x="1304" y="1494"/>
                  </a:cubicBezTo>
                  <a:cubicBezTo>
                    <a:pt x="1164" y="1510"/>
                    <a:pt x="1062" y="1698"/>
                    <a:pt x="1006" y="1888"/>
                  </a:cubicBezTo>
                  <a:cubicBezTo>
                    <a:pt x="910" y="2176"/>
                    <a:pt x="900" y="2302"/>
                    <a:pt x="856" y="2396"/>
                  </a:cubicBezTo>
                  <a:cubicBezTo>
                    <a:pt x="816" y="2508"/>
                    <a:pt x="720" y="2630"/>
                    <a:pt x="570" y="2596"/>
                  </a:cubicBezTo>
                  <a:cubicBezTo>
                    <a:pt x="506" y="2564"/>
                    <a:pt x="376" y="2548"/>
                    <a:pt x="440" y="2256"/>
                  </a:cubicBezTo>
                  <a:lnTo>
                    <a:pt x="906" y="310"/>
                  </a:lnTo>
                  <a:lnTo>
                    <a:pt x="148" y="310"/>
                  </a:lnTo>
                  <a:cubicBezTo>
                    <a:pt x="48" y="304"/>
                    <a:pt x="7" y="226"/>
                    <a:pt x="2" y="174"/>
                  </a:cubicBezTo>
                  <a:cubicBezTo>
                    <a:pt x="0" y="118"/>
                    <a:pt x="20" y="0"/>
                    <a:pt x="148" y="2"/>
                  </a:cubicBezTo>
                  <a:cubicBezTo>
                    <a:pt x="342" y="2"/>
                    <a:pt x="1176" y="0"/>
                    <a:pt x="1176" y="0"/>
                  </a:cubicBez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3265920" y="4548240"/>
              <a:ext cx="82080" cy="10152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471120" y="4654080"/>
              <a:ext cx="294120" cy="370800"/>
            </a:xfrm>
            <a:custGeom>
              <a:avLst/>
              <a:gdLst/>
              <a:ahLst/>
              <a:rect l="l" t="t" r="r" b="b"/>
              <a:pathLst>
                <a:path w="2614" h="2628">
                  <a:moveTo>
                    <a:pt x="1100" y="0"/>
                  </a:moveTo>
                  <a:cubicBezTo>
                    <a:pt x="1120" y="78"/>
                    <a:pt x="1193" y="183"/>
                    <a:pt x="1316" y="180"/>
                  </a:cubicBezTo>
                  <a:cubicBezTo>
                    <a:pt x="1439" y="177"/>
                    <a:pt x="1472" y="84"/>
                    <a:pt x="1508" y="6"/>
                  </a:cubicBezTo>
                  <a:cubicBezTo>
                    <a:pt x="2036" y="6"/>
                    <a:pt x="2504" y="0"/>
                    <a:pt x="2504" y="0"/>
                  </a:cubicBezTo>
                  <a:cubicBezTo>
                    <a:pt x="2576" y="4"/>
                    <a:pt x="2612" y="94"/>
                    <a:pt x="2610" y="146"/>
                  </a:cubicBezTo>
                  <a:cubicBezTo>
                    <a:pt x="2610" y="194"/>
                    <a:pt x="2614" y="294"/>
                    <a:pt x="2492" y="312"/>
                  </a:cubicBezTo>
                  <a:cubicBezTo>
                    <a:pt x="2104" y="312"/>
                    <a:pt x="1716" y="312"/>
                    <a:pt x="1716" y="312"/>
                  </a:cubicBezTo>
                  <a:lnTo>
                    <a:pt x="1985" y="1350"/>
                  </a:lnTo>
                  <a:lnTo>
                    <a:pt x="1805" y="1401"/>
                  </a:lnTo>
                  <a:lnTo>
                    <a:pt x="2093" y="2328"/>
                  </a:lnTo>
                  <a:cubicBezTo>
                    <a:pt x="2126" y="2457"/>
                    <a:pt x="2117" y="2547"/>
                    <a:pt x="2030" y="2598"/>
                  </a:cubicBezTo>
                  <a:cubicBezTo>
                    <a:pt x="1919" y="2628"/>
                    <a:pt x="1834" y="2552"/>
                    <a:pt x="1778" y="2406"/>
                  </a:cubicBezTo>
                  <a:cubicBezTo>
                    <a:pt x="1679" y="2219"/>
                    <a:pt x="1507" y="1628"/>
                    <a:pt x="1436" y="1476"/>
                  </a:cubicBezTo>
                  <a:lnTo>
                    <a:pt x="1136" y="1476"/>
                  </a:lnTo>
                  <a:cubicBezTo>
                    <a:pt x="1070" y="1668"/>
                    <a:pt x="926" y="2226"/>
                    <a:pt x="842" y="2412"/>
                  </a:cubicBezTo>
                  <a:cubicBezTo>
                    <a:pt x="802" y="2524"/>
                    <a:pt x="728" y="2616"/>
                    <a:pt x="635" y="2595"/>
                  </a:cubicBezTo>
                  <a:cubicBezTo>
                    <a:pt x="571" y="2563"/>
                    <a:pt x="488" y="2532"/>
                    <a:pt x="545" y="2316"/>
                  </a:cubicBezTo>
                  <a:lnTo>
                    <a:pt x="797" y="1416"/>
                  </a:lnTo>
                  <a:lnTo>
                    <a:pt x="602" y="1368"/>
                  </a:lnTo>
                  <a:lnTo>
                    <a:pt x="906" y="310"/>
                  </a:lnTo>
                  <a:lnTo>
                    <a:pt x="148" y="310"/>
                  </a:lnTo>
                  <a:cubicBezTo>
                    <a:pt x="48" y="304"/>
                    <a:pt x="7" y="226"/>
                    <a:pt x="2" y="174"/>
                  </a:cubicBezTo>
                  <a:cubicBezTo>
                    <a:pt x="0" y="118"/>
                    <a:pt x="20" y="0"/>
                    <a:pt x="148" y="2"/>
                  </a:cubicBezTo>
                  <a:cubicBezTo>
                    <a:pt x="342" y="2"/>
                    <a:pt x="1160" y="0"/>
                    <a:pt x="1100" y="0"/>
                  </a:cubicBez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580560" y="4560840"/>
              <a:ext cx="77760" cy="9576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7794720" y="4545000"/>
            <a:ext cx="621720" cy="477360"/>
            <a:chOff x="7794720" y="4545000"/>
            <a:chExt cx="621720" cy="477360"/>
          </a:xfrm>
        </p:grpSpPr>
        <p:sp>
          <p:nvSpPr>
            <p:cNvPr id="457" name=""/>
            <p:cNvSpPr/>
            <p:nvPr/>
          </p:nvSpPr>
          <p:spPr>
            <a:xfrm flipH="1">
              <a:off x="7794720" y="4642200"/>
              <a:ext cx="313200" cy="380160"/>
            </a:xfrm>
            <a:custGeom>
              <a:avLst/>
              <a:gdLst/>
              <a:ahLst/>
              <a:rect l="l" t="t" r="r" b="b"/>
              <a:pathLst>
                <a:path w="2614" h="2630">
                  <a:moveTo>
                    <a:pt x="1176" y="0"/>
                  </a:moveTo>
                  <a:cubicBezTo>
                    <a:pt x="1196" y="78"/>
                    <a:pt x="1274" y="182"/>
                    <a:pt x="1316" y="180"/>
                  </a:cubicBezTo>
                  <a:cubicBezTo>
                    <a:pt x="1358" y="178"/>
                    <a:pt x="1412" y="78"/>
                    <a:pt x="1448" y="0"/>
                  </a:cubicBezTo>
                  <a:cubicBezTo>
                    <a:pt x="1976" y="0"/>
                    <a:pt x="2504" y="0"/>
                    <a:pt x="2504" y="0"/>
                  </a:cubicBezTo>
                  <a:cubicBezTo>
                    <a:pt x="2576" y="4"/>
                    <a:pt x="2612" y="94"/>
                    <a:pt x="2610" y="146"/>
                  </a:cubicBezTo>
                  <a:cubicBezTo>
                    <a:pt x="2610" y="194"/>
                    <a:pt x="2614" y="294"/>
                    <a:pt x="2492" y="312"/>
                  </a:cubicBezTo>
                  <a:cubicBezTo>
                    <a:pt x="2104" y="312"/>
                    <a:pt x="1716" y="312"/>
                    <a:pt x="1716" y="312"/>
                  </a:cubicBezTo>
                  <a:lnTo>
                    <a:pt x="2180" y="2278"/>
                  </a:lnTo>
                  <a:cubicBezTo>
                    <a:pt x="2210" y="2506"/>
                    <a:pt x="2116" y="2574"/>
                    <a:pt x="2048" y="2586"/>
                  </a:cubicBezTo>
                  <a:cubicBezTo>
                    <a:pt x="1982" y="2614"/>
                    <a:pt x="1826" y="2600"/>
                    <a:pt x="1770" y="2454"/>
                  </a:cubicBezTo>
                  <a:cubicBezTo>
                    <a:pt x="1681" y="2159"/>
                    <a:pt x="1592" y="1864"/>
                    <a:pt x="1592" y="1864"/>
                  </a:cubicBezTo>
                  <a:cubicBezTo>
                    <a:pt x="1520" y="1604"/>
                    <a:pt x="1380" y="1490"/>
                    <a:pt x="1304" y="1494"/>
                  </a:cubicBezTo>
                  <a:cubicBezTo>
                    <a:pt x="1164" y="1510"/>
                    <a:pt x="1062" y="1698"/>
                    <a:pt x="1006" y="1888"/>
                  </a:cubicBezTo>
                  <a:cubicBezTo>
                    <a:pt x="910" y="2176"/>
                    <a:pt x="900" y="2302"/>
                    <a:pt x="856" y="2396"/>
                  </a:cubicBezTo>
                  <a:cubicBezTo>
                    <a:pt x="816" y="2508"/>
                    <a:pt x="720" y="2630"/>
                    <a:pt x="570" y="2596"/>
                  </a:cubicBezTo>
                  <a:cubicBezTo>
                    <a:pt x="506" y="2564"/>
                    <a:pt x="376" y="2548"/>
                    <a:pt x="440" y="2256"/>
                  </a:cubicBezTo>
                  <a:lnTo>
                    <a:pt x="906" y="310"/>
                  </a:lnTo>
                  <a:lnTo>
                    <a:pt x="148" y="310"/>
                  </a:lnTo>
                  <a:cubicBezTo>
                    <a:pt x="48" y="304"/>
                    <a:pt x="7" y="226"/>
                    <a:pt x="2" y="174"/>
                  </a:cubicBezTo>
                  <a:cubicBezTo>
                    <a:pt x="0" y="118"/>
                    <a:pt x="20" y="0"/>
                    <a:pt x="148" y="2"/>
                  </a:cubicBezTo>
                  <a:cubicBezTo>
                    <a:pt x="342" y="2"/>
                    <a:pt x="1176" y="0"/>
                    <a:pt x="1176" y="0"/>
                  </a:cubicBez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7908480" y="4545000"/>
              <a:ext cx="83520" cy="10008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116920" y="4649040"/>
              <a:ext cx="299520" cy="364680"/>
            </a:xfrm>
            <a:custGeom>
              <a:avLst/>
              <a:gdLst/>
              <a:ahLst/>
              <a:rect l="l" t="t" r="r" b="b"/>
              <a:pathLst>
                <a:path w="2614" h="2628">
                  <a:moveTo>
                    <a:pt x="1100" y="0"/>
                  </a:moveTo>
                  <a:cubicBezTo>
                    <a:pt x="1120" y="78"/>
                    <a:pt x="1193" y="183"/>
                    <a:pt x="1316" y="180"/>
                  </a:cubicBezTo>
                  <a:cubicBezTo>
                    <a:pt x="1439" y="177"/>
                    <a:pt x="1472" y="84"/>
                    <a:pt x="1508" y="6"/>
                  </a:cubicBezTo>
                  <a:cubicBezTo>
                    <a:pt x="2036" y="6"/>
                    <a:pt x="2504" y="0"/>
                    <a:pt x="2504" y="0"/>
                  </a:cubicBezTo>
                  <a:cubicBezTo>
                    <a:pt x="2576" y="4"/>
                    <a:pt x="2612" y="94"/>
                    <a:pt x="2610" y="146"/>
                  </a:cubicBezTo>
                  <a:cubicBezTo>
                    <a:pt x="2610" y="194"/>
                    <a:pt x="2614" y="294"/>
                    <a:pt x="2492" y="312"/>
                  </a:cubicBezTo>
                  <a:cubicBezTo>
                    <a:pt x="2104" y="312"/>
                    <a:pt x="1716" y="312"/>
                    <a:pt x="1716" y="312"/>
                  </a:cubicBezTo>
                  <a:lnTo>
                    <a:pt x="1985" y="1350"/>
                  </a:lnTo>
                  <a:lnTo>
                    <a:pt x="1805" y="1401"/>
                  </a:lnTo>
                  <a:lnTo>
                    <a:pt x="2093" y="2328"/>
                  </a:lnTo>
                  <a:cubicBezTo>
                    <a:pt x="2126" y="2457"/>
                    <a:pt x="2117" y="2547"/>
                    <a:pt x="2030" y="2598"/>
                  </a:cubicBezTo>
                  <a:cubicBezTo>
                    <a:pt x="1919" y="2628"/>
                    <a:pt x="1834" y="2552"/>
                    <a:pt x="1778" y="2406"/>
                  </a:cubicBezTo>
                  <a:cubicBezTo>
                    <a:pt x="1679" y="2219"/>
                    <a:pt x="1507" y="1628"/>
                    <a:pt x="1436" y="1476"/>
                  </a:cubicBezTo>
                  <a:lnTo>
                    <a:pt x="1136" y="1476"/>
                  </a:lnTo>
                  <a:cubicBezTo>
                    <a:pt x="1070" y="1668"/>
                    <a:pt x="926" y="2226"/>
                    <a:pt x="842" y="2412"/>
                  </a:cubicBezTo>
                  <a:cubicBezTo>
                    <a:pt x="802" y="2524"/>
                    <a:pt x="728" y="2616"/>
                    <a:pt x="635" y="2595"/>
                  </a:cubicBezTo>
                  <a:cubicBezTo>
                    <a:pt x="571" y="2563"/>
                    <a:pt x="488" y="2532"/>
                    <a:pt x="545" y="2316"/>
                  </a:cubicBezTo>
                  <a:lnTo>
                    <a:pt x="797" y="1416"/>
                  </a:lnTo>
                  <a:lnTo>
                    <a:pt x="602" y="1368"/>
                  </a:lnTo>
                  <a:lnTo>
                    <a:pt x="906" y="310"/>
                  </a:lnTo>
                  <a:lnTo>
                    <a:pt x="148" y="310"/>
                  </a:lnTo>
                  <a:cubicBezTo>
                    <a:pt x="48" y="304"/>
                    <a:pt x="7" y="226"/>
                    <a:pt x="2" y="174"/>
                  </a:cubicBezTo>
                  <a:cubicBezTo>
                    <a:pt x="0" y="118"/>
                    <a:pt x="20" y="0"/>
                    <a:pt x="148" y="2"/>
                  </a:cubicBezTo>
                  <a:cubicBezTo>
                    <a:pt x="342" y="2"/>
                    <a:pt x="1160" y="0"/>
                    <a:pt x="1100" y="0"/>
                  </a:cubicBez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228520" y="4557240"/>
              <a:ext cx="78840" cy="9432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461" name=""/>
          <p:cNvGrpSpPr/>
          <p:nvPr/>
        </p:nvGrpSpPr>
        <p:grpSpPr>
          <a:xfrm>
            <a:off x="2581560" y="4448160"/>
            <a:ext cx="437760" cy="577080"/>
            <a:chOff x="2581560" y="4448160"/>
            <a:chExt cx="437760" cy="577080"/>
          </a:xfrm>
        </p:grpSpPr>
        <p:grpSp>
          <p:nvGrpSpPr>
            <p:cNvPr id="462" name=""/>
            <p:cNvGrpSpPr/>
            <p:nvPr/>
          </p:nvGrpSpPr>
          <p:grpSpPr>
            <a:xfrm>
              <a:off x="2738880" y="4448160"/>
              <a:ext cx="130680" cy="471240"/>
              <a:chOff x="2738880" y="4448160"/>
              <a:chExt cx="130680" cy="471240"/>
            </a:xfrm>
          </p:grpSpPr>
          <p:sp>
            <p:nvSpPr>
              <p:cNvPr id="463" name=""/>
              <p:cNvSpPr/>
              <p:nvPr/>
            </p:nvSpPr>
            <p:spPr>
              <a:xfrm flipH="1">
                <a:off x="2779920" y="4448160"/>
                <a:ext cx="42840" cy="65160"/>
              </a:xfrm>
              <a:custGeom>
                <a:avLst/>
                <a:gdLst/>
                <a:ahLst/>
                <a:rect l="l" t="t" r="r" b="b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831400" y="4578840"/>
                <a:ext cx="37800" cy="339840"/>
              </a:xfrm>
              <a:custGeom>
                <a:avLst/>
                <a:gdLst/>
                <a:ahLst/>
                <a:rect l="l" t="t" r="r" b="b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738520" y="4577040"/>
                <a:ext cx="36360" cy="339840"/>
              </a:xfrm>
              <a:custGeom>
                <a:avLst/>
                <a:gdLst/>
                <a:ahLst/>
                <a:rect l="l" t="t" r="r" b="b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774880" y="4578480"/>
                <a:ext cx="60120" cy="340920"/>
              </a:xfrm>
              <a:custGeom>
                <a:avLst/>
                <a:gdLst/>
                <a:ahLst/>
                <a:rect l="l" t="t" r="r" b="b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H="1">
                <a:off x="2741760" y="4506120"/>
                <a:ext cx="124560" cy="89640"/>
              </a:xfrm>
              <a:custGeom>
                <a:avLst/>
                <a:gdLst/>
                <a:ahLst/>
                <a:rect l="l" t="t" r="r" b="b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888640" y="4538160"/>
              <a:ext cx="130680" cy="471240"/>
              <a:chOff x="2888640" y="4538160"/>
              <a:chExt cx="130680" cy="471240"/>
            </a:xfrm>
          </p:grpSpPr>
          <p:sp>
            <p:nvSpPr>
              <p:cNvPr id="469" name=""/>
              <p:cNvSpPr/>
              <p:nvPr/>
            </p:nvSpPr>
            <p:spPr>
              <a:xfrm flipH="1">
                <a:off x="2929680" y="4538160"/>
                <a:ext cx="42840" cy="65160"/>
              </a:xfrm>
              <a:custGeom>
                <a:avLst/>
                <a:gdLst/>
                <a:ahLst/>
                <a:rect l="l" t="t" r="r" b="b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H="1">
                <a:off x="2981160" y="4668840"/>
                <a:ext cx="37800" cy="339840"/>
              </a:xfrm>
              <a:custGeom>
                <a:avLst/>
                <a:gdLst/>
                <a:ahLst/>
                <a:rect l="l" t="t" r="r" b="b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flipH="1">
                <a:off x="2888280" y="4667040"/>
                <a:ext cx="36360" cy="339840"/>
              </a:xfrm>
              <a:custGeom>
                <a:avLst/>
                <a:gdLst/>
                <a:ahLst/>
                <a:rect l="l" t="t" r="r" b="b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H="1">
                <a:off x="2924640" y="4668480"/>
                <a:ext cx="60120" cy="340920"/>
              </a:xfrm>
              <a:custGeom>
                <a:avLst/>
                <a:gdLst/>
                <a:ahLst/>
                <a:rect l="l" t="t" r="r" b="b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H="1">
                <a:off x="2891520" y="4596120"/>
                <a:ext cx="124560" cy="89640"/>
              </a:xfrm>
              <a:custGeom>
                <a:avLst/>
                <a:gdLst/>
                <a:ahLst/>
                <a:rect l="l" t="t" r="r" b="b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474" name=""/>
            <p:cNvGrpSpPr/>
            <p:nvPr/>
          </p:nvGrpSpPr>
          <p:grpSpPr>
            <a:xfrm>
              <a:off x="2581560" y="4554000"/>
              <a:ext cx="130680" cy="471240"/>
              <a:chOff x="2581560" y="4554000"/>
              <a:chExt cx="130680" cy="471240"/>
            </a:xfrm>
          </p:grpSpPr>
          <p:sp>
            <p:nvSpPr>
              <p:cNvPr id="475" name=""/>
              <p:cNvSpPr/>
              <p:nvPr/>
            </p:nvSpPr>
            <p:spPr>
              <a:xfrm flipH="1">
                <a:off x="2622600" y="4554000"/>
                <a:ext cx="42840" cy="65160"/>
              </a:xfrm>
              <a:custGeom>
                <a:avLst/>
                <a:gdLst/>
                <a:ahLst/>
                <a:rect l="l" t="t" r="r" b="b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flipH="1">
                <a:off x="2674080" y="4685040"/>
                <a:ext cx="37800" cy="340200"/>
              </a:xfrm>
              <a:custGeom>
                <a:avLst/>
                <a:gdLst/>
                <a:ahLst/>
                <a:rect l="l" t="t" r="r" b="b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H="1">
                <a:off x="2581200" y="4682880"/>
                <a:ext cx="36360" cy="340200"/>
              </a:xfrm>
              <a:custGeom>
                <a:avLst/>
                <a:gdLst/>
                <a:ahLst/>
                <a:rect l="l" t="t" r="r" b="b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flipH="1">
                <a:off x="2617560" y="4684320"/>
                <a:ext cx="60120" cy="340920"/>
              </a:xfrm>
              <a:custGeom>
                <a:avLst/>
                <a:gdLst/>
                <a:ahLst/>
                <a:rect l="l" t="t" r="r" b="b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H="1">
                <a:off x="2584440" y="4611960"/>
                <a:ext cx="124560" cy="89640"/>
              </a:xfrm>
              <a:custGeom>
                <a:avLst/>
                <a:gdLst/>
                <a:ahLst/>
                <a:rect l="l" t="t" r="r" b="b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grpSp>
        <p:nvGrpSpPr>
          <p:cNvPr id="480" name=""/>
          <p:cNvGrpSpPr/>
          <p:nvPr/>
        </p:nvGrpSpPr>
        <p:grpSpPr>
          <a:xfrm>
            <a:off x="7183800" y="4448160"/>
            <a:ext cx="437760" cy="577080"/>
            <a:chOff x="7183800" y="4448160"/>
            <a:chExt cx="437760" cy="577080"/>
          </a:xfrm>
        </p:grpSpPr>
        <p:grpSp>
          <p:nvGrpSpPr>
            <p:cNvPr id="481" name=""/>
            <p:cNvGrpSpPr/>
            <p:nvPr/>
          </p:nvGrpSpPr>
          <p:grpSpPr>
            <a:xfrm>
              <a:off x="7341120" y="4448160"/>
              <a:ext cx="130680" cy="471240"/>
              <a:chOff x="7341120" y="4448160"/>
              <a:chExt cx="130680" cy="471240"/>
            </a:xfrm>
          </p:grpSpPr>
          <p:sp>
            <p:nvSpPr>
              <p:cNvPr id="482" name=""/>
              <p:cNvSpPr/>
              <p:nvPr/>
            </p:nvSpPr>
            <p:spPr>
              <a:xfrm flipH="1">
                <a:off x="7382160" y="4448160"/>
                <a:ext cx="42840" cy="65160"/>
              </a:xfrm>
              <a:custGeom>
                <a:avLst/>
                <a:gdLst/>
                <a:ahLst/>
                <a:rect l="l" t="t" r="r" b="b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flipH="1">
                <a:off x="7433640" y="4578840"/>
                <a:ext cx="37800" cy="339840"/>
              </a:xfrm>
              <a:custGeom>
                <a:avLst/>
                <a:gdLst/>
                <a:ahLst/>
                <a:rect l="l" t="t" r="r" b="b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flipH="1">
                <a:off x="7340760" y="4577040"/>
                <a:ext cx="36360" cy="339840"/>
              </a:xfrm>
              <a:custGeom>
                <a:avLst/>
                <a:gdLst/>
                <a:ahLst/>
                <a:rect l="l" t="t" r="r" b="b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H="1">
                <a:off x="7377120" y="4578480"/>
                <a:ext cx="60120" cy="340920"/>
              </a:xfrm>
              <a:custGeom>
                <a:avLst/>
                <a:gdLst/>
                <a:ahLst/>
                <a:rect l="l" t="t" r="r" b="b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H="1">
                <a:off x="7344000" y="4506120"/>
                <a:ext cx="124560" cy="89640"/>
              </a:xfrm>
              <a:custGeom>
                <a:avLst/>
                <a:gdLst/>
                <a:ahLst/>
                <a:rect l="l" t="t" r="r" b="b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487" name=""/>
            <p:cNvGrpSpPr/>
            <p:nvPr/>
          </p:nvGrpSpPr>
          <p:grpSpPr>
            <a:xfrm>
              <a:off x="7490880" y="4538160"/>
              <a:ext cx="130680" cy="471240"/>
              <a:chOff x="7490880" y="4538160"/>
              <a:chExt cx="130680" cy="471240"/>
            </a:xfrm>
          </p:grpSpPr>
          <p:sp>
            <p:nvSpPr>
              <p:cNvPr id="488" name=""/>
              <p:cNvSpPr/>
              <p:nvPr/>
            </p:nvSpPr>
            <p:spPr>
              <a:xfrm flipH="1">
                <a:off x="7531920" y="4538160"/>
                <a:ext cx="42840" cy="65160"/>
              </a:xfrm>
              <a:custGeom>
                <a:avLst/>
                <a:gdLst/>
                <a:ahLst/>
                <a:rect l="l" t="t" r="r" b="b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flipH="1">
                <a:off x="7583400" y="4668840"/>
                <a:ext cx="37800" cy="339840"/>
              </a:xfrm>
              <a:custGeom>
                <a:avLst/>
                <a:gdLst/>
                <a:ahLst/>
                <a:rect l="l" t="t" r="r" b="b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flipH="1">
                <a:off x="7490520" y="4667040"/>
                <a:ext cx="36360" cy="339840"/>
              </a:xfrm>
              <a:custGeom>
                <a:avLst/>
                <a:gdLst/>
                <a:ahLst/>
                <a:rect l="l" t="t" r="r" b="b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H="1">
                <a:off x="7526880" y="4668480"/>
                <a:ext cx="60120" cy="340920"/>
              </a:xfrm>
              <a:custGeom>
                <a:avLst/>
                <a:gdLst/>
                <a:ahLst/>
                <a:rect l="l" t="t" r="r" b="b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H="1">
                <a:off x="7493760" y="4596120"/>
                <a:ext cx="124560" cy="89640"/>
              </a:xfrm>
              <a:custGeom>
                <a:avLst/>
                <a:gdLst/>
                <a:ahLst/>
                <a:rect l="l" t="t" r="r" b="b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493" name=""/>
            <p:cNvGrpSpPr/>
            <p:nvPr/>
          </p:nvGrpSpPr>
          <p:grpSpPr>
            <a:xfrm>
              <a:off x="7183800" y="4554000"/>
              <a:ext cx="130680" cy="471240"/>
              <a:chOff x="7183800" y="4554000"/>
              <a:chExt cx="130680" cy="471240"/>
            </a:xfrm>
          </p:grpSpPr>
          <p:sp>
            <p:nvSpPr>
              <p:cNvPr id="494" name=""/>
              <p:cNvSpPr/>
              <p:nvPr/>
            </p:nvSpPr>
            <p:spPr>
              <a:xfrm flipH="1">
                <a:off x="7224840" y="4554000"/>
                <a:ext cx="42840" cy="65160"/>
              </a:xfrm>
              <a:custGeom>
                <a:avLst/>
                <a:gdLst/>
                <a:ahLst/>
                <a:rect l="l" t="t" r="r" b="b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flipH="1">
                <a:off x="7276320" y="4685040"/>
                <a:ext cx="37800" cy="340200"/>
              </a:xfrm>
              <a:custGeom>
                <a:avLst/>
                <a:gdLst/>
                <a:ahLst/>
                <a:rect l="l" t="t" r="r" b="b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H="1">
                <a:off x="7183440" y="4682880"/>
                <a:ext cx="36360" cy="340200"/>
              </a:xfrm>
              <a:custGeom>
                <a:avLst/>
                <a:gdLst/>
                <a:ahLst/>
                <a:rect l="l" t="t" r="r" b="b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flipH="1">
                <a:off x="7219800" y="4684320"/>
                <a:ext cx="60120" cy="340920"/>
              </a:xfrm>
              <a:custGeom>
                <a:avLst/>
                <a:gdLst/>
                <a:ahLst/>
                <a:rect l="l" t="t" r="r" b="b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H="1">
                <a:off x="7186680" y="4611960"/>
                <a:ext cx="124560" cy="89640"/>
              </a:xfrm>
              <a:custGeom>
                <a:avLst/>
                <a:gdLst/>
                <a:ahLst/>
                <a:rect l="l" t="t" r="r" b="b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rot="18900000">
            <a:off x="3224160" y="2619000"/>
            <a:ext cx="2455920" cy="2454120"/>
          </a:xfrm>
          <a:custGeom>
            <a:avLst/>
            <a:gdLst>
              <a:gd name="textAreaLeft" fmla="*/ 613800 w 2455920"/>
              <a:gd name="textAreaRight" fmla="*/ 1842120 w 2455920"/>
              <a:gd name="textAreaTop" fmla="*/ 613440 h 2454120"/>
              <a:gd name="textAreaBottom" fmla="*/ 1840680 h 245412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50" y="5400"/>
                </a:lnTo>
                <a:lnTo>
                  <a:pt x="945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150" y="2700"/>
                </a:lnTo>
                <a:lnTo>
                  <a:pt x="12150" y="5400"/>
                </a:lnTo>
                <a:lnTo>
                  <a:pt x="16200" y="5400"/>
                </a:lnTo>
                <a:lnTo>
                  <a:pt x="16200" y="9450"/>
                </a:lnTo>
                <a:lnTo>
                  <a:pt x="18900" y="945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150"/>
                </a:lnTo>
                <a:lnTo>
                  <a:pt x="16200" y="12150"/>
                </a:lnTo>
                <a:lnTo>
                  <a:pt x="16200" y="16200"/>
                </a:lnTo>
                <a:lnTo>
                  <a:pt x="12150" y="16200"/>
                </a:lnTo>
                <a:lnTo>
                  <a:pt x="1215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50" y="18900"/>
                </a:lnTo>
                <a:lnTo>
                  <a:pt x="9450" y="16200"/>
                </a:lnTo>
                <a:lnTo>
                  <a:pt x="5400" y="16200"/>
                </a:lnTo>
                <a:lnTo>
                  <a:pt x="5400" y="12150"/>
                </a:lnTo>
                <a:lnTo>
                  <a:pt x="2700" y="1215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50"/>
                </a:lnTo>
                <a:lnTo>
                  <a:pt x="5400" y="9450"/>
                </a:lnTo>
                <a:close/>
              </a:path>
            </a:pathLst>
          </a:custGeom>
          <a:gradFill rotWithShape="0">
            <a:gsLst>
              <a:gs pos="0">
                <a:srgbClr val="dadada"/>
              </a:gs>
              <a:gs pos="100000">
                <a:srgbClr val="96969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717480" y="2116080"/>
            <a:ext cx="174636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491c4"/>
                </a:solidFill>
                <a:latin typeface="Arial"/>
                <a:ea typeface="宋体"/>
              </a:rPr>
              <a:t>Product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429240" y="4700520"/>
            <a:ext cx="16160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491c4"/>
                </a:solidFill>
                <a:latin typeface="Arial"/>
                <a:ea typeface="宋体"/>
              </a:rPr>
              <a:t>Servic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ervice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533520" y="4735440"/>
            <a:ext cx="1925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Technolog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technology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421320" y="2055960"/>
            <a:ext cx="159876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Marke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market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05" name="" descr=""/>
          <p:cNvPicPr/>
          <p:nvPr/>
        </p:nvPicPr>
        <p:blipFill>
          <a:blip r:embed="rId1"/>
          <a:stretch/>
        </p:blipFill>
        <p:spPr>
          <a:xfrm>
            <a:off x="2459160" y="1920960"/>
            <a:ext cx="1222200" cy="1225440"/>
          </a:xfrm>
          <a:prstGeom prst="rect">
            <a:avLst/>
          </a:prstGeom>
          <a:ln w="0">
            <a:noFill/>
          </a:ln>
        </p:spPr>
      </p:pic>
      <p:sp>
        <p:nvSpPr>
          <p:cNvPr id="506" name=""/>
          <p:cNvSpPr/>
          <p:nvPr/>
        </p:nvSpPr>
        <p:spPr>
          <a:xfrm>
            <a:off x="2459160" y="1917720"/>
            <a:ext cx="1214280" cy="1233360"/>
          </a:xfrm>
          <a:prstGeom prst="ellipse">
            <a:avLst/>
          </a:prstGeom>
          <a:solidFill>
            <a:srgbClr val="32b66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2"/>
          <a:stretch/>
        </p:blipFill>
        <p:spPr>
          <a:xfrm>
            <a:off x="2460600" y="4546440"/>
            <a:ext cx="1220760" cy="1225800"/>
          </a:xfrm>
          <a:prstGeom prst="rect">
            <a:avLst/>
          </a:prstGeom>
          <a:ln w="0">
            <a:noFill/>
          </a:ln>
        </p:spPr>
      </p:pic>
      <p:sp>
        <p:nvSpPr>
          <p:cNvPr id="508" name=""/>
          <p:cNvSpPr/>
          <p:nvPr/>
        </p:nvSpPr>
        <p:spPr>
          <a:xfrm>
            <a:off x="2460600" y="4543560"/>
            <a:ext cx="1216080" cy="1233360"/>
          </a:xfrm>
          <a:prstGeom prst="ellipse">
            <a:avLst/>
          </a:prstGeom>
          <a:solidFill>
            <a:srgbClr val="4c9bb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09" name="" descr=""/>
          <p:cNvPicPr/>
          <p:nvPr/>
        </p:nvPicPr>
        <p:blipFill>
          <a:blip r:embed="rId3"/>
          <a:stretch/>
        </p:blipFill>
        <p:spPr>
          <a:xfrm>
            <a:off x="5205240" y="4535640"/>
            <a:ext cx="1222560" cy="1225440"/>
          </a:xfrm>
          <a:prstGeom prst="rect">
            <a:avLst/>
          </a:prstGeom>
          <a:ln w="0">
            <a:noFill/>
          </a:ln>
        </p:spPr>
      </p:pic>
      <p:sp>
        <p:nvSpPr>
          <p:cNvPr id="510" name=""/>
          <p:cNvSpPr/>
          <p:nvPr/>
        </p:nvSpPr>
        <p:spPr>
          <a:xfrm>
            <a:off x="5205240" y="4522680"/>
            <a:ext cx="1216080" cy="1233720"/>
          </a:xfrm>
          <a:prstGeom prst="ellipse">
            <a:avLst/>
          </a:prstGeom>
          <a:solidFill>
            <a:srgbClr val="32b66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11" name="" descr=""/>
          <p:cNvPicPr/>
          <p:nvPr/>
        </p:nvPicPr>
        <p:blipFill>
          <a:blip r:embed="rId4"/>
          <a:stretch/>
        </p:blipFill>
        <p:spPr>
          <a:xfrm>
            <a:off x="5205240" y="1906560"/>
            <a:ext cx="1221120" cy="122724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/>
          <p:nvPr/>
        </p:nvSpPr>
        <p:spPr>
          <a:xfrm>
            <a:off x="5205240" y="1905120"/>
            <a:ext cx="1216080" cy="1233360"/>
          </a:xfrm>
          <a:prstGeom prst="ellipse">
            <a:avLst/>
          </a:prstGeom>
          <a:solidFill>
            <a:srgbClr val="4c9bb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695680" y="2581200"/>
            <a:ext cx="73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Text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2882880" y="2170080"/>
            <a:ext cx="360360" cy="363240"/>
            <a:chOff x="2882880" y="2170080"/>
            <a:chExt cx="360360" cy="363240"/>
          </a:xfrm>
        </p:grpSpPr>
        <p:sp>
          <p:nvSpPr>
            <p:cNvPr id="515" name=""/>
            <p:cNvSpPr/>
            <p:nvPr/>
          </p:nvSpPr>
          <p:spPr>
            <a:xfrm>
              <a:off x="2882880" y="2170080"/>
              <a:ext cx="360360" cy="36108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064320" y="2170080"/>
              <a:ext cx="0" cy="35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882880" y="2349360"/>
              <a:ext cx="3603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088440" y="2172240"/>
              <a:ext cx="74520" cy="356400"/>
            </a:xfrm>
            <a:custGeom>
              <a:avLst/>
              <a:gdLst/>
              <a:ahLst/>
              <a:rect l="l" t="t" r="r" b="b"/>
              <a:pathLst>
                <a:path w="182" h="864">
                  <a:moveTo>
                    <a:pt x="0" y="0"/>
                  </a:moveTo>
                  <a:cubicBezTo>
                    <a:pt x="59" y="89"/>
                    <a:pt x="182" y="177"/>
                    <a:pt x="182" y="435"/>
                  </a:cubicBezTo>
                  <a:cubicBezTo>
                    <a:pt x="182" y="693"/>
                    <a:pt x="70" y="800"/>
                    <a:pt x="6" y="864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966400" y="2174760"/>
              <a:ext cx="81000" cy="3585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 rot="5400000">
              <a:off x="3033360" y="2318760"/>
              <a:ext cx="46800" cy="2685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 flipV="1" rot="16200000">
              <a:off x="3036960" y="2112120"/>
              <a:ext cx="46800" cy="2685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5605560" y="4781520"/>
            <a:ext cx="487080" cy="390240"/>
            <a:chOff x="5605560" y="4781520"/>
            <a:chExt cx="487080" cy="390240"/>
          </a:xfrm>
        </p:grpSpPr>
        <p:sp>
          <p:nvSpPr>
            <p:cNvPr id="523" name=""/>
            <p:cNvSpPr/>
            <p:nvPr/>
          </p:nvSpPr>
          <p:spPr>
            <a:xfrm>
              <a:off x="5958720" y="4781520"/>
              <a:ext cx="133920" cy="135360"/>
            </a:xfrm>
            <a:custGeom>
              <a:avLst/>
              <a:gdLst/>
              <a:ahLst/>
              <a:rect l="l" t="t" r="r" b="b"/>
              <a:pathLst>
                <a:path w="116" h="117">
                  <a:moveTo>
                    <a:pt x="12" y="0"/>
                  </a:moveTo>
                  <a:lnTo>
                    <a:pt x="0" y="67"/>
                  </a:lnTo>
                  <a:lnTo>
                    <a:pt x="53" y="117"/>
                  </a:lnTo>
                  <a:lnTo>
                    <a:pt x="108" y="105"/>
                  </a:lnTo>
                  <a:lnTo>
                    <a:pt x="116" y="54"/>
                  </a:lnTo>
                  <a:lnTo>
                    <a:pt x="65" y="0"/>
                  </a:lnTo>
                  <a:lnTo>
                    <a:pt x="12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709240" y="4857840"/>
              <a:ext cx="315360" cy="263880"/>
            </a:xfrm>
            <a:custGeom>
              <a:avLst/>
              <a:gdLst/>
              <a:ahLst/>
              <a:rect l="l" t="t" r="r" b="b"/>
              <a:pathLst>
                <a:path w="273" h="228">
                  <a:moveTo>
                    <a:pt x="0" y="169"/>
                  </a:moveTo>
                  <a:lnTo>
                    <a:pt x="45" y="228"/>
                  </a:lnTo>
                  <a:lnTo>
                    <a:pt x="273" y="49"/>
                  </a:lnTo>
                  <a:lnTo>
                    <a:pt x="215" y="0"/>
                  </a:lnTo>
                  <a:lnTo>
                    <a:pt x="0" y="16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709240" y="4781520"/>
              <a:ext cx="263160" cy="274680"/>
            </a:xfrm>
            <a:custGeom>
              <a:avLst/>
              <a:gdLst/>
              <a:ahLst/>
              <a:rect l="l" t="t" r="r" b="b"/>
              <a:pathLst>
                <a:path w="228" h="237">
                  <a:moveTo>
                    <a:pt x="21" y="172"/>
                  </a:moveTo>
                  <a:lnTo>
                    <a:pt x="0" y="237"/>
                  </a:lnTo>
                  <a:lnTo>
                    <a:pt x="219" y="64"/>
                  </a:lnTo>
                  <a:lnTo>
                    <a:pt x="228" y="0"/>
                  </a:lnTo>
                  <a:lnTo>
                    <a:pt x="21" y="17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761080" y="4903200"/>
              <a:ext cx="324360" cy="218880"/>
            </a:xfrm>
            <a:custGeom>
              <a:avLst/>
              <a:gdLst/>
              <a:ahLst/>
              <a:rect l="l" t="t" r="r" b="b"/>
              <a:pathLst>
                <a:path w="281" h="189">
                  <a:moveTo>
                    <a:pt x="63" y="178"/>
                  </a:moveTo>
                  <a:lnTo>
                    <a:pt x="0" y="189"/>
                  </a:lnTo>
                  <a:lnTo>
                    <a:pt x="227" y="10"/>
                  </a:lnTo>
                  <a:lnTo>
                    <a:pt x="281" y="0"/>
                  </a:lnTo>
                  <a:lnTo>
                    <a:pt x="63" y="17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629680" y="4976280"/>
              <a:ext cx="185760" cy="189000"/>
            </a:xfrm>
            <a:custGeom>
              <a:avLst/>
              <a:gdLst/>
              <a:ahLst/>
              <a:rect l="l" t="t" r="r" b="b"/>
              <a:pathLst>
                <a:path w="161" h="163">
                  <a:moveTo>
                    <a:pt x="0" y="135"/>
                  </a:moveTo>
                  <a:lnTo>
                    <a:pt x="18" y="163"/>
                  </a:lnTo>
                  <a:lnTo>
                    <a:pt x="161" y="120"/>
                  </a:lnTo>
                  <a:lnTo>
                    <a:pt x="114" y="124"/>
                  </a:lnTo>
                  <a:lnTo>
                    <a:pt x="69" y="67"/>
                  </a:lnTo>
                  <a:lnTo>
                    <a:pt x="90" y="0"/>
                  </a:lnTo>
                  <a:lnTo>
                    <a:pt x="0" y="13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605560" y="5133960"/>
              <a:ext cx="45000" cy="37800"/>
            </a:xfrm>
            <a:custGeom>
              <a:avLst/>
              <a:gdLst/>
              <a:ahLst/>
              <a:rect l="l" t="t" r="r" b="b"/>
              <a:pathLst>
                <a:path w="39" h="33">
                  <a:moveTo>
                    <a:pt x="27" y="0"/>
                  </a:moveTo>
                  <a:lnTo>
                    <a:pt x="0" y="33"/>
                  </a:lnTo>
                  <a:lnTo>
                    <a:pt x="39" y="2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 flipV="1">
              <a:off x="5639040" y="5052240"/>
              <a:ext cx="75960" cy="83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 flipV="1">
              <a:off x="5649480" y="5118480"/>
              <a:ext cx="115200" cy="39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 rot="1507200">
              <a:off x="6007680" y="4826520"/>
              <a:ext cx="49320" cy="30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2878200" y="4782960"/>
            <a:ext cx="409680" cy="355320"/>
            <a:chOff x="2878200" y="4782960"/>
            <a:chExt cx="409680" cy="355320"/>
          </a:xfrm>
        </p:grpSpPr>
        <p:sp>
          <p:nvSpPr>
            <p:cNvPr id="533" name=""/>
            <p:cNvSpPr/>
            <p:nvPr/>
          </p:nvSpPr>
          <p:spPr>
            <a:xfrm>
              <a:off x="2962080" y="4782960"/>
              <a:ext cx="244080" cy="246240"/>
            </a:xfrm>
            <a:custGeom>
              <a:avLst/>
              <a:gdLst>
                <a:gd name="textAreaLeft" fmla="*/ 4320 w 244080"/>
                <a:gd name="textAreaRight" fmla="*/ 239760 w 244080"/>
                <a:gd name="textAreaTop" fmla="*/ 4320 h 246240"/>
                <a:gd name="textAreaBottom" fmla="*/ 241920 h 246240"/>
              </a:gdLst>
              <a:ahLst/>
              <a:rect l="textAreaLeft" t="textAreaTop" r="textAreaRight" b="textAreaBottom"/>
              <a:pathLst>
                <a:path w="21600" h="21791">
                  <a:moveTo>
                    <a:pt x="1350" y="0"/>
                  </a:moveTo>
                  <a:arcTo wR="1350" hR="1350" stAng="16200000" swAng="-5400000"/>
                  <a:lnTo>
                    <a:pt x="0" y="20441"/>
                  </a:lnTo>
                  <a:arcTo wR="1350" hR="1350" stAng="10800000" swAng="-5400000"/>
                  <a:lnTo>
                    <a:pt x="20250" y="21791"/>
                  </a:lnTo>
                  <a:arcTo wR="1350" hR="1350" stAng="5400000" swAng="-5400000"/>
                  <a:lnTo>
                    <a:pt x="21600" y="1350"/>
                  </a:lnTo>
                  <a:arcTo wR="1350" hR="1350" stAng="0" swAng="-5400000"/>
                  <a:close/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878200" y="5029200"/>
              <a:ext cx="409680" cy="1090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982960" y="4806360"/>
              <a:ext cx="201960" cy="193680"/>
            </a:xfrm>
            <a:prstGeom prst="roundRect">
              <a:avLst>
                <a:gd name="adj" fmla="val 797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3166560" y="5081760"/>
              <a:ext cx="615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>
              <a:off x="3057840" y="4856400"/>
              <a:ext cx="102240" cy="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>
              <a:off x="3083760" y="4882680"/>
              <a:ext cx="63000" cy="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>
              <a:off x="3101400" y="4964760"/>
              <a:ext cx="44640" cy="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540" name=""/>
          <p:cNvGrpSpPr/>
          <p:nvPr/>
        </p:nvGrpSpPr>
        <p:grpSpPr>
          <a:xfrm>
            <a:off x="5595840" y="2170080"/>
            <a:ext cx="519120" cy="330120"/>
            <a:chOff x="5595840" y="2170080"/>
            <a:chExt cx="519120" cy="330120"/>
          </a:xfrm>
        </p:grpSpPr>
        <p:grpSp>
          <p:nvGrpSpPr>
            <p:cNvPr id="541" name=""/>
            <p:cNvGrpSpPr/>
            <p:nvPr/>
          </p:nvGrpSpPr>
          <p:grpSpPr>
            <a:xfrm>
              <a:off x="5595840" y="2170080"/>
              <a:ext cx="519120" cy="330120"/>
              <a:chOff x="5595840" y="2170080"/>
              <a:chExt cx="519120" cy="330120"/>
            </a:xfrm>
          </p:grpSpPr>
          <p:sp>
            <p:nvSpPr>
              <p:cNvPr id="542" name=""/>
              <p:cNvSpPr/>
              <p:nvPr/>
            </p:nvSpPr>
            <p:spPr>
              <a:xfrm>
                <a:off x="5595840" y="2170080"/>
                <a:ext cx="519120" cy="330120"/>
              </a:xfrm>
              <a:custGeom>
                <a:avLst/>
                <a:gdLst/>
                <a:ahLst/>
                <a:rect l="l" t="t" r="r" b="b"/>
                <a:pathLst>
                  <a:path w="491" h="312">
                    <a:moveTo>
                      <a:pt x="9" y="96"/>
                    </a:moveTo>
                    <a:cubicBezTo>
                      <a:pt x="0" y="133"/>
                      <a:pt x="1" y="139"/>
                      <a:pt x="10" y="159"/>
                    </a:cubicBezTo>
                    <a:cubicBezTo>
                      <a:pt x="57" y="195"/>
                      <a:pt x="255" y="300"/>
                      <a:pt x="288" y="312"/>
                    </a:cubicBezTo>
                    <a:cubicBezTo>
                      <a:pt x="346" y="289"/>
                      <a:pt x="457" y="207"/>
                      <a:pt x="486" y="184"/>
                    </a:cubicBezTo>
                    <a:cubicBezTo>
                      <a:pt x="491" y="173"/>
                      <a:pt x="337" y="292"/>
                      <a:pt x="303" y="302"/>
                    </a:cubicBezTo>
                    <a:cubicBezTo>
                      <a:pt x="296" y="310"/>
                      <a:pt x="254" y="274"/>
                      <a:pt x="283" y="246"/>
                    </a:cubicBezTo>
                    <a:cubicBezTo>
                      <a:pt x="338" y="217"/>
                      <a:pt x="378" y="180"/>
                      <a:pt x="480" y="128"/>
                    </a:cubicBezTo>
                    <a:cubicBezTo>
                      <a:pt x="343" y="66"/>
                      <a:pt x="288" y="30"/>
                      <a:pt x="202" y="0"/>
                    </a:cubicBezTo>
                    <a:cubicBezTo>
                      <a:pt x="100" y="33"/>
                      <a:pt x="46" y="75"/>
                      <a:pt x="9" y="96"/>
                    </a:cubicBezTo>
                    <a:close/>
                  </a:path>
                </a:pathLst>
              </a:custGeom>
              <a:solidFill>
                <a:srgbClr val="000066">
                  <a:alpha val="60000"/>
                </a:srgbClr>
              </a:solidFill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5879160" y="2309760"/>
                <a:ext cx="227160" cy="180720"/>
              </a:xfrm>
              <a:custGeom>
                <a:avLst/>
                <a:gdLst/>
                <a:ahLst/>
                <a:rect l="l" t="t" r="r" b="b"/>
                <a:pathLst>
                  <a:path w="215" h="171">
                    <a:moveTo>
                      <a:pt x="15" y="117"/>
                    </a:moveTo>
                    <a:cubicBezTo>
                      <a:pt x="9" y="129"/>
                      <a:pt x="0" y="154"/>
                      <a:pt x="23" y="171"/>
                    </a:cubicBezTo>
                    <a:cubicBezTo>
                      <a:pt x="45" y="166"/>
                      <a:pt x="185" y="77"/>
                      <a:pt x="215" y="48"/>
                    </a:cubicBezTo>
                    <a:cubicBezTo>
                      <a:pt x="215" y="32"/>
                      <a:pt x="207" y="32"/>
                      <a:pt x="203" y="0"/>
                    </a:cubicBezTo>
                    <a:cubicBezTo>
                      <a:pt x="125" y="42"/>
                      <a:pt x="56" y="87"/>
                      <a:pt x="15" y="117"/>
                    </a:cubicBezTo>
                    <a:close/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5617800" y="2282040"/>
                <a:ext cx="267120" cy="1450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545" name=""/>
            <p:cNvSpPr/>
            <p:nvPr/>
          </p:nvSpPr>
          <p:spPr>
            <a:xfrm>
              <a:off x="5960520" y="2415600"/>
              <a:ext cx="50760" cy="46440"/>
            </a:xfrm>
            <a:custGeom>
              <a:avLst/>
              <a:gdLst/>
              <a:ahLst/>
              <a:rect l="l" t="t" r="r" b="b"/>
              <a:pathLst>
                <a:path w="48" h="44">
                  <a:moveTo>
                    <a:pt x="0" y="14"/>
                  </a:moveTo>
                  <a:lnTo>
                    <a:pt x="18" y="0"/>
                  </a:lnTo>
                  <a:lnTo>
                    <a:pt x="48" y="26"/>
                  </a:lnTo>
                  <a:lnTo>
                    <a:pt x="27" y="4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66">
                <a:alpha val="60000"/>
              </a:srgbClr>
            </a:solidFill>
            <a:ln w="1908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546" name=""/>
          <p:cNvSpPr/>
          <p:nvPr/>
        </p:nvSpPr>
        <p:spPr>
          <a:xfrm>
            <a:off x="5442120" y="2581200"/>
            <a:ext cx="73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Text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697120" y="5237280"/>
            <a:ext cx="73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Text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442120" y="5237280"/>
            <a:ext cx="73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Text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3830760" y="34560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827440" y="2092320"/>
            <a:ext cx="3457440" cy="34574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36623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622680" y="1665360"/>
            <a:ext cx="1919160" cy="593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2b66e"/>
              </a:gs>
              <a:gs pos="100000">
                <a:srgbClr val="268a53"/>
              </a:gs>
            </a:gsLst>
            <a:lin ang="5400000"/>
          </a:gradFill>
          <a:ln w="57240">
            <a:solidFill>
              <a:srgbClr val="32b66e"/>
            </a:solidFill>
            <a:miter/>
          </a:ln>
          <a:effectLst>
            <a:outerShdw dist="52300" dir="4563564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357200" y="2971800"/>
            <a:ext cx="1919520" cy="593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2b66e"/>
              </a:gs>
              <a:gs pos="100000">
                <a:srgbClr val="268a53"/>
              </a:gs>
            </a:gsLst>
            <a:lin ang="5400000"/>
          </a:gradFill>
          <a:ln w="57240">
            <a:solidFill>
              <a:srgbClr val="32b66e"/>
            </a:solidFill>
            <a:miter/>
          </a:ln>
          <a:effectLst>
            <a:outerShdw dist="52300" dir="4563564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867280" y="2971800"/>
            <a:ext cx="1919520" cy="593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2b66e"/>
              </a:gs>
              <a:gs pos="100000">
                <a:srgbClr val="268a53"/>
              </a:gs>
            </a:gsLst>
            <a:lin ang="5400000"/>
          </a:gradFill>
          <a:ln w="57240">
            <a:solidFill>
              <a:srgbClr val="32b66e"/>
            </a:solidFill>
            <a:miter/>
          </a:ln>
          <a:effectLst>
            <a:outerShdw dist="52300" dir="4563564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940040" y="4743360"/>
            <a:ext cx="1919160" cy="593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2b66e"/>
              </a:gs>
              <a:gs pos="100000">
                <a:srgbClr val="268a53"/>
              </a:gs>
            </a:gsLst>
            <a:lin ang="5400000"/>
          </a:gradFill>
          <a:ln w="57240">
            <a:solidFill>
              <a:srgbClr val="32b66e"/>
            </a:solidFill>
            <a:miter/>
          </a:ln>
          <a:effectLst>
            <a:outerShdw dist="52300" dir="4563564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234040" y="4756320"/>
            <a:ext cx="1919160" cy="593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2b66e"/>
              </a:gs>
              <a:gs pos="100000">
                <a:srgbClr val="268a53"/>
              </a:gs>
            </a:gsLst>
            <a:lin ang="5400000"/>
          </a:gradFill>
          <a:ln w="57240">
            <a:solidFill>
              <a:srgbClr val="32b66e"/>
            </a:solidFill>
            <a:miter/>
          </a:ln>
          <a:effectLst>
            <a:outerShdw dist="52300" dir="4563564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649840" y="1724040"/>
            <a:ext cx="2189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product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busines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262560" y="3716280"/>
            <a:ext cx="14972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busines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170320" y="5451480"/>
            <a:ext cx="2281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product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busines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482840" y="3720960"/>
            <a:ext cx="1541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product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825560" y="5451480"/>
            <a:ext cx="219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product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busines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3840120" y="180648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562040" y="31082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100560" y="31082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5416560" y="490212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193840" y="48387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3997440" y="3543480"/>
            <a:ext cx="1182600" cy="434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Title</a:t>
            </a:r>
            <a:endParaRPr b="1" lang="en-US" sz="2000" spc="1" strike="noStrike">
              <a:ln w="2232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Block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549680" y="1598760"/>
            <a:ext cx="0" cy="2560320"/>
          </a:xfrm>
          <a:prstGeom prst="line">
            <a:avLst/>
          </a:prstGeom>
          <a:ln w="12600">
            <a:solidFill>
              <a:srgbClr val="3491c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338640" y="2198520"/>
            <a:ext cx="2428920" cy="1398600"/>
          </a:xfrm>
          <a:prstGeom prst="line">
            <a:avLst/>
          </a:prstGeom>
          <a:ln w="12600">
            <a:solidFill>
              <a:srgbClr val="3491c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3538440" y="1863720"/>
            <a:ext cx="2009880" cy="2008080"/>
            <a:chOff x="3538440" y="1863720"/>
            <a:chExt cx="2009880" cy="2008080"/>
          </a:xfrm>
        </p:grpSpPr>
        <p:sp>
          <p:nvSpPr>
            <p:cNvPr id="572" name=""/>
            <p:cNvSpPr/>
            <p:nvPr/>
          </p:nvSpPr>
          <p:spPr>
            <a:xfrm>
              <a:off x="3538440" y="1863720"/>
              <a:ext cx="2009880" cy="2008080"/>
            </a:xfrm>
            <a:prstGeom prst="ellipse">
              <a:avLst/>
            </a:prstGeom>
            <a:noFill/>
            <a:ln w="9360">
              <a:solidFill>
                <a:srgbClr val="3491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669840" y="2001240"/>
              <a:ext cx="1745640" cy="1744200"/>
            </a:xfrm>
            <a:prstGeom prst="ellipse">
              <a:avLst/>
            </a:prstGeom>
            <a:noFill/>
            <a:ln w="9360">
              <a:solidFill>
                <a:srgbClr val="3491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814920" y="2152440"/>
              <a:ext cx="1468080" cy="1467000"/>
            </a:xfrm>
            <a:prstGeom prst="ellipse">
              <a:avLst/>
            </a:prstGeom>
            <a:noFill/>
            <a:ln w="9360">
              <a:solidFill>
                <a:srgbClr val="3491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941280" y="2304000"/>
              <a:ext cx="1190520" cy="1189080"/>
            </a:xfrm>
            <a:prstGeom prst="ellipse">
              <a:avLst/>
            </a:prstGeom>
            <a:noFill/>
            <a:ln w="9360">
              <a:solidFill>
                <a:srgbClr val="3491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086000" y="2448720"/>
              <a:ext cx="912960" cy="911880"/>
            </a:xfrm>
            <a:prstGeom prst="ellipse">
              <a:avLst/>
            </a:prstGeom>
            <a:noFill/>
            <a:ln w="9360">
              <a:solidFill>
                <a:srgbClr val="3491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218840" y="2574720"/>
              <a:ext cx="647640" cy="647280"/>
            </a:xfrm>
            <a:prstGeom prst="ellipse">
              <a:avLst/>
            </a:prstGeom>
            <a:noFill/>
            <a:ln w="9360">
              <a:solidFill>
                <a:srgbClr val="3491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38720" y="2701080"/>
              <a:ext cx="407880" cy="407520"/>
            </a:xfrm>
            <a:prstGeom prst="ellipse">
              <a:avLst/>
            </a:prstGeom>
            <a:noFill/>
            <a:ln w="9360">
              <a:solidFill>
                <a:srgbClr val="3491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579" name=""/>
          <p:cNvSpPr/>
          <p:nvPr/>
        </p:nvSpPr>
        <p:spPr>
          <a:xfrm flipV="1">
            <a:off x="3330720" y="2224080"/>
            <a:ext cx="2431800" cy="1355760"/>
          </a:xfrm>
          <a:prstGeom prst="line">
            <a:avLst/>
          </a:prstGeom>
          <a:ln w="12600">
            <a:solidFill>
              <a:srgbClr val="3491c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697200" y="2236680"/>
            <a:ext cx="1622520" cy="1165320"/>
          </a:xfrm>
          <a:custGeom>
            <a:avLst/>
            <a:gdLst/>
            <a:ahLst/>
            <a:rect l="l" t="t" r="r" b="b"/>
            <a:pathLst>
              <a:path w="1542" h="1110">
                <a:moveTo>
                  <a:pt x="804" y="0"/>
                </a:moveTo>
                <a:lnTo>
                  <a:pt x="54" y="198"/>
                </a:lnTo>
                <a:lnTo>
                  <a:pt x="0" y="1110"/>
                </a:lnTo>
                <a:lnTo>
                  <a:pt x="804" y="1098"/>
                </a:lnTo>
                <a:lnTo>
                  <a:pt x="960" y="714"/>
                </a:lnTo>
                <a:lnTo>
                  <a:pt x="1542" y="204"/>
                </a:lnTo>
                <a:lnTo>
                  <a:pt x="804" y="0"/>
                </a:lnTo>
                <a:close/>
              </a:path>
            </a:pathLst>
          </a:custGeom>
          <a:solidFill>
            <a:srgbClr val="ff9900">
              <a:alpha val="50000"/>
            </a:srgbClr>
          </a:solidFill>
          <a:ln w="12600">
            <a:solidFill>
              <a:srgbClr val="1c1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81" name="" descr=""/>
          <p:cNvPicPr/>
          <p:nvPr/>
        </p:nvPicPr>
        <p:blipFill>
          <a:blip r:embed="rId1"/>
          <a:srcRect l="37892" t="32815" r="31252" b="24483"/>
          <a:stretch/>
        </p:blipFill>
        <p:spPr>
          <a:xfrm flipH="1" rot="35400">
            <a:off x="4686120" y="2953800"/>
            <a:ext cx="69840" cy="71640"/>
          </a:xfrm>
          <a:prstGeom prst="rect">
            <a:avLst/>
          </a:prstGeom>
          <a:ln w="0">
            <a:noFill/>
          </a:ln>
        </p:spPr>
      </p:pic>
      <p:pic>
        <p:nvPicPr>
          <p:cNvPr id="582" name="" descr=""/>
          <p:cNvPicPr/>
          <p:nvPr/>
        </p:nvPicPr>
        <p:blipFill>
          <a:blip r:embed="rId2"/>
          <a:srcRect l="37892" t="32815" r="31252" b="24483"/>
          <a:stretch/>
        </p:blipFill>
        <p:spPr>
          <a:xfrm flipH="1" rot="40800">
            <a:off x="4468320" y="2162160"/>
            <a:ext cx="150840" cy="155520"/>
          </a:xfrm>
          <a:prstGeom prst="rect">
            <a:avLst/>
          </a:prstGeom>
          <a:ln w="0">
            <a:noFill/>
          </a:ln>
        </p:spPr>
      </p:pic>
      <p:pic>
        <p:nvPicPr>
          <p:cNvPr id="583" name="" descr=""/>
          <p:cNvPicPr/>
          <p:nvPr/>
        </p:nvPicPr>
        <p:blipFill>
          <a:blip r:embed="rId3"/>
          <a:srcRect l="37892" t="32815" r="31252" b="24483"/>
          <a:stretch/>
        </p:blipFill>
        <p:spPr>
          <a:xfrm flipH="1" rot="43200">
            <a:off x="3666600" y="2339640"/>
            <a:ext cx="201600" cy="204840"/>
          </a:xfrm>
          <a:prstGeom prst="rect">
            <a:avLst/>
          </a:prstGeom>
          <a:ln w="0">
            <a:noFill/>
          </a:ln>
        </p:spPr>
      </p:pic>
      <p:pic>
        <p:nvPicPr>
          <p:cNvPr id="584" name="" descr=""/>
          <p:cNvPicPr/>
          <p:nvPr/>
        </p:nvPicPr>
        <p:blipFill>
          <a:blip r:embed="rId4"/>
          <a:srcRect l="37892" t="32815" r="31252" b="24483"/>
          <a:stretch/>
        </p:blipFill>
        <p:spPr>
          <a:xfrm flipH="1" rot="40800">
            <a:off x="3536280" y="3259080"/>
            <a:ext cx="271440" cy="281160"/>
          </a:xfrm>
          <a:prstGeom prst="rect">
            <a:avLst/>
          </a:prstGeom>
          <a:ln w="0">
            <a:noFill/>
          </a:ln>
        </p:spPr>
      </p:pic>
      <p:pic>
        <p:nvPicPr>
          <p:cNvPr id="585" name="" descr=""/>
          <p:cNvPicPr/>
          <p:nvPr/>
        </p:nvPicPr>
        <p:blipFill>
          <a:blip r:embed="rId5"/>
          <a:srcRect l="37892" t="32815" r="31252" b="24483"/>
          <a:stretch/>
        </p:blipFill>
        <p:spPr>
          <a:xfrm flipH="1" rot="38400">
            <a:off x="4479120" y="3314520"/>
            <a:ext cx="128520" cy="133200"/>
          </a:xfrm>
          <a:prstGeom prst="rect">
            <a:avLst/>
          </a:prstGeom>
          <a:ln w="0">
            <a:noFill/>
          </a:ln>
        </p:spPr>
      </p:pic>
      <p:pic>
        <p:nvPicPr>
          <p:cNvPr id="586" name="" descr=""/>
          <p:cNvPicPr/>
          <p:nvPr/>
        </p:nvPicPr>
        <p:blipFill>
          <a:blip r:embed="rId6"/>
          <a:srcRect l="37892" t="32815" r="31252" b="24483"/>
          <a:stretch/>
        </p:blipFill>
        <p:spPr>
          <a:xfrm flipH="1" rot="43800">
            <a:off x="5221440" y="2369880"/>
            <a:ext cx="198360" cy="206280"/>
          </a:xfrm>
          <a:prstGeom prst="rect">
            <a:avLst/>
          </a:prstGeom>
          <a:ln w="0">
            <a:noFill/>
          </a:ln>
        </p:spPr>
      </p:pic>
      <p:sp>
        <p:nvSpPr>
          <p:cNvPr id="587" name=""/>
          <p:cNvSpPr/>
          <p:nvPr/>
        </p:nvSpPr>
        <p:spPr>
          <a:xfrm>
            <a:off x="3951000" y="1314360"/>
            <a:ext cx="118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951000" y="4289400"/>
            <a:ext cx="118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383080" y="3616200"/>
            <a:ext cx="118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2439720" y="3616200"/>
            <a:ext cx="118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439720" y="1932120"/>
            <a:ext cx="118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5492520" y="1932120"/>
            <a:ext cx="118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066680" y="4135320"/>
            <a:ext cx="2519640" cy="603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94" name="" descr=""/>
          <p:cNvPicPr/>
          <p:nvPr/>
        </p:nvPicPr>
        <p:blipFill>
          <a:blip r:embed="rId7"/>
          <a:srcRect l="37892" t="32815" r="31252" b="24483"/>
          <a:stretch/>
        </p:blipFill>
        <p:spPr>
          <a:xfrm flipH="1" rot="40800">
            <a:off x="1269720" y="3974760"/>
            <a:ext cx="365040" cy="374760"/>
          </a:xfrm>
          <a:prstGeom prst="rect">
            <a:avLst/>
          </a:prstGeom>
          <a:ln w="0">
            <a:noFill/>
          </a:ln>
        </p:spPr>
      </p:pic>
      <p:sp>
        <p:nvSpPr>
          <p:cNvPr id="595" name=""/>
          <p:cNvSpPr/>
          <p:nvPr/>
        </p:nvSpPr>
        <p:spPr>
          <a:xfrm>
            <a:off x="1073160" y="4359240"/>
            <a:ext cx="760320" cy="378000"/>
          </a:xfrm>
          <a:prstGeom prst="rect">
            <a:avLst/>
          </a:prstGeom>
          <a:solidFill>
            <a:srgbClr val="3662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833480" y="4137120"/>
            <a:ext cx="1751040" cy="231840"/>
          </a:xfrm>
          <a:prstGeom prst="rect">
            <a:avLst/>
          </a:prstGeom>
          <a:solidFill>
            <a:srgbClr val="a4d0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1076400" y="4352760"/>
            <a:ext cx="73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1111"/>
                </a:solidFill>
                <a:latin typeface="Arial"/>
                <a:ea typeface="宋体"/>
              </a:rPr>
              <a:t>95%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158200" y="411948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1909800" y="4340160"/>
            <a:ext cx="1733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1066680" y="4905360"/>
            <a:ext cx="2519640" cy="604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073160" y="5129280"/>
            <a:ext cx="760320" cy="377640"/>
          </a:xfrm>
          <a:prstGeom prst="rect">
            <a:avLst/>
          </a:prstGeom>
          <a:solidFill>
            <a:srgbClr val="3662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1833480" y="4906800"/>
            <a:ext cx="1751040" cy="231840"/>
          </a:xfrm>
          <a:prstGeom prst="rect">
            <a:avLst/>
          </a:prstGeom>
          <a:solidFill>
            <a:srgbClr val="a4d0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076400" y="5122800"/>
            <a:ext cx="73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1111"/>
                </a:solidFill>
                <a:latin typeface="Arial"/>
                <a:ea typeface="宋体"/>
              </a:rPr>
              <a:t>80%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158200" y="489096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909800" y="5111640"/>
            <a:ext cx="1733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1066680" y="5661000"/>
            <a:ext cx="2519640" cy="603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073160" y="5884920"/>
            <a:ext cx="760320" cy="376200"/>
          </a:xfrm>
          <a:prstGeom prst="rect">
            <a:avLst/>
          </a:prstGeom>
          <a:solidFill>
            <a:srgbClr val="3662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833480" y="5662440"/>
            <a:ext cx="1751040" cy="231840"/>
          </a:xfrm>
          <a:prstGeom prst="rect">
            <a:avLst/>
          </a:prstGeom>
          <a:solidFill>
            <a:srgbClr val="a4d0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076400" y="5878440"/>
            <a:ext cx="73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1111"/>
                </a:solidFill>
                <a:latin typeface="Arial"/>
                <a:ea typeface="宋体"/>
              </a:rPr>
              <a:t>70%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158200" y="564516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1909800" y="5865840"/>
            <a:ext cx="1733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5430960" y="4118040"/>
            <a:ext cx="2517480" cy="604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435640" y="4341960"/>
            <a:ext cx="762120" cy="377640"/>
          </a:xfrm>
          <a:prstGeom prst="rect">
            <a:avLst/>
          </a:prstGeom>
          <a:solidFill>
            <a:srgbClr val="3662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6197760" y="4119480"/>
            <a:ext cx="1750680" cy="231840"/>
          </a:xfrm>
          <a:prstGeom prst="rect">
            <a:avLst/>
          </a:prstGeom>
          <a:solidFill>
            <a:srgbClr val="a4d0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440320" y="4335480"/>
            <a:ext cx="73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1111"/>
                </a:solidFill>
                <a:latin typeface="Arial"/>
                <a:ea typeface="宋体"/>
              </a:rPr>
              <a:t>45%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6522480" y="410364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273720" y="4324320"/>
            <a:ext cx="1733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430960" y="4878360"/>
            <a:ext cx="2517480" cy="603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435640" y="5100480"/>
            <a:ext cx="762120" cy="378000"/>
          </a:xfrm>
          <a:prstGeom prst="rect">
            <a:avLst/>
          </a:prstGeom>
          <a:solidFill>
            <a:srgbClr val="3662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197760" y="4879800"/>
            <a:ext cx="1750680" cy="231840"/>
          </a:xfrm>
          <a:prstGeom prst="rect">
            <a:avLst/>
          </a:prstGeom>
          <a:solidFill>
            <a:srgbClr val="a4d0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5440320" y="5094360"/>
            <a:ext cx="73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1111"/>
                </a:solidFill>
                <a:latin typeface="Arial"/>
                <a:ea typeface="宋体"/>
              </a:rPr>
              <a:t>37%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522480" y="486396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6273720" y="5081760"/>
            <a:ext cx="1733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5430960" y="5640480"/>
            <a:ext cx="2517480" cy="604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5435640" y="5864400"/>
            <a:ext cx="762120" cy="377640"/>
          </a:xfrm>
          <a:prstGeom prst="rect">
            <a:avLst/>
          </a:prstGeom>
          <a:solidFill>
            <a:srgbClr val="3662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6197760" y="5641920"/>
            <a:ext cx="1750680" cy="231840"/>
          </a:xfrm>
          <a:prstGeom prst="rect">
            <a:avLst/>
          </a:prstGeom>
          <a:solidFill>
            <a:srgbClr val="a4d0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5440320" y="5857920"/>
            <a:ext cx="73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1111"/>
                </a:solidFill>
                <a:latin typeface="Arial"/>
                <a:ea typeface="宋体"/>
              </a:rPr>
              <a:t>16%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6522480" y="562464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6273720" y="5846760"/>
            <a:ext cx="1733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630" name="" descr=""/>
          <p:cNvPicPr/>
          <p:nvPr/>
        </p:nvPicPr>
        <p:blipFill>
          <a:blip r:embed="rId8"/>
          <a:srcRect l="37892" t="32815" r="31252" b="24483"/>
          <a:stretch/>
        </p:blipFill>
        <p:spPr>
          <a:xfrm flipH="1" rot="42600">
            <a:off x="1277640" y="4812840"/>
            <a:ext cx="288720" cy="292320"/>
          </a:xfrm>
          <a:prstGeom prst="rect">
            <a:avLst/>
          </a:prstGeom>
          <a:ln w="0">
            <a:noFill/>
          </a:ln>
        </p:spPr>
      </p:pic>
      <p:pic>
        <p:nvPicPr>
          <p:cNvPr id="631" name="" descr=""/>
          <p:cNvPicPr/>
          <p:nvPr/>
        </p:nvPicPr>
        <p:blipFill>
          <a:blip r:embed="rId9"/>
          <a:srcRect l="37892" t="32815" r="31252" b="24483"/>
          <a:stretch/>
        </p:blipFill>
        <p:spPr>
          <a:xfrm flipH="1" rot="42000">
            <a:off x="1304640" y="5625720"/>
            <a:ext cx="234720" cy="239760"/>
          </a:xfrm>
          <a:prstGeom prst="rect">
            <a:avLst/>
          </a:prstGeom>
          <a:ln w="0">
            <a:noFill/>
          </a:ln>
        </p:spPr>
      </p:pic>
      <p:pic>
        <p:nvPicPr>
          <p:cNvPr id="632" name="" descr=""/>
          <p:cNvPicPr/>
          <p:nvPr/>
        </p:nvPicPr>
        <p:blipFill>
          <a:blip r:embed="rId10"/>
          <a:srcRect l="37892" t="32815" r="31252" b="24483"/>
          <a:stretch/>
        </p:blipFill>
        <p:spPr>
          <a:xfrm flipH="1" rot="40800">
            <a:off x="5709960" y="4129200"/>
            <a:ext cx="150840" cy="155520"/>
          </a:xfrm>
          <a:prstGeom prst="rect">
            <a:avLst/>
          </a:prstGeom>
          <a:ln w="0">
            <a:noFill/>
          </a:ln>
        </p:spPr>
      </p:pic>
      <p:pic>
        <p:nvPicPr>
          <p:cNvPr id="633" name="" descr=""/>
          <p:cNvPicPr/>
          <p:nvPr/>
        </p:nvPicPr>
        <p:blipFill>
          <a:blip r:embed="rId11"/>
          <a:srcRect l="37892" t="32815" r="31252" b="24483"/>
          <a:stretch/>
        </p:blipFill>
        <p:spPr>
          <a:xfrm flipH="1" rot="38400">
            <a:off x="5720760" y="4917600"/>
            <a:ext cx="128520" cy="133560"/>
          </a:xfrm>
          <a:prstGeom prst="rect">
            <a:avLst/>
          </a:prstGeom>
          <a:ln w="0">
            <a:noFill/>
          </a:ln>
        </p:spPr>
      </p:pic>
      <p:pic>
        <p:nvPicPr>
          <p:cNvPr id="634" name="" descr=""/>
          <p:cNvPicPr/>
          <p:nvPr/>
        </p:nvPicPr>
        <p:blipFill>
          <a:blip r:embed="rId12"/>
          <a:srcRect l="37892" t="32815" r="31252" b="24483"/>
          <a:stretch/>
        </p:blipFill>
        <p:spPr>
          <a:xfrm flipH="1" rot="36600">
            <a:off x="5752440" y="5705640"/>
            <a:ext cx="68040" cy="712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395280" y="12700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4c9bba"/>
                </a:solidFill>
                <a:uFillTx/>
                <a:latin typeface="Arial"/>
                <a:hlinkClick r:id="rId13"/>
              </a:rPr>
              <a:t>ppt模版免费下载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3-D Pie Ch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143000" y="1981080"/>
            <a:ext cx="3833640" cy="3834000"/>
          </a:xfrm>
          <a:prstGeom prst="donut">
            <a:avLst>
              <a:gd name="adj" fmla="val 8861"/>
            </a:avLst>
          </a:prstGeom>
          <a:gradFill rotWithShape="0">
            <a:gsLst>
              <a:gs pos="0">
                <a:srgbClr val="217849">
                  <a:alpha val="12156"/>
                </a:srgbClr>
              </a:gs>
              <a:gs pos="50000">
                <a:srgbClr val="32b66e"/>
              </a:gs>
              <a:gs pos="100000">
                <a:srgbClr val="217849">
                  <a:alpha val="1215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447920" y="2286000"/>
            <a:ext cx="3200400" cy="3200400"/>
          </a:xfrm>
          <a:prstGeom prst="ellipse">
            <a:avLst/>
          </a:prstGeom>
          <a:gradFill rotWithShape="0">
            <a:gsLst>
              <a:gs pos="0">
                <a:srgbClr val="223e27"/>
              </a:gs>
              <a:gs pos="100000">
                <a:srgbClr val="36623f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852720" y="231156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1f9f5"/>
              </a:gs>
              <a:gs pos="100000">
                <a:srgbClr val="32b66e"/>
              </a:gs>
            </a:gsLst>
            <a:lin ang="10800000"/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4183200" y="2973240"/>
            <a:ext cx="378144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afdf9"/>
              </a:gs>
              <a:gs pos="100000">
                <a:srgbClr val="cbfeae"/>
              </a:gs>
            </a:gsLst>
            <a:lin ang="10800000"/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4449600" y="3633840"/>
            <a:ext cx="378000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1f9f5"/>
              </a:gs>
              <a:gs pos="100000">
                <a:srgbClr val="32b66e"/>
              </a:gs>
            </a:gsLst>
            <a:lin ang="10800000"/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183200" y="429408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afdf9"/>
              </a:gs>
              <a:gs pos="100000">
                <a:srgbClr val="cbfeae"/>
              </a:gs>
            </a:gsLst>
            <a:lin ang="10800000"/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3852720" y="495612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1f9f5"/>
              </a:gs>
              <a:gs pos="100000">
                <a:srgbClr val="32b66e"/>
              </a:gs>
            </a:gsLst>
            <a:lin ang="10800000"/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2286720" y="3048120"/>
            <a:ext cx="15354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Your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Sloga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 flipH="1">
            <a:off x="2401200" y="1771560"/>
            <a:ext cx="4428360" cy="454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48" y="0"/>
                </a:moveTo>
                <a:arcTo wR="10800" hR="10800" stAng="-5384563" swAng="5384563"/>
                <a:lnTo>
                  <a:pt x="10800" y="10800"/>
                </a:lnTo>
                <a:close/>
              </a:path>
              <a:path fill="none" w="21600" h="21600">
                <a:moveTo>
                  <a:pt x="10848" y="0"/>
                </a:moveTo>
                <a:arcTo wR="10800" hR="10800" stAng="-5384563" swAng="5384563"/>
              </a:path>
            </a:pathLst>
          </a:custGeom>
          <a:solidFill>
            <a:srgbClr val="36623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 flipH="1" flipV="1">
            <a:off x="2412720" y="1870560"/>
            <a:ext cx="4374000" cy="4361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32b66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2340360" y="1771560"/>
            <a:ext cx="453780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57" y="0"/>
                </a:moveTo>
                <a:arcTo wR="10800" hR="10800" stAng="-5413589" swAng="5413589"/>
                <a:lnTo>
                  <a:pt x="10800" y="10800"/>
                </a:lnTo>
                <a:close/>
              </a:path>
              <a:path fill="none" w="21600" h="21600">
                <a:moveTo>
                  <a:pt x="10757" y="0"/>
                </a:moveTo>
                <a:arcTo wR="10800" hR="10800" stAng="-5413589" swAng="5413589"/>
              </a:path>
            </a:pathLst>
          </a:custGeom>
          <a:solidFill>
            <a:srgbClr val="a4d0a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 flipV="1">
            <a:off x="2340000" y="1853280"/>
            <a:ext cx="4536720" cy="4377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3491c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527920" y="1930320"/>
            <a:ext cx="4164480" cy="4241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729072"/>
              </a:gs>
              <a:gs pos="100000">
                <a:srgbClr val="a4d0a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 flipH="1" flipV="1">
            <a:off x="3151080" y="2505960"/>
            <a:ext cx="2926800" cy="2997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32b66e"/>
              </a:gs>
              <a:gs pos="100000">
                <a:srgbClr val="227e4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flipV="1">
            <a:off x="3434400" y="2823840"/>
            <a:ext cx="2351520" cy="243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17425a"/>
              </a:gs>
              <a:gs pos="100000">
                <a:srgbClr val="3491c4">
                  <a:alpha val="90196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 flipH="1">
            <a:off x="2961720" y="2354400"/>
            <a:ext cx="3307320" cy="339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48" y="0"/>
                </a:moveTo>
                <a:arcTo wR="10800" hR="10800" stAng="-5384563" swAng="5384563"/>
                <a:lnTo>
                  <a:pt x="10800" y="10800"/>
                </a:lnTo>
                <a:close/>
              </a:path>
              <a:path fill="none" w="21600" h="21600">
                <a:moveTo>
                  <a:pt x="10848" y="0"/>
                </a:moveTo>
                <a:arcTo wR="10800" hR="10800" stAng="-5384563" swAng="5384563"/>
              </a:path>
            </a:pathLst>
          </a:custGeom>
          <a:gradFill rotWithShape="0">
            <a:gsLst>
              <a:gs pos="0">
                <a:srgbClr val="203b26"/>
              </a:gs>
              <a:gs pos="100000">
                <a:srgbClr val="36623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075040" y="4043520"/>
            <a:ext cx="5070240" cy="0"/>
          </a:xfrm>
          <a:prstGeom prst="line">
            <a:avLst/>
          </a:prstGeom>
          <a:ln w="9360">
            <a:solidFill>
              <a:srgbClr val="1c1c1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608360" y="1571760"/>
            <a:ext cx="0" cy="4814640"/>
          </a:xfrm>
          <a:prstGeom prst="line">
            <a:avLst/>
          </a:prstGeom>
          <a:ln w="9360">
            <a:solidFill>
              <a:srgbClr val="1c1c1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2152800" y="1469880"/>
            <a:ext cx="339480" cy="768600"/>
            <a:chOff x="2152800" y="1469880"/>
            <a:chExt cx="339480" cy="768600"/>
          </a:xfrm>
        </p:grpSpPr>
        <p:pic>
          <p:nvPicPr>
            <p:cNvPr id="656" name="" descr=""/>
            <p:cNvPicPr/>
            <p:nvPr/>
          </p:nvPicPr>
          <p:blipFill>
            <a:blip r:embed="rId1"/>
            <a:stretch/>
          </p:blipFill>
          <p:spPr>
            <a:xfrm>
              <a:off x="2152800" y="1469880"/>
              <a:ext cx="339480" cy="76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7" name=""/>
            <p:cNvSpPr/>
            <p:nvPr/>
          </p:nvSpPr>
          <p:spPr>
            <a:xfrm>
              <a:off x="2258640" y="1470240"/>
              <a:ext cx="138240" cy="138240"/>
            </a:xfrm>
            <a:custGeom>
              <a:avLst/>
              <a:gdLst/>
              <a:ahLst/>
              <a:rect l="l" t="t" r="r" b="b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00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195280" y="1638720"/>
              <a:ext cx="270360" cy="565920"/>
            </a:xfrm>
            <a:custGeom>
              <a:avLst/>
              <a:gdLst/>
              <a:ahLst/>
              <a:rect l="l" t="t" r="r" b="b"/>
              <a:pathLst>
                <a:path w="831" h="1742">
                  <a:moveTo>
                    <a:pt x="136" y="0"/>
                  </a:moveTo>
                  <a:lnTo>
                    <a:pt x="104" y="8"/>
                  </a:lnTo>
                  <a:lnTo>
                    <a:pt x="73" y="25"/>
                  </a:lnTo>
                  <a:lnTo>
                    <a:pt x="44" y="49"/>
                  </a:lnTo>
                  <a:lnTo>
                    <a:pt x="22" y="82"/>
                  </a:lnTo>
                  <a:lnTo>
                    <a:pt x="6" y="116"/>
                  </a:lnTo>
                  <a:lnTo>
                    <a:pt x="0" y="153"/>
                  </a:lnTo>
                  <a:lnTo>
                    <a:pt x="0" y="787"/>
                  </a:lnTo>
                  <a:lnTo>
                    <a:pt x="0" y="790"/>
                  </a:lnTo>
                  <a:lnTo>
                    <a:pt x="1" y="797"/>
                  </a:lnTo>
                  <a:lnTo>
                    <a:pt x="6" y="811"/>
                  </a:lnTo>
                  <a:lnTo>
                    <a:pt x="13" y="824"/>
                  </a:lnTo>
                  <a:lnTo>
                    <a:pt x="23" y="839"/>
                  </a:lnTo>
                  <a:lnTo>
                    <a:pt x="38" y="850"/>
                  </a:lnTo>
                  <a:lnTo>
                    <a:pt x="57" y="859"/>
                  </a:lnTo>
                  <a:lnTo>
                    <a:pt x="81" y="861"/>
                  </a:lnTo>
                  <a:lnTo>
                    <a:pt x="104" y="859"/>
                  </a:lnTo>
                  <a:lnTo>
                    <a:pt x="122" y="852"/>
                  </a:lnTo>
                  <a:lnTo>
                    <a:pt x="133" y="839"/>
                  </a:lnTo>
                  <a:lnTo>
                    <a:pt x="145" y="825"/>
                  </a:lnTo>
                  <a:lnTo>
                    <a:pt x="149" y="811"/>
                  </a:lnTo>
                  <a:lnTo>
                    <a:pt x="154" y="797"/>
                  </a:lnTo>
                  <a:lnTo>
                    <a:pt x="155" y="785"/>
                  </a:lnTo>
                  <a:lnTo>
                    <a:pt x="157" y="777"/>
                  </a:lnTo>
                  <a:lnTo>
                    <a:pt x="157" y="773"/>
                  </a:lnTo>
                  <a:lnTo>
                    <a:pt x="157" y="257"/>
                  </a:lnTo>
                  <a:lnTo>
                    <a:pt x="182" y="254"/>
                  </a:lnTo>
                  <a:cubicBezTo>
                    <a:pt x="182" y="254"/>
                    <a:pt x="181" y="954"/>
                    <a:pt x="180" y="1654"/>
                  </a:cubicBezTo>
                  <a:cubicBezTo>
                    <a:pt x="190" y="1694"/>
                    <a:pt x="204" y="1706"/>
                    <a:pt x="222" y="1720"/>
                  </a:cubicBezTo>
                  <a:cubicBezTo>
                    <a:pt x="240" y="1734"/>
                    <a:pt x="270" y="1736"/>
                    <a:pt x="290" y="1738"/>
                  </a:cubicBezTo>
                  <a:cubicBezTo>
                    <a:pt x="310" y="1740"/>
                    <a:pt x="327" y="1736"/>
                    <a:pt x="342" y="1730"/>
                  </a:cubicBezTo>
                  <a:cubicBezTo>
                    <a:pt x="357" y="1724"/>
                    <a:pt x="372" y="1716"/>
                    <a:pt x="382" y="1702"/>
                  </a:cubicBezTo>
                  <a:cubicBezTo>
                    <a:pt x="392" y="1688"/>
                    <a:pt x="404" y="1660"/>
                    <a:pt x="405" y="1647"/>
                  </a:cubicBezTo>
                  <a:cubicBezTo>
                    <a:pt x="404" y="1249"/>
                    <a:pt x="404" y="852"/>
                    <a:pt x="404" y="852"/>
                  </a:cubicBezTo>
                  <a:lnTo>
                    <a:pt x="436" y="852"/>
                  </a:lnTo>
                  <a:lnTo>
                    <a:pt x="441" y="912"/>
                  </a:lnTo>
                  <a:lnTo>
                    <a:pt x="441" y="967"/>
                  </a:lnTo>
                  <a:lnTo>
                    <a:pt x="441" y="1026"/>
                  </a:lnTo>
                  <a:lnTo>
                    <a:pt x="441" y="1091"/>
                  </a:lnTo>
                  <a:lnTo>
                    <a:pt x="441" y="1159"/>
                  </a:lnTo>
                  <a:lnTo>
                    <a:pt x="441" y="1226"/>
                  </a:lnTo>
                  <a:lnTo>
                    <a:pt x="441" y="1295"/>
                  </a:lnTo>
                  <a:lnTo>
                    <a:pt x="442" y="1363"/>
                  </a:lnTo>
                  <a:lnTo>
                    <a:pt x="442" y="1431"/>
                  </a:lnTo>
                  <a:lnTo>
                    <a:pt x="442" y="1493"/>
                  </a:lnTo>
                  <a:lnTo>
                    <a:pt x="442" y="1552"/>
                  </a:lnTo>
                  <a:lnTo>
                    <a:pt x="442" y="1603"/>
                  </a:lnTo>
                  <a:lnTo>
                    <a:pt x="442" y="1647"/>
                  </a:lnTo>
                  <a:lnTo>
                    <a:pt x="442" y="1649"/>
                  </a:lnTo>
                  <a:lnTo>
                    <a:pt x="444" y="1658"/>
                  </a:lnTo>
                  <a:lnTo>
                    <a:pt x="450" y="1668"/>
                  </a:lnTo>
                  <a:lnTo>
                    <a:pt x="452" y="1682"/>
                  </a:lnTo>
                  <a:lnTo>
                    <a:pt x="460" y="1698"/>
                  </a:lnTo>
                  <a:lnTo>
                    <a:pt x="478" y="1720"/>
                  </a:lnTo>
                  <a:lnTo>
                    <a:pt x="510" y="1738"/>
                  </a:lnTo>
                  <a:lnTo>
                    <a:pt x="546" y="1742"/>
                  </a:lnTo>
                  <a:cubicBezTo>
                    <a:pt x="564" y="1738"/>
                    <a:pt x="602" y="1728"/>
                    <a:pt x="620" y="1712"/>
                  </a:cubicBezTo>
                  <a:cubicBezTo>
                    <a:pt x="638" y="1696"/>
                    <a:pt x="648" y="1670"/>
                    <a:pt x="654" y="1644"/>
                  </a:cubicBezTo>
                  <a:cubicBezTo>
                    <a:pt x="654" y="950"/>
                    <a:pt x="654" y="256"/>
                    <a:pt x="654" y="256"/>
                  </a:cubicBezTo>
                  <a:lnTo>
                    <a:pt x="676" y="257"/>
                  </a:lnTo>
                  <a:lnTo>
                    <a:pt x="676" y="773"/>
                  </a:lnTo>
                  <a:lnTo>
                    <a:pt x="679" y="777"/>
                  </a:lnTo>
                  <a:lnTo>
                    <a:pt x="680" y="787"/>
                  </a:lnTo>
                  <a:lnTo>
                    <a:pt x="685" y="799"/>
                  </a:lnTo>
                  <a:lnTo>
                    <a:pt x="692" y="814"/>
                  </a:lnTo>
                  <a:lnTo>
                    <a:pt x="700" y="830"/>
                  </a:lnTo>
                  <a:lnTo>
                    <a:pt x="715" y="842"/>
                  </a:lnTo>
                  <a:lnTo>
                    <a:pt x="732" y="852"/>
                  </a:lnTo>
                  <a:lnTo>
                    <a:pt x="754" y="856"/>
                  </a:lnTo>
                  <a:lnTo>
                    <a:pt x="777" y="852"/>
                  </a:lnTo>
                  <a:lnTo>
                    <a:pt x="795" y="842"/>
                  </a:lnTo>
                  <a:lnTo>
                    <a:pt x="808" y="830"/>
                  </a:lnTo>
                  <a:lnTo>
                    <a:pt x="816" y="814"/>
                  </a:lnTo>
                  <a:lnTo>
                    <a:pt x="827" y="799"/>
                  </a:lnTo>
                  <a:lnTo>
                    <a:pt x="831" y="788"/>
                  </a:lnTo>
                  <a:lnTo>
                    <a:pt x="831" y="785"/>
                  </a:lnTo>
                  <a:lnTo>
                    <a:pt x="831" y="122"/>
                  </a:lnTo>
                  <a:lnTo>
                    <a:pt x="830" y="105"/>
                  </a:lnTo>
                  <a:lnTo>
                    <a:pt x="814" y="73"/>
                  </a:lnTo>
                  <a:lnTo>
                    <a:pt x="792" y="43"/>
                  </a:lnTo>
                  <a:lnTo>
                    <a:pt x="766" y="22"/>
                  </a:lnTo>
                  <a:lnTo>
                    <a:pt x="734" y="6"/>
                  </a:lnTo>
                  <a:lnTo>
                    <a:pt x="703" y="0"/>
                  </a:lnTo>
                  <a:lnTo>
                    <a:pt x="136" y="0"/>
                  </a:lnTo>
                  <a:lnTo>
                    <a:pt x="193" y="57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00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6877080" y="1469880"/>
            <a:ext cx="339840" cy="768600"/>
            <a:chOff x="6877080" y="1469880"/>
            <a:chExt cx="339840" cy="768600"/>
          </a:xfrm>
        </p:grpSpPr>
        <p:pic>
          <p:nvPicPr>
            <p:cNvPr id="660" name="" descr=""/>
            <p:cNvPicPr/>
            <p:nvPr/>
          </p:nvPicPr>
          <p:blipFill>
            <a:blip r:embed="rId2"/>
            <a:stretch/>
          </p:blipFill>
          <p:spPr>
            <a:xfrm>
              <a:off x="6877080" y="1469880"/>
              <a:ext cx="339840" cy="76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1" name=""/>
            <p:cNvSpPr/>
            <p:nvPr/>
          </p:nvSpPr>
          <p:spPr>
            <a:xfrm>
              <a:off x="6983280" y="1470240"/>
              <a:ext cx="138240" cy="138240"/>
            </a:xfrm>
            <a:custGeom>
              <a:avLst/>
              <a:gdLst/>
              <a:ahLst/>
              <a:rect l="l" t="t" r="r" b="b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33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919560" y="1638720"/>
              <a:ext cx="270360" cy="565920"/>
            </a:xfrm>
            <a:custGeom>
              <a:avLst/>
              <a:gdLst/>
              <a:ahLst/>
              <a:rect l="l" t="t" r="r" b="b"/>
              <a:pathLst>
                <a:path w="831" h="1742">
                  <a:moveTo>
                    <a:pt x="136" y="0"/>
                  </a:moveTo>
                  <a:lnTo>
                    <a:pt x="104" y="8"/>
                  </a:lnTo>
                  <a:lnTo>
                    <a:pt x="73" y="25"/>
                  </a:lnTo>
                  <a:lnTo>
                    <a:pt x="44" y="49"/>
                  </a:lnTo>
                  <a:lnTo>
                    <a:pt x="22" y="82"/>
                  </a:lnTo>
                  <a:lnTo>
                    <a:pt x="6" y="116"/>
                  </a:lnTo>
                  <a:lnTo>
                    <a:pt x="0" y="153"/>
                  </a:lnTo>
                  <a:lnTo>
                    <a:pt x="0" y="787"/>
                  </a:lnTo>
                  <a:lnTo>
                    <a:pt x="0" y="790"/>
                  </a:lnTo>
                  <a:lnTo>
                    <a:pt x="1" y="797"/>
                  </a:lnTo>
                  <a:lnTo>
                    <a:pt x="6" y="811"/>
                  </a:lnTo>
                  <a:lnTo>
                    <a:pt x="13" y="824"/>
                  </a:lnTo>
                  <a:lnTo>
                    <a:pt x="23" y="839"/>
                  </a:lnTo>
                  <a:lnTo>
                    <a:pt x="38" y="850"/>
                  </a:lnTo>
                  <a:lnTo>
                    <a:pt x="57" y="859"/>
                  </a:lnTo>
                  <a:lnTo>
                    <a:pt x="81" y="861"/>
                  </a:lnTo>
                  <a:lnTo>
                    <a:pt x="104" y="859"/>
                  </a:lnTo>
                  <a:lnTo>
                    <a:pt x="122" y="852"/>
                  </a:lnTo>
                  <a:lnTo>
                    <a:pt x="133" y="839"/>
                  </a:lnTo>
                  <a:lnTo>
                    <a:pt x="145" y="825"/>
                  </a:lnTo>
                  <a:lnTo>
                    <a:pt x="149" y="811"/>
                  </a:lnTo>
                  <a:lnTo>
                    <a:pt x="154" y="797"/>
                  </a:lnTo>
                  <a:lnTo>
                    <a:pt x="155" y="785"/>
                  </a:lnTo>
                  <a:lnTo>
                    <a:pt x="157" y="777"/>
                  </a:lnTo>
                  <a:lnTo>
                    <a:pt x="157" y="773"/>
                  </a:lnTo>
                  <a:lnTo>
                    <a:pt x="157" y="257"/>
                  </a:lnTo>
                  <a:lnTo>
                    <a:pt x="182" y="254"/>
                  </a:lnTo>
                  <a:cubicBezTo>
                    <a:pt x="182" y="254"/>
                    <a:pt x="181" y="954"/>
                    <a:pt x="180" y="1654"/>
                  </a:cubicBezTo>
                  <a:cubicBezTo>
                    <a:pt x="190" y="1694"/>
                    <a:pt x="204" y="1706"/>
                    <a:pt x="222" y="1720"/>
                  </a:cubicBezTo>
                  <a:cubicBezTo>
                    <a:pt x="240" y="1734"/>
                    <a:pt x="270" y="1736"/>
                    <a:pt x="290" y="1738"/>
                  </a:cubicBezTo>
                  <a:cubicBezTo>
                    <a:pt x="310" y="1740"/>
                    <a:pt x="327" y="1736"/>
                    <a:pt x="342" y="1730"/>
                  </a:cubicBezTo>
                  <a:cubicBezTo>
                    <a:pt x="357" y="1724"/>
                    <a:pt x="372" y="1716"/>
                    <a:pt x="382" y="1702"/>
                  </a:cubicBezTo>
                  <a:cubicBezTo>
                    <a:pt x="392" y="1688"/>
                    <a:pt x="404" y="1660"/>
                    <a:pt x="405" y="1647"/>
                  </a:cubicBezTo>
                  <a:cubicBezTo>
                    <a:pt x="404" y="1249"/>
                    <a:pt x="404" y="852"/>
                    <a:pt x="404" y="852"/>
                  </a:cubicBezTo>
                  <a:lnTo>
                    <a:pt x="436" y="852"/>
                  </a:lnTo>
                  <a:lnTo>
                    <a:pt x="441" y="912"/>
                  </a:lnTo>
                  <a:lnTo>
                    <a:pt x="441" y="967"/>
                  </a:lnTo>
                  <a:lnTo>
                    <a:pt x="441" y="1026"/>
                  </a:lnTo>
                  <a:lnTo>
                    <a:pt x="441" y="1091"/>
                  </a:lnTo>
                  <a:lnTo>
                    <a:pt x="441" y="1159"/>
                  </a:lnTo>
                  <a:lnTo>
                    <a:pt x="441" y="1226"/>
                  </a:lnTo>
                  <a:lnTo>
                    <a:pt x="441" y="1295"/>
                  </a:lnTo>
                  <a:lnTo>
                    <a:pt x="442" y="1363"/>
                  </a:lnTo>
                  <a:lnTo>
                    <a:pt x="442" y="1431"/>
                  </a:lnTo>
                  <a:lnTo>
                    <a:pt x="442" y="1493"/>
                  </a:lnTo>
                  <a:lnTo>
                    <a:pt x="442" y="1552"/>
                  </a:lnTo>
                  <a:lnTo>
                    <a:pt x="442" y="1603"/>
                  </a:lnTo>
                  <a:lnTo>
                    <a:pt x="442" y="1647"/>
                  </a:lnTo>
                  <a:lnTo>
                    <a:pt x="442" y="1649"/>
                  </a:lnTo>
                  <a:lnTo>
                    <a:pt x="444" y="1658"/>
                  </a:lnTo>
                  <a:lnTo>
                    <a:pt x="450" y="1668"/>
                  </a:lnTo>
                  <a:lnTo>
                    <a:pt x="452" y="1682"/>
                  </a:lnTo>
                  <a:lnTo>
                    <a:pt x="460" y="1698"/>
                  </a:lnTo>
                  <a:lnTo>
                    <a:pt x="478" y="1720"/>
                  </a:lnTo>
                  <a:lnTo>
                    <a:pt x="510" y="1738"/>
                  </a:lnTo>
                  <a:lnTo>
                    <a:pt x="546" y="1742"/>
                  </a:lnTo>
                  <a:cubicBezTo>
                    <a:pt x="564" y="1738"/>
                    <a:pt x="602" y="1728"/>
                    <a:pt x="620" y="1712"/>
                  </a:cubicBezTo>
                  <a:cubicBezTo>
                    <a:pt x="638" y="1696"/>
                    <a:pt x="648" y="1670"/>
                    <a:pt x="654" y="1644"/>
                  </a:cubicBezTo>
                  <a:cubicBezTo>
                    <a:pt x="654" y="950"/>
                    <a:pt x="654" y="256"/>
                    <a:pt x="654" y="256"/>
                  </a:cubicBezTo>
                  <a:lnTo>
                    <a:pt x="676" y="257"/>
                  </a:lnTo>
                  <a:lnTo>
                    <a:pt x="676" y="773"/>
                  </a:lnTo>
                  <a:lnTo>
                    <a:pt x="679" y="777"/>
                  </a:lnTo>
                  <a:lnTo>
                    <a:pt x="680" y="787"/>
                  </a:lnTo>
                  <a:lnTo>
                    <a:pt x="685" y="799"/>
                  </a:lnTo>
                  <a:lnTo>
                    <a:pt x="692" y="814"/>
                  </a:lnTo>
                  <a:lnTo>
                    <a:pt x="700" y="830"/>
                  </a:lnTo>
                  <a:lnTo>
                    <a:pt x="715" y="842"/>
                  </a:lnTo>
                  <a:lnTo>
                    <a:pt x="732" y="852"/>
                  </a:lnTo>
                  <a:lnTo>
                    <a:pt x="754" y="856"/>
                  </a:lnTo>
                  <a:lnTo>
                    <a:pt x="777" y="852"/>
                  </a:lnTo>
                  <a:lnTo>
                    <a:pt x="795" y="842"/>
                  </a:lnTo>
                  <a:lnTo>
                    <a:pt x="808" y="830"/>
                  </a:lnTo>
                  <a:lnTo>
                    <a:pt x="816" y="814"/>
                  </a:lnTo>
                  <a:lnTo>
                    <a:pt x="827" y="799"/>
                  </a:lnTo>
                  <a:lnTo>
                    <a:pt x="831" y="788"/>
                  </a:lnTo>
                  <a:lnTo>
                    <a:pt x="831" y="785"/>
                  </a:lnTo>
                  <a:lnTo>
                    <a:pt x="831" y="122"/>
                  </a:lnTo>
                  <a:lnTo>
                    <a:pt x="830" y="105"/>
                  </a:lnTo>
                  <a:lnTo>
                    <a:pt x="814" y="73"/>
                  </a:lnTo>
                  <a:lnTo>
                    <a:pt x="792" y="43"/>
                  </a:lnTo>
                  <a:lnTo>
                    <a:pt x="766" y="22"/>
                  </a:lnTo>
                  <a:lnTo>
                    <a:pt x="734" y="6"/>
                  </a:lnTo>
                  <a:lnTo>
                    <a:pt x="703" y="0"/>
                  </a:lnTo>
                  <a:lnTo>
                    <a:pt x="136" y="0"/>
                  </a:lnTo>
                  <a:lnTo>
                    <a:pt x="193" y="57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33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6915240" y="5272200"/>
            <a:ext cx="339480" cy="768240"/>
            <a:chOff x="6915240" y="5272200"/>
            <a:chExt cx="339480" cy="768240"/>
          </a:xfrm>
        </p:grpSpPr>
        <p:pic>
          <p:nvPicPr>
            <p:cNvPr id="664" name="" descr=""/>
            <p:cNvPicPr/>
            <p:nvPr/>
          </p:nvPicPr>
          <p:blipFill>
            <a:blip r:embed="rId3"/>
            <a:stretch/>
          </p:blipFill>
          <p:spPr>
            <a:xfrm>
              <a:off x="6915240" y="5272200"/>
              <a:ext cx="33948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5" name=""/>
            <p:cNvSpPr/>
            <p:nvPr/>
          </p:nvSpPr>
          <p:spPr>
            <a:xfrm>
              <a:off x="7021080" y="5272560"/>
              <a:ext cx="138240" cy="138240"/>
            </a:xfrm>
            <a:custGeom>
              <a:avLst/>
              <a:gdLst/>
              <a:ahLst/>
              <a:rect l="l" t="t" r="r" b="b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66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957720" y="5441040"/>
              <a:ext cx="270360" cy="565560"/>
            </a:xfrm>
            <a:custGeom>
              <a:avLst/>
              <a:gdLst/>
              <a:ahLst/>
              <a:rect l="l" t="t" r="r" b="b"/>
              <a:pathLst>
                <a:path w="831" h="1742">
                  <a:moveTo>
                    <a:pt x="136" y="0"/>
                  </a:moveTo>
                  <a:lnTo>
                    <a:pt x="104" y="8"/>
                  </a:lnTo>
                  <a:lnTo>
                    <a:pt x="73" y="25"/>
                  </a:lnTo>
                  <a:lnTo>
                    <a:pt x="44" y="49"/>
                  </a:lnTo>
                  <a:lnTo>
                    <a:pt x="22" y="82"/>
                  </a:lnTo>
                  <a:lnTo>
                    <a:pt x="6" y="116"/>
                  </a:lnTo>
                  <a:lnTo>
                    <a:pt x="0" y="153"/>
                  </a:lnTo>
                  <a:lnTo>
                    <a:pt x="0" y="787"/>
                  </a:lnTo>
                  <a:lnTo>
                    <a:pt x="0" y="790"/>
                  </a:lnTo>
                  <a:lnTo>
                    <a:pt x="1" y="797"/>
                  </a:lnTo>
                  <a:lnTo>
                    <a:pt x="6" y="811"/>
                  </a:lnTo>
                  <a:lnTo>
                    <a:pt x="13" y="824"/>
                  </a:lnTo>
                  <a:lnTo>
                    <a:pt x="23" y="839"/>
                  </a:lnTo>
                  <a:lnTo>
                    <a:pt x="38" y="850"/>
                  </a:lnTo>
                  <a:lnTo>
                    <a:pt x="57" y="859"/>
                  </a:lnTo>
                  <a:lnTo>
                    <a:pt x="81" y="861"/>
                  </a:lnTo>
                  <a:lnTo>
                    <a:pt x="104" y="859"/>
                  </a:lnTo>
                  <a:lnTo>
                    <a:pt x="122" y="852"/>
                  </a:lnTo>
                  <a:lnTo>
                    <a:pt x="133" y="839"/>
                  </a:lnTo>
                  <a:lnTo>
                    <a:pt x="145" y="825"/>
                  </a:lnTo>
                  <a:lnTo>
                    <a:pt x="149" y="811"/>
                  </a:lnTo>
                  <a:lnTo>
                    <a:pt x="154" y="797"/>
                  </a:lnTo>
                  <a:lnTo>
                    <a:pt x="155" y="785"/>
                  </a:lnTo>
                  <a:lnTo>
                    <a:pt x="157" y="777"/>
                  </a:lnTo>
                  <a:lnTo>
                    <a:pt x="157" y="773"/>
                  </a:lnTo>
                  <a:lnTo>
                    <a:pt x="157" y="257"/>
                  </a:lnTo>
                  <a:lnTo>
                    <a:pt x="182" y="254"/>
                  </a:lnTo>
                  <a:cubicBezTo>
                    <a:pt x="182" y="254"/>
                    <a:pt x="181" y="954"/>
                    <a:pt x="180" y="1654"/>
                  </a:cubicBezTo>
                  <a:cubicBezTo>
                    <a:pt x="190" y="1694"/>
                    <a:pt x="204" y="1706"/>
                    <a:pt x="222" y="1720"/>
                  </a:cubicBezTo>
                  <a:cubicBezTo>
                    <a:pt x="240" y="1734"/>
                    <a:pt x="270" y="1736"/>
                    <a:pt x="290" y="1738"/>
                  </a:cubicBezTo>
                  <a:cubicBezTo>
                    <a:pt x="310" y="1740"/>
                    <a:pt x="327" y="1736"/>
                    <a:pt x="342" y="1730"/>
                  </a:cubicBezTo>
                  <a:cubicBezTo>
                    <a:pt x="357" y="1724"/>
                    <a:pt x="372" y="1716"/>
                    <a:pt x="382" y="1702"/>
                  </a:cubicBezTo>
                  <a:cubicBezTo>
                    <a:pt x="392" y="1688"/>
                    <a:pt x="404" y="1660"/>
                    <a:pt x="405" y="1647"/>
                  </a:cubicBezTo>
                  <a:cubicBezTo>
                    <a:pt x="404" y="1249"/>
                    <a:pt x="404" y="852"/>
                    <a:pt x="404" y="852"/>
                  </a:cubicBezTo>
                  <a:lnTo>
                    <a:pt x="436" y="852"/>
                  </a:lnTo>
                  <a:lnTo>
                    <a:pt x="441" y="912"/>
                  </a:lnTo>
                  <a:lnTo>
                    <a:pt x="441" y="967"/>
                  </a:lnTo>
                  <a:lnTo>
                    <a:pt x="441" y="1026"/>
                  </a:lnTo>
                  <a:lnTo>
                    <a:pt x="441" y="1091"/>
                  </a:lnTo>
                  <a:lnTo>
                    <a:pt x="441" y="1159"/>
                  </a:lnTo>
                  <a:lnTo>
                    <a:pt x="441" y="1226"/>
                  </a:lnTo>
                  <a:lnTo>
                    <a:pt x="441" y="1295"/>
                  </a:lnTo>
                  <a:lnTo>
                    <a:pt x="442" y="1363"/>
                  </a:lnTo>
                  <a:lnTo>
                    <a:pt x="442" y="1431"/>
                  </a:lnTo>
                  <a:lnTo>
                    <a:pt x="442" y="1493"/>
                  </a:lnTo>
                  <a:lnTo>
                    <a:pt x="442" y="1552"/>
                  </a:lnTo>
                  <a:lnTo>
                    <a:pt x="442" y="1603"/>
                  </a:lnTo>
                  <a:lnTo>
                    <a:pt x="442" y="1647"/>
                  </a:lnTo>
                  <a:lnTo>
                    <a:pt x="442" y="1649"/>
                  </a:lnTo>
                  <a:lnTo>
                    <a:pt x="444" y="1658"/>
                  </a:lnTo>
                  <a:lnTo>
                    <a:pt x="450" y="1668"/>
                  </a:lnTo>
                  <a:lnTo>
                    <a:pt x="452" y="1682"/>
                  </a:lnTo>
                  <a:lnTo>
                    <a:pt x="460" y="1698"/>
                  </a:lnTo>
                  <a:lnTo>
                    <a:pt x="478" y="1720"/>
                  </a:lnTo>
                  <a:lnTo>
                    <a:pt x="510" y="1738"/>
                  </a:lnTo>
                  <a:lnTo>
                    <a:pt x="546" y="1742"/>
                  </a:lnTo>
                  <a:cubicBezTo>
                    <a:pt x="564" y="1738"/>
                    <a:pt x="602" y="1728"/>
                    <a:pt x="620" y="1712"/>
                  </a:cubicBezTo>
                  <a:cubicBezTo>
                    <a:pt x="638" y="1696"/>
                    <a:pt x="648" y="1670"/>
                    <a:pt x="654" y="1644"/>
                  </a:cubicBezTo>
                  <a:cubicBezTo>
                    <a:pt x="654" y="950"/>
                    <a:pt x="654" y="256"/>
                    <a:pt x="654" y="256"/>
                  </a:cubicBezTo>
                  <a:lnTo>
                    <a:pt x="676" y="257"/>
                  </a:lnTo>
                  <a:lnTo>
                    <a:pt x="676" y="773"/>
                  </a:lnTo>
                  <a:lnTo>
                    <a:pt x="679" y="777"/>
                  </a:lnTo>
                  <a:lnTo>
                    <a:pt x="680" y="787"/>
                  </a:lnTo>
                  <a:lnTo>
                    <a:pt x="685" y="799"/>
                  </a:lnTo>
                  <a:lnTo>
                    <a:pt x="692" y="814"/>
                  </a:lnTo>
                  <a:lnTo>
                    <a:pt x="700" y="830"/>
                  </a:lnTo>
                  <a:lnTo>
                    <a:pt x="715" y="842"/>
                  </a:lnTo>
                  <a:lnTo>
                    <a:pt x="732" y="852"/>
                  </a:lnTo>
                  <a:lnTo>
                    <a:pt x="754" y="856"/>
                  </a:lnTo>
                  <a:lnTo>
                    <a:pt x="777" y="852"/>
                  </a:lnTo>
                  <a:lnTo>
                    <a:pt x="795" y="842"/>
                  </a:lnTo>
                  <a:lnTo>
                    <a:pt x="808" y="830"/>
                  </a:lnTo>
                  <a:lnTo>
                    <a:pt x="816" y="814"/>
                  </a:lnTo>
                  <a:lnTo>
                    <a:pt x="827" y="799"/>
                  </a:lnTo>
                  <a:lnTo>
                    <a:pt x="831" y="788"/>
                  </a:lnTo>
                  <a:lnTo>
                    <a:pt x="831" y="785"/>
                  </a:lnTo>
                  <a:lnTo>
                    <a:pt x="831" y="122"/>
                  </a:lnTo>
                  <a:lnTo>
                    <a:pt x="830" y="105"/>
                  </a:lnTo>
                  <a:lnTo>
                    <a:pt x="814" y="73"/>
                  </a:lnTo>
                  <a:lnTo>
                    <a:pt x="792" y="43"/>
                  </a:lnTo>
                  <a:lnTo>
                    <a:pt x="766" y="22"/>
                  </a:lnTo>
                  <a:lnTo>
                    <a:pt x="734" y="6"/>
                  </a:lnTo>
                  <a:lnTo>
                    <a:pt x="703" y="0"/>
                  </a:lnTo>
                  <a:lnTo>
                    <a:pt x="136" y="0"/>
                  </a:lnTo>
                  <a:lnTo>
                    <a:pt x="193" y="57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66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2036880" y="5272200"/>
            <a:ext cx="339480" cy="768240"/>
            <a:chOff x="2036880" y="5272200"/>
            <a:chExt cx="339480" cy="768240"/>
          </a:xfrm>
        </p:grpSpPr>
        <p:pic>
          <p:nvPicPr>
            <p:cNvPr id="668" name="" descr=""/>
            <p:cNvPicPr/>
            <p:nvPr/>
          </p:nvPicPr>
          <p:blipFill>
            <a:blip r:embed="rId4"/>
            <a:stretch/>
          </p:blipFill>
          <p:spPr>
            <a:xfrm>
              <a:off x="2036880" y="5272200"/>
              <a:ext cx="33948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9" name=""/>
            <p:cNvSpPr/>
            <p:nvPr/>
          </p:nvSpPr>
          <p:spPr>
            <a:xfrm>
              <a:off x="2142720" y="5272560"/>
              <a:ext cx="138240" cy="138240"/>
            </a:xfrm>
            <a:custGeom>
              <a:avLst/>
              <a:gdLst/>
              <a:ahLst/>
              <a:rect l="l" t="t" r="r" b="b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cc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079360" y="5441040"/>
              <a:ext cx="270360" cy="565560"/>
            </a:xfrm>
            <a:custGeom>
              <a:avLst/>
              <a:gdLst/>
              <a:ahLst/>
              <a:rect l="l" t="t" r="r" b="b"/>
              <a:pathLst>
                <a:path w="831" h="1742">
                  <a:moveTo>
                    <a:pt x="136" y="0"/>
                  </a:moveTo>
                  <a:lnTo>
                    <a:pt x="104" y="8"/>
                  </a:lnTo>
                  <a:lnTo>
                    <a:pt x="73" y="25"/>
                  </a:lnTo>
                  <a:lnTo>
                    <a:pt x="44" y="49"/>
                  </a:lnTo>
                  <a:lnTo>
                    <a:pt x="22" y="82"/>
                  </a:lnTo>
                  <a:lnTo>
                    <a:pt x="6" y="116"/>
                  </a:lnTo>
                  <a:lnTo>
                    <a:pt x="0" y="153"/>
                  </a:lnTo>
                  <a:lnTo>
                    <a:pt x="0" y="787"/>
                  </a:lnTo>
                  <a:lnTo>
                    <a:pt x="0" y="790"/>
                  </a:lnTo>
                  <a:lnTo>
                    <a:pt x="1" y="797"/>
                  </a:lnTo>
                  <a:lnTo>
                    <a:pt x="6" y="811"/>
                  </a:lnTo>
                  <a:lnTo>
                    <a:pt x="13" y="824"/>
                  </a:lnTo>
                  <a:lnTo>
                    <a:pt x="23" y="839"/>
                  </a:lnTo>
                  <a:lnTo>
                    <a:pt x="38" y="850"/>
                  </a:lnTo>
                  <a:lnTo>
                    <a:pt x="57" y="859"/>
                  </a:lnTo>
                  <a:lnTo>
                    <a:pt x="81" y="861"/>
                  </a:lnTo>
                  <a:lnTo>
                    <a:pt x="104" y="859"/>
                  </a:lnTo>
                  <a:lnTo>
                    <a:pt x="122" y="852"/>
                  </a:lnTo>
                  <a:lnTo>
                    <a:pt x="133" y="839"/>
                  </a:lnTo>
                  <a:lnTo>
                    <a:pt x="145" y="825"/>
                  </a:lnTo>
                  <a:lnTo>
                    <a:pt x="149" y="811"/>
                  </a:lnTo>
                  <a:lnTo>
                    <a:pt x="154" y="797"/>
                  </a:lnTo>
                  <a:lnTo>
                    <a:pt x="155" y="785"/>
                  </a:lnTo>
                  <a:lnTo>
                    <a:pt x="157" y="777"/>
                  </a:lnTo>
                  <a:lnTo>
                    <a:pt x="157" y="773"/>
                  </a:lnTo>
                  <a:lnTo>
                    <a:pt x="157" y="257"/>
                  </a:lnTo>
                  <a:lnTo>
                    <a:pt x="182" y="254"/>
                  </a:lnTo>
                  <a:cubicBezTo>
                    <a:pt x="182" y="254"/>
                    <a:pt x="181" y="954"/>
                    <a:pt x="180" y="1654"/>
                  </a:cubicBezTo>
                  <a:cubicBezTo>
                    <a:pt x="190" y="1694"/>
                    <a:pt x="204" y="1706"/>
                    <a:pt x="222" y="1720"/>
                  </a:cubicBezTo>
                  <a:cubicBezTo>
                    <a:pt x="240" y="1734"/>
                    <a:pt x="270" y="1736"/>
                    <a:pt x="290" y="1738"/>
                  </a:cubicBezTo>
                  <a:cubicBezTo>
                    <a:pt x="310" y="1740"/>
                    <a:pt x="327" y="1736"/>
                    <a:pt x="342" y="1730"/>
                  </a:cubicBezTo>
                  <a:cubicBezTo>
                    <a:pt x="357" y="1724"/>
                    <a:pt x="372" y="1716"/>
                    <a:pt x="382" y="1702"/>
                  </a:cubicBezTo>
                  <a:cubicBezTo>
                    <a:pt x="392" y="1688"/>
                    <a:pt x="404" y="1660"/>
                    <a:pt x="405" y="1647"/>
                  </a:cubicBezTo>
                  <a:cubicBezTo>
                    <a:pt x="404" y="1249"/>
                    <a:pt x="404" y="852"/>
                    <a:pt x="404" y="852"/>
                  </a:cubicBezTo>
                  <a:lnTo>
                    <a:pt x="436" y="852"/>
                  </a:lnTo>
                  <a:lnTo>
                    <a:pt x="441" y="912"/>
                  </a:lnTo>
                  <a:lnTo>
                    <a:pt x="441" y="967"/>
                  </a:lnTo>
                  <a:lnTo>
                    <a:pt x="441" y="1026"/>
                  </a:lnTo>
                  <a:lnTo>
                    <a:pt x="441" y="1091"/>
                  </a:lnTo>
                  <a:lnTo>
                    <a:pt x="441" y="1159"/>
                  </a:lnTo>
                  <a:lnTo>
                    <a:pt x="441" y="1226"/>
                  </a:lnTo>
                  <a:lnTo>
                    <a:pt x="441" y="1295"/>
                  </a:lnTo>
                  <a:lnTo>
                    <a:pt x="442" y="1363"/>
                  </a:lnTo>
                  <a:lnTo>
                    <a:pt x="442" y="1431"/>
                  </a:lnTo>
                  <a:lnTo>
                    <a:pt x="442" y="1493"/>
                  </a:lnTo>
                  <a:lnTo>
                    <a:pt x="442" y="1552"/>
                  </a:lnTo>
                  <a:lnTo>
                    <a:pt x="442" y="1603"/>
                  </a:lnTo>
                  <a:lnTo>
                    <a:pt x="442" y="1647"/>
                  </a:lnTo>
                  <a:lnTo>
                    <a:pt x="442" y="1649"/>
                  </a:lnTo>
                  <a:lnTo>
                    <a:pt x="444" y="1658"/>
                  </a:lnTo>
                  <a:lnTo>
                    <a:pt x="450" y="1668"/>
                  </a:lnTo>
                  <a:lnTo>
                    <a:pt x="452" y="1682"/>
                  </a:lnTo>
                  <a:lnTo>
                    <a:pt x="460" y="1698"/>
                  </a:lnTo>
                  <a:lnTo>
                    <a:pt x="478" y="1720"/>
                  </a:lnTo>
                  <a:lnTo>
                    <a:pt x="510" y="1738"/>
                  </a:lnTo>
                  <a:lnTo>
                    <a:pt x="546" y="1742"/>
                  </a:lnTo>
                  <a:cubicBezTo>
                    <a:pt x="564" y="1738"/>
                    <a:pt x="602" y="1728"/>
                    <a:pt x="620" y="1712"/>
                  </a:cubicBezTo>
                  <a:cubicBezTo>
                    <a:pt x="638" y="1696"/>
                    <a:pt x="648" y="1670"/>
                    <a:pt x="654" y="1644"/>
                  </a:cubicBezTo>
                  <a:cubicBezTo>
                    <a:pt x="654" y="950"/>
                    <a:pt x="654" y="256"/>
                    <a:pt x="654" y="256"/>
                  </a:cubicBezTo>
                  <a:lnTo>
                    <a:pt x="676" y="257"/>
                  </a:lnTo>
                  <a:lnTo>
                    <a:pt x="676" y="773"/>
                  </a:lnTo>
                  <a:lnTo>
                    <a:pt x="679" y="777"/>
                  </a:lnTo>
                  <a:lnTo>
                    <a:pt x="680" y="787"/>
                  </a:lnTo>
                  <a:lnTo>
                    <a:pt x="685" y="799"/>
                  </a:lnTo>
                  <a:lnTo>
                    <a:pt x="692" y="814"/>
                  </a:lnTo>
                  <a:lnTo>
                    <a:pt x="700" y="830"/>
                  </a:lnTo>
                  <a:lnTo>
                    <a:pt x="715" y="842"/>
                  </a:lnTo>
                  <a:lnTo>
                    <a:pt x="732" y="852"/>
                  </a:lnTo>
                  <a:lnTo>
                    <a:pt x="754" y="856"/>
                  </a:lnTo>
                  <a:lnTo>
                    <a:pt x="777" y="852"/>
                  </a:lnTo>
                  <a:lnTo>
                    <a:pt x="795" y="842"/>
                  </a:lnTo>
                  <a:lnTo>
                    <a:pt x="808" y="830"/>
                  </a:lnTo>
                  <a:lnTo>
                    <a:pt x="816" y="814"/>
                  </a:lnTo>
                  <a:lnTo>
                    <a:pt x="827" y="799"/>
                  </a:lnTo>
                  <a:lnTo>
                    <a:pt x="831" y="788"/>
                  </a:lnTo>
                  <a:lnTo>
                    <a:pt x="831" y="785"/>
                  </a:lnTo>
                  <a:lnTo>
                    <a:pt x="831" y="122"/>
                  </a:lnTo>
                  <a:lnTo>
                    <a:pt x="830" y="105"/>
                  </a:lnTo>
                  <a:lnTo>
                    <a:pt x="814" y="73"/>
                  </a:lnTo>
                  <a:lnTo>
                    <a:pt x="792" y="43"/>
                  </a:lnTo>
                  <a:lnTo>
                    <a:pt x="766" y="22"/>
                  </a:lnTo>
                  <a:lnTo>
                    <a:pt x="734" y="6"/>
                  </a:lnTo>
                  <a:lnTo>
                    <a:pt x="703" y="0"/>
                  </a:lnTo>
                  <a:lnTo>
                    <a:pt x="136" y="0"/>
                  </a:lnTo>
                  <a:lnTo>
                    <a:pt x="193" y="57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cc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671" name=""/>
          <p:cNvSpPr/>
          <p:nvPr/>
        </p:nvSpPr>
        <p:spPr>
          <a:xfrm>
            <a:off x="7268040" y="561492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D</a:t>
            </a: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 Group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344480" y="119556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7184520" y="391320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540800" y="391320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 flipH="1">
            <a:off x="4345560" y="646272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70440" y="5167440"/>
            <a:ext cx="146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Product_24%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7245720" y="181296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B</a:t>
            </a: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 Group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43440" y="3044880"/>
            <a:ext cx="146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Product_76%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997560" y="177480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A</a:t>
            </a: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 Group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2973240" y="2876400"/>
            <a:ext cx="146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Product_50%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997560" y="559440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C</a:t>
            </a: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 Group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2577960" y="4581360"/>
            <a:ext cx="146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Product_38%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2976480" y="3174840"/>
            <a:ext cx="465120" cy="532080"/>
          </a:xfrm>
          <a:custGeom>
            <a:avLst/>
            <a:gdLst>
              <a:gd name="textAreaLeft" fmla="*/ 0 w 465120"/>
              <a:gd name="textAreaRight" fmla="*/ 465480 w 465120"/>
              <a:gd name="textAreaTop" fmla="*/ 0 h 532080"/>
              <a:gd name="textAreaBottom" fmla="*/ 532440 h 532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32b6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5491080" y="3174840"/>
            <a:ext cx="463680" cy="532080"/>
          </a:xfrm>
          <a:custGeom>
            <a:avLst/>
            <a:gdLst>
              <a:gd name="textAreaLeft" fmla="*/ 0 w 463680"/>
              <a:gd name="textAreaRight" fmla="*/ 464040 w 463680"/>
              <a:gd name="textAreaTop" fmla="*/ 0 h 532080"/>
              <a:gd name="textAreaBottom" fmla="*/ 532440 h 532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4c9b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6021360" y="2444760"/>
            <a:ext cx="1986120" cy="19940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4c9bba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6021360" y="2444760"/>
            <a:ext cx="1986120" cy="199404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4c9bba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6151680" y="2575080"/>
            <a:ext cx="1725480" cy="1733400"/>
          </a:xfrm>
          <a:prstGeom prst="ellipse">
            <a:avLst/>
          </a:prstGeom>
          <a:gradFill rotWithShape="0">
            <a:gsLst>
              <a:gs pos="0">
                <a:srgbClr val="285364"/>
              </a:gs>
              <a:gs pos="50000">
                <a:srgbClr val="4c9bba"/>
              </a:gs>
              <a:gs pos="100000">
                <a:srgbClr val="28536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6180120" y="2584440"/>
            <a:ext cx="1727280" cy="1733400"/>
          </a:xfrm>
          <a:prstGeom prst="ellipse">
            <a:avLst/>
          </a:prstGeom>
          <a:gradFill rotWithShape="0">
            <a:gsLst>
              <a:gs pos="0">
                <a:srgbClr val="4c9bba">
                  <a:alpha val="0"/>
                </a:srgbClr>
              </a:gs>
              <a:gs pos="100000">
                <a:srgbClr val="30627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6243480" y="2660760"/>
            <a:ext cx="1555920" cy="15602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990720" y="2438280"/>
            <a:ext cx="1985760" cy="19940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a4d0a4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990720" y="2438280"/>
            <a:ext cx="1985760" cy="199404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a4d0a4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1120680" y="2568600"/>
            <a:ext cx="1725840" cy="1733400"/>
          </a:xfrm>
          <a:prstGeom prst="ellipse">
            <a:avLst/>
          </a:prstGeom>
          <a:gradFill rotWithShape="0">
            <a:gsLst>
              <a:gs pos="0">
                <a:srgbClr val="587058"/>
              </a:gs>
              <a:gs pos="50000">
                <a:srgbClr val="a4d0a4"/>
              </a:gs>
              <a:gs pos="100000">
                <a:srgbClr val="587058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1122480" y="2571840"/>
            <a:ext cx="1725480" cy="1733400"/>
          </a:xfrm>
          <a:prstGeom prst="ellipse">
            <a:avLst/>
          </a:prstGeom>
          <a:gradFill rotWithShape="0">
            <a:gsLst>
              <a:gs pos="0">
                <a:srgbClr val="a4d0a4">
                  <a:alpha val="0"/>
                </a:srgbClr>
              </a:gs>
              <a:gs pos="100000">
                <a:srgbClr val="678367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1206360" y="2655720"/>
            <a:ext cx="1554480" cy="156060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97" name=""/>
          <p:cNvGrpSpPr/>
          <p:nvPr/>
        </p:nvGrpSpPr>
        <p:grpSpPr>
          <a:xfrm>
            <a:off x="1231920" y="2678040"/>
            <a:ext cx="1503360" cy="1511280"/>
            <a:chOff x="1231920" y="2678040"/>
            <a:chExt cx="1503360" cy="1511280"/>
          </a:xfrm>
        </p:grpSpPr>
        <p:sp>
          <p:nvSpPr>
            <p:cNvPr id="698" name=""/>
            <p:cNvSpPr/>
            <p:nvPr/>
          </p:nvSpPr>
          <p:spPr>
            <a:xfrm>
              <a:off x="1231920" y="2678040"/>
              <a:ext cx="1503360" cy="15112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251000" y="2686320"/>
              <a:ext cx="1467000" cy="14738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266480" y="2700720"/>
              <a:ext cx="1395000" cy="13770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348200" y="2739600"/>
              <a:ext cx="1240200" cy="1117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702" name=""/>
          <p:cNvSpPr/>
          <p:nvPr/>
        </p:nvSpPr>
        <p:spPr>
          <a:xfrm>
            <a:off x="3506760" y="2444760"/>
            <a:ext cx="1986120" cy="19940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2b66e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3506760" y="2444760"/>
            <a:ext cx="1986120" cy="1994040"/>
          </a:xfrm>
          <a:prstGeom prst="ellipse">
            <a:avLst/>
          </a:prstGeom>
          <a:gradFill rotWithShape="0">
            <a:gsLst>
              <a:gs pos="0">
                <a:srgbClr val="175332"/>
              </a:gs>
              <a:gs pos="100000">
                <a:srgbClr val="32b66e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637080" y="2575080"/>
            <a:ext cx="1725480" cy="1733400"/>
          </a:xfrm>
          <a:prstGeom prst="ellipse">
            <a:avLst/>
          </a:prstGeom>
          <a:gradFill rotWithShape="0">
            <a:gsLst>
              <a:gs pos="0">
                <a:srgbClr val="1a623b"/>
              </a:gs>
              <a:gs pos="50000">
                <a:srgbClr val="32b66e"/>
              </a:gs>
              <a:gs pos="100000">
                <a:srgbClr val="1a623b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3638520" y="2577960"/>
            <a:ext cx="1725480" cy="1733760"/>
          </a:xfrm>
          <a:prstGeom prst="ellipse">
            <a:avLst/>
          </a:prstGeom>
          <a:gradFill rotWithShape="0">
            <a:gsLst>
              <a:gs pos="0">
                <a:srgbClr val="32b66e">
                  <a:alpha val="0"/>
                </a:srgbClr>
              </a:gs>
              <a:gs pos="100000">
                <a:srgbClr val="1f734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3722760" y="2660760"/>
            <a:ext cx="1554120" cy="15602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707" name=""/>
          <p:cNvGrpSpPr/>
          <p:nvPr/>
        </p:nvGrpSpPr>
        <p:grpSpPr>
          <a:xfrm>
            <a:off x="3747960" y="2678040"/>
            <a:ext cx="1503360" cy="1511280"/>
            <a:chOff x="3747960" y="2678040"/>
            <a:chExt cx="1503360" cy="1511280"/>
          </a:xfrm>
        </p:grpSpPr>
        <p:sp>
          <p:nvSpPr>
            <p:cNvPr id="708" name=""/>
            <p:cNvSpPr/>
            <p:nvPr/>
          </p:nvSpPr>
          <p:spPr>
            <a:xfrm>
              <a:off x="3747960" y="2678040"/>
              <a:ext cx="1503360" cy="15112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767040" y="2686320"/>
              <a:ext cx="1467000" cy="14738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782520" y="2700720"/>
              <a:ext cx="1395000" cy="13770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864240" y="2739600"/>
              <a:ext cx="1240200" cy="1117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712" name=""/>
          <p:cNvGrpSpPr/>
          <p:nvPr/>
        </p:nvGrpSpPr>
        <p:grpSpPr>
          <a:xfrm>
            <a:off x="6272280" y="2678040"/>
            <a:ext cx="1504800" cy="1511280"/>
            <a:chOff x="6272280" y="2678040"/>
            <a:chExt cx="1504800" cy="1511280"/>
          </a:xfrm>
        </p:grpSpPr>
        <p:sp>
          <p:nvSpPr>
            <p:cNvPr id="713" name=""/>
            <p:cNvSpPr/>
            <p:nvPr/>
          </p:nvSpPr>
          <p:spPr>
            <a:xfrm>
              <a:off x="6272280" y="2678040"/>
              <a:ext cx="1504800" cy="15112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291360" y="2686320"/>
              <a:ext cx="1468440" cy="14738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306840" y="2700720"/>
              <a:ext cx="1396440" cy="13770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388920" y="2739600"/>
              <a:ext cx="1241280" cy="1117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717" name=""/>
          <p:cNvSpPr/>
          <p:nvPr/>
        </p:nvSpPr>
        <p:spPr>
          <a:xfrm>
            <a:off x="1035000" y="4933800"/>
            <a:ext cx="1892520" cy="4762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3549600" y="4933800"/>
            <a:ext cx="1890720" cy="4762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6080040" y="4933800"/>
            <a:ext cx="1890720" cy="4762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599840" y="32367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4122360" y="32367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6643440" y="32367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868320" y="2903400"/>
            <a:ext cx="7505640" cy="2676600"/>
          </a:xfrm>
          <a:custGeom>
            <a:avLst/>
            <a:gdLst/>
            <a:ahLst/>
            <a:rect l="l" t="t" r="r" b="b"/>
            <a:pathLst>
              <a:path w="4728" h="1686">
                <a:moveTo>
                  <a:pt x="1422" y="3"/>
                </a:moveTo>
                <a:cubicBezTo>
                  <a:pt x="1450" y="0"/>
                  <a:pt x="252" y="159"/>
                  <a:pt x="192" y="705"/>
                </a:cubicBezTo>
                <a:cubicBezTo>
                  <a:pt x="222" y="1041"/>
                  <a:pt x="828" y="1203"/>
                  <a:pt x="1096" y="1292"/>
                </a:cubicBezTo>
                <a:cubicBezTo>
                  <a:pt x="1364" y="1381"/>
                  <a:pt x="1955" y="1428"/>
                  <a:pt x="2388" y="1428"/>
                </a:cubicBezTo>
                <a:cubicBezTo>
                  <a:pt x="2821" y="1428"/>
                  <a:pt x="3307" y="1379"/>
                  <a:pt x="3672" y="1275"/>
                </a:cubicBezTo>
                <a:cubicBezTo>
                  <a:pt x="4037" y="1171"/>
                  <a:pt x="4506" y="987"/>
                  <a:pt x="4524" y="705"/>
                </a:cubicBezTo>
                <a:cubicBezTo>
                  <a:pt x="4518" y="207"/>
                  <a:pt x="3269" y="50"/>
                  <a:pt x="3294" y="27"/>
                </a:cubicBezTo>
                <a:cubicBezTo>
                  <a:pt x="3324" y="29"/>
                  <a:pt x="4674" y="201"/>
                  <a:pt x="4704" y="717"/>
                </a:cubicBezTo>
                <a:cubicBezTo>
                  <a:pt x="4728" y="1077"/>
                  <a:pt x="4236" y="1365"/>
                  <a:pt x="3798" y="1488"/>
                </a:cubicBezTo>
                <a:cubicBezTo>
                  <a:pt x="3360" y="1611"/>
                  <a:pt x="2883" y="1680"/>
                  <a:pt x="2412" y="1683"/>
                </a:cubicBezTo>
                <a:cubicBezTo>
                  <a:pt x="1941" y="1686"/>
                  <a:pt x="1374" y="1644"/>
                  <a:pt x="972" y="1506"/>
                </a:cubicBezTo>
                <a:cubicBezTo>
                  <a:pt x="570" y="1368"/>
                  <a:pt x="0" y="1173"/>
                  <a:pt x="24" y="723"/>
                </a:cubicBezTo>
                <a:cubicBezTo>
                  <a:pt x="42" y="117"/>
                  <a:pt x="1394" y="6"/>
                  <a:pt x="1422" y="3"/>
                </a:cubicBezTo>
                <a:close/>
              </a:path>
            </a:pathLst>
          </a:custGeom>
          <a:gradFill rotWithShape="0">
            <a:gsLst>
              <a:gs pos="0">
                <a:srgbClr val="336699"/>
              </a:gs>
              <a:gs pos="100000">
                <a:srgbClr val="d6e0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2865600" y="2700360"/>
            <a:ext cx="3606480" cy="759960"/>
            <a:chOff x="2865600" y="2700360"/>
            <a:chExt cx="3606480" cy="759960"/>
          </a:xfrm>
        </p:grpSpPr>
        <p:sp>
          <p:nvSpPr>
            <p:cNvPr id="726" name=""/>
            <p:cNvSpPr/>
            <p:nvPr/>
          </p:nvSpPr>
          <p:spPr>
            <a:xfrm>
              <a:off x="2865600" y="2715480"/>
              <a:ext cx="3603600" cy="744840"/>
            </a:xfrm>
            <a:prstGeom prst="ellipse">
              <a:avLst/>
            </a:prstGeom>
            <a:gradFill rotWithShape="0">
              <a:gsLst>
                <a:gs pos="0">
                  <a:srgbClr val="003854"/>
                </a:gs>
                <a:gs pos="50000">
                  <a:srgbClr val="006699"/>
                </a:gs>
                <a:gs pos="100000">
                  <a:srgbClr val="00385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865600" y="2703960"/>
              <a:ext cx="3606480" cy="704160"/>
            </a:xfrm>
            <a:prstGeom prst="ellipse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a8ca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868120" y="2700360"/>
              <a:ext cx="3583080" cy="6940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27058"/>
                  </a:srgbClr>
                </a:gs>
                <a:gs pos="50000">
                  <a:srgbClr val="ffffff">
                    <a:alpha val="5098"/>
                  </a:srgbClr>
                </a:gs>
                <a:gs pos="100000">
                  <a:srgbClr val="000000">
                    <a:alpha val="2705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729" name=""/>
          <p:cNvSpPr/>
          <p:nvPr/>
        </p:nvSpPr>
        <p:spPr>
          <a:xfrm>
            <a:off x="3327480" y="2782800"/>
            <a:ext cx="566640" cy="368280"/>
          </a:xfrm>
          <a:prstGeom prst="cube">
            <a:avLst>
              <a:gd name="adj" fmla="val 48171"/>
            </a:avLst>
          </a:prstGeom>
          <a:solidFill>
            <a:srgbClr val="333333"/>
          </a:solidFill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2666880" y="2362320"/>
            <a:ext cx="1739880" cy="598320"/>
          </a:xfrm>
          <a:prstGeom prst="cube">
            <a:avLst>
              <a:gd name="adj" fmla="val 24337"/>
            </a:avLst>
          </a:prstGeom>
          <a:gradFill rotWithShape="0">
            <a:gsLst>
              <a:gs pos="0">
                <a:srgbClr val="284a2f"/>
              </a:gs>
              <a:gs pos="100000">
                <a:srgbClr val="3662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4449600" y="2006640"/>
            <a:ext cx="567000" cy="1144440"/>
          </a:xfrm>
          <a:prstGeom prst="cube">
            <a:avLst>
              <a:gd name="adj" fmla="val 48171"/>
            </a:avLst>
          </a:prstGeom>
          <a:solidFill>
            <a:srgbClr val="333333"/>
          </a:solidFill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741840" y="1712880"/>
            <a:ext cx="2043000" cy="576360"/>
          </a:xfrm>
          <a:prstGeom prst="cube">
            <a:avLst>
              <a:gd name="adj" fmla="val 24337"/>
            </a:avLst>
          </a:prstGeom>
          <a:gradFill rotWithShape="0">
            <a:gsLst>
              <a:gs pos="0">
                <a:srgbClr val="8cb28c"/>
              </a:gs>
              <a:gs pos="100000">
                <a:srgbClr val="a4d0a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5438880" y="2782800"/>
            <a:ext cx="566640" cy="368280"/>
          </a:xfrm>
          <a:prstGeom prst="cube">
            <a:avLst>
              <a:gd name="adj" fmla="val 48171"/>
            </a:avLst>
          </a:prstGeom>
          <a:solidFill>
            <a:srgbClr val="333333"/>
          </a:solidFill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4862520" y="2367000"/>
            <a:ext cx="1689120" cy="598320"/>
          </a:xfrm>
          <a:prstGeom prst="cube">
            <a:avLst>
              <a:gd name="adj" fmla="val 24337"/>
            </a:avLst>
          </a:prstGeom>
          <a:gradFill rotWithShape="0">
            <a:gsLst>
              <a:gs pos="0">
                <a:srgbClr val="2a9c5e"/>
              </a:gs>
              <a:gs pos="100000">
                <a:srgbClr val="32b66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2865600" y="2567160"/>
            <a:ext cx="127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4984920" y="2567160"/>
            <a:ext cx="127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087800" y="189072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 rot="1218000">
            <a:off x="1399680" y="475632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 rot="20616600">
            <a:off x="6283440" y="4862520"/>
            <a:ext cx="127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2459160" y="3673440"/>
            <a:ext cx="433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1"/>
          <a:stretch/>
        </p:blipFill>
        <p:spPr>
          <a:xfrm>
            <a:off x="3608280" y="4479840"/>
            <a:ext cx="1863720" cy="1844640"/>
          </a:xfrm>
          <a:prstGeom prst="rect">
            <a:avLst/>
          </a:prstGeom>
          <a:ln w="0">
            <a:noFill/>
          </a:ln>
        </p:spPr>
      </p:pic>
      <p:sp>
        <p:nvSpPr>
          <p:cNvPr id="742" name=""/>
          <p:cNvSpPr/>
          <p:nvPr/>
        </p:nvSpPr>
        <p:spPr>
          <a:xfrm>
            <a:off x="3611520" y="4473720"/>
            <a:ext cx="1863720" cy="1850760"/>
          </a:xfrm>
          <a:prstGeom prst="ellipse">
            <a:avLst/>
          </a:prstGeom>
          <a:gradFill rotWithShape="0">
            <a:gsLst>
              <a:gs pos="0">
                <a:srgbClr val="ffff00">
                  <a:alpha val="85098"/>
                </a:srgbClr>
              </a:gs>
              <a:gs pos="100000">
                <a:srgbClr val="ffffff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ffff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957480" y="5130720"/>
            <a:ext cx="117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4" name="" descr=""/>
          <p:cNvPicPr/>
          <p:nvPr/>
        </p:nvPicPr>
        <p:blipFill>
          <a:blip r:embed="rId1"/>
          <a:stretch/>
        </p:blipFill>
        <p:spPr>
          <a:xfrm>
            <a:off x="5532480" y="3643200"/>
            <a:ext cx="1643040" cy="1625760"/>
          </a:xfrm>
          <a:prstGeom prst="rect">
            <a:avLst/>
          </a:prstGeom>
          <a:ln w="0">
            <a:noFill/>
          </a:ln>
        </p:spPr>
      </p:pic>
      <p:sp>
        <p:nvSpPr>
          <p:cNvPr id="745" name=""/>
          <p:cNvSpPr/>
          <p:nvPr/>
        </p:nvSpPr>
        <p:spPr>
          <a:xfrm rot="851400">
            <a:off x="4339800" y="3736440"/>
            <a:ext cx="1041480" cy="777960"/>
          </a:xfrm>
          <a:custGeom>
            <a:avLst/>
            <a:gdLst/>
            <a:ahLst/>
            <a:rect l="l" t="t" r="r" b="b"/>
            <a:pathLst>
              <a:path w="1168" h="1041">
                <a:moveTo>
                  <a:pt x="959" y="451"/>
                </a:moveTo>
                <a:lnTo>
                  <a:pt x="959" y="595"/>
                </a:lnTo>
                <a:cubicBezTo>
                  <a:pt x="731" y="553"/>
                  <a:pt x="274" y="438"/>
                  <a:pt x="221" y="0"/>
                </a:cubicBezTo>
                <a:cubicBezTo>
                  <a:pt x="89" y="75"/>
                  <a:pt x="0" y="906"/>
                  <a:pt x="71" y="1041"/>
                </a:cubicBezTo>
                <a:cubicBezTo>
                  <a:pt x="377" y="619"/>
                  <a:pt x="814" y="742"/>
                  <a:pt x="959" y="713"/>
                </a:cubicBezTo>
                <a:lnTo>
                  <a:pt x="959" y="870"/>
                </a:lnTo>
                <a:lnTo>
                  <a:pt x="1168" y="667"/>
                </a:lnTo>
                <a:lnTo>
                  <a:pt x="959" y="451"/>
                </a:ln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9898c1"/>
              </a:gs>
            </a:gsLst>
            <a:lin ang="994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746" name="" descr=""/>
          <p:cNvPicPr/>
          <p:nvPr/>
        </p:nvPicPr>
        <p:blipFill>
          <a:blip r:embed="rId2"/>
          <a:stretch/>
        </p:blipFill>
        <p:spPr>
          <a:xfrm>
            <a:off x="1503360" y="1843200"/>
            <a:ext cx="3181320" cy="3152520"/>
          </a:xfrm>
          <a:prstGeom prst="rect">
            <a:avLst/>
          </a:prstGeom>
          <a:ln w="0">
            <a:noFill/>
          </a:ln>
        </p:spPr>
      </p:pic>
      <p:grpSp>
        <p:nvGrpSpPr>
          <p:cNvPr id="747" name=""/>
          <p:cNvGrpSpPr/>
          <p:nvPr/>
        </p:nvGrpSpPr>
        <p:grpSpPr>
          <a:xfrm>
            <a:off x="2095200" y="2615400"/>
            <a:ext cx="2745720" cy="2502720"/>
            <a:chOff x="2095200" y="2615400"/>
            <a:chExt cx="2745720" cy="2502720"/>
          </a:xfrm>
        </p:grpSpPr>
        <p:grpSp>
          <p:nvGrpSpPr>
            <p:cNvPr id="748" name=""/>
            <p:cNvGrpSpPr/>
            <p:nvPr/>
          </p:nvGrpSpPr>
          <p:grpSpPr>
            <a:xfrm>
              <a:off x="2728440" y="2615400"/>
              <a:ext cx="2112480" cy="2478240"/>
              <a:chOff x="2728440" y="2615400"/>
              <a:chExt cx="2112480" cy="2478240"/>
            </a:xfrm>
          </p:grpSpPr>
          <p:sp>
            <p:nvSpPr>
              <p:cNvPr id="749" name=""/>
              <p:cNvSpPr/>
              <p:nvPr/>
            </p:nvSpPr>
            <p:spPr>
              <a:xfrm flipH="1" flipV="1" rot="1528800">
                <a:off x="3905280" y="2622960"/>
                <a:ext cx="502560" cy="2058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flipH="1" flipV="1" rot="2344200">
                <a:off x="3745440" y="2926080"/>
                <a:ext cx="502560" cy="2057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flipH="1" flipV="1" rot="2640000">
                <a:off x="3612960" y="3073680"/>
                <a:ext cx="502560" cy="2057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flipH="1" flipV="1" rot="3172200">
                <a:off x="3448440" y="3243240"/>
                <a:ext cx="502560" cy="2057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753" name=""/>
            <p:cNvGrpSpPr/>
            <p:nvPr/>
          </p:nvGrpSpPr>
          <p:grpSpPr>
            <a:xfrm>
              <a:off x="2095200" y="3297240"/>
              <a:ext cx="2653920" cy="1820880"/>
              <a:chOff x="2095200" y="3297240"/>
              <a:chExt cx="2653920" cy="1820880"/>
            </a:xfrm>
          </p:grpSpPr>
          <p:sp>
            <p:nvSpPr>
              <p:cNvPr id="754" name=""/>
              <p:cNvSpPr/>
              <p:nvPr/>
            </p:nvSpPr>
            <p:spPr>
              <a:xfrm flipH="1" flipV="1" rot="2881800">
                <a:off x="3561840" y="3143880"/>
                <a:ext cx="505080" cy="2059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flipH="1" flipV="1" rot="3697200">
                <a:off x="3297960" y="3362040"/>
                <a:ext cx="505080" cy="2058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flipH="1" flipV="1" rot="3993000">
                <a:off x="3119040" y="3447360"/>
                <a:ext cx="505080" cy="2058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flipH="1" flipV="1" rot="4525200">
                <a:off x="2901600" y="3541320"/>
                <a:ext cx="505080" cy="2058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sp>
        <p:nvSpPr>
          <p:cNvPr id="758" name=""/>
          <p:cNvSpPr/>
          <p:nvPr/>
        </p:nvSpPr>
        <p:spPr>
          <a:xfrm flipH="1" flipV="1" rot="5400000">
            <a:off x="1519920" y="1841400"/>
            <a:ext cx="3168360" cy="3166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915" y="1"/>
                </a:moveTo>
                <a:arcTo wR="10800" hR="10800" stAng="-5363540" swAng="5395462"/>
                <a:lnTo>
                  <a:pt x="10800" y="10800"/>
                </a:lnTo>
                <a:close/>
              </a:path>
              <a:path fill="none" w="21600" h="21600">
                <a:moveTo>
                  <a:pt x="10915" y="1"/>
                </a:moveTo>
                <a:arcTo wR="10800" hR="10800" stAng="-5363540" swAng="5395462"/>
              </a:path>
            </a:pathLst>
          </a:custGeom>
          <a:solidFill>
            <a:srgbClr val="32b66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1557360" y="1844640"/>
            <a:ext cx="3117600" cy="318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4c9bb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 flipH="1" rot="16200000">
            <a:off x="1558800" y="1855080"/>
            <a:ext cx="3095640" cy="3167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570" y="2"/>
                </a:moveTo>
                <a:arcTo wR="10800" hR="10800" stAng="-5473296" swAng="5505218"/>
                <a:lnTo>
                  <a:pt x="10800" y="10800"/>
                </a:lnTo>
                <a:close/>
              </a:path>
              <a:path fill="none" w="21600" h="21600">
                <a:moveTo>
                  <a:pt x="10570" y="2"/>
                </a:moveTo>
                <a:arcTo wR="10800" hR="10800" stAng="-5473296" swAng="5505218"/>
              </a:path>
            </a:pathLst>
          </a:custGeom>
          <a:solidFill>
            <a:srgbClr val="a4d0a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 flipV="1">
            <a:off x="1557360" y="1872360"/>
            <a:ext cx="3117600" cy="3107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ccff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2435400" y="2752560"/>
            <a:ext cx="1349280" cy="134964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533920" y="3630600"/>
            <a:ext cx="1638360" cy="1646280"/>
          </a:xfrm>
          <a:prstGeom prst="ellipse">
            <a:avLst/>
          </a:prstGeom>
          <a:solidFill>
            <a:srgbClr val="ccff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6351480" y="3633840"/>
            <a:ext cx="0" cy="1630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5533920" y="4459320"/>
            <a:ext cx="16318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766" name=""/>
          <p:cNvGrpSpPr/>
          <p:nvPr/>
        </p:nvGrpSpPr>
        <p:grpSpPr>
          <a:xfrm>
            <a:off x="2930040" y="3368880"/>
            <a:ext cx="1807920" cy="1705320"/>
            <a:chOff x="2930040" y="3368880"/>
            <a:chExt cx="1807920" cy="1705320"/>
          </a:xfrm>
        </p:grpSpPr>
        <p:sp>
          <p:nvSpPr>
            <p:cNvPr id="767" name=""/>
            <p:cNvSpPr/>
            <p:nvPr/>
          </p:nvSpPr>
          <p:spPr>
            <a:xfrm flipH="1" flipV="1" rot="2089200">
              <a:off x="3960360" y="3326760"/>
              <a:ext cx="353880" cy="1594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 flipH="1" flipV="1" rot="2905200">
              <a:off x="3799800" y="3538800"/>
              <a:ext cx="353880" cy="1594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 flipH="1" flipV="1" rot="3200400">
              <a:off x="3683880" y="3637080"/>
              <a:ext cx="353880" cy="1593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 flipH="1" flipV="1" rot="3732600">
              <a:off x="3540600" y="3749400"/>
              <a:ext cx="353880" cy="1594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771" name=""/>
          <p:cNvSpPr/>
          <p:nvPr/>
        </p:nvSpPr>
        <p:spPr>
          <a:xfrm>
            <a:off x="1848240" y="24652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11111"/>
                </a:solidFill>
                <a:latin typeface="Arial"/>
                <a:ea typeface="宋体"/>
              </a:rPr>
              <a:t>Subtitl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3429360" y="24652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11111"/>
                </a:solidFill>
                <a:latin typeface="Arial"/>
                <a:ea typeface="宋体"/>
              </a:rPr>
              <a:t>Subtitl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1848240" y="39466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11111"/>
                </a:solidFill>
                <a:latin typeface="Arial"/>
                <a:ea typeface="宋体"/>
              </a:rPr>
              <a:t>Subtitl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3451680" y="39466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11111"/>
                </a:solidFill>
                <a:latin typeface="Arial"/>
                <a:ea typeface="宋体"/>
              </a:rPr>
              <a:t>Subtitl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503440" y="2981160"/>
            <a:ext cx="119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1111"/>
                </a:solidFill>
                <a:latin typeface="Arial"/>
                <a:ea typeface="宋体"/>
              </a:rPr>
              <a:t>A title about conten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5518440" y="4127400"/>
            <a:ext cx="86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11111"/>
                </a:solidFill>
                <a:latin typeface="Arial"/>
                <a:ea typeface="宋体"/>
              </a:rPr>
              <a:t>Subtitle01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6340680" y="4127400"/>
            <a:ext cx="86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11111"/>
                </a:solidFill>
                <a:latin typeface="Arial"/>
                <a:ea typeface="宋体"/>
              </a:rPr>
              <a:t>Subtitle02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5518440" y="4591080"/>
            <a:ext cx="86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11111"/>
                </a:solidFill>
                <a:latin typeface="Arial"/>
                <a:ea typeface="宋体"/>
              </a:rPr>
              <a:t>Subtitle03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6330960" y="4581360"/>
            <a:ext cx="86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11111"/>
                </a:solidFill>
                <a:latin typeface="Arial"/>
                <a:ea typeface="宋体"/>
              </a:rPr>
              <a:t>Subtitle04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1855800" y="5283360"/>
            <a:ext cx="24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宋体"/>
              </a:rPr>
              <a:t>2005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111111"/>
                </a:solidFill>
                <a:latin typeface="Arial"/>
                <a:ea typeface="宋体"/>
              </a:rPr>
              <a:t>Company Content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4995720" y="2198520"/>
            <a:ext cx="2862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1" lang="en-US" sz="1200" spc="-1" strike="noStrike">
                <a:solidFill>
                  <a:srgbClr val="ff6600"/>
                </a:solidFill>
                <a:latin typeface="Arial"/>
                <a:ea typeface="宋体"/>
              </a:rPr>
              <a:t>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1" lang="en-US" sz="1200" spc="-1" strike="noStrike">
                <a:solidFill>
                  <a:srgbClr val="ff6600"/>
                </a:solidFill>
                <a:latin typeface="Arial"/>
                <a:ea typeface="宋体"/>
              </a:rPr>
              <a:t>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4" name=""/>
          <p:cNvGrpSpPr/>
          <p:nvPr/>
        </p:nvGrpSpPr>
        <p:grpSpPr>
          <a:xfrm>
            <a:off x="2019240" y="2438280"/>
            <a:ext cx="5257080" cy="2895480"/>
            <a:chOff x="2019240" y="2438280"/>
            <a:chExt cx="5257080" cy="2895480"/>
          </a:xfrm>
        </p:grpSpPr>
        <p:sp>
          <p:nvSpPr>
            <p:cNvPr id="785" name=""/>
            <p:cNvSpPr/>
            <p:nvPr/>
          </p:nvSpPr>
          <p:spPr>
            <a:xfrm>
              <a:off x="2811600" y="3928320"/>
              <a:ext cx="4464720" cy="1405440"/>
            </a:xfrm>
            <a:custGeom>
              <a:avLst/>
              <a:gdLst/>
              <a:ahLst/>
              <a:rect l="l" t="t" r="r" b="b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647160" y="2438280"/>
              <a:ext cx="3619800" cy="1786680"/>
            </a:xfrm>
            <a:custGeom>
              <a:avLst/>
              <a:gdLst/>
              <a:ahLst/>
              <a:rect l="l" t="t" r="r" b="b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019240" y="2834640"/>
              <a:ext cx="1977840" cy="2013120"/>
            </a:xfrm>
            <a:custGeom>
              <a:avLst/>
              <a:gdLst/>
              <a:ahLst/>
              <a:rect l="l" t="t" r="r" b="b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1943280" y="2362320"/>
            <a:ext cx="5333400" cy="2818800"/>
            <a:chOff x="1943280" y="2362320"/>
            <a:chExt cx="5333400" cy="2818800"/>
          </a:xfrm>
        </p:grpSpPr>
        <p:sp>
          <p:nvSpPr>
            <p:cNvPr id="789" name=""/>
            <p:cNvSpPr/>
            <p:nvPr/>
          </p:nvSpPr>
          <p:spPr>
            <a:xfrm>
              <a:off x="2747160" y="3812760"/>
              <a:ext cx="4529520" cy="1368360"/>
            </a:xfrm>
            <a:custGeom>
              <a:avLst/>
              <a:gdLst/>
              <a:ahLst/>
              <a:rect l="l" t="t" r="r" b="b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gradFill rotWithShape="0">
              <a:gsLst>
                <a:gs pos="0">
                  <a:srgbClr val="32b66e"/>
                </a:gs>
                <a:gs pos="100000">
                  <a:srgbClr val="17533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594600" y="2362320"/>
              <a:ext cx="3672000" cy="1739520"/>
            </a:xfrm>
            <a:custGeom>
              <a:avLst/>
              <a:gdLst/>
              <a:ahLst/>
              <a:rect l="l" t="t" r="r" b="b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gradFill rotWithShape="0">
              <a:gsLst>
                <a:gs pos="0">
                  <a:srgbClr val="36623f"/>
                </a:gs>
                <a:gs pos="100000">
                  <a:srgbClr val="182d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943280" y="2748240"/>
              <a:ext cx="2006280" cy="1959840"/>
            </a:xfrm>
            <a:custGeom>
              <a:avLst/>
              <a:gdLst/>
              <a:ahLst/>
              <a:rect l="l" t="t" r="r" b="b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gradFill rotWithShape="0">
              <a:gsLst>
                <a:gs pos="0">
                  <a:srgbClr val="4c9bba"/>
                </a:gs>
                <a:gs pos="100000">
                  <a:srgbClr val="7cb5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792" name=""/>
          <p:cNvSpPr/>
          <p:nvPr/>
        </p:nvSpPr>
        <p:spPr>
          <a:xfrm>
            <a:off x="5715000" y="1619280"/>
            <a:ext cx="2743200" cy="914400"/>
          </a:xfrm>
          <a:noFill/>
          <a:ln w="9360">
            <a:solidFill>
              <a:srgbClr val="c11594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762440" y="5334120"/>
            <a:ext cx="3048120" cy="853920"/>
          </a:xfrm>
          <a:noFill/>
          <a:ln w="9360">
            <a:solidFill>
              <a:srgbClr val="32b66e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571680" y="1676520"/>
            <a:ext cx="2192040" cy="965160"/>
          </a:xfrm>
          <a:noFill/>
          <a:ln w="9360">
            <a:solidFill>
              <a:srgbClr val="3491c4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112" name="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6623f"/>
                </a:gs>
                <a:gs pos="50000">
                  <a:srgbClr val="d3dcd5"/>
                </a:gs>
                <a:gs pos="100000">
                  <a:srgbClr val="36623f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36623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7432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289600" y="2003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117" name="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2b66e"/>
                </a:gs>
                <a:gs pos="50000">
                  <a:srgbClr val="d2eedf"/>
                </a:gs>
                <a:gs pos="100000">
                  <a:srgbClr val="32b66e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32b66e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7432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289600" y="2841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2133720" y="3581280"/>
            <a:ext cx="4724280" cy="685800"/>
            <a:chOff x="2133720" y="3581280"/>
            <a:chExt cx="4724280" cy="685800"/>
          </a:xfrm>
        </p:grpSpPr>
        <p:sp>
          <p:nvSpPr>
            <p:cNvPr id="122" name=""/>
            <p:cNvSpPr/>
            <p:nvPr/>
          </p:nvSpPr>
          <p:spPr>
            <a:xfrm>
              <a:off x="2514600" y="37004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c9bba"/>
                </a:gs>
                <a:gs pos="50000">
                  <a:srgbClr val="d8e8ef"/>
                </a:gs>
                <a:gs pos="100000">
                  <a:srgbClr val="4c9bba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133720" y="3581280"/>
              <a:ext cx="685800" cy="685800"/>
            </a:xfrm>
            <a:prstGeom prst="diamond">
              <a:avLst/>
            </a:prstGeom>
            <a:solidFill>
              <a:srgbClr val="4c9bba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432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289600" y="3679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2133720" y="4495680"/>
            <a:ext cx="4724280" cy="685800"/>
            <a:chOff x="2133720" y="4495680"/>
            <a:chExt cx="4724280" cy="685800"/>
          </a:xfrm>
        </p:grpSpPr>
        <p:sp>
          <p:nvSpPr>
            <p:cNvPr id="127" name=""/>
            <p:cNvSpPr/>
            <p:nvPr/>
          </p:nvSpPr>
          <p:spPr>
            <a:xfrm>
              <a:off x="2514600" y="46148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4d0a4"/>
                </a:gs>
                <a:gs pos="50000">
                  <a:srgbClr val="eaf4ea"/>
                </a:gs>
                <a:gs pos="100000">
                  <a:srgbClr val="a4d0a4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133720" y="4495680"/>
              <a:ext cx="685800" cy="685800"/>
            </a:xfrm>
            <a:prstGeom prst="diamond">
              <a:avLst/>
            </a:prstGeom>
            <a:solidFill>
              <a:srgbClr val="a4d0a4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7432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289600" y="4593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4c9bba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4c9bba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4c9bba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4c9bba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4c9bba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4c9bba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4c9bba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4c9bba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4c9bba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4c9bba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4c9bba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4c9bba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4c9bba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4c9bba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4c9bba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4c9bba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4c9bba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4c9bba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4c9bba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4c9bba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4c9bba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4c9bba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4c9bba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4c9bba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4c9bba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66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82BC6-4B2E-40D3-8767-1D18E37B417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ubTitle"/>
          </p:nvPr>
        </p:nvSpPr>
        <p:spPr>
          <a:xfrm>
            <a:off x="4876560" y="2666520"/>
            <a:ext cx="3352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  <a:ea typeface="宋体"/>
              </a:rPr>
              <a:t>[ Add your company slogan ]</a:t>
            </a:r>
            <a:endParaRPr b="0" lang="en-US" sz="1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5181480" y="3048120"/>
            <a:ext cx="381024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6623f"/>
                    </a:gs>
                    <a:gs pos="100000">
                      <a:srgbClr val="4c9bba"/>
                    </a:gs>
                  </a:gsLst>
                  <a:lin ang="5400000"/>
                </a:gradFill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6623f"/>
                  </a:gs>
                  <a:gs pos="100000">
                    <a:srgbClr val="4c9bba"/>
                  </a:gs>
                </a:gsLst>
                <a:lin ang="5400000"/>
              </a:gra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Hot Ti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43120" y="1447920"/>
            <a:ext cx="75340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3491c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宋体"/>
              </a:rPr>
              <a:t>How do I incorporate my logo to a slide that will apply to all the other slides?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668520" indent="-257040">
              <a:spcBef>
                <a:spcPts val="649"/>
              </a:spcBef>
              <a:buClr>
                <a:srgbClr val="32b6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  <a:ea typeface="宋体"/>
              </a:rPr>
              <a:t>On the [View] menu, point to [Master], and then click [Slide Master] or [Notes Master]. Change images to the one you like, then it will apply to all the other slides. </a:t>
            </a:r>
            <a:br>
              <a:rPr sz="2600"/>
            </a:b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4952880"/>
            <a:ext cx="63244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  <a:ea typeface="宋体"/>
              </a:rPr>
              <a:t>[ Image information in product ]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宋体"/>
              </a:rPr>
              <a:t>Image : CD_Medicine Today_PHOTODISC(MULTIBITS),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宋体"/>
              </a:rPr>
              <a:t>Note to customers : This image has been licensed to be used within this PowerPoint template only. 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宋体"/>
              </a:rPr>
              <a:t>                                   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宋体"/>
              </a:rPr>
              <a:t>You may not extract the image for any other use. 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90720" y="5091120"/>
            <a:ext cx="2019240" cy="96192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32b66e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0800000">
            <a:off x="6076440" y="4168800"/>
            <a:ext cx="1924200" cy="96192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32b66e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142640" y="1600200"/>
            <a:ext cx="26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Add your title in her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42640" y="4038480"/>
            <a:ext cx="26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Add your title in her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833560"/>
            <a:ext cx="2019240" cy="96228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4c9bb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rot="10800000">
            <a:off x="6039000" y="1881360"/>
            <a:ext cx="1923840" cy="96192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4c9bb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190520" y="2271600"/>
            <a:ext cx="6429600" cy="12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dab9"/>
              </a:gs>
              <a:gs pos="50000">
                <a:srgbClr val="a4d0a4"/>
              </a:gs>
              <a:gs pos="100000">
                <a:srgbClr val="b9dab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is a Design Digital Content &amp; Contents mall 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veloped by Guild Design Inc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66840" y="4557600"/>
            <a:ext cx="6429240" cy="12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876d"/>
              </a:gs>
              <a:gs pos="50000">
                <a:srgbClr val="36623f"/>
              </a:gs>
              <a:gs pos="100000">
                <a:srgbClr val="66876d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is a Design Digital Content &amp; Contents mall 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veloped by Guild Design Inc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4c9bba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2557440"/>
            <a:ext cx="6750000" cy="338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1f1f1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838080" y="2286000"/>
            <a:ext cx="1838160" cy="3309840"/>
            <a:chOff x="838080" y="2286000"/>
            <a:chExt cx="1838160" cy="3309840"/>
          </a:xfrm>
        </p:grpSpPr>
        <p:sp>
          <p:nvSpPr>
            <p:cNvPr id="147" name=""/>
            <p:cNvSpPr/>
            <p:nvPr/>
          </p:nvSpPr>
          <p:spPr>
            <a:xfrm>
              <a:off x="838080" y="2286000"/>
              <a:ext cx="1838160" cy="3309840"/>
            </a:xfrm>
            <a:custGeom>
              <a:avLst/>
              <a:gdLst>
                <a:gd name="textAreaLeft" fmla="*/ 89640 w 1838160"/>
                <a:gd name="textAreaRight" fmla="*/ 1748520 w 1838160"/>
                <a:gd name="textAreaTop" fmla="*/ 89640 h 3309840"/>
                <a:gd name="textAreaBottom" fmla="*/ 3220200 h 3309840"/>
              </a:gdLst>
              <a:ahLst/>
              <a:rect l="textAreaLeft" t="textAreaTop" r="textAreaRight" b="textAreaBottom"/>
              <a:pathLst>
                <a:path w="21600" h="38890">
                  <a:moveTo>
                    <a:pt x="3600" y="0"/>
                  </a:moveTo>
                  <a:arcTo wR="3600" hR="3600" stAng="16200000" swAng="-5400000"/>
                  <a:lnTo>
                    <a:pt x="0" y="35290"/>
                  </a:lnTo>
                  <a:arcTo wR="3600" hR="3600" stAng="10800000" swAng="-5400000"/>
                  <a:lnTo>
                    <a:pt x="18000" y="388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2b66e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914400" y="2324160"/>
              <a:ext cx="168732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32b66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630600" y="2286000"/>
            <a:ext cx="1838160" cy="3309840"/>
            <a:chOff x="3630600" y="2286000"/>
            <a:chExt cx="1838160" cy="3309840"/>
          </a:xfrm>
        </p:grpSpPr>
        <p:sp>
          <p:nvSpPr>
            <p:cNvPr id="150" name=""/>
            <p:cNvSpPr/>
            <p:nvPr/>
          </p:nvSpPr>
          <p:spPr>
            <a:xfrm>
              <a:off x="3630600" y="2286000"/>
              <a:ext cx="1838160" cy="3309840"/>
            </a:xfrm>
            <a:custGeom>
              <a:avLst/>
              <a:gdLst>
                <a:gd name="textAreaLeft" fmla="*/ 89640 w 1838160"/>
                <a:gd name="textAreaRight" fmla="*/ 1748520 w 1838160"/>
                <a:gd name="textAreaTop" fmla="*/ 89640 h 3309840"/>
                <a:gd name="textAreaBottom" fmla="*/ 3220200 h 3309840"/>
              </a:gdLst>
              <a:ahLst/>
              <a:rect l="textAreaLeft" t="textAreaTop" r="textAreaRight" b="textAreaBottom"/>
              <a:pathLst>
                <a:path w="21600" h="38890">
                  <a:moveTo>
                    <a:pt x="3600" y="0"/>
                  </a:moveTo>
                  <a:arcTo wR="3600" hR="3600" stAng="16200000" swAng="-5400000"/>
                  <a:lnTo>
                    <a:pt x="0" y="35290"/>
                  </a:lnTo>
                  <a:arcTo wR="3600" hR="3600" stAng="10800000" swAng="-5400000"/>
                  <a:lnTo>
                    <a:pt x="18000" y="388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6623f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703680" y="2324160"/>
              <a:ext cx="168732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36623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467400" y="2286000"/>
            <a:ext cx="1838160" cy="3309840"/>
            <a:chOff x="6467400" y="2286000"/>
            <a:chExt cx="1838160" cy="3309840"/>
          </a:xfrm>
        </p:grpSpPr>
        <p:sp>
          <p:nvSpPr>
            <p:cNvPr id="153" name=""/>
            <p:cNvSpPr/>
            <p:nvPr/>
          </p:nvSpPr>
          <p:spPr>
            <a:xfrm>
              <a:off x="6467400" y="2286000"/>
              <a:ext cx="1838160" cy="3309840"/>
            </a:xfrm>
            <a:custGeom>
              <a:avLst/>
              <a:gdLst>
                <a:gd name="textAreaLeft" fmla="*/ 89640 w 1838160"/>
                <a:gd name="textAreaRight" fmla="*/ 1748520 w 1838160"/>
                <a:gd name="textAreaTop" fmla="*/ 89640 h 3309840"/>
                <a:gd name="textAreaBottom" fmla="*/ 3220200 h 3309840"/>
              </a:gdLst>
              <a:ahLst/>
              <a:rect l="textAreaLeft" t="textAreaTop" r="textAreaRight" b="textAreaBottom"/>
              <a:pathLst>
                <a:path w="21600" h="38890">
                  <a:moveTo>
                    <a:pt x="3600" y="0"/>
                  </a:moveTo>
                  <a:arcTo wR="3600" hR="3600" stAng="16200000" swAng="-5400000"/>
                  <a:lnTo>
                    <a:pt x="0" y="35290"/>
                  </a:lnTo>
                  <a:arcTo wR="3600" hR="3600" stAng="10800000" swAng="-5400000"/>
                  <a:lnTo>
                    <a:pt x="18000" y="388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2b66e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543720" y="2333520"/>
              <a:ext cx="168732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32b66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914400" y="2943360"/>
            <a:ext cx="17524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657600" y="2943360"/>
            <a:ext cx="17524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77120" y="2943360"/>
            <a:ext cx="17524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2971800" y="3809880"/>
            <a:ext cx="504000" cy="496440"/>
            <a:chOff x="2971800" y="3809880"/>
            <a:chExt cx="504000" cy="496440"/>
          </a:xfrm>
        </p:grpSpPr>
        <p:grpSp>
          <p:nvGrpSpPr>
            <p:cNvPr id="159" name=""/>
            <p:cNvGrpSpPr/>
            <p:nvPr/>
          </p:nvGrpSpPr>
          <p:grpSpPr>
            <a:xfrm>
              <a:off x="3173400" y="3809880"/>
              <a:ext cx="302400" cy="496440"/>
              <a:chOff x="3173400" y="3809880"/>
              <a:chExt cx="302400" cy="496440"/>
            </a:xfrm>
          </p:grpSpPr>
          <p:sp>
            <p:nvSpPr>
              <p:cNvPr id="160" name=""/>
              <p:cNvSpPr/>
              <p:nvPr/>
            </p:nvSpPr>
            <p:spPr>
              <a:xfrm>
                <a:off x="3173400" y="38098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274200" y="3909240"/>
                <a:ext cx="10044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375000" y="400824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274200" y="410796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173400" y="4207320"/>
                <a:ext cx="10080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2971800" y="3809880"/>
              <a:ext cx="302400" cy="496440"/>
              <a:chOff x="2971800" y="3809880"/>
              <a:chExt cx="302400" cy="496440"/>
            </a:xfrm>
          </p:grpSpPr>
          <p:sp>
            <p:nvSpPr>
              <p:cNvPr id="166" name=""/>
              <p:cNvSpPr/>
              <p:nvPr/>
            </p:nvSpPr>
            <p:spPr>
              <a:xfrm>
                <a:off x="2971800" y="38098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072600" y="3909240"/>
                <a:ext cx="10044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173400" y="400824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072600" y="410796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971800" y="4207320"/>
                <a:ext cx="10080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grpSp>
        <p:nvGrpSpPr>
          <p:cNvPr id="171" name=""/>
          <p:cNvGrpSpPr/>
          <p:nvPr/>
        </p:nvGrpSpPr>
        <p:grpSpPr>
          <a:xfrm>
            <a:off x="5715000" y="3809880"/>
            <a:ext cx="504000" cy="496440"/>
            <a:chOff x="5715000" y="3809880"/>
            <a:chExt cx="504000" cy="496440"/>
          </a:xfrm>
        </p:grpSpPr>
        <p:grpSp>
          <p:nvGrpSpPr>
            <p:cNvPr id="172" name=""/>
            <p:cNvGrpSpPr/>
            <p:nvPr/>
          </p:nvGrpSpPr>
          <p:grpSpPr>
            <a:xfrm>
              <a:off x="5916600" y="3809880"/>
              <a:ext cx="302400" cy="496440"/>
              <a:chOff x="5916600" y="3809880"/>
              <a:chExt cx="302400" cy="496440"/>
            </a:xfrm>
          </p:grpSpPr>
          <p:sp>
            <p:nvSpPr>
              <p:cNvPr id="173" name=""/>
              <p:cNvSpPr/>
              <p:nvPr/>
            </p:nvSpPr>
            <p:spPr>
              <a:xfrm>
                <a:off x="5916600" y="38098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017400" y="3909240"/>
                <a:ext cx="10044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118200" y="400824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017400" y="410796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916600" y="4207320"/>
                <a:ext cx="10080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5715000" y="3809880"/>
              <a:ext cx="302400" cy="496440"/>
              <a:chOff x="5715000" y="3809880"/>
              <a:chExt cx="302400" cy="496440"/>
            </a:xfrm>
          </p:grpSpPr>
          <p:sp>
            <p:nvSpPr>
              <p:cNvPr id="179" name=""/>
              <p:cNvSpPr/>
              <p:nvPr/>
            </p:nvSpPr>
            <p:spPr>
              <a:xfrm>
                <a:off x="5715000" y="38098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815800" y="3909240"/>
                <a:ext cx="10044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916600" y="400824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815800" y="410796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715000" y="4207320"/>
                <a:ext cx="100800" cy="99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sp>
        <p:nvSpPr>
          <p:cNvPr id="184" name=""/>
          <p:cNvSpPr/>
          <p:nvPr/>
        </p:nvSpPr>
        <p:spPr>
          <a:xfrm>
            <a:off x="990720" y="1600200"/>
            <a:ext cx="5029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3520" y="5289480"/>
            <a:ext cx="2143080" cy="10350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226200" y="5245200"/>
            <a:ext cx="2143080" cy="993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221520" y="4199040"/>
            <a:ext cx="2143080" cy="9651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61960" y="4218120"/>
            <a:ext cx="2143080" cy="9871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17840" y="4473720"/>
            <a:ext cx="1022400" cy="488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 rot="5400000">
            <a:off x="3170880" y="4503240"/>
            <a:ext cx="419040" cy="419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" y="11096"/>
                </a:moveTo>
                <a:arcTo wR="10800" hR="10800" stAng="10705729" swAng="10926193"/>
                <a:lnTo>
                  <a:pt x="10800" y="10800"/>
                </a:lnTo>
                <a:close/>
              </a:path>
              <a:path fill="none" w="21600" h="21600">
                <a:moveTo>
                  <a:pt x="4" y="11096"/>
                </a:moveTo>
                <a:arcTo wR="10800" hR="10800" stAng="10705729" swAng="10926193"/>
              </a:path>
            </a:pathLst>
          </a:custGeom>
          <a:solidFill>
            <a:srgbClr val="a4d0a4"/>
          </a:solidFill>
          <a:ln w="0">
            <a:noFill/>
          </a:ln>
          <a:effectLst>
            <a:outerShdw dist="52300" dir="4563564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509920" y="5575320"/>
            <a:ext cx="995400" cy="455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9670200">
            <a:off x="2829240" y="5254920"/>
            <a:ext cx="763560" cy="71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020" y="364"/>
                </a:moveTo>
                <a:arcTo wR="10800" hR="10800" stAng="-6294958" swAng="1879222"/>
                <a:lnTo>
                  <a:pt x="10800" y="10800"/>
                </a:lnTo>
                <a:close/>
              </a:path>
              <a:path fill="none" w="21600" h="21600">
                <a:moveTo>
                  <a:pt x="8020" y="364"/>
                </a:moveTo>
                <a:arcTo wR="10800" hR="10800" stAng="-6294958" swAng="1879222"/>
              </a:path>
            </a:pathLst>
          </a:custGeom>
          <a:solidFill>
            <a:srgbClr val="4c9bba"/>
          </a:solidFill>
          <a:ln w="9360">
            <a:solidFill>
              <a:srgbClr val="dddddd"/>
            </a:solidFill>
            <a:miter/>
          </a:ln>
          <a:effectLst>
            <a:outerShdw dist="52300" dir="836435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504040" y="5545080"/>
            <a:ext cx="960120" cy="453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500800" y="4464000"/>
            <a:ext cx="958680" cy="453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rot="5400000">
            <a:off x="5844600" y="5474160"/>
            <a:ext cx="505800" cy="507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226" y="2231"/>
                </a:moveTo>
                <a:arcTo wR="10800" hR="10800" stAng="-7649716" swAng="5638102"/>
                <a:lnTo>
                  <a:pt x="10800" y="10800"/>
                </a:lnTo>
                <a:close/>
              </a:path>
              <a:path fill="none" w="21600" h="21600">
                <a:moveTo>
                  <a:pt x="4226" y="2231"/>
                </a:moveTo>
                <a:arcTo wR="10800" hR="10800" stAng="-7649716" swAng="5638102"/>
              </a:path>
            </a:pathLst>
          </a:custGeom>
          <a:solidFill>
            <a:srgbClr val="ff6600"/>
          </a:solidFill>
          <a:ln w="0">
            <a:noFill/>
          </a:ln>
          <a:effectLst>
            <a:outerShdw dist="52300" dir="836435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782320" y="4503600"/>
            <a:ext cx="690840" cy="694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12674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126747"/>
              </a:path>
            </a:pathLst>
          </a:custGeom>
          <a:solidFill>
            <a:srgbClr val="36623f"/>
          </a:solidFill>
          <a:ln w="9360">
            <a:solidFill>
              <a:srgbClr val="36623f"/>
            </a:solidFill>
            <a:miter/>
          </a:ln>
          <a:effectLst>
            <a:outerShdw dist="81185" dir="2321969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448000" y="451008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413320" y="558468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4%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428920" y="562140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%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02160" y="450864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6%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24200" y="1308240"/>
            <a:ext cx="3301920" cy="3281400"/>
          </a:xfrm>
          <a:prstGeom prst="ellipse">
            <a:avLst/>
          </a:prstGeom>
          <a:gradFill rotWithShape="0">
            <a:gsLst>
              <a:gs pos="0">
                <a:srgbClr val="000000">
                  <a:alpha val="27058"/>
                </a:srgbClr>
              </a:gs>
              <a:gs pos="50000">
                <a:srgbClr val="ffffff">
                  <a:alpha val="0"/>
                </a:srgbClr>
              </a:gs>
              <a:gs pos="100000">
                <a:srgbClr val="000000">
                  <a:alpha val="27058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2824200" y="1303200"/>
            <a:ext cx="3313080" cy="33069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824560" y="1303200"/>
            <a:ext cx="3296160" cy="3301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39" y="1"/>
                </a:moveTo>
                <a:arcTo wR="10800" hR="10800" stAng="-5451245" swAng="3177992"/>
                <a:lnTo>
                  <a:pt x="10800" y="10800"/>
                </a:lnTo>
                <a:close/>
              </a:path>
              <a:path fill="none" w="21600" h="21600">
                <a:moveTo>
                  <a:pt x="10639" y="1"/>
                </a:moveTo>
                <a:arcTo wR="10800" hR="10800" stAng="-5451245" swAng="3177992"/>
              </a:path>
            </a:pathLst>
          </a:custGeom>
          <a:solidFill>
            <a:srgbClr val="36623f">
              <a:alpha val="50000"/>
            </a:srgbClr>
          </a:solidFill>
          <a:ln w="9360">
            <a:solidFill>
              <a:srgbClr val="3662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2832120" y="1304280"/>
            <a:ext cx="3302280" cy="3298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032" y="2384"/>
                </a:moveTo>
                <a:arcTo wR="10800" hR="10800" stAng="-7728407" swAng="5716793"/>
                <a:lnTo>
                  <a:pt x="10800" y="10800"/>
                </a:lnTo>
                <a:close/>
              </a:path>
              <a:path fill="none" w="21600" h="21600">
                <a:moveTo>
                  <a:pt x="4032" y="2384"/>
                </a:moveTo>
                <a:arcTo wR="10800" hR="10800" stAng="-7728407" swAng="5716793"/>
              </a:path>
            </a:pathLst>
          </a:cu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 rot="5400000">
            <a:off x="2840400" y="1309320"/>
            <a:ext cx="3283920" cy="3297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" y="11240"/>
                </a:moveTo>
                <a:arcTo wR="10800" hR="10800" stAng="10660061" swAng="10878067"/>
                <a:lnTo>
                  <a:pt x="10800" y="10800"/>
                </a:lnTo>
                <a:close/>
              </a:path>
              <a:path fill="none" w="21600" h="21600">
                <a:moveTo>
                  <a:pt x="9" y="11240"/>
                </a:moveTo>
                <a:arcTo wR="10800" hR="10800" stAng="10660061" swAng="10878067"/>
              </a:path>
            </a:pathLst>
          </a:custGeom>
          <a:solidFill>
            <a:srgbClr val="a4d0a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2784960" y="2986560"/>
            <a:ext cx="1886400" cy="1779480"/>
            <a:chOff x="2784960" y="2986560"/>
            <a:chExt cx="1886400" cy="1779480"/>
          </a:xfrm>
        </p:grpSpPr>
        <p:sp>
          <p:nvSpPr>
            <p:cNvPr id="208" name=""/>
            <p:cNvSpPr/>
            <p:nvPr/>
          </p:nvSpPr>
          <p:spPr>
            <a:xfrm flipV="1" rot="19510800">
              <a:off x="3226320" y="2943000"/>
              <a:ext cx="369720" cy="1662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 rot="18694800">
              <a:off x="3393720" y="3164040"/>
              <a:ext cx="369720" cy="1662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 rot="18399600">
              <a:off x="3515040" y="3266640"/>
              <a:ext cx="369720" cy="1662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 rot="17867400">
              <a:off x="3664440" y="3382560"/>
              <a:ext cx="369720" cy="1662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12" name=""/>
          <p:cNvSpPr/>
          <p:nvPr/>
        </p:nvSpPr>
        <p:spPr>
          <a:xfrm rot="9670200">
            <a:off x="2830320" y="1299960"/>
            <a:ext cx="3299400" cy="3301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020" y="364"/>
                </a:moveTo>
                <a:arcTo wR="10800" hR="10800" stAng="-6294958" swAng="1879222"/>
                <a:lnTo>
                  <a:pt x="10800" y="10800"/>
                </a:lnTo>
                <a:close/>
              </a:path>
              <a:path fill="none" w="21600" h="21600">
                <a:moveTo>
                  <a:pt x="8020" y="364"/>
                </a:moveTo>
                <a:arcTo wR="10800" hR="10800" stAng="-6294958" swAng="1879222"/>
              </a:path>
            </a:pathLst>
          </a:custGeom>
          <a:solidFill>
            <a:srgbClr val="4c9bb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913200" y="2403360"/>
            <a:ext cx="1123920" cy="1123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862360" y="2703600"/>
            <a:ext cx="9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宋体"/>
              </a:rPr>
              <a:t>50%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43400" y="2898720"/>
            <a:ext cx="7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宋体"/>
              </a:rPr>
              <a:t>24%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510080" y="1751040"/>
            <a:ext cx="7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宋体"/>
              </a:rPr>
              <a:t>16%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510080" y="3882960"/>
            <a:ext cx="7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宋体"/>
              </a:rPr>
              <a:t>10%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30360" y="4264200"/>
            <a:ext cx="17460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4d0a4"/>
                </a:solidFill>
                <a:latin typeface="Arial"/>
                <a:ea typeface="宋体"/>
              </a:rPr>
              <a:t>Product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673680" y="5281560"/>
            <a:ext cx="16164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  <a:ea typeface="宋体"/>
              </a:rPr>
              <a:t>Servic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ervice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93640" y="5362560"/>
            <a:ext cx="1925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c9bba"/>
                </a:solidFill>
                <a:latin typeface="Arial"/>
                <a:ea typeface="宋体"/>
              </a:rPr>
              <a:t>Technolog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technology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686640" y="4221000"/>
            <a:ext cx="15984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623f"/>
                </a:solidFill>
                <a:latin typeface="Arial"/>
                <a:ea typeface="宋体"/>
              </a:rPr>
              <a:t>Marke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market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4243320" y="1310760"/>
            <a:ext cx="1823760" cy="1508040"/>
            <a:chOff x="4243320" y="1310760"/>
            <a:chExt cx="1823760" cy="1508040"/>
          </a:xfrm>
        </p:grpSpPr>
        <p:grpSp>
          <p:nvGrpSpPr>
            <p:cNvPr id="223" name=""/>
            <p:cNvGrpSpPr/>
            <p:nvPr/>
          </p:nvGrpSpPr>
          <p:grpSpPr>
            <a:xfrm>
              <a:off x="4641840" y="1310760"/>
              <a:ext cx="1425240" cy="1508040"/>
              <a:chOff x="4641840" y="1310760"/>
              <a:chExt cx="1425240" cy="1508040"/>
            </a:xfrm>
          </p:grpSpPr>
          <p:sp>
            <p:nvSpPr>
              <p:cNvPr id="224" name=""/>
              <p:cNvSpPr/>
              <p:nvPr/>
            </p:nvSpPr>
            <p:spPr>
              <a:xfrm flipV="1" rot="8983800">
                <a:off x="5455800" y="1504440"/>
                <a:ext cx="295920" cy="133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V="1" rot="8167800">
                <a:off x="5337000" y="1317960"/>
                <a:ext cx="296280" cy="1329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V="1" rot="7872600">
                <a:off x="5246280" y="1229760"/>
                <a:ext cx="295920" cy="1329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V="1" rot="7340400">
                <a:off x="5134320" y="1126080"/>
                <a:ext cx="295920" cy="1329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4243320" y="1317960"/>
              <a:ext cx="1743120" cy="1049400"/>
              <a:chOff x="4243320" y="1317960"/>
              <a:chExt cx="1743120" cy="1049400"/>
            </a:xfrm>
          </p:grpSpPr>
          <p:sp>
            <p:nvSpPr>
              <p:cNvPr id="229" name=""/>
              <p:cNvSpPr/>
              <p:nvPr/>
            </p:nvSpPr>
            <p:spPr>
              <a:xfrm flipV="1" rot="7630800">
                <a:off x="5217480" y="1181520"/>
                <a:ext cx="297360" cy="1330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V="1" rot="6814800">
                <a:off x="5036040" y="1054080"/>
                <a:ext cx="297360" cy="133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V="1" rot="6519600">
                <a:off x="4917960" y="1007280"/>
                <a:ext cx="297360" cy="1329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V="1" rot="5987400">
                <a:off x="4775040" y="955440"/>
                <a:ext cx="297360" cy="133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956120" y="1619280"/>
            <a:ext cx="3360960" cy="901800"/>
          </a:xfrm>
          <a:custGeom>
            <a:avLst/>
            <a:gdLst>
              <a:gd name="textAreaLeft" fmla="*/ 0 w 3360960"/>
              <a:gd name="textAreaRight" fmla="*/ 3361320 w 3360960"/>
              <a:gd name="textAreaTop" fmla="*/ 0 h 901800"/>
              <a:gd name="textAreaBottom" fmla="*/ 902160 h 90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9" y="0"/>
                </a:lnTo>
                <a:lnTo>
                  <a:pt x="21600" y="10800"/>
                </a:lnTo>
                <a:lnTo>
                  <a:pt x="18519" y="21600"/>
                </a:lnTo>
                <a:lnTo>
                  <a:pt x="0" y="21600"/>
                </a:lnTo>
                <a:lnTo>
                  <a:pt x="3081" y="10800"/>
                </a:lnTo>
                <a:close/>
              </a:path>
            </a:pathLst>
          </a:custGeom>
          <a:gradFill rotWithShape="0">
            <a:gsLst>
              <a:gs pos="0">
                <a:srgbClr val="a4d0a4"/>
              </a:gs>
              <a:gs pos="100000">
                <a:srgbClr val="729072"/>
              </a:gs>
            </a:gsLst>
            <a:lin ang="108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268280" y="1512720"/>
            <a:ext cx="4186440" cy="1132200"/>
          </a:xfrm>
          <a:custGeom>
            <a:avLst/>
            <a:gdLst>
              <a:gd name="textAreaLeft" fmla="*/ 0 w 4186440"/>
              <a:gd name="textAreaRight" fmla="*/ 4186800 w 4186440"/>
              <a:gd name="textAreaTop" fmla="*/ 0 h 1132200"/>
              <a:gd name="textAreaBottom" fmla="*/ 1132560 h 113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86" y="0"/>
                </a:lnTo>
                <a:lnTo>
                  <a:pt x="21600" y="10800"/>
                </a:lnTo>
                <a:lnTo>
                  <a:pt x="1858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d9ebd9"/>
              </a:gs>
              <a:gs pos="100000">
                <a:srgbClr val="a4d0a4"/>
              </a:gs>
            </a:gsLst>
            <a:lin ang="108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549360" y="1500120"/>
            <a:ext cx="1323720" cy="1320840"/>
            <a:chOff x="549360" y="1500120"/>
            <a:chExt cx="1323720" cy="1320840"/>
          </a:xfrm>
        </p:grpSpPr>
        <p:grpSp>
          <p:nvGrpSpPr>
            <p:cNvPr id="237" name=""/>
            <p:cNvGrpSpPr/>
            <p:nvPr/>
          </p:nvGrpSpPr>
          <p:grpSpPr>
            <a:xfrm>
              <a:off x="549360" y="1500120"/>
              <a:ext cx="1323720" cy="1320840"/>
              <a:chOff x="549360" y="1500120"/>
              <a:chExt cx="1323720" cy="1320840"/>
            </a:xfrm>
          </p:grpSpPr>
          <p:sp>
            <p:nvSpPr>
              <p:cNvPr id="238" name=""/>
              <p:cNvSpPr/>
              <p:nvPr/>
            </p:nvSpPr>
            <p:spPr>
              <a:xfrm>
                <a:off x="549360" y="1500120"/>
                <a:ext cx="1323720" cy="132084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84280" y="1526400"/>
                <a:ext cx="1262160" cy="1267560"/>
              </a:xfrm>
              <a:prstGeom prst="ellipse">
                <a:avLst/>
              </a:prstGeom>
              <a:gradFill rotWithShape="0">
                <a:gsLst>
                  <a:gs pos="0">
                    <a:srgbClr val="f8f8f8"/>
                  </a:gs>
                  <a:gs pos="100000">
                    <a:srgbClr val="40404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36120" y="1578600"/>
                <a:ext cx="1158120" cy="1163160"/>
              </a:xfrm>
              <a:prstGeom prst="ellipse">
                <a:avLst/>
              </a:prstGeom>
              <a:solidFill>
                <a:srgbClr val="80808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71040" y="1605600"/>
                <a:ext cx="1088280" cy="1092600"/>
              </a:xfrm>
              <a:prstGeom prst="ellipse">
                <a:avLst/>
              </a:pr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86160" y="1622520"/>
                <a:ext cx="1053360" cy="1058760"/>
              </a:xfrm>
              <a:prstGeom prst="ellipse">
                <a:avLst/>
              </a:prstGeom>
              <a:gradFill rotWithShape="0">
                <a:gsLst>
                  <a:gs pos="0">
                    <a:srgbClr val="5b5b5b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243" name=""/>
            <p:cNvSpPr/>
            <p:nvPr/>
          </p:nvSpPr>
          <p:spPr>
            <a:xfrm>
              <a:off x="705960" y="1645200"/>
              <a:ext cx="1026000" cy="1026720"/>
            </a:xfrm>
            <a:prstGeom prst="ellipse">
              <a:avLst/>
            </a:prstGeom>
            <a:gradFill rotWithShape="0">
              <a:gsLst>
                <a:gs pos="0">
                  <a:srgbClr val="4b5f4b"/>
                </a:gs>
                <a:gs pos="100000">
                  <a:srgbClr val="a4d0a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779400" y="1708200"/>
            <a:ext cx="879480" cy="885240"/>
            <a:chOff x="779400" y="1708200"/>
            <a:chExt cx="879480" cy="885240"/>
          </a:xfrm>
        </p:grpSpPr>
        <p:sp>
          <p:nvSpPr>
            <p:cNvPr id="245" name=""/>
            <p:cNvSpPr/>
            <p:nvPr/>
          </p:nvSpPr>
          <p:spPr>
            <a:xfrm>
              <a:off x="779400" y="1708200"/>
              <a:ext cx="879480" cy="879480"/>
            </a:xfrm>
            <a:prstGeom prst="ellipse">
              <a:avLst/>
            </a:prstGeom>
            <a:noFill/>
            <a:ln w="19080">
              <a:solidFill>
                <a:srgbClr val="ffffff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222200" y="1708200"/>
              <a:ext cx="0" cy="873360"/>
            </a:xfrm>
            <a:prstGeom prst="line">
              <a:avLst/>
            </a:prstGeom>
            <a:ln w="19080">
              <a:solidFill>
                <a:srgbClr val="ffffff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79400" y="2144880"/>
              <a:ext cx="879480" cy="0"/>
            </a:xfrm>
            <a:prstGeom prst="line">
              <a:avLst/>
            </a:prstGeom>
            <a:ln w="19080">
              <a:solidFill>
                <a:srgbClr val="ffffff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281240" y="1713960"/>
              <a:ext cx="182520" cy="867600"/>
            </a:xfrm>
            <a:custGeom>
              <a:avLst/>
              <a:gdLst/>
              <a:ahLst/>
              <a:rect l="l" t="t" r="r" b="b"/>
              <a:pathLst>
                <a:path w="182" h="864">
                  <a:moveTo>
                    <a:pt x="0" y="0"/>
                  </a:moveTo>
                  <a:cubicBezTo>
                    <a:pt x="59" y="89"/>
                    <a:pt x="182" y="177"/>
                    <a:pt x="182" y="435"/>
                  </a:cubicBezTo>
                  <a:cubicBezTo>
                    <a:pt x="182" y="693"/>
                    <a:pt x="70" y="800"/>
                    <a:pt x="6" y="864"/>
                  </a:cubicBezTo>
                </a:path>
              </a:pathLst>
            </a:custGeom>
            <a:noFill/>
            <a:ln w="19080">
              <a:solidFill>
                <a:srgbClr val="ffffff">
                  <a:alpha val="1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83160" y="1720080"/>
              <a:ext cx="197640" cy="8733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1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rot="5400000">
              <a:off x="1146960" y="2070360"/>
              <a:ext cx="114480" cy="65520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1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 rot="16200000">
              <a:off x="1154520" y="1566720"/>
              <a:ext cx="114480" cy="6555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1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693720" y="196380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Produc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951200" y="1817640"/>
            <a:ext cx="358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product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283360" y="1708200"/>
            <a:ext cx="2784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1,000,000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956120" y="3306600"/>
            <a:ext cx="3360960" cy="901800"/>
          </a:xfrm>
          <a:custGeom>
            <a:avLst/>
            <a:gdLst>
              <a:gd name="textAreaLeft" fmla="*/ 0 w 3360960"/>
              <a:gd name="textAreaRight" fmla="*/ 3361320 w 3360960"/>
              <a:gd name="textAreaTop" fmla="*/ 0 h 901800"/>
              <a:gd name="textAreaBottom" fmla="*/ 902160 h 90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9" y="0"/>
                </a:lnTo>
                <a:lnTo>
                  <a:pt x="21600" y="10800"/>
                </a:lnTo>
                <a:lnTo>
                  <a:pt x="18519" y="21600"/>
                </a:lnTo>
                <a:lnTo>
                  <a:pt x="0" y="21600"/>
                </a:lnTo>
                <a:lnTo>
                  <a:pt x="3081" y="10800"/>
                </a:lnTo>
                <a:close/>
              </a:path>
            </a:pathLst>
          </a:custGeom>
          <a:gradFill rotWithShape="0">
            <a:gsLst>
              <a:gs pos="0">
                <a:srgbClr val="36623f"/>
              </a:gs>
              <a:gs pos="100000">
                <a:srgbClr val="25442b"/>
              </a:gs>
            </a:gsLst>
            <a:lin ang="108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268280" y="3200400"/>
            <a:ext cx="4186440" cy="1131840"/>
          </a:xfrm>
          <a:custGeom>
            <a:avLst/>
            <a:gdLst>
              <a:gd name="textAreaLeft" fmla="*/ 0 w 4186440"/>
              <a:gd name="textAreaRight" fmla="*/ 4186800 w 4186440"/>
              <a:gd name="textAreaTop" fmla="*/ 0 h 1131840"/>
              <a:gd name="textAreaBottom" fmla="*/ 1132200 h 113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86" y="0"/>
                </a:lnTo>
                <a:lnTo>
                  <a:pt x="21600" y="10800"/>
                </a:lnTo>
                <a:lnTo>
                  <a:pt x="1858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adbfb1"/>
              </a:gs>
              <a:gs pos="100000">
                <a:srgbClr val="36623f"/>
              </a:gs>
            </a:gsLst>
            <a:lin ang="108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549360" y="3187800"/>
            <a:ext cx="1323720" cy="1320840"/>
            <a:chOff x="549360" y="3187800"/>
            <a:chExt cx="1323720" cy="1320840"/>
          </a:xfrm>
        </p:grpSpPr>
        <p:grpSp>
          <p:nvGrpSpPr>
            <p:cNvPr id="258" name=""/>
            <p:cNvGrpSpPr/>
            <p:nvPr/>
          </p:nvGrpSpPr>
          <p:grpSpPr>
            <a:xfrm>
              <a:off x="549360" y="3187800"/>
              <a:ext cx="1323720" cy="1320840"/>
              <a:chOff x="549360" y="3187800"/>
              <a:chExt cx="1323720" cy="1320840"/>
            </a:xfrm>
          </p:grpSpPr>
          <p:sp>
            <p:nvSpPr>
              <p:cNvPr id="259" name=""/>
              <p:cNvSpPr/>
              <p:nvPr/>
            </p:nvSpPr>
            <p:spPr>
              <a:xfrm>
                <a:off x="549360" y="3187800"/>
                <a:ext cx="1323720" cy="132084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84280" y="3214080"/>
                <a:ext cx="1262160" cy="1267560"/>
              </a:xfrm>
              <a:prstGeom prst="ellipse">
                <a:avLst/>
              </a:prstGeom>
              <a:gradFill rotWithShape="0">
                <a:gsLst>
                  <a:gs pos="0">
                    <a:srgbClr val="f8f8f8"/>
                  </a:gs>
                  <a:gs pos="100000">
                    <a:srgbClr val="40404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636120" y="3266280"/>
                <a:ext cx="1158120" cy="1163160"/>
              </a:xfrm>
              <a:prstGeom prst="ellipse">
                <a:avLst/>
              </a:prstGeom>
              <a:solidFill>
                <a:srgbClr val="80808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671040" y="3293280"/>
                <a:ext cx="1088280" cy="1092600"/>
              </a:xfrm>
              <a:prstGeom prst="ellipse">
                <a:avLst/>
              </a:pr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686160" y="3310200"/>
                <a:ext cx="1053360" cy="1058760"/>
              </a:xfrm>
              <a:prstGeom prst="ellipse">
                <a:avLst/>
              </a:prstGeom>
              <a:gradFill rotWithShape="0">
                <a:gsLst>
                  <a:gs pos="0">
                    <a:srgbClr val="5b5b5b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264" name=""/>
            <p:cNvSpPr/>
            <p:nvPr/>
          </p:nvSpPr>
          <p:spPr>
            <a:xfrm>
              <a:off x="705960" y="3332880"/>
              <a:ext cx="1026000" cy="1026720"/>
            </a:xfrm>
            <a:prstGeom prst="ellipse">
              <a:avLst/>
            </a:prstGeom>
            <a:gradFill rotWithShape="0">
              <a:gsLst>
                <a:gs pos="0">
                  <a:srgbClr val="182d1d"/>
                </a:gs>
                <a:gs pos="100000">
                  <a:srgbClr val="36623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763560" y="3395520"/>
            <a:ext cx="879480" cy="885600"/>
            <a:chOff x="763560" y="3395520"/>
            <a:chExt cx="879480" cy="885600"/>
          </a:xfrm>
        </p:grpSpPr>
        <p:sp>
          <p:nvSpPr>
            <p:cNvPr id="266" name=""/>
            <p:cNvSpPr/>
            <p:nvPr/>
          </p:nvSpPr>
          <p:spPr>
            <a:xfrm>
              <a:off x="763560" y="3395520"/>
              <a:ext cx="879480" cy="879840"/>
            </a:xfrm>
            <a:prstGeom prst="ellipse">
              <a:avLst/>
            </a:prstGeom>
            <a:noFill/>
            <a:ln w="19080">
              <a:solidFill>
                <a:srgbClr val="ffffff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206360" y="3395520"/>
              <a:ext cx="0" cy="873720"/>
            </a:xfrm>
            <a:prstGeom prst="line">
              <a:avLst/>
            </a:prstGeom>
            <a:ln w="19080">
              <a:solidFill>
                <a:srgbClr val="ffffff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63560" y="3832200"/>
              <a:ext cx="879480" cy="0"/>
            </a:xfrm>
            <a:prstGeom prst="line">
              <a:avLst/>
            </a:prstGeom>
            <a:ln w="19080">
              <a:solidFill>
                <a:srgbClr val="ffffff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265400" y="3401280"/>
              <a:ext cx="182520" cy="867960"/>
            </a:xfrm>
            <a:custGeom>
              <a:avLst/>
              <a:gdLst/>
              <a:ahLst/>
              <a:rect l="l" t="t" r="r" b="b"/>
              <a:pathLst>
                <a:path w="182" h="864">
                  <a:moveTo>
                    <a:pt x="0" y="0"/>
                  </a:moveTo>
                  <a:cubicBezTo>
                    <a:pt x="59" y="89"/>
                    <a:pt x="182" y="177"/>
                    <a:pt x="182" y="435"/>
                  </a:cubicBezTo>
                  <a:cubicBezTo>
                    <a:pt x="182" y="693"/>
                    <a:pt x="70" y="800"/>
                    <a:pt x="6" y="864"/>
                  </a:cubicBezTo>
                </a:path>
              </a:pathLst>
            </a:custGeom>
            <a:noFill/>
            <a:ln w="19080">
              <a:solidFill>
                <a:srgbClr val="ffffff">
                  <a:alpha val="1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967320" y="3407400"/>
              <a:ext cx="197640" cy="87372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1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rot="5400000">
              <a:off x="1131120" y="3758040"/>
              <a:ext cx="114480" cy="65520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1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6200000">
              <a:off x="1138680" y="3254400"/>
              <a:ext cx="114480" cy="6555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1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693720" y="365112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Produc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951200" y="3505320"/>
            <a:ext cx="358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product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283360" y="3395520"/>
            <a:ext cx="2784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900,000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956120" y="4984920"/>
            <a:ext cx="3360960" cy="901440"/>
          </a:xfrm>
          <a:custGeom>
            <a:avLst/>
            <a:gdLst>
              <a:gd name="textAreaLeft" fmla="*/ 0 w 3360960"/>
              <a:gd name="textAreaRight" fmla="*/ 3361320 w 3360960"/>
              <a:gd name="textAreaTop" fmla="*/ 0 h 901440"/>
              <a:gd name="textAreaBottom" fmla="*/ 901800 h 90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9" y="0"/>
                </a:lnTo>
                <a:lnTo>
                  <a:pt x="21600" y="10800"/>
                </a:lnTo>
                <a:lnTo>
                  <a:pt x="18519" y="21600"/>
                </a:lnTo>
                <a:lnTo>
                  <a:pt x="0" y="21600"/>
                </a:lnTo>
                <a:lnTo>
                  <a:pt x="3081" y="10800"/>
                </a:lnTo>
                <a:close/>
              </a:path>
            </a:pathLst>
          </a:custGeom>
          <a:gradFill rotWithShape="0">
            <a:gsLst>
              <a:gs pos="0">
                <a:srgbClr val="32b66e"/>
              </a:gs>
              <a:gs pos="100000">
                <a:srgbClr val="227e4c"/>
              </a:gs>
            </a:gsLst>
            <a:lin ang="108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268280" y="4878360"/>
            <a:ext cx="4186440" cy="1131840"/>
          </a:xfrm>
          <a:custGeom>
            <a:avLst/>
            <a:gdLst>
              <a:gd name="textAreaLeft" fmla="*/ 0 w 4186440"/>
              <a:gd name="textAreaRight" fmla="*/ 4186800 w 4186440"/>
              <a:gd name="textAreaTop" fmla="*/ 0 h 1131840"/>
              <a:gd name="textAreaBottom" fmla="*/ 1132200 h 113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86" y="0"/>
                </a:lnTo>
                <a:lnTo>
                  <a:pt x="21600" y="10800"/>
                </a:lnTo>
                <a:lnTo>
                  <a:pt x="1858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ace0c4"/>
              </a:gs>
              <a:gs pos="100000">
                <a:srgbClr val="32b66e"/>
              </a:gs>
            </a:gsLst>
            <a:lin ang="108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49360" y="4865760"/>
            <a:ext cx="1323720" cy="1320840"/>
            <a:chOff x="549360" y="4865760"/>
            <a:chExt cx="1323720" cy="1320840"/>
          </a:xfrm>
        </p:grpSpPr>
        <p:grpSp>
          <p:nvGrpSpPr>
            <p:cNvPr id="279" name=""/>
            <p:cNvGrpSpPr/>
            <p:nvPr/>
          </p:nvGrpSpPr>
          <p:grpSpPr>
            <a:xfrm>
              <a:off x="549360" y="4865760"/>
              <a:ext cx="1323720" cy="1320840"/>
              <a:chOff x="549360" y="4865760"/>
              <a:chExt cx="1323720" cy="1320840"/>
            </a:xfrm>
          </p:grpSpPr>
          <p:sp>
            <p:nvSpPr>
              <p:cNvPr id="280" name=""/>
              <p:cNvSpPr/>
              <p:nvPr/>
            </p:nvSpPr>
            <p:spPr>
              <a:xfrm>
                <a:off x="549360" y="4865760"/>
                <a:ext cx="1323720" cy="132084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84280" y="4892040"/>
                <a:ext cx="1262160" cy="1267560"/>
              </a:xfrm>
              <a:prstGeom prst="ellipse">
                <a:avLst/>
              </a:prstGeom>
              <a:gradFill rotWithShape="0">
                <a:gsLst>
                  <a:gs pos="0">
                    <a:srgbClr val="f8f8f8"/>
                  </a:gs>
                  <a:gs pos="100000">
                    <a:srgbClr val="40404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36120" y="4944240"/>
                <a:ext cx="1158120" cy="1163160"/>
              </a:xfrm>
              <a:prstGeom prst="ellipse">
                <a:avLst/>
              </a:prstGeom>
              <a:solidFill>
                <a:srgbClr val="80808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71040" y="4971240"/>
                <a:ext cx="1088280" cy="1092600"/>
              </a:xfrm>
              <a:prstGeom prst="ellipse">
                <a:avLst/>
              </a:pr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86160" y="4988160"/>
                <a:ext cx="1053360" cy="1058760"/>
              </a:xfrm>
              <a:prstGeom prst="ellipse">
                <a:avLst/>
              </a:prstGeom>
              <a:gradFill rotWithShape="0">
                <a:gsLst>
                  <a:gs pos="0">
                    <a:srgbClr val="5b5b5b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285" name=""/>
            <p:cNvSpPr/>
            <p:nvPr/>
          </p:nvSpPr>
          <p:spPr>
            <a:xfrm>
              <a:off x="705960" y="5010840"/>
              <a:ext cx="1026000" cy="1026720"/>
            </a:xfrm>
            <a:prstGeom prst="ellipse">
              <a:avLst/>
            </a:prstGeom>
            <a:gradFill rotWithShape="0">
              <a:gsLst>
                <a:gs pos="0">
                  <a:srgbClr val="175332"/>
                </a:gs>
                <a:gs pos="100000">
                  <a:srgbClr val="32b66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763560" y="5073480"/>
            <a:ext cx="879480" cy="885600"/>
            <a:chOff x="763560" y="5073480"/>
            <a:chExt cx="879480" cy="885600"/>
          </a:xfrm>
        </p:grpSpPr>
        <p:sp>
          <p:nvSpPr>
            <p:cNvPr id="287" name=""/>
            <p:cNvSpPr/>
            <p:nvPr/>
          </p:nvSpPr>
          <p:spPr>
            <a:xfrm>
              <a:off x="763560" y="5073480"/>
              <a:ext cx="879480" cy="879840"/>
            </a:xfrm>
            <a:prstGeom prst="ellipse">
              <a:avLst/>
            </a:prstGeom>
            <a:noFill/>
            <a:ln w="19080">
              <a:solidFill>
                <a:srgbClr val="ffffff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206360" y="5073480"/>
              <a:ext cx="0" cy="873720"/>
            </a:xfrm>
            <a:prstGeom prst="line">
              <a:avLst/>
            </a:prstGeom>
            <a:ln w="19080">
              <a:solidFill>
                <a:srgbClr val="ffffff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63560" y="5510160"/>
              <a:ext cx="879480" cy="0"/>
            </a:xfrm>
            <a:prstGeom prst="line">
              <a:avLst/>
            </a:prstGeom>
            <a:ln w="19080">
              <a:solidFill>
                <a:srgbClr val="ffffff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265400" y="5079240"/>
              <a:ext cx="182520" cy="867960"/>
            </a:xfrm>
            <a:custGeom>
              <a:avLst/>
              <a:gdLst/>
              <a:ahLst/>
              <a:rect l="l" t="t" r="r" b="b"/>
              <a:pathLst>
                <a:path w="182" h="864">
                  <a:moveTo>
                    <a:pt x="0" y="0"/>
                  </a:moveTo>
                  <a:cubicBezTo>
                    <a:pt x="59" y="89"/>
                    <a:pt x="182" y="177"/>
                    <a:pt x="182" y="435"/>
                  </a:cubicBezTo>
                  <a:cubicBezTo>
                    <a:pt x="182" y="693"/>
                    <a:pt x="70" y="800"/>
                    <a:pt x="6" y="864"/>
                  </a:cubicBezTo>
                </a:path>
              </a:pathLst>
            </a:custGeom>
            <a:noFill/>
            <a:ln w="19080">
              <a:solidFill>
                <a:srgbClr val="ffffff">
                  <a:alpha val="1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967320" y="5085360"/>
              <a:ext cx="197640" cy="87372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1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rot="5400000">
              <a:off x="1131120" y="5436000"/>
              <a:ext cx="114480" cy="65520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1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 rot="16200000">
              <a:off x="1138680" y="4932360"/>
              <a:ext cx="114480" cy="6555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1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693720" y="53290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Produc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951200" y="5183280"/>
            <a:ext cx="358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product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283360" y="5073480"/>
            <a:ext cx="2784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1,100,000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2660760" y="1961280"/>
            <a:ext cx="3689640" cy="3697200"/>
            <a:chOff x="2660760" y="1961280"/>
            <a:chExt cx="3689640" cy="3697200"/>
          </a:xfrm>
        </p:grpSpPr>
        <p:sp>
          <p:nvSpPr>
            <p:cNvPr id="299" name=""/>
            <p:cNvSpPr/>
            <p:nvPr/>
          </p:nvSpPr>
          <p:spPr>
            <a:xfrm>
              <a:off x="2827440" y="2133720"/>
              <a:ext cx="3332160" cy="33220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27058"/>
                  </a:srgbClr>
                </a:gs>
                <a:gs pos="50000">
                  <a:srgbClr val="ffffff">
                    <a:alpha val="0"/>
                  </a:srgbClr>
                </a:gs>
                <a:gs pos="100000">
                  <a:srgbClr val="000000">
                    <a:alpha val="2705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pic>
          <p:nvPicPr>
            <p:cNvPr id="300" name="" descr=""/>
            <p:cNvPicPr/>
            <p:nvPr/>
          </p:nvPicPr>
          <p:blipFill>
            <a:blip r:embed="rId1"/>
            <a:stretch/>
          </p:blipFill>
          <p:spPr>
            <a:xfrm>
              <a:off x="2819520" y="2133720"/>
              <a:ext cx="3346560" cy="33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2841120" y="2137680"/>
              <a:ext cx="3328560" cy="334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4357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43579"/>
                </a:path>
              </a:pathLst>
            </a:custGeom>
            <a:solidFill>
              <a:srgbClr val="a4d0a4">
                <a:alpha val="5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rot="5400000">
              <a:off x="2832480" y="2135160"/>
              <a:ext cx="3342240" cy="3336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5" y="2"/>
                  </a:moveTo>
                  <a:arcTo wR="10800" hR="10800" stAng="-5465392" swAng="54765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5" y="2"/>
                  </a:moveTo>
                  <a:arcTo wR="10800" hR="10800" stAng="-5465392" swAng="5476597"/>
                </a:path>
              </a:pathLst>
            </a:custGeom>
            <a:solidFill>
              <a:srgbClr val="93c05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 flipV="1" rot="5400000">
              <a:off x="2828880" y="2148480"/>
              <a:ext cx="3335400" cy="332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013" y="2"/>
                  </a:moveTo>
                  <a:arcTo wR="10800" hR="10800" stAng="-5332190" swAng="53626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1013" y="2"/>
                  </a:moveTo>
                  <a:arcTo wR="10800" hR="10800" stAng="-5332190" swAng="5362650"/>
                </a:path>
              </a:pathLst>
            </a:custGeom>
            <a:solidFill>
              <a:srgbClr val="93c05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10419000">
              <a:off x="2835720" y="2135520"/>
              <a:ext cx="3339720" cy="334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987" y="65"/>
                  </a:moveTo>
                  <a:arcTo wR="10800" hR="10800" stAng="-5021536" swAng="5476435"/>
                  <a:lnTo>
                    <a:pt x="10800" y="10800"/>
                  </a:lnTo>
                  <a:close/>
                </a:path>
                <a:path fill="none" w="21600" h="21600">
                  <a:moveTo>
                    <a:pt x="11987" y="65"/>
                  </a:moveTo>
                  <a:arcTo wR="10800" hR="10800" stAng="-5021536" swAng="5476435"/>
                </a:path>
              </a:pathLst>
            </a:custGeom>
            <a:solidFill>
              <a:srgbClr val="a4d0a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5" name=""/>
            <p:cNvSpPr txBox="1"/>
            <p:nvPr/>
          </p:nvSpPr>
          <p:spPr>
            <a:xfrm rot="18976800">
              <a:off x="3211200" y="2751480"/>
              <a:ext cx="1680120" cy="12348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62507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648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Verdana"/>
                </a:rPr>
                <a:t>Your Text Here</a:t>
              </a:r>
              <a:endParaRPr b="0" lang="en-US" sz="1800" spc="1" strike="noStrike">
                <a:ln w="648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Verdana"/>
                <a:ea typeface="Verdana"/>
              </a:endParaRPr>
            </a:p>
          </p:txBody>
        </p:sp>
        <p:sp>
          <p:nvSpPr>
            <p:cNvPr id="306" name=""/>
            <p:cNvSpPr txBox="1"/>
            <p:nvPr/>
          </p:nvSpPr>
          <p:spPr>
            <a:xfrm rot="2686800">
              <a:off x="4171320" y="2773800"/>
              <a:ext cx="1675800" cy="12348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62507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648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Verdana"/>
                </a:rPr>
                <a:t>Your Text Here</a:t>
              </a:r>
              <a:endParaRPr b="0" lang="en-US" sz="1800" spc="1" strike="noStrike">
                <a:ln w="648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Verdana"/>
                <a:ea typeface="Verdana"/>
              </a:endParaRPr>
            </a:p>
          </p:txBody>
        </p:sp>
        <p:sp>
          <p:nvSpPr>
            <p:cNvPr id="307" name=""/>
            <p:cNvSpPr txBox="1"/>
            <p:nvPr/>
          </p:nvSpPr>
          <p:spPr>
            <a:xfrm rot="2760000">
              <a:off x="3085200" y="4132440"/>
              <a:ext cx="1551240" cy="6202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060779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648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Verdana"/>
                </a:rPr>
                <a:t>Your Text Here</a:t>
              </a:r>
              <a:endParaRPr b="0" lang="en-US" sz="1800" spc="1" strike="noStrike">
                <a:ln w="648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Verdana"/>
                <a:ea typeface="Verdana"/>
              </a:endParaRPr>
            </a:p>
          </p:txBody>
        </p:sp>
        <p:sp>
          <p:nvSpPr>
            <p:cNvPr id="308" name=""/>
            <p:cNvSpPr txBox="1"/>
            <p:nvPr/>
          </p:nvSpPr>
          <p:spPr>
            <a:xfrm rot="19083600">
              <a:off x="4380480" y="4107240"/>
              <a:ext cx="1544760" cy="6224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060779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648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Verdana"/>
                </a:rPr>
                <a:t>Your Text Here</a:t>
              </a:r>
              <a:endParaRPr b="0" lang="en-US" sz="1800" spc="1" strike="noStrike">
                <a:ln w="648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Verdana"/>
                <a:ea typeface="Verdana"/>
              </a:endParaRPr>
            </a:p>
          </p:txBody>
        </p:sp>
        <p:grpSp>
          <p:nvGrpSpPr>
            <p:cNvPr id="309" name=""/>
            <p:cNvGrpSpPr/>
            <p:nvPr/>
          </p:nvGrpSpPr>
          <p:grpSpPr>
            <a:xfrm>
              <a:off x="3600720" y="2896200"/>
              <a:ext cx="1791000" cy="1841040"/>
              <a:chOff x="3600720" y="2896200"/>
              <a:chExt cx="1791000" cy="1841040"/>
            </a:xfrm>
          </p:grpSpPr>
          <p:pic>
            <p:nvPicPr>
              <p:cNvPr id="31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600720" y="2896200"/>
                <a:ext cx="1791000" cy="1750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1" name=""/>
              <p:cNvSpPr/>
              <p:nvPr/>
            </p:nvSpPr>
            <p:spPr>
              <a:xfrm>
                <a:off x="3600720" y="2896200"/>
                <a:ext cx="1779480" cy="1754640"/>
              </a:xfrm>
              <a:prstGeom prst="ellipse">
                <a:avLst/>
              </a:prstGeom>
              <a:gradFill rotWithShape="0">
                <a:gsLst>
                  <a:gs pos="0">
                    <a:srgbClr val="404040">
                      <a:alpha val="90196"/>
                    </a:srgbClr>
                  </a:gs>
                  <a:gs pos="50000">
                    <a:srgbClr val="f8f8f8">
                      <a:alpha val="45098"/>
                    </a:srgbClr>
                  </a:gs>
                  <a:gs pos="100000">
                    <a:srgbClr val="404040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785400" y="2931480"/>
                <a:ext cx="1397520" cy="6087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grpSp>
            <p:nvGrpSpPr>
              <p:cNvPr id="313" name=""/>
              <p:cNvGrpSpPr/>
              <p:nvPr/>
            </p:nvGrpSpPr>
            <p:grpSpPr>
              <a:xfrm>
                <a:off x="3727080" y="4110120"/>
                <a:ext cx="1571760" cy="627120"/>
                <a:chOff x="3727080" y="4110120"/>
                <a:chExt cx="1571760" cy="62712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4001400" y="4110120"/>
                  <a:ext cx="1297440" cy="590040"/>
                  <a:chOff x="4001400" y="4110120"/>
                  <a:chExt cx="1297440" cy="5900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 flipH="1" flipV="1" rot="3964800">
                    <a:off x="4707720" y="3933360"/>
                    <a:ext cx="227160" cy="9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 flipH="1" flipV="1" rot="4780200">
                    <a:off x="4562280" y="3992040"/>
                    <a:ext cx="227160" cy="9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 flipH="1" flipV="1" rot="5076000">
                    <a:off x="4472640" y="4003920"/>
                    <a:ext cx="227160" cy="9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 flipH="1" flipV="1" rot="5608200">
                    <a:off x="4364280" y="4013640"/>
                    <a:ext cx="227160" cy="9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9" name=""/>
                <p:cNvGrpSpPr/>
                <p:nvPr/>
              </p:nvGrpSpPr>
              <p:grpSpPr>
                <a:xfrm>
                  <a:off x="3727080" y="4118760"/>
                  <a:ext cx="1296000" cy="618480"/>
                  <a:chOff x="3727080" y="4118760"/>
                  <a:chExt cx="1296000" cy="618480"/>
                </a:xfrm>
              </p:grpSpPr>
              <p:sp>
                <p:nvSpPr>
                  <p:cNvPr id="320" name=""/>
                  <p:cNvSpPr/>
                  <p:nvPr/>
                </p:nvSpPr>
                <p:spPr>
                  <a:xfrm flipH="1" flipV="1" rot="5317800">
                    <a:off x="4434480" y="4014360"/>
                    <a:ext cx="228240" cy="9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 flipH="1" flipV="1" rot="6133800">
                    <a:off x="4277160" y="4011840"/>
                    <a:ext cx="228240" cy="9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 flipH="1" flipV="1" rot="6429000">
                    <a:off x="4189680" y="3988440"/>
                    <a:ext cx="228240" cy="9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 flipH="1" flipV="1" rot="6961200">
                    <a:off x="4086720" y="3956400"/>
                    <a:ext cx="228240" cy="9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324" name=""/>
            <p:cNvSpPr/>
            <p:nvPr/>
          </p:nvSpPr>
          <p:spPr>
            <a:xfrm>
              <a:off x="4146480" y="355248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c1c1c"/>
                  </a:solidFill>
                  <a:latin typeface="Arial"/>
                  <a:ea typeface="宋体"/>
                </a:rPr>
                <a:t>Title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6248520" y="1752480"/>
            <a:ext cx="2361960" cy="838440"/>
          </a:xfrm>
          <a:noFill/>
          <a:ln w="9360">
            <a:solidFill>
              <a:srgbClr val="3491c4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4d0a4"/>
                </a:solidFill>
                <a:latin typeface="Arial"/>
                <a:ea typeface="宋体"/>
              </a:rPr>
              <a:t>Add your title in her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172200" y="5257800"/>
            <a:ext cx="2362320" cy="838080"/>
          </a:xfrm>
          <a:noFill/>
          <a:ln w="9360">
            <a:solidFill>
              <a:srgbClr val="3491c4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623f"/>
                </a:solidFill>
                <a:latin typeface="Arial"/>
                <a:ea typeface="宋体"/>
              </a:rPr>
              <a:t>Add your title in her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490680" y="1760400"/>
            <a:ext cx="2286000" cy="838440"/>
          </a:xfrm>
          <a:noFill/>
          <a:ln w="9360">
            <a:solidFill>
              <a:srgbClr val="3491c4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623f"/>
                </a:solidFill>
                <a:latin typeface="Arial"/>
                <a:ea typeface="宋体"/>
              </a:rPr>
              <a:t>Add your title in her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7200" y="5292720"/>
            <a:ext cx="2362320" cy="803160"/>
          </a:xfrm>
          <a:noFill/>
          <a:ln w="9360">
            <a:solidFill>
              <a:srgbClr val="3491c4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4d0a4"/>
                </a:solidFill>
                <a:latin typeface="Arial"/>
                <a:ea typeface="宋体"/>
              </a:rPr>
              <a:t>Add your title in her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Marketing 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192480" y="2022480"/>
            <a:ext cx="2943360" cy="1219320"/>
          </a:xfrm>
          <a:custGeom>
            <a:avLst/>
            <a:gdLst/>
            <a:ahLst/>
            <a:rect l="l" t="t" r="r" b="b"/>
            <a:pathLst>
              <a:path w="1854" h="768">
                <a:moveTo>
                  <a:pt x="0" y="441"/>
                </a:moveTo>
                <a:cubicBezTo>
                  <a:pt x="181" y="610"/>
                  <a:pt x="402" y="750"/>
                  <a:pt x="396" y="762"/>
                </a:cubicBezTo>
                <a:cubicBezTo>
                  <a:pt x="492" y="672"/>
                  <a:pt x="672" y="528"/>
                  <a:pt x="912" y="528"/>
                </a:cubicBezTo>
                <a:cubicBezTo>
                  <a:pt x="1152" y="528"/>
                  <a:pt x="1320" y="642"/>
                  <a:pt x="1446" y="768"/>
                </a:cubicBezTo>
                <a:lnTo>
                  <a:pt x="1854" y="429"/>
                </a:lnTo>
                <a:cubicBezTo>
                  <a:pt x="1732" y="261"/>
                  <a:pt x="1428" y="0"/>
                  <a:pt x="918" y="0"/>
                </a:cubicBezTo>
                <a:cubicBezTo>
                  <a:pt x="408" y="0"/>
                  <a:pt x="138" y="255"/>
                  <a:pt x="0" y="441"/>
                </a:cubicBezTo>
                <a:close/>
              </a:path>
            </a:pathLst>
          </a:custGeom>
          <a:solidFill>
            <a:srgbClr val="3491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960640" y="2714760"/>
            <a:ext cx="3648240" cy="3147840"/>
          </a:xfrm>
          <a:prstGeom prst="line">
            <a:avLst/>
          </a:prstGeom>
          <a:ln cap="rnd" w="1908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2806560" y="2638440"/>
            <a:ext cx="3648240" cy="3147840"/>
          </a:xfrm>
          <a:prstGeom prst="line">
            <a:avLst/>
          </a:prstGeom>
          <a:ln cap="rnd" w="1908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575160" y="3098880"/>
            <a:ext cx="2151000" cy="2151000"/>
          </a:xfrm>
          <a:prstGeom prst="ellipse">
            <a:avLst/>
          </a:prstGeom>
          <a:gradFill rotWithShape="0">
            <a:gsLst>
              <a:gs pos="0">
                <a:srgbClr val="b9e5cd"/>
              </a:gs>
              <a:gs pos="100000">
                <a:srgbClr val="32b66e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491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084480" y="3951360"/>
            <a:ext cx="398520" cy="399960"/>
          </a:xfrm>
          <a:prstGeom prst="ellipse">
            <a:avLst/>
          </a:prstGeom>
          <a:solidFill>
            <a:srgbClr val="fa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874960" y="3951360"/>
            <a:ext cx="20160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9874" y="3256"/>
                  <a:pt x="18148" y="5080"/>
                  <a:pt x="18148" y="10800"/>
                </a:cubicBezTo>
                <a:cubicBezTo>
                  <a:pt x="18148" y="16520"/>
                  <a:pt x="19874" y="1834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5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727360" y="3951360"/>
            <a:ext cx="20016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59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5815800" y="3951360"/>
            <a:ext cx="399960" cy="399960"/>
          </a:xfrm>
          <a:prstGeom prst="ellipse">
            <a:avLst/>
          </a:prstGeom>
          <a:solidFill>
            <a:srgbClr val="fa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6204960" y="3951360"/>
            <a:ext cx="19980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9874" y="3256"/>
                  <a:pt x="18148" y="5080"/>
                  <a:pt x="18148" y="10800"/>
                </a:cubicBezTo>
                <a:cubicBezTo>
                  <a:pt x="18148" y="16520"/>
                  <a:pt x="19874" y="1834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5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6334200" y="3951360"/>
            <a:ext cx="20160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59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76520" y="3951360"/>
            <a:ext cx="20160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59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6469200" y="3951360"/>
            <a:ext cx="20160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59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192480" y="5105520"/>
            <a:ext cx="2943360" cy="1218960"/>
          </a:xfrm>
          <a:custGeom>
            <a:avLst/>
            <a:gdLst/>
            <a:ahLst/>
            <a:rect l="l" t="t" r="r" b="b"/>
            <a:pathLst>
              <a:path w="1854" h="768">
                <a:moveTo>
                  <a:pt x="0" y="327"/>
                </a:moveTo>
                <a:cubicBezTo>
                  <a:pt x="181" y="158"/>
                  <a:pt x="402" y="18"/>
                  <a:pt x="396" y="6"/>
                </a:cubicBezTo>
                <a:cubicBezTo>
                  <a:pt x="492" y="96"/>
                  <a:pt x="672" y="240"/>
                  <a:pt x="912" y="240"/>
                </a:cubicBezTo>
                <a:cubicBezTo>
                  <a:pt x="1152" y="240"/>
                  <a:pt x="1320" y="126"/>
                  <a:pt x="1446" y="0"/>
                </a:cubicBezTo>
                <a:lnTo>
                  <a:pt x="1854" y="339"/>
                </a:lnTo>
                <a:cubicBezTo>
                  <a:pt x="1732" y="507"/>
                  <a:pt x="1428" y="768"/>
                  <a:pt x="918" y="768"/>
                </a:cubicBezTo>
                <a:cubicBezTo>
                  <a:pt x="408" y="768"/>
                  <a:pt x="138" y="513"/>
                  <a:pt x="0" y="327"/>
                </a:cubicBezTo>
                <a:close/>
              </a:path>
            </a:pathLst>
          </a:custGeom>
          <a:solidFill>
            <a:srgbClr val="a4d0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727440" y="3751200"/>
            <a:ext cx="18432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emeGallery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305160" y="2400480"/>
            <a:ext cx="270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343320" y="5665680"/>
            <a:ext cx="270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33520" y="3962520"/>
            <a:ext cx="201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 text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683400" y="3971880"/>
            <a:ext cx="200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 text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276720" y="1355760"/>
            <a:ext cx="273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宋体"/>
              </a:rPr>
              <a:t>Contents Title (2006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3000240" y="1438200"/>
            <a:ext cx="276480" cy="276480"/>
            <a:chOff x="3000240" y="1438200"/>
            <a:chExt cx="276480" cy="276480"/>
          </a:xfrm>
        </p:grpSpPr>
        <p:grpSp>
          <p:nvGrpSpPr>
            <p:cNvPr id="350" name=""/>
            <p:cNvGrpSpPr/>
            <p:nvPr/>
          </p:nvGrpSpPr>
          <p:grpSpPr>
            <a:xfrm>
              <a:off x="3000240" y="1438200"/>
              <a:ext cx="276480" cy="276480"/>
              <a:chOff x="3000240" y="1438200"/>
              <a:chExt cx="276480" cy="276480"/>
            </a:xfrm>
          </p:grpSpPr>
          <p:sp>
            <p:nvSpPr>
              <p:cNvPr id="351" name=""/>
              <p:cNvSpPr/>
              <p:nvPr/>
            </p:nvSpPr>
            <p:spPr>
              <a:xfrm>
                <a:off x="3000240" y="1438200"/>
                <a:ext cx="276480" cy="2764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007440" y="1443600"/>
                <a:ext cx="263880" cy="265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2424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018240" y="1454400"/>
                <a:ext cx="241920" cy="243720"/>
              </a:xfrm>
              <a:prstGeom prst="ellipse">
                <a:avLst/>
              </a:prstGeom>
              <a:solidFill>
                <a:srgbClr val="80808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025440" y="1460160"/>
                <a:ext cx="227520" cy="228960"/>
              </a:xfrm>
              <a:prstGeom prst="ellipse">
                <a:avLst/>
              </a:pr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28680" y="1463760"/>
                <a:ext cx="219960" cy="221760"/>
              </a:xfrm>
              <a:prstGeom prst="ellipse">
                <a:avLst/>
              </a:prstGeom>
              <a:gradFill rotWithShape="0">
                <a:gsLst>
                  <a:gs pos="0">
                    <a:srgbClr val="5b5b5b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3033000" y="1468440"/>
              <a:ext cx="214200" cy="214920"/>
            </a:xfrm>
            <a:prstGeom prst="ellipse">
              <a:avLst/>
            </a:prstGeom>
            <a:gradFill rotWithShape="0">
              <a:gsLst>
                <a:gs pos="0">
                  <a:srgbClr val="172f5e"/>
                </a:gs>
                <a:gs pos="100000">
                  <a:srgbClr val="33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1:45:1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5:58Z</dcterms:modified>
  <cp:revision>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