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0E2A-81E3-4270-B432-8AAB3FBFD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4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08520"/>
            <a:ext cx="78487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EEB3-5E63-4A2D-9EF3-C56BB45C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4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79120" y="159984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79120" y="390852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EF2D-79E7-42D0-8ED3-CCBDA0BCE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4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527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11120" y="1599840"/>
            <a:ext cx="2527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65040" y="1599840"/>
            <a:ext cx="2527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08520"/>
            <a:ext cx="2527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11120" y="3908520"/>
            <a:ext cx="2527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65040" y="3908520"/>
            <a:ext cx="2527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D1AA-12B2-47A2-92C1-927D8F44D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4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4676-5418-4227-93A8-CD386E5B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4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E286-2835-42DF-88B2-0449F2D2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4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830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79120" y="1599840"/>
            <a:ext cx="3830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76D7-CE5E-4BCC-BA15-16483410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4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0DF9-4465-4152-AB00-5C81E4A5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304920"/>
            <a:ext cx="8305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FC2B-F380-4C29-896E-5020F39C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4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79120" y="1599840"/>
            <a:ext cx="3830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6ED2-7546-43EF-8114-D9764D69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4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830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79120" y="159984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79120" y="390852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1D0B-B0A0-4647-9671-FC34B985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4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79120" y="159984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78487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1C9C-F60C-424F-AD66-61D36C0F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i="1" lang="en-US" sz="4400" spc="-1" strike="noStrike">
                <a:solidFill>
                  <a:srgbClr val="25413e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5413e"/>
              </a:buClr>
              <a:buSzPct val="25000"/>
              <a:buFont typeface="Arial"/>
              <a:buChar char="•"/>
            </a:pPr>
            <a:r>
              <a:rPr b="1" lang="en-US" sz="2000" spc="-1" strike="noStrike">
                <a:solidFill>
                  <a:srgbClr val="25413e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5413e"/>
              </a:buClr>
              <a:buSzPct val="25000"/>
              <a:buFont typeface="Arial"/>
              <a:buChar char="–"/>
            </a:pPr>
            <a:r>
              <a:rPr b="1" lang="en-US" sz="2000" spc="-1" strike="noStrike">
                <a:solidFill>
                  <a:srgbClr val="25413e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5413e"/>
              </a:buClr>
              <a:buSzPct val="25000"/>
              <a:buFont typeface="Arial"/>
              <a:buChar char="•"/>
            </a:pPr>
            <a:r>
              <a:rPr b="1" lang="en-US" sz="2000" spc="-1" strike="noStrike">
                <a:solidFill>
                  <a:srgbClr val="25413e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25413e"/>
              </a:buClr>
              <a:buSzPct val="25000"/>
              <a:buFont typeface="Arial"/>
              <a:buChar char="–"/>
            </a:pPr>
            <a:r>
              <a:rPr b="1" lang="en-US" sz="2000" spc="-1" strike="noStrike">
                <a:solidFill>
                  <a:srgbClr val="25413e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25413e"/>
              </a:buClr>
              <a:buSzPct val="25000"/>
              <a:buFont typeface="Arial"/>
              <a:buChar char="»"/>
            </a:pPr>
            <a:r>
              <a:rPr b="1" lang="en-US" sz="2000" spc="-1" strike="noStrike">
                <a:solidFill>
                  <a:srgbClr val="25413e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1" lang="en-US" sz="2000" spc="-1" strike="noStrike">
                <a:solidFill>
                  <a:srgbClr val="25413e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1" lang="en-US" sz="2000" spc="-1" strike="noStrike">
                <a:solidFill>
                  <a:srgbClr val="25413e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1D78-3A78-4193-9F9A-BCE7C286437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2860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i="1" lang="en-US" sz="4800" spc="-1" strike="noStrike">
                <a:solidFill>
                  <a:srgbClr val="25413e"/>
                </a:solidFill>
                <a:latin typeface="Arial"/>
                <a:ea typeface="宋体"/>
              </a:rPr>
              <a:t>COURAGEOUS 720º</a:t>
            </a:r>
            <a:endParaRPr b="1" i="1" lang="en-US" sz="48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5943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YOUR SUBTITLE GOES HERE</a:t>
            </a:r>
            <a:endParaRPr b="1" lang="en-US" sz="18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12680" y="1054080"/>
            <a:ext cx="689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体育运动应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i="1" lang="en-US" sz="4400" spc="-1" strike="noStrike">
                <a:solidFill>
                  <a:srgbClr val="25413e"/>
                </a:solidFill>
                <a:latin typeface="Arial"/>
                <a:ea typeface="宋体"/>
              </a:rPr>
              <a:t>YOUR TOPIC GOES HERE</a:t>
            </a:r>
            <a:endParaRPr b="1" i="1" lang="en-US" sz="44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5413e"/>
              </a:buClr>
              <a:buSzPct val="25000"/>
              <a:buFont typeface="Arial"/>
              <a:buChar char="•"/>
            </a:pPr>
            <a:r>
              <a:rPr b="1" lang="en-US" sz="2000" spc="-1" strike="noStrike">
                <a:solidFill>
                  <a:srgbClr val="25413e"/>
                </a:solidFill>
                <a:latin typeface="Arial"/>
                <a:ea typeface="宋体"/>
              </a:rPr>
              <a:t>Your Subtopics Go Here</a:t>
            </a: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i="1" lang="en-US" sz="4400" spc="-1" strike="noStrike">
                <a:solidFill>
                  <a:srgbClr val="25413e"/>
                </a:solidFill>
                <a:latin typeface="Arial"/>
                <a:ea typeface="宋体"/>
              </a:rPr>
              <a:t>YOUR TOPIC GOES HERE</a:t>
            </a:r>
            <a:endParaRPr b="1" i="1" lang="en-US" sz="44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2565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2860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i="1" lang="en-US" sz="4800" spc="-1" strike="noStrike">
                <a:solidFill>
                  <a:srgbClr val="25413e"/>
                </a:solidFill>
                <a:latin typeface="Arial"/>
                <a:ea typeface="宋体"/>
              </a:rPr>
              <a:t>TRANSITIONAL PAGE</a:t>
            </a:r>
            <a:endParaRPr b="1" i="1" lang="en-US" sz="4800" spc="-1" strike="noStrike">
              <a:solidFill>
                <a:srgbClr val="25413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i="1" lang="zh-CN" sz="4400" spc="-1" strike="noStrike">
                <a:solidFill>
                  <a:srgbClr val="25413e"/>
                </a:solidFill>
                <a:latin typeface="Arial"/>
              </a:rPr>
              <a:t>使用规范说明</a:t>
            </a:r>
            <a:endParaRPr b="1" i="1" lang="en-US" sz="44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400" spc="-1" strike="noStrike">
              <a:solidFill>
                <a:srgbClr val="25413e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25413e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25413e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25413e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25413e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25413e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25413e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25413e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25413e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25413e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25413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400" spc="-1" strike="noStrike">
              <a:solidFill>
                <a:srgbClr val="25413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25413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25413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25413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25413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25413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25413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25413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25413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25413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25413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25413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25413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25413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25413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25413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25413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D64A-E841-4705-A32C-1B7350B293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4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5413e"/>
              </a:buClr>
              <a:buSzPct val="25000"/>
              <a:buFont typeface="Arial"/>
              <a:buChar char="•"/>
            </a:pP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3T08:11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5:55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