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DE59-A9B3-4BEF-8D75-3F6BC80F0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A207-D398-42F3-A181-8FC5435ED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BB77-6146-4EA7-8F7A-23D1E80BE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D98C-4CDD-4468-8E0D-894EDF50E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DB71C-014B-421D-85DF-BB2B293DD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62872-84C9-4B99-8F18-41C3204C4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7A4CF-59AB-45D2-97D5-2F3AB83AC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98DD7-E1E4-4DF0-AECD-0F3E3D9EA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E5360-7E11-46EE-AF07-5A4FC3C2D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443EC-BC53-4641-B773-3C0C6B31D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8ED63-23E2-4A8B-B3C5-0648A936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B49F-2D06-4EAB-86B7-F52F531F9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B1B0F-D73E-4DA2-9387-A5454C2BA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B5F99-FD0C-402F-96CF-E7B93E91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A0D6C-592A-485B-81DB-20602FDEF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4B99F-AD37-4654-B9D5-168548D9B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DAD61-1394-47A5-A928-B9EFCF8A9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D3FE-0D43-4AFB-8661-D5C79A9A7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FBF3-DE63-46C0-928D-E88E410CA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85EC-8153-476C-9F22-5F724BA66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D05D-7775-41BF-A898-FAC33BEF8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02F5-AD20-4A66-962C-3F2F391F5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0164-B6C6-49B3-A0BE-CF34F006E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C07D-74FE-4EC6-806A-72BD2FEC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5b524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5b524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5b524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A7FD61F-A616-429F-8F5C-7116911329ED}" type="slidenum"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1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1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1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1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1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1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1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5b524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5b524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5b524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43A0216-2A0A-43BB-96C0-4DFFF6BC0F7E}" type="slidenum"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1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1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1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1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1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1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1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zh-CN" sz="5400" spc="-1" strike="noStrike" u="sng">
                <a:solidFill>
                  <a:srgbClr val="66ccff"/>
                </a:solidFill>
                <a:uFillTx/>
                <a:latin typeface="Arial"/>
                <a:ea typeface="宋体"/>
              </a:rPr>
              <a:t>张某某求职简历</a:t>
            </a:r>
            <a:endParaRPr b="1" lang="en-US" sz="5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148000" y="4220640"/>
            <a:ext cx="2552760" cy="17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所学专业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毕业学校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求职目标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24800" y="819000"/>
            <a:ext cx="353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我的简历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幻灯片免费下载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42920" y="549360"/>
            <a:ext cx="21700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zh-CN" sz="2400" spc="-1" strike="noStrike">
                <a:solidFill>
                  <a:srgbClr val="66ccff"/>
                </a:solidFill>
                <a:latin typeface="Arial"/>
                <a:ea typeface="宋体"/>
              </a:rPr>
              <a:t>基本信息</a:t>
            </a: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386000" y="1989000"/>
            <a:ext cx="3454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姓名：                                   身高：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籍贯：                                    学历：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所学专业： 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毕业学校：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毕业时间：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求职目标：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联系方式：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42920" y="549360"/>
            <a:ext cx="217008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CN" sz="2400" spc="-1" strike="noStrike">
                <a:solidFill>
                  <a:srgbClr val="66ccff"/>
                </a:solidFill>
                <a:latin typeface="Arial"/>
                <a:ea typeface="宋体"/>
              </a:rPr>
              <a:t>自我评价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403280" y="3429000"/>
            <a:ext cx="64087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042920" y="549360"/>
            <a:ext cx="217008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CN" sz="2400" spc="-1" strike="noStrike">
                <a:solidFill>
                  <a:srgbClr val="66ccff"/>
                </a:solidFill>
                <a:latin typeface="Arial"/>
              </a:rPr>
              <a:t>教育背景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042920" y="549360"/>
            <a:ext cx="217008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CN" sz="2400" spc="-1" strike="noStrike">
                <a:solidFill>
                  <a:srgbClr val="66ccff"/>
                </a:solidFill>
                <a:latin typeface="Arial"/>
              </a:rPr>
              <a:t>工作经历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042920" y="549360"/>
            <a:ext cx="38163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CN" sz="2400" spc="-1" strike="noStrike">
                <a:solidFill>
                  <a:srgbClr val="66ccff"/>
                </a:solidFill>
                <a:latin typeface="Arial"/>
              </a:rPr>
              <a:t>专业技能及相关证书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36640" y="158436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Arial"/>
              </a:rPr>
              <a:t> </a:t>
            </a:r>
            <a:r>
              <a:rPr b="0" lang="en-GB" sz="1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4400" spc="-1" strike="noStrike">
                <a:solidFill>
                  <a:srgbClr val="66ccff"/>
                </a:solidFill>
                <a:latin typeface="Arial"/>
              </a:rPr>
              <a:t>使用规范说明</a:t>
            </a:r>
            <a:endParaRPr b="1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400" spc="-1" strike="noStrike">
                <a:solidFill>
                  <a:srgbClr val="5b5249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C0AD-0694-4F82-A8A5-69844C0B063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32000" y="2565360"/>
            <a:ext cx="217008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CN" sz="4800" spc="-1" strike="noStrike">
                <a:solidFill>
                  <a:srgbClr val="66ccff"/>
                </a:solidFill>
                <a:latin typeface="Arial"/>
              </a:rPr>
              <a:t>致谢</a:t>
            </a:r>
            <a:endParaRPr b="0" lang="en-US" sz="48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0:16Z</dcterms:modified>
  <cp:revision>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