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938-75FC-457C-AFBB-82640603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A38-825F-4F25-91FA-D8F656BC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5B0-1ADB-48CE-93EC-41293B7C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0A0-6CDC-4394-8CC0-C14268DA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C0FD-DC55-47A0-A8ED-E38F4BD8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C0AD-A9D8-4D3D-822F-A74B053B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B503-3161-4736-8D6A-B58652A7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41AD-3DD9-4A75-B918-17F7DCC2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B8E8-74B4-4FF5-955A-BFC38329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C950-5FE5-4DFC-AAF9-56BC3026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7A0E-97AF-4374-9016-80CA2ABB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D38-EE19-4B69-B810-BAE8FD50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EF15-AF39-48DB-980E-3338344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19A9-7097-4141-A782-4C003E2C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9E10-F7DD-477A-9AE2-8B77BD7C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8341-A085-4BF9-8502-9CBC0CD6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0D52-72EB-4558-BDBF-56952207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FB6-33FF-4EDC-9F07-9AB999F9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FD6-AE99-49A3-8031-30039F00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E02-93EE-44BB-A1AB-99560B9C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1FD-9003-4740-A3F6-47CDC5B9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F5F-9244-47B9-A643-4EA1694F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98D-B696-4CB2-841B-8CC74A7F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FA3-83C5-4F92-958E-5E447058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BC96-E0F1-4673-9F96-9A0A60F40612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ACF0-E9FF-4643-8CE1-1685E148CAFA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我的求职简历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模板下载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DFKai-SB"/>
                <a:ea typeface="DFKai-SB"/>
              </a:rPr>
              <a:t>  </a:t>
            </a:r>
            <a:r>
              <a:rPr b="0" lang="zh-CN" sz="2800" spc="-1" strike="noStrike">
                <a:solidFill>
                  <a:srgbClr val="006666"/>
                </a:solidFill>
                <a:latin typeface="DFKai-SB"/>
                <a:ea typeface="宋体"/>
              </a:rPr>
              <a:t>某某学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DFKai-SB"/>
                <a:ea typeface="DFKai-SB"/>
              </a:rPr>
              <a:t>    </a:t>
            </a:r>
            <a:r>
              <a:rPr b="0" lang="zh-CN" sz="2800" spc="-1" strike="noStrike">
                <a:solidFill>
                  <a:srgbClr val="006666"/>
                </a:solidFill>
                <a:latin typeface="DFKai-SB"/>
                <a:ea typeface="宋体"/>
              </a:rPr>
              <a:t>某某某</a:t>
            </a:r>
            <a:r>
              <a:rPr b="0" lang="zh-TW" sz="2800" spc="-1" strike="noStrike">
                <a:solidFill>
                  <a:srgbClr val="006666"/>
                </a:solidFill>
                <a:latin typeface="DFKai-SB"/>
                <a:ea typeface="DFKai-SB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</a:rPr>
              <a:t>个人简历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某某某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某某某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大学中文系毕业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性别：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籍贯：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联系方式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6666"/>
                </a:solidFill>
                <a:latin typeface="Arial"/>
              </a:rPr>
              <a:t>获奖纪录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1" lang="zh-TW" sz="4400" spc="-1" strike="noStrike">
                <a:solidFill>
                  <a:srgbClr val="006666"/>
                </a:solidFill>
                <a:latin typeface="Arial"/>
              </a:rPr>
              <a:t>个人参赛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市语文竞赛中学教师组作文第五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市教学优良教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征文比赛入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新诗奖第二名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1.7.2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网页设计组第二名（网页内容编写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新诗奖第三名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3.8.2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新诗奖佳作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4.8.1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537372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601-4DAC-4F5A-BECB-471E002B5873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宋体"/>
              </a:rPr>
              <a:t>工作经历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************************************************************************************************************************************************************************************************************************************************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************************************************************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宋体"/>
              </a:rPr>
              <a:t>************************************************************************************************************************************************************************************************************************************************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3:18:0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15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