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29D-938F-4409-8E11-3EE18865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68D-D3A4-4ED6-A22F-0B8B9CD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538-00E3-4167-A5E4-14EFF01E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9E3-09C0-44F0-8BDF-2FA26443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F85-0980-42C5-BC3E-08747BFE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C6B-BBDF-42F1-966E-D4716E8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D45-88AE-4E84-A544-D9DBB1F5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6B0-F085-425F-B607-22C06A2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66D-D80E-4FD3-811B-C72924B6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0C5-C5EC-4F43-B8B3-44D8957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7A9-0D1F-4CBE-AA58-A2DB6C0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A02-4CBE-4748-9717-4E597D0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E86-0568-406F-A4F7-BF6F037E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p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549360"/>
            <a:ext cx="63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外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win8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瓷片元素商务休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p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254880" y="350028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691560" y="350028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2990880" y="494172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3642840" y="5013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" descr="背景带色块.jpg"/>
          <p:cNvPicPr/>
          <p:nvPr/>
        </p:nvPicPr>
        <p:blipFill>
          <a:blip r:embed="rId2"/>
          <a:srcRect l="3473" t="65556" r="70557" b="15187"/>
          <a:stretch/>
        </p:blipFill>
        <p:spPr>
          <a:xfrm>
            <a:off x="317520" y="4495680"/>
            <a:ext cx="2374920" cy="13208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8"/>
          <p:cNvSpPr/>
          <p:nvPr/>
        </p:nvSpPr>
        <p:spPr>
          <a:xfrm>
            <a:off x="68436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nd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香奈儿LOGO-01.png"/>
          <p:cNvPicPr/>
          <p:nvPr/>
        </p:nvPicPr>
        <p:blipFill>
          <a:blip r:embed="rId3"/>
          <a:stretch/>
        </p:blipFill>
        <p:spPr>
          <a:xfrm>
            <a:off x="985680" y="4724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背景带色块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内容占位符 3" descr="P11.jpg"/>
          <p:cNvPicPr/>
          <p:nvPr/>
        </p:nvPicPr>
        <p:blipFill>
          <a:blip r:embed="rId2"/>
          <a:srcRect l="87502" t="0" r="0" b="0"/>
          <a:stretch/>
        </p:blipFill>
        <p:spPr>
          <a:xfrm>
            <a:off x="800100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5"/>
          <p:cNvSpPr/>
          <p:nvPr/>
        </p:nvSpPr>
        <p:spPr>
          <a:xfrm>
            <a:off x="2990880" y="494172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3642840" y="5013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254880" y="350028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f7f7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>
            <a:off x="691560" y="350028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内容占位符 3" descr="P11.jpg"/>
          <p:cNvPicPr/>
          <p:nvPr/>
        </p:nvPicPr>
        <p:blipFill>
          <a:blip r:embed="rId3"/>
          <a:srcRect l="0" t="0" r="0" b="80005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0"/>
          <p:cNvSpPr/>
          <p:nvPr/>
        </p:nvSpPr>
        <p:spPr>
          <a:xfrm>
            <a:off x="68436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nd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香奈儿LOGO-01.png"/>
          <p:cNvPicPr/>
          <p:nvPr/>
        </p:nvPicPr>
        <p:blipFill>
          <a:blip r:embed="rId4"/>
          <a:stretch/>
        </p:blipFill>
        <p:spPr>
          <a:xfrm>
            <a:off x="985680" y="4724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4" descr="p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317520" y="4495680"/>
            <a:ext cx="2598840" cy="1320840"/>
            <a:chOff x="317520" y="4495680"/>
            <a:chExt cx="2598840" cy="1320840"/>
          </a:xfrm>
        </p:grpSpPr>
        <p:pic>
          <p:nvPicPr>
            <p:cNvPr id="69" name="图片 3" descr="背景带色块.jpg"/>
            <p:cNvPicPr/>
            <p:nvPr/>
          </p:nvPicPr>
          <p:blipFill>
            <a:blip r:embed="rId2"/>
            <a:srcRect l="3473" t="65556" r="70557" b="15187"/>
            <a:stretch/>
          </p:blipFill>
          <p:spPr>
            <a:xfrm>
              <a:off x="317520" y="4495680"/>
              <a:ext cx="23756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文本框 4"/>
            <p:cNvSpPr/>
            <p:nvPr/>
          </p:nvSpPr>
          <p:spPr>
            <a:xfrm>
              <a:off x="683640" y="53733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rand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5" descr="香奈儿LOGO-01.png"/>
            <p:cNvPicPr/>
            <p:nvPr/>
          </p:nvPicPr>
          <p:blipFill>
            <a:blip r:embed="rId3"/>
            <a:stretch/>
          </p:blipFill>
          <p:spPr>
            <a:xfrm>
              <a:off x="985320" y="4725000"/>
              <a:ext cx="922680" cy="92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491-E75C-4317-A5D3-675B52440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内容占位符 3" descr="p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9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