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A95-031B-468F-A7C8-CE4896EB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8BA-10F8-43AA-AF7C-DB88664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2DD-4333-439D-8F3D-0CB27312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5304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256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52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5304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18256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816-7317-4C4E-8F08-386A1B13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0DD6-421B-4B4D-B863-62E1A45C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AEC8-0638-46F3-908F-A0A13DF6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2BD6-6848-4C21-9DB2-7C477B1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FD4E-54A0-48D8-9487-6124251F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D3F5-ECD6-41ED-ADDA-9A6FE102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617220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1372-28AF-4ECD-885E-03424BAF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E323-1DF0-4280-89CF-83976FB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6F1-72D9-44F6-B0E1-9E5DF154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3EF9-3762-4221-8C5D-E30518A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630-8C01-4716-AEAF-C35961B4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E603-E292-43B2-BDDE-9F44C5B1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05BB-31E9-4B43-A8E0-030ECE91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5304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8256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352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5304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18256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8BC6-9479-4886-AD9B-624B9EDD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C82-318A-48C5-B3D8-A331259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8AC-3C17-4079-8863-2873D968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501-1D28-430F-915C-1840CF8A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617220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0A5-B099-43CF-8210-93A7A717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F1A-7E1F-4389-9916-22A9728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30B-EE92-4406-BFE1-D86E971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9B0-22FC-4C46-A08F-5288A6D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561960"/>
            <a:ext cx="769608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58720"/>
            <a:ext cx="1447920" cy="660600"/>
          </a:xfrm>
          <a:prstGeom prst="rect">
            <a:avLst/>
          </a:prstGeom>
          <a:solidFill>
            <a:srgbClr val="267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1094040" cy="1123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5400000">
            <a:off x="23904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54396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84888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115380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DDE5-2048-41D1-961C-E3DAC6A91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28600" y="685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70866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2971800"/>
            <a:ext cx="2057400" cy="457200"/>
          </a:xfrm>
          <a:prstGeom prst="rect">
            <a:avLst/>
          </a:prstGeom>
          <a:solidFill>
            <a:srgbClr val="267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630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6800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77256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10774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3429000"/>
          <a:ext cx="42354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29000"/>
                    <a:ext cx="4235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086600" y="3429000"/>
          <a:ext cx="205740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3429000"/>
                    <a:ext cx="2057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255920" y="3429000"/>
            <a:ext cx="2805120" cy="1830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429000"/>
            <a:ext cx="9144000" cy="1828800"/>
          </a:xfrm>
          <a:prstGeom prst="rect">
            <a:avLst/>
          </a:prstGeom>
          <a:solidFill>
            <a:srgbClr val="9fcad3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391520" y="1905120"/>
            <a:ext cx="131580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D70D-800F-4181-A9B1-D2411CA4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5562720"/>
            <a:ext cx="1079640" cy="635760"/>
            <a:chOff x="4114800" y="5562720"/>
            <a:chExt cx="1079640" cy="635760"/>
          </a:xfrm>
        </p:grpSpPr>
        <p:sp>
          <p:nvSpPr>
            <p:cNvPr id="66" name=""/>
            <p:cNvSpPr/>
            <p:nvPr/>
          </p:nvSpPr>
          <p:spPr>
            <a:xfrm>
              <a:off x="4114800" y="57387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4508640" y="526896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72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728a"/>
                </a:solidFill>
                <a:latin typeface="Arial"/>
                <a:ea typeface="宋体"/>
              </a:rPr>
              <a:t>网络公司幻灯片下载</a:t>
            </a:r>
            <a:endParaRPr b="1" lang="en-US" sz="40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55640" y="2279520"/>
            <a:ext cx="7632720" cy="3054240"/>
            <a:chOff x="755640" y="2279520"/>
            <a:chExt cx="7632720" cy="3054240"/>
          </a:xfrm>
        </p:grpSpPr>
        <p:sp>
          <p:nvSpPr>
            <p:cNvPr id="261" name=""/>
            <p:cNvSpPr/>
            <p:nvPr/>
          </p:nvSpPr>
          <p:spPr>
            <a:xfrm>
              <a:off x="291636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f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5164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1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1a5d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1a5d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69120" y="24271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c5878"/>
                </a:gs>
                <a:gs pos="50000">
                  <a:srgbClr val="71a5df"/>
                </a:gs>
                <a:gs pos="100000">
                  <a:srgbClr val="3c5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00800" y="2438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1a5df">
                    <a:alpha val="0"/>
                  </a:srgbClr>
                </a:gs>
                <a:gs pos="100000">
                  <a:srgbClr val="4768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06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1ca6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1ca6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6760" y="2420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16c38"/>
                </a:gs>
                <a:gs pos="50000">
                  <a:srgbClr val="f1ca69"/>
                </a:gs>
                <a:gs pos="100000">
                  <a:srgbClr val="816c3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423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1ca69">
                    <a:alpha val="0"/>
                  </a:srgbClr>
                </a:gs>
                <a:gs pos="100000">
                  <a:srgbClr val="987f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0720" y="2514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017720" y="2539800"/>
              <a:ext cx="1636560" cy="1636920"/>
              <a:chOff x="1017720" y="2539800"/>
              <a:chExt cx="1636560" cy="1636920"/>
            </a:xfrm>
          </p:grpSpPr>
          <p:sp>
            <p:nvSpPr>
              <p:cNvPr id="274" name=""/>
              <p:cNvSpPr/>
              <p:nvPr/>
            </p:nvSpPr>
            <p:spPr>
              <a:xfrm>
                <a:off x="101772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3860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5552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4444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fca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95d61"/>
                </a:gs>
                <a:gs pos="100000">
                  <a:srgbClr val="9fcad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33840" y="2427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56c71"/>
                </a:gs>
                <a:gs pos="50000">
                  <a:srgbClr val="9fcad3"/>
                </a:gs>
                <a:gs pos="100000">
                  <a:srgbClr val="556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5280" y="2430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fcad3">
                    <a:alpha val="0"/>
                  </a:srgbClr>
                </a:gs>
                <a:gs pos="100000">
                  <a:srgbClr val="647f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74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754440" y="2539800"/>
              <a:ext cx="1636560" cy="1636920"/>
              <a:chOff x="3754440" y="2539800"/>
              <a:chExt cx="1636560" cy="1636920"/>
            </a:xfrm>
          </p:grpSpPr>
          <p:sp>
            <p:nvSpPr>
              <p:cNvPr id="284" name=""/>
              <p:cNvSpPr/>
              <p:nvPr/>
            </p:nvSpPr>
            <p:spPr>
              <a:xfrm>
                <a:off x="375444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7532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9224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8116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500880" y="2539800"/>
              <a:ext cx="1636560" cy="1636920"/>
              <a:chOff x="6500880" y="2539800"/>
              <a:chExt cx="1636560" cy="1636920"/>
            </a:xfrm>
          </p:grpSpPr>
          <p:sp>
            <p:nvSpPr>
              <p:cNvPr id="289" name=""/>
              <p:cNvSpPr/>
              <p:nvPr/>
            </p:nvSpPr>
            <p:spPr>
              <a:xfrm>
                <a:off x="650088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2176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3868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62760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049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3844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913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522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954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386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048120" y="1523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1a5d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447920" y="1619280"/>
            <a:ext cx="7390800" cy="4476600"/>
            <a:chOff x="1447920" y="1619280"/>
            <a:chExt cx="7390800" cy="4476600"/>
          </a:xfrm>
        </p:grpSpPr>
        <p:sp>
          <p:nvSpPr>
            <p:cNvPr id="302" name=""/>
            <p:cNvSpPr/>
            <p:nvPr/>
          </p:nvSpPr>
          <p:spPr>
            <a:xfrm>
              <a:off x="1447920" y="205740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fcad3"/>
                </a:gs>
                <a:gs pos="100000">
                  <a:srgbClr val="26728a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1840" y="3809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76400">
              <a:off x="3620880" y="504828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52480" y="382896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73360" y="3838680"/>
              <a:ext cx="166464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0640" y="385452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8280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00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826600">
              <a:off x="1777680" y="44384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701720" y="3448080"/>
              <a:ext cx="1370880" cy="1441080"/>
              <a:chOff x="1701720" y="3448080"/>
              <a:chExt cx="1370880" cy="1441080"/>
            </a:xfrm>
          </p:grpSpPr>
          <p:sp>
            <p:nvSpPr>
              <p:cNvPr id="312" name=""/>
              <p:cNvSpPr/>
              <p:nvPr/>
            </p:nvSpPr>
            <p:spPr>
              <a:xfrm>
                <a:off x="170172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1972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3268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0432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8216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599840" y="268308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76160" y="2076480"/>
              <a:ext cx="102348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88760" y="208116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9992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53920" y="211788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308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66680" y="215280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9080" y="161928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98440" y="16225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4920" y="1628640"/>
              <a:ext cx="63288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41280" y="16477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5928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1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2672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1a5d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1a5d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c5878"/>
                </a:gs>
                <a:gs pos="50000">
                  <a:srgbClr val="71a5df"/>
                </a:gs>
                <a:gs pos="100000">
                  <a:srgbClr val="3c5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1a5df">
                    <a:alpha val="0"/>
                  </a:srgbClr>
                </a:gs>
                <a:gs pos="100000">
                  <a:srgbClr val="4768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6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143000" y="2136600"/>
            <a:ext cx="2170080" cy="4035600"/>
            <a:chOff x="1143000" y="2136600"/>
            <a:chExt cx="2170080" cy="4035600"/>
          </a:xfrm>
        </p:grpSpPr>
        <p:sp>
          <p:nvSpPr>
            <p:cNvPr id="363" name=""/>
            <p:cNvSpPr/>
            <p:nvPr/>
          </p:nvSpPr>
          <p:spPr>
            <a:xfrm>
              <a:off x="11430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7648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937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4948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376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887480" y="2136600"/>
              <a:ext cx="642960" cy="642960"/>
              <a:chOff x="1887480" y="2136600"/>
              <a:chExt cx="642960" cy="642960"/>
            </a:xfrm>
          </p:grpSpPr>
          <p:sp>
            <p:nvSpPr>
              <p:cNvPr id="370" name=""/>
              <p:cNvSpPr/>
              <p:nvPr/>
            </p:nvSpPr>
            <p:spPr>
              <a:xfrm>
                <a:off x="18874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939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0188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083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422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0275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505320" y="2136600"/>
            <a:ext cx="2166840" cy="4035600"/>
            <a:chOff x="3505320" y="2136600"/>
            <a:chExt cx="2166840" cy="4035600"/>
          </a:xfrm>
        </p:grpSpPr>
        <p:sp>
          <p:nvSpPr>
            <p:cNvPr id="378" name=""/>
            <p:cNvSpPr/>
            <p:nvPr/>
          </p:nvSpPr>
          <p:spPr>
            <a:xfrm>
              <a:off x="35053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3880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5608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5608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4980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628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4200" y="21445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70320" y="21510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05600" y="21668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898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8164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08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5284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861160" y="2136600"/>
            <a:ext cx="2170080" cy="4035600"/>
            <a:chOff x="5861160" y="2136600"/>
            <a:chExt cx="2170080" cy="4035600"/>
          </a:xfrm>
        </p:grpSpPr>
        <p:sp>
          <p:nvSpPr>
            <p:cNvPr id="392" name=""/>
            <p:cNvSpPr/>
            <p:nvPr/>
          </p:nvSpPr>
          <p:spPr>
            <a:xfrm>
              <a:off x="586764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0076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1840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1840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612120" y="2136600"/>
              <a:ext cx="642960" cy="642960"/>
              <a:chOff x="6612120" y="2136600"/>
              <a:chExt cx="642960" cy="642960"/>
            </a:xfrm>
          </p:grpSpPr>
          <p:sp>
            <p:nvSpPr>
              <p:cNvPr id="397" name=""/>
              <p:cNvSpPr/>
              <p:nvPr/>
            </p:nvSpPr>
            <p:spPr>
              <a:xfrm>
                <a:off x="661212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1860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2652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3300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6684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675216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36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611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0544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990720" y="1523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1a5d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1969920"/>
            <a:ext cx="9144000" cy="4366080"/>
            <a:chOff x="0" y="1969920"/>
            <a:chExt cx="9144000" cy="4366080"/>
          </a:xfrm>
        </p:grpSpPr>
        <p:sp>
          <p:nvSpPr>
            <p:cNvPr id="409" name=""/>
            <p:cNvSpPr/>
            <p:nvPr/>
          </p:nvSpPr>
          <p:spPr>
            <a:xfrm>
              <a:off x="0" y="32590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33112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396720" y="2662200"/>
              <a:ext cx="2183040" cy="3600720"/>
              <a:chOff x="396720" y="2662200"/>
              <a:chExt cx="2183040" cy="36007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873720" y="3581280"/>
                <a:ext cx="1706040" cy="2681640"/>
                <a:chOff x="873720" y="3581280"/>
                <a:chExt cx="1706040" cy="2681640"/>
              </a:xfrm>
            </p:grpSpPr>
            <p:grpSp>
              <p:nvGrpSpPr>
                <p:cNvPr id="413" name=""/>
                <p:cNvGrpSpPr/>
                <p:nvPr/>
              </p:nvGrpSpPr>
              <p:grpSpPr>
                <a:xfrm>
                  <a:off x="873720" y="3760200"/>
                  <a:ext cx="1578600" cy="2502720"/>
                  <a:chOff x="873720" y="3760200"/>
                  <a:chExt cx="1578600" cy="25027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3876600">
                    <a:off x="41004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3876600">
                    <a:off x="191592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1368360" y="3581280"/>
                  <a:ext cx="1211400" cy="1920240"/>
                  <a:chOff x="1368360" y="3581280"/>
                  <a:chExt cx="1211400" cy="192024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V="1" rot="3876600">
                    <a:off x="101268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 rot="3876600">
                    <a:off x="215064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96720" y="2662200"/>
                <a:ext cx="1441800" cy="1440720"/>
                <a:chOff x="396720" y="2662200"/>
                <a:chExt cx="1441800" cy="14407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967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967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92120" y="27558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92120" y="27590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54040" y="28195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571320" y="2836800"/>
                  <a:ext cx="1092240" cy="1092960"/>
                  <a:chOff x="571320" y="2836800"/>
                  <a:chExt cx="1092240" cy="10929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571320" y="28368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85360" y="28429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96520" y="28533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55920" y="28810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0" name=""/>
              <p:cNvSpPr/>
              <p:nvPr/>
            </p:nvSpPr>
            <p:spPr>
              <a:xfrm rot="3925800">
                <a:off x="89784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3925800">
                <a:off x="140184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379600" y="2662200"/>
              <a:ext cx="2183040" cy="3600720"/>
              <a:chOff x="2379600" y="2662200"/>
              <a:chExt cx="2183040" cy="360072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2856600" y="3581280"/>
                <a:ext cx="1706040" cy="2681640"/>
                <a:chOff x="2856600" y="3581280"/>
                <a:chExt cx="1706040" cy="268164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2856600" y="3760200"/>
                  <a:ext cx="1578600" cy="2502720"/>
                  <a:chOff x="2856600" y="3760200"/>
                  <a:chExt cx="1578600" cy="25027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3876600">
                    <a:off x="239292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3876600">
                    <a:off x="389880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3351240" y="3581280"/>
                  <a:ext cx="1211400" cy="1920240"/>
                  <a:chOff x="3351240" y="3581280"/>
                  <a:chExt cx="1211400" cy="192024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V="1" rot="3876600">
                    <a:off x="299556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 rot="3876600">
                    <a:off x="413352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2379600" y="2662200"/>
                <a:ext cx="1441800" cy="1440720"/>
                <a:chOff x="2379600" y="2662200"/>
                <a:chExt cx="1441800" cy="14407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37960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37960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475000" y="27558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475000" y="27590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536920" y="28195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2554200" y="2836800"/>
                  <a:ext cx="1092240" cy="1092960"/>
                  <a:chOff x="2554200" y="2836800"/>
                  <a:chExt cx="1092240" cy="10929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2554200" y="28368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568240" y="28429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579400" y="28533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638800" y="28810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1" name=""/>
              <p:cNvSpPr/>
              <p:nvPr/>
            </p:nvSpPr>
            <p:spPr>
              <a:xfrm rot="3925800">
                <a:off x="287496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925800">
                <a:off x="337824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427640" y="2662200"/>
              <a:ext cx="2182680" cy="3600720"/>
              <a:chOff x="4427640" y="2662200"/>
              <a:chExt cx="2182680" cy="360072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4904280" y="3581280"/>
                <a:ext cx="1706040" cy="2681640"/>
                <a:chOff x="4904280" y="3581280"/>
                <a:chExt cx="1706040" cy="268164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4904280" y="3760200"/>
                  <a:ext cx="1578600" cy="2502720"/>
                  <a:chOff x="4904280" y="3760200"/>
                  <a:chExt cx="1578600" cy="25027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3876600">
                    <a:off x="444060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3876600">
                    <a:off x="594648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398920" y="3581280"/>
                  <a:ext cx="1211400" cy="1920240"/>
                  <a:chOff x="5398920" y="3581280"/>
                  <a:chExt cx="1211400" cy="19202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V="1" rot="3876600">
                    <a:off x="504324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V="1" rot="3876600">
                    <a:off x="618120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4427640" y="2662200"/>
                <a:ext cx="1441440" cy="1440720"/>
                <a:chOff x="4427640" y="2662200"/>
                <a:chExt cx="1441440" cy="14407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42764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2764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23040" y="27558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523040" y="27590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84960" y="28195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4602240" y="2836800"/>
                  <a:ext cx="1091880" cy="1092960"/>
                  <a:chOff x="4602240" y="2836800"/>
                  <a:chExt cx="1091880" cy="10929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4602240" y="28368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616280" y="28429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627440" y="28533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686840" y="28810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"/>
              <p:cNvSpPr/>
              <p:nvPr/>
            </p:nvSpPr>
            <p:spPr>
              <a:xfrm rot="3925800">
                <a:off x="493200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925800">
                <a:off x="543564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6442200" y="2503440"/>
              <a:ext cx="2399760" cy="3832560"/>
              <a:chOff x="6442200" y="2503440"/>
              <a:chExt cx="2399760" cy="38325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7136280" y="3654360"/>
                <a:ext cx="1705680" cy="2681640"/>
                <a:chOff x="7136280" y="3654360"/>
                <a:chExt cx="1705680" cy="268164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7136280" y="3833280"/>
                  <a:ext cx="1578600" cy="2502720"/>
                  <a:chOff x="7136280" y="3833280"/>
                  <a:chExt cx="1578600" cy="25027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3876600">
                    <a:off x="6672600" y="48052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3876600">
                    <a:off x="8178480" y="57740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630560" y="3654360"/>
                  <a:ext cx="1211400" cy="1920240"/>
                  <a:chOff x="7630560" y="3654360"/>
                  <a:chExt cx="1211400" cy="192024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V="1" rot="3876600">
                    <a:off x="7274880" y="44002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V="1" rot="3876600">
                    <a:off x="8412840" y="51519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>
                <a:off x="6442200" y="25034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42200" y="25034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558120" y="26161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559560" y="26193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32640" y="26924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6653160" y="2712960"/>
                <a:ext cx="1312920" cy="1310400"/>
                <a:chOff x="6653160" y="2712960"/>
                <a:chExt cx="1312920" cy="13104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653160" y="27129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69720" y="27201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83400" y="27327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754680" y="27662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 rot="3925800">
                <a:off x="7147080" y="4766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3925800">
                <a:off x="7649640" y="4474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77796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6840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4984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95000" y="19699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"/>
            <p:cNvCxnSpPr>
              <a:stCxn id="494" idx="3"/>
              <a:endCxn id="495" idx="1"/>
            </p:cNvCxnSpPr>
            <p:nvPr/>
          </p:nvCxnSpPr>
          <p:spPr>
            <a:xfrm>
              <a:off x="1514160" y="21967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95" idx="3"/>
              <a:endCxn id="496" idx="1"/>
            </p:cNvCxnSpPr>
            <p:nvPr/>
          </p:nvCxnSpPr>
          <p:spPr>
            <a:xfrm>
              <a:off x="3504960" y="219672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6" idx="3"/>
              <a:endCxn id="497" idx="1"/>
            </p:cNvCxnSpPr>
            <p:nvPr/>
          </p:nvCxnSpPr>
          <p:spPr>
            <a:xfrm>
              <a:off x="5486040" y="219708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44c66"/>
              </a:gs>
              <a:gs pos="100000">
                <a:srgbClr val="71a5d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95d61"/>
              </a:gs>
              <a:gs pos="100000">
                <a:srgbClr val="9fca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95d61"/>
              </a:gs>
              <a:gs pos="100000">
                <a:srgbClr val="9fca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4c66"/>
              </a:gs>
              <a:gs pos="100000">
                <a:srgbClr val="71a5d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12040" y="1935000"/>
            <a:ext cx="6436800" cy="1387800"/>
            <a:chOff x="1112040" y="1935000"/>
            <a:chExt cx="6436800" cy="1387800"/>
          </a:xfrm>
        </p:grpSpPr>
        <p:sp>
          <p:nvSpPr>
            <p:cNvPr id="514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286360" y="2331720"/>
              <a:ext cx="932040" cy="131760"/>
              <a:chOff x="2286360" y="2331720"/>
              <a:chExt cx="932040" cy="131760"/>
            </a:xfrm>
          </p:grpSpPr>
          <p:sp>
            <p:nvSpPr>
              <p:cNvPr id="516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37564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7728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5252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solidFill>
              <a:srgbClr val="2672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4007520" y="2331720"/>
              <a:ext cx="932040" cy="131760"/>
              <a:chOff x="4007520" y="2331720"/>
              <a:chExt cx="93204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400752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9680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736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469260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728680" y="2331720"/>
              <a:ext cx="1218600" cy="131760"/>
              <a:chOff x="5728680" y="2331720"/>
              <a:chExt cx="1218600" cy="131760"/>
            </a:xfrm>
          </p:grpSpPr>
          <p:sp>
            <p:nvSpPr>
              <p:cNvPr id="528" name=""/>
              <p:cNvSpPr/>
              <p:nvPr/>
            </p:nvSpPr>
            <p:spPr>
              <a:xfrm>
                <a:off x="572868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4532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86124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6413760" y="2093760"/>
              <a:ext cx="924120" cy="1004040"/>
            </a:xfrm>
            <a:prstGeom prst="rect">
              <a:avLst/>
            </a:prstGeom>
            <a:solidFill>
              <a:srgbClr val="2672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5800" y="2286000"/>
          <a:ext cx="7620120" cy="35481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29560" y="1136520"/>
            <a:ext cx="7431480" cy="4917960"/>
            <a:chOff x="529560" y="1136520"/>
            <a:chExt cx="7431480" cy="4917960"/>
          </a:xfrm>
        </p:grpSpPr>
        <p:sp>
          <p:nvSpPr>
            <p:cNvPr id="545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461960" y="227628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517400" y="211464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382760" y="213264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34960" y="209988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438200" y="21135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440000" y="211212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0602200">
              <a:off x="1423800" y="211896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4506840" y="343548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4400280" y="318276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529560" y="1433880"/>
              <a:ext cx="6918480" cy="4356720"/>
              <a:chOff x="529560" y="1433880"/>
              <a:chExt cx="6918480" cy="4356720"/>
            </a:xfrm>
          </p:grpSpPr>
          <p:sp>
            <p:nvSpPr>
              <p:cNvPr id="556" name=""/>
              <p:cNvSpPr/>
              <p:nvPr/>
            </p:nvSpPr>
            <p:spPr>
              <a:xfrm rot="20712600">
                <a:off x="782280" y="220536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712600">
                <a:off x="4186080" y="340344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712600">
                <a:off x="5562000" y="357156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1003680" y="1136520"/>
              <a:ext cx="6957360" cy="4863240"/>
              <a:chOff x="1003680" y="1136520"/>
              <a:chExt cx="6957360" cy="4863240"/>
            </a:xfrm>
          </p:grpSpPr>
          <p:sp>
            <p:nvSpPr>
              <p:cNvPr id="560" name=""/>
              <p:cNvSpPr/>
              <p:nvPr/>
            </p:nvSpPr>
            <p:spPr>
              <a:xfrm rot="20601600">
                <a:off x="6073560" y="347472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539200">
                <a:off x="1323720" y="202248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601600">
                <a:off x="4757760" y="330480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rot="20601600">
              <a:off x="297972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3056040" y="306360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6080" y="26496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15880" y="2192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87080" y="2954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8480" y="4249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10960" y="4478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92400" y="3640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14400" y="1676520"/>
            <a:ext cx="7391160" cy="4724280"/>
            <a:chOff x="914400" y="1676520"/>
            <a:chExt cx="7391160" cy="4724280"/>
          </a:xfrm>
        </p:grpSpPr>
        <p:sp>
          <p:nvSpPr>
            <p:cNvPr id="573" name=""/>
            <p:cNvSpPr/>
            <p:nvPr/>
          </p:nvSpPr>
          <p:spPr>
            <a:xfrm>
              <a:off x="1752480" y="24386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0f0f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86000" y="16765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4553"/>
                </a:gs>
                <a:gs pos="50000">
                  <a:srgbClr val="26728a"/>
                </a:gs>
                <a:gs pos="100000">
                  <a:srgbClr val="17455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03520" y="30481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728a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914400" y="4311720"/>
              <a:ext cx="1486080" cy="1989000"/>
              <a:chOff x="914400" y="4311720"/>
              <a:chExt cx="1486080" cy="198900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914400" y="4311720"/>
                  <a:ext cx="1486080" cy="1514520"/>
                  <a:chOff x="914400" y="4311720"/>
                  <a:chExt cx="1486080" cy="151452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914400" y="43117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6060a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1084320" y="43365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99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"/>
                <p:cNvSpPr/>
                <p:nvPr/>
              </p:nvSpPr>
              <p:spPr>
                <a:xfrm>
                  <a:off x="1072440" y="50828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1066680" y="59119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781680" y="4267440"/>
              <a:ext cx="1523880" cy="2066760"/>
              <a:chOff x="6781680" y="4267440"/>
              <a:chExt cx="1523880" cy="206676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6781680" y="4267440"/>
                <a:ext cx="1523880" cy="1531800"/>
                <a:chOff x="6781680" y="4267440"/>
                <a:chExt cx="1523880" cy="153180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6781680" y="4267440"/>
                  <a:ext cx="1523880" cy="1531800"/>
                  <a:chOff x="6781680" y="4267440"/>
                  <a:chExt cx="1523880" cy="153180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6781680" y="42674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1ca69"/>
                      </a:gs>
                      <a:gs pos="100000">
                        <a:srgbClr val="3a301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955920" y="42926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1ca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6924600" y="49813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6781680" y="58471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19520" y="4311720"/>
              <a:ext cx="1523880" cy="2089080"/>
              <a:chOff x="2819520" y="4311720"/>
              <a:chExt cx="1523880" cy="208908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2819520" y="4311720"/>
                <a:ext cx="1523880" cy="1521000"/>
                <a:chOff x="2819520" y="4311720"/>
                <a:chExt cx="1523880" cy="15210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819520" y="43117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a5df"/>
                    </a:gs>
                    <a:gs pos="100000">
                      <a:srgbClr val="3954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993760" y="43369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1a5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2895840" y="50418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19520" y="59119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4876920" y="4267440"/>
              <a:ext cx="1523880" cy="2089080"/>
              <a:chOff x="4876920" y="4267440"/>
              <a:chExt cx="1523880" cy="208908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4876920" y="4267440"/>
                <a:ext cx="1523880" cy="1521000"/>
                <a:chOff x="4876920" y="4267440"/>
                <a:chExt cx="1523880" cy="1521000"/>
              </a:xfrm>
            </p:grpSpPr>
            <p:grpSp>
              <p:nvGrpSpPr>
                <p:cNvPr id="598" name=""/>
                <p:cNvGrpSpPr/>
                <p:nvPr/>
              </p:nvGrpSpPr>
              <p:grpSpPr>
                <a:xfrm>
                  <a:off x="4876920" y="4267440"/>
                  <a:ext cx="1523880" cy="1521000"/>
                  <a:chOff x="4876920" y="4267440"/>
                  <a:chExt cx="1523880" cy="152100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4876920" y="42674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cad3"/>
                      </a:gs>
                      <a:gs pos="100000">
                        <a:srgbClr val="51676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51160" y="42926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9fcad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1" name=""/>
                <p:cNvSpPr/>
                <p:nvPr/>
              </p:nvSpPr>
              <p:spPr>
                <a:xfrm>
                  <a:off x="4953240" y="49975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4876920" y="58676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10720" y="4703400"/>
            <a:ext cx="5452200" cy="1089360"/>
            <a:chOff x="1710720" y="4703400"/>
            <a:chExt cx="5452200" cy="1089360"/>
          </a:xfrm>
        </p:grpSpPr>
        <p:grpSp>
          <p:nvGrpSpPr>
            <p:cNvPr id="111" name=""/>
            <p:cNvGrpSpPr/>
            <p:nvPr/>
          </p:nvGrpSpPr>
          <p:grpSpPr>
            <a:xfrm>
              <a:off x="1710720" y="4703400"/>
              <a:ext cx="5452200" cy="1089360"/>
              <a:chOff x="1710720" y="4703400"/>
              <a:chExt cx="5452200" cy="1089360"/>
            </a:xfrm>
          </p:grpSpPr>
          <p:sp>
            <p:nvSpPr>
              <p:cNvPr id="112" name=""/>
              <p:cNvSpPr/>
              <p:nvPr/>
            </p:nvSpPr>
            <p:spPr>
              <a:xfrm>
                <a:off x="2193840" y="49320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f1c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758000">
                <a:off x="1854360" y="49021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758000">
                <a:off x="1828800" y="48769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f1ca69"/>
                  </a:gs>
                  <a:gs pos="100000">
                    <a:srgbClr val="6f5d3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30600" y="50511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58840" y="49320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4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905120" y="49478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1710720" y="3789000"/>
            <a:ext cx="5452200" cy="1089360"/>
            <a:chOff x="1710720" y="3789000"/>
            <a:chExt cx="5452200" cy="1089360"/>
          </a:xfrm>
        </p:grpSpPr>
        <p:sp>
          <p:nvSpPr>
            <p:cNvPr id="119" name=""/>
            <p:cNvSpPr/>
            <p:nvPr/>
          </p:nvSpPr>
          <p:spPr>
            <a:xfrm>
              <a:off x="2193840" y="4017600"/>
              <a:ext cx="4969080" cy="668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758000">
              <a:off x="1854360" y="39877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758000">
              <a:off x="1828800" y="3962520"/>
              <a:ext cx="896760" cy="71712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30600" y="413676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8840" y="401760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905120" y="4019400"/>
              <a:ext cx="37944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710720" y="2874600"/>
            <a:ext cx="5452200" cy="1089360"/>
            <a:chOff x="1710720" y="2874600"/>
            <a:chExt cx="5452200" cy="1089360"/>
          </a:xfrm>
        </p:grpSpPr>
        <p:sp>
          <p:nvSpPr>
            <p:cNvPr id="126" name=""/>
            <p:cNvSpPr/>
            <p:nvPr/>
          </p:nvSpPr>
          <p:spPr>
            <a:xfrm>
              <a:off x="2193840" y="3103200"/>
              <a:ext cx="4969080" cy="668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71a5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758000">
              <a:off x="1854360" y="30733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758000">
              <a:off x="1828800" y="3048120"/>
              <a:ext cx="896760" cy="717120"/>
            </a:xfrm>
            <a:prstGeom prst="ellipse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30600" y="322236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8840" y="310320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1905120" y="31190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1702800" y="1960200"/>
            <a:ext cx="5460120" cy="1089360"/>
            <a:chOff x="1702800" y="1960200"/>
            <a:chExt cx="5460120" cy="1089360"/>
          </a:xfrm>
        </p:grpSpPr>
        <p:sp>
          <p:nvSpPr>
            <p:cNvPr id="133" name=""/>
            <p:cNvSpPr/>
            <p:nvPr/>
          </p:nvSpPr>
          <p:spPr>
            <a:xfrm rot="1758000">
              <a:off x="1846440" y="21589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702800" y="1960200"/>
              <a:ext cx="5460120" cy="1064160"/>
              <a:chOff x="1702800" y="1960200"/>
              <a:chExt cx="5460120" cy="1064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193840" y="21888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2672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758000">
                <a:off x="1820880" y="21337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9fcad3"/>
                  </a:gs>
                  <a:gs pos="100000">
                    <a:srgbClr val="495d61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30600" y="23079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8840" y="21888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05120" y="2149200"/>
                <a:ext cx="379440" cy="385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904-E74C-46C8-A4C9-55DB55376E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2133720" y="2057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fcad3"/>
                    </a:gs>
                    <a:gs pos="100000">
                      <a:srgbClr val="26728a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fcad3"/>
                  </a:gs>
                  <a:gs pos="100000">
                    <a:srgbClr val="26728a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50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400" spc="-1" strike="noStrike">
                <a:solidFill>
                  <a:srgbClr val="26728a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26728a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715000"/>
            <a:ext cx="6324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Image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multibits.co.kr - CD: Computer&amp;Communication (Image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145" name="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347184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38400" y="34768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edf0"/>
              </a:gs>
              <a:gs pos="100000">
                <a:srgbClr val="9fca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1552680"/>
              <a:ext cx="2998440" cy="1601280"/>
              <a:chOff x="3048120" y="1552680"/>
              <a:chExt cx="2998440" cy="16012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048120" y="1695600"/>
                <a:ext cx="2998440" cy="1458360"/>
                <a:chOff x="3048120" y="1695600"/>
                <a:chExt cx="2998440" cy="1458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08088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4f6c"/>
                    </a:gs>
                    <a:gs pos="100000">
                      <a:srgbClr val="71a5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4812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a5df"/>
                    </a:gs>
                    <a:gs pos="100000">
                      <a:srgbClr val="bfd6e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8924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9fcad3"/>
                  </a:gs>
                  <a:gs pos="100000">
                    <a:srgbClr val="495d6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2416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cebee"/>
                  </a:gs>
                  <a:gs pos="100000">
                    <a:srgbClr val="9fcad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5116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9fcad3">
                      <a:alpha val="48235"/>
                    </a:srgbClr>
                  </a:gs>
                  <a:gs pos="100000">
                    <a:srgbClr val="7d9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8292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9fcad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82960" y="1752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6840" y="1403640"/>
            <a:ext cx="7750080" cy="5225400"/>
            <a:chOff x="456840" y="1403640"/>
            <a:chExt cx="7750080" cy="5225400"/>
          </a:xfrm>
        </p:grpSpPr>
        <p:sp>
          <p:nvSpPr>
            <p:cNvPr id="164" name=""/>
            <p:cNvSpPr/>
            <p:nvPr/>
          </p:nvSpPr>
          <p:spPr>
            <a:xfrm rot="20241600">
              <a:off x="1077840" y="26143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9f9f9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9880" y="17524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2638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280" y="32767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313f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78000" y="49737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63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4343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3c18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1680" y="19810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1ca69"/>
                </a:gs>
                <a:gs pos="100000">
                  <a:srgbClr val="52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2520" y="3733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39640" y="2209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71480" y="2487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81560" y="4800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60600" y="5424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37386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73200" y="203976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"/>
            <p:cNvCxnSpPr/>
            <p:nvPr/>
          </p:nvCxnSpPr>
          <p:spPr>
            <a:xfrm flipH="1">
              <a:off x="456840" y="20394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"/>
            <p:cNvSpPr/>
            <p:nvPr/>
          </p:nvSpPr>
          <p:spPr>
            <a:xfrm>
              <a:off x="534600" y="16002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90720" y="1676520"/>
            <a:ext cx="7010280" cy="4343400"/>
            <a:chOff x="990720" y="1676520"/>
            <a:chExt cx="7010280" cy="4343400"/>
          </a:xfrm>
        </p:grpSpPr>
        <p:sp>
          <p:nvSpPr>
            <p:cNvPr id="181" name=""/>
            <p:cNvSpPr/>
            <p:nvPr/>
          </p:nvSpPr>
          <p:spPr>
            <a:xfrm>
              <a:off x="3657600" y="411480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7600" y="358164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30481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9040" y="3278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9040" y="3811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9040" y="4345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281952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0720" y="22860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7040" y="251460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22860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520" y="251460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9640" y="281952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840" y="167652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4c66"/>
                </a:gs>
                <a:gs pos="50000">
                  <a:srgbClr val="71a5df"/>
                </a:gs>
                <a:gs pos="100000">
                  <a:srgbClr val="344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4480" y="243864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74920" y="1909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71800" y="541044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74920" y="5643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02160" y="480060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grpSp>
          <p:nvGrpSpPr>
            <p:cNvPr id="201" name=""/>
            <p:cNvGrpSpPr/>
            <p:nvPr/>
          </p:nvGrpSpPr>
          <p:grpSpPr>
            <a:xfrm>
              <a:off x="2895480" y="2057400"/>
              <a:ext cx="3196800" cy="2890800"/>
              <a:chOff x="2895480" y="2057400"/>
              <a:chExt cx="3196800" cy="2890800"/>
            </a:xfrm>
          </p:grpSpPr>
          <p:sp>
            <p:nvSpPr>
              <p:cNvPr id="202" name="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c6d0"/>
                  </a:gs>
                  <a:gs pos="100000">
                    <a:srgbClr val="26728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c6d0"/>
                  </a:gs>
                  <a:gs pos="100000">
                    <a:srgbClr val="26728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10800000">
                <a:off x="4250520" y="462132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c6d0"/>
                  </a:gs>
                  <a:gs pos="100000">
                    <a:srgbClr val="2672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1a5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3c5878"/>
                  </a:gs>
                  <a:gs pos="50000">
                    <a:srgbClr val="71a5df"/>
                  </a:gs>
                  <a:gs pos="100000">
                    <a:srgbClr val="3c5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d30"/>
                </a:gs>
                <a:gs pos="50000">
                  <a:srgbClr val="f1ca69"/>
                </a:gs>
                <a:gs pos="100000">
                  <a:srgbClr val="6f5d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d30"/>
                </a:gs>
                <a:gs pos="50000">
                  <a:srgbClr val="f1ca69"/>
                </a:gs>
                <a:gs pos="100000">
                  <a:srgbClr val="6f5d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d30"/>
                </a:gs>
                <a:gs pos="50000">
                  <a:srgbClr val="f1ca69"/>
                </a:gs>
                <a:gs pos="100000">
                  <a:srgbClr val="6f5d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1240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cad3"/>
                </a:gs>
                <a:gs pos="50000">
                  <a:srgbClr val="fbfcfc"/>
                </a:gs>
                <a:gs pos="100000">
                  <a:srgbClr val="9fcad3"/>
                </a:gs>
              </a:gsLst>
              <a:lin ang="10800000"/>
            </a:gradFill>
            <a:ln w="38160">
              <a:solidFill>
                <a:srgbClr val="2672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7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8288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fcad3"/>
              </a:gs>
              <a:gs pos="100000">
                <a:srgbClr val="495d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3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