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439-D443-49B2-A9F0-38328370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5640" y="1963440"/>
            <a:ext cx="640080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5640" y="2390760"/>
            <a:ext cx="640080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78E-06EC-43F6-944B-A22DCFBF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5640" y="19634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75600" y="19634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5640" y="239076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75600" y="239076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18C2-96C3-475A-B164-7FCD2C9A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5640" y="196344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59600" y="196344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3920" y="196344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5640" y="239076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59600" y="239076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3920" y="239076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EF0-4291-4654-A124-BCFA7C3C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3EA9-E5B4-43DA-83EC-CF0DFFE9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95640" y="1963440"/>
            <a:ext cx="64008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998E-2405-4976-B701-95E9E57D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95640" y="1963440"/>
            <a:ext cx="640080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FD29-441D-4057-9523-0CECF402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95640" y="196344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75600" y="196344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ADB6-DC4E-471F-BCA3-BEB590DB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544D-3369-40D0-A3E4-0EFEF18D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26920" y="878040"/>
            <a:ext cx="7772400" cy="38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6942-48A2-4F5C-B755-2BCDF2F2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95640" y="19634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75600" y="196344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95640" y="239076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C0C7-3718-48D1-9F35-A1261E53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5640" y="1963440"/>
            <a:ext cx="64008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4090-BAA4-4E37-99B4-0884D391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95640" y="196344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75600" y="19634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75600" y="239076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DF6D-A9BD-4DF9-B000-B362E7A7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95640" y="19634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75600" y="19634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95640" y="2390760"/>
            <a:ext cx="640080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150A-ADC3-4405-A607-1A00E6B5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95640" y="1963440"/>
            <a:ext cx="640080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95640" y="2390760"/>
            <a:ext cx="640080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308C-AEE8-49D6-A3F4-3A062180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95640" y="19634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75600" y="19634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95640" y="239076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75600" y="239076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1D0E-3CE8-46CC-9803-35173F17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95640" y="196344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59600" y="196344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3920" y="196344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95640" y="239076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59600" y="239076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3920" y="2390760"/>
            <a:ext cx="206064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6B1E-C7FA-4A35-A163-D936AB90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5640" y="1963440"/>
            <a:ext cx="640080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5A7-C6DC-4AC2-91D7-1F0B4AB9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5640" y="196344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75600" y="196344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026-C25B-4C2D-8A56-34803E8A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67B-8B14-4921-AAD7-5D10C609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6920" y="878040"/>
            <a:ext cx="7772400" cy="38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5D2-AB49-451F-8A8A-EE4FF936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5640" y="19634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75600" y="196344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5640" y="239076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263B-4E35-4C4A-93CD-AFF1D89A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5640" y="1963440"/>
            <a:ext cx="312336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75600" y="19634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75600" y="239076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8C8-2811-49C0-83CF-15E2D1E7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5640" y="19634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75600" y="1963440"/>
            <a:ext cx="312336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5640" y="2390760"/>
            <a:ext cx="6400800" cy="3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681-6151-40C1-B919-681D00AF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340F-57C6-4273-9CD1-5E4ADD9DE1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87804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7DD7-9511-40A9-98FE-F234FE5B0E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http://www.eeppt.com/moban/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50960" y="1125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网络企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711440"/>
            <a:ext cx="78598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000160" y="1571760"/>
            <a:ext cx="660240" cy="656640"/>
            <a:chOff x="2000160" y="1571760"/>
            <a:chExt cx="660240" cy="656640"/>
          </a:xfrm>
        </p:grpSpPr>
        <p:grpSp>
          <p:nvGrpSpPr>
            <p:cNvPr id="89" name=""/>
            <p:cNvGrpSpPr/>
            <p:nvPr/>
          </p:nvGrpSpPr>
          <p:grpSpPr>
            <a:xfrm>
              <a:off x="2000160" y="1571760"/>
              <a:ext cx="660240" cy="656640"/>
              <a:chOff x="2000160" y="1571760"/>
              <a:chExt cx="660240" cy="656640"/>
            </a:xfrm>
          </p:grpSpPr>
          <p:sp>
            <p:nvSpPr>
              <p:cNvPr id="90" name="Oval 35"/>
              <p:cNvSpPr/>
              <p:nvPr/>
            </p:nvSpPr>
            <p:spPr>
              <a:xfrm>
                <a:off x="2000160" y="1574640"/>
                <a:ext cx="660240" cy="653760"/>
              </a:xfrm>
              <a:prstGeom prst="ellipse">
                <a:avLst/>
              </a:prstGeom>
              <a:solidFill>
                <a:srgbClr val="0066cc"/>
              </a:solidFill>
              <a:ln w="28440">
                <a:solidFill>
                  <a:srgbClr val="f8f8f8">
                    <a:alpha val="6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60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000160" y="2419200"/>
            <a:ext cx="660240" cy="657360"/>
            <a:chOff x="2000160" y="2419200"/>
            <a:chExt cx="660240" cy="657360"/>
          </a:xfrm>
        </p:grpSpPr>
        <p:grpSp>
          <p:nvGrpSpPr>
            <p:cNvPr id="96" name=""/>
            <p:cNvGrpSpPr/>
            <p:nvPr/>
          </p:nvGrpSpPr>
          <p:grpSpPr>
            <a:xfrm>
              <a:off x="2000160" y="2419200"/>
              <a:ext cx="660240" cy="657360"/>
              <a:chOff x="2000160" y="2419200"/>
              <a:chExt cx="660240" cy="657360"/>
            </a:xfrm>
          </p:grpSpPr>
          <p:sp>
            <p:nvSpPr>
              <p:cNvPr id="97" name="Oval 35"/>
              <p:cNvSpPr/>
              <p:nvPr/>
            </p:nvSpPr>
            <p:spPr>
              <a:xfrm>
                <a:off x="2000160" y="2422440"/>
                <a:ext cx="660240" cy="654120"/>
              </a:xfrm>
              <a:prstGeom prst="ellipse">
                <a:avLst/>
              </a:prstGeom>
              <a:solidFill>
                <a:srgbClr val="003366"/>
              </a:solidFill>
              <a:ln w="28440">
                <a:solidFill>
                  <a:srgbClr val="f8f8f8">
                    <a:alpha val="6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60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000160" y="3265560"/>
            <a:ext cx="660240" cy="656640"/>
            <a:chOff x="2000160" y="3265560"/>
            <a:chExt cx="660240" cy="656640"/>
          </a:xfrm>
        </p:grpSpPr>
        <p:grpSp>
          <p:nvGrpSpPr>
            <p:cNvPr id="103" name=""/>
            <p:cNvGrpSpPr/>
            <p:nvPr/>
          </p:nvGrpSpPr>
          <p:grpSpPr>
            <a:xfrm>
              <a:off x="2000160" y="3265560"/>
              <a:ext cx="660240" cy="656640"/>
              <a:chOff x="2000160" y="3265560"/>
              <a:chExt cx="660240" cy="656640"/>
            </a:xfrm>
          </p:grpSpPr>
          <p:sp>
            <p:nvSpPr>
              <p:cNvPr id="104" name="Oval 35"/>
              <p:cNvSpPr/>
              <p:nvPr/>
            </p:nvSpPr>
            <p:spPr>
              <a:xfrm>
                <a:off x="2000160" y="3268440"/>
                <a:ext cx="660240" cy="65376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f8f8f8">
                    <a:alpha val="6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60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000160" y="4113360"/>
            <a:ext cx="660240" cy="656640"/>
            <a:chOff x="2000160" y="4113360"/>
            <a:chExt cx="660240" cy="656640"/>
          </a:xfrm>
        </p:grpSpPr>
        <p:grpSp>
          <p:nvGrpSpPr>
            <p:cNvPr id="110" name=""/>
            <p:cNvGrpSpPr/>
            <p:nvPr/>
          </p:nvGrpSpPr>
          <p:grpSpPr>
            <a:xfrm>
              <a:off x="2000160" y="4113360"/>
              <a:ext cx="660240" cy="656640"/>
              <a:chOff x="2000160" y="4113360"/>
              <a:chExt cx="660240" cy="656640"/>
            </a:xfrm>
          </p:grpSpPr>
          <p:sp>
            <p:nvSpPr>
              <p:cNvPr id="111" name="Oval 35"/>
              <p:cNvSpPr/>
              <p:nvPr/>
            </p:nvSpPr>
            <p:spPr>
              <a:xfrm>
                <a:off x="2000160" y="4116240"/>
                <a:ext cx="660240" cy="653760"/>
              </a:xfrm>
              <a:prstGeom prst="ellipse">
                <a:avLst/>
              </a:prstGeom>
              <a:solidFill>
                <a:srgbClr val="0066ff"/>
              </a:solidFill>
              <a:ln w="28440">
                <a:solidFill>
                  <a:srgbClr val="f8f8f8">
                    <a:alpha val="6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60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000160" y="4960800"/>
            <a:ext cx="660240" cy="657360"/>
            <a:chOff x="2000160" y="4960800"/>
            <a:chExt cx="660240" cy="657360"/>
          </a:xfrm>
        </p:grpSpPr>
        <p:grpSp>
          <p:nvGrpSpPr>
            <p:cNvPr id="117" name=""/>
            <p:cNvGrpSpPr/>
            <p:nvPr/>
          </p:nvGrpSpPr>
          <p:grpSpPr>
            <a:xfrm>
              <a:off x="2000160" y="4960800"/>
              <a:ext cx="660240" cy="657360"/>
              <a:chOff x="2000160" y="4960800"/>
              <a:chExt cx="660240" cy="657360"/>
            </a:xfrm>
          </p:grpSpPr>
          <p:sp>
            <p:nvSpPr>
              <p:cNvPr id="118" name="Oval 35"/>
              <p:cNvSpPr/>
              <p:nvPr/>
            </p:nvSpPr>
            <p:spPr>
              <a:xfrm>
                <a:off x="2000160" y="4964040"/>
                <a:ext cx="660240" cy="654120"/>
              </a:xfrm>
              <a:prstGeom prst="ellipse">
                <a:avLst/>
              </a:prstGeom>
              <a:solidFill>
                <a:srgbClr val="ff9933"/>
              </a:solidFill>
              <a:ln w="28440">
                <a:solidFill>
                  <a:srgbClr val="f8f8f8">
                    <a:alpha val="6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" name="Picture 36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205560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0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ff"/>
                </a:solidFill>
                <a:uFillTx/>
                <a:latin typeface="Arial"/>
                <a:hlinkClick r:id="rId7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2"/>
          <p:cNvSpPr/>
          <p:nvPr/>
        </p:nvSpPr>
        <p:spPr>
          <a:xfrm flipH="1">
            <a:off x="650880" y="1562040"/>
            <a:ext cx="7502400" cy="2606760"/>
          </a:xfrm>
          <a:prstGeom prst="roundRect">
            <a:avLst>
              <a:gd name="adj" fmla="val 6968"/>
            </a:avLst>
          </a:prstGeom>
          <a:solidFill>
            <a:srgbClr val="003366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5"/>
          <p:cNvSpPr/>
          <p:nvPr/>
        </p:nvSpPr>
        <p:spPr>
          <a:xfrm flipH="1">
            <a:off x="1004760" y="3905280"/>
            <a:ext cx="7454880" cy="2187720"/>
          </a:xfrm>
          <a:prstGeom prst="roundRect">
            <a:avLst>
              <a:gd name="adj" fmla="val 10935"/>
            </a:avLst>
          </a:prstGeom>
          <a:solidFill>
            <a:srgbClr val="0066ff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6"/>
          <p:cNvSpPr/>
          <p:nvPr/>
        </p:nvSpPr>
        <p:spPr>
          <a:xfrm>
            <a:off x="3198960" y="1616040"/>
            <a:ext cx="4905360" cy="2208240"/>
          </a:xfrm>
          <a:prstGeom prst="roundRect">
            <a:avLst>
              <a:gd name="adj" fmla="val 7843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7"/>
          <p:cNvSpPr/>
          <p:nvPr/>
        </p:nvSpPr>
        <p:spPr>
          <a:xfrm>
            <a:off x="3516480" y="3957480"/>
            <a:ext cx="4871880" cy="2054520"/>
          </a:xfrm>
          <a:prstGeom prst="roundRect">
            <a:avLst>
              <a:gd name="adj" fmla="val 9194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40" descr=""/>
          <p:cNvPicPr/>
          <p:nvPr/>
        </p:nvPicPr>
        <p:blipFill>
          <a:blip r:embed="rId2"/>
          <a:stretch/>
        </p:blipFill>
        <p:spPr>
          <a:xfrm>
            <a:off x="1249200" y="4334040"/>
            <a:ext cx="2129040" cy="1414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29" name="Picture 241" descr=""/>
          <p:cNvPicPr/>
          <p:nvPr/>
        </p:nvPicPr>
        <p:blipFill>
          <a:blip r:embed="rId3"/>
          <a:srcRect l="0" t="11159" r="19808" b="6852"/>
          <a:stretch/>
        </p:blipFill>
        <p:spPr>
          <a:xfrm>
            <a:off x="893880" y="2058840"/>
            <a:ext cx="2173320" cy="14796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30" name="Rectangle 31"/>
          <p:cNvSpPr/>
          <p:nvPr/>
        </p:nvSpPr>
        <p:spPr>
          <a:xfrm>
            <a:off x="3321000" y="1851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66cc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66cc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1"/>
          <p:cNvSpPr/>
          <p:nvPr/>
        </p:nvSpPr>
        <p:spPr>
          <a:xfrm>
            <a:off x="3678120" y="410364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66cc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66cc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3EF-9B26-42D6-8F69-0278255831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1633680" y="292428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2111400" y="363852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5T14:31:4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12Z</dcterms:modified>
  <cp:revision>3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