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CC4D-120F-4275-A060-E26EBBD11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C4C5-9FD8-49EC-821A-980888D1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D9BA-53D7-450E-9FF2-DBED465A7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C741-AF78-4457-AF3C-58BF83195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07B1-557C-40B8-B008-DD30A8E9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98AE-59A7-474C-8365-1B005315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0054-646E-4F1A-A914-C8F127C9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197B-5040-4682-B6BA-D6A031BF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C131-7320-4648-940C-083A9A69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9E02-F77B-4258-84AA-0C841E17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5F5E-F726-4A7A-A913-C8E01FE4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BB1D-3462-461C-8CF6-74556859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76C8-6996-4DD9-9B0C-DC88B431FB7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143000" y="128592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1116000" y="206064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清新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94840" y="40464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蜗牛与绿叶环境工作汇报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BFA4-D047-4762-B60F-86B62BD6E9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8"/>
          <p:cNvSpPr/>
          <p:nvPr/>
        </p:nvSpPr>
        <p:spPr>
          <a:xfrm>
            <a:off x="845280" y="639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/>
          <p:cNvSpPr/>
          <p:nvPr/>
        </p:nvSpPr>
        <p:spPr>
          <a:xfrm>
            <a:off x="399924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9"/>
          <p:cNvSpPr/>
          <p:nvPr/>
        </p:nvSpPr>
        <p:spPr>
          <a:xfrm>
            <a:off x="4140720" y="463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40690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28720" y="155736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785880" y="7142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41407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19260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59979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916560" y="6429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3929040" y="19288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21405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62125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406908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916560" y="6429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399780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292608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585504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8"/>
          <p:cNvSpPr/>
          <p:nvPr/>
        </p:nvSpPr>
        <p:spPr>
          <a:xfrm>
            <a:off x="916560" y="6429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3786120" y="18572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235476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58550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916560" y="6429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/>
          <p:cNvSpPr/>
          <p:nvPr/>
        </p:nvSpPr>
        <p:spPr>
          <a:xfrm>
            <a:off x="857160" y="32148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/>
          <p:cNvSpPr/>
          <p:nvPr/>
        </p:nvSpPr>
        <p:spPr>
          <a:xfrm>
            <a:off x="599796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399780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164052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988200" y="639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521208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51408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29260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"/>
          <p:cNvSpPr/>
          <p:nvPr/>
        </p:nvSpPr>
        <p:spPr>
          <a:xfrm>
            <a:off x="306900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00000" y="1413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8"/>
          <p:cNvSpPr/>
          <p:nvPr/>
        </p:nvSpPr>
        <p:spPr>
          <a:xfrm>
            <a:off x="845280" y="639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41421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54979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/>
          <p:cNvSpPr/>
          <p:nvPr/>
        </p:nvSpPr>
        <p:spPr>
          <a:xfrm>
            <a:off x="306900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"/>
          <p:cNvSpPr/>
          <p:nvPr/>
        </p:nvSpPr>
        <p:spPr>
          <a:xfrm>
            <a:off x="916560" y="639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542664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50695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27118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7"/>
          <p:cNvSpPr/>
          <p:nvPr/>
        </p:nvSpPr>
        <p:spPr>
          <a:xfrm>
            <a:off x="29977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; bj</dc:creator>
  <dc:description>幻灯片之家：www.eeppt.com</dc:description>
  <cp:keywords>幻灯片之家：www.eeppt.com</cp:keywords>
  <dc:language>en-US</dc:language>
  <cp:lastModifiedBy>User</cp:lastModifiedBy>
  <dcterms:modified xsi:type="dcterms:W3CDTF">2015-09-18T13:25:12Z</dcterms:modified>
  <cp:revision>3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