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407-9BE8-4308-9BC8-D6E10F3E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E38-E44B-48AE-A388-FE8687A2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008-9945-47E0-929B-5DB2BD86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354-CF51-4455-A655-B6E29DA6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68D-70F1-4608-9F6A-92488939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F37-100C-4163-AE41-142A46ED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4E68-4FDB-4E41-A5DE-D3C856E0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410-FADA-4A57-A686-6FDA1B33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A56-83D6-4B2B-BDF1-84119D4B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1CE-D964-4D8B-99C2-CA21B2EA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D58-1759-41A3-B455-2B3E6F8D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332-BED8-4D9C-AA18-EAFE5DA3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653D-EC78-4D32-9494-3831326EB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ptmind_s137_red_표지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노트"/>
          <p:cNvPicPr/>
          <p:nvPr/>
        </p:nvPicPr>
        <p:blipFill>
          <a:blip r:embed="rId2"/>
          <a:srcRect l="0" t="1165" r="0" b="0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제목"/>
          <p:cNvPicPr/>
          <p:nvPr/>
        </p:nvPicPr>
        <p:blipFill>
          <a:blip r:embed="rId3"/>
          <a:stretch/>
        </p:blipFill>
        <p:spPr>
          <a:xfrm>
            <a:off x="3933720" y="0"/>
            <a:ext cx="5200920" cy="50385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535640" y="1589760"/>
            <a:ext cx="3478320" cy="1735920"/>
            <a:chOff x="4535640" y="1589760"/>
            <a:chExt cx="3478320" cy="1735920"/>
          </a:xfrm>
        </p:grpSpPr>
        <p:sp>
          <p:nvSpPr>
            <p:cNvPr id="45" name="Text Box 6"/>
            <p:cNvSpPr/>
            <p:nvPr/>
          </p:nvSpPr>
          <p:spPr>
            <a:xfrm rot="21061800">
              <a:off x="4773960" y="1835280"/>
              <a:ext cx="320580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900" spc="-1" strike="noStrike">
                  <a:solidFill>
                    <a:srgbClr val="800000"/>
                  </a:solidFill>
                  <a:latin typeface="Arial Unicode MS"/>
                  <a:ea typeface="Arial Unicode MS"/>
                </a:rPr>
                <a:t> </a:t>
              </a:r>
              <a:r>
                <a:rPr b="1" lang="zh-TW" sz="3900" spc="-1" strike="noStrike">
                  <a:solidFill>
                    <a:srgbClr val="800000"/>
                  </a:solidFill>
                  <a:latin typeface="Arial Unicode MS"/>
                  <a:ea typeface="Arial Unicode MS"/>
                </a:rPr>
                <a:t>Home Story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rot="21061800">
              <a:off x="4665240" y="1658520"/>
              <a:ext cx="73080" cy="1671480"/>
            </a:xfrm>
            <a:prstGeom prst="rect">
              <a:avLst/>
            </a:prstGeom>
            <a:solidFill>
              <a:srgbClr val="7a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8" descr="사진01"/>
          <p:cNvPicPr/>
          <p:nvPr/>
        </p:nvPicPr>
        <p:blipFill>
          <a:blip r:embed="rId4"/>
          <a:stretch/>
        </p:blipFill>
        <p:spPr>
          <a:xfrm>
            <a:off x="154080" y="376200"/>
            <a:ext cx="4190760" cy="542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사진02"/>
          <p:cNvPicPr/>
          <p:nvPr/>
        </p:nvPicPr>
        <p:blipFill>
          <a:blip r:embed="rId5"/>
          <a:stretch/>
        </p:blipFill>
        <p:spPr>
          <a:xfrm>
            <a:off x="6300720" y="2820960"/>
            <a:ext cx="2571840" cy="2048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ptmind_s137_red_표지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0" y="4005360"/>
            <a:ext cx="9144000" cy="287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76600" y="189000"/>
            <a:ext cx="488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温馨家庭卡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8e1"/>
            </a:gs>
            <a:gs pos="50000">
              <a:srgbClr val="ffffff"/>
            </a:gs>
            <a:gs pos="100000">
              <a:srgbClr val="ffe8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ptmind_s137_red_표지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ptmind_s137_red_표지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8e1"/>
            </a:gs>
            <a:gs pos="50000">
              <a:srgbClr val="ffffff"/>
            </a:gs>
            <a:gs pos="100000">
              <a:srgbClr val="ffe8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4" descr="ptmind_s137_red_표지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947000" y="0"/>
            <a:ext cx="1197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ptmind_s137_red_표지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1197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E55-6742-4EFB-A84B-3C50AB7B4C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4" descr="ptmind_s137_red_표지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사진01"/>
          <p:cNvPicPr/>
          <p:nvPr/>
        </p:nvPicPr>
        <p:blipFill>
          <a:blip r:embed="rId2"/>
          <a:stretch/>
        </p:blipFill>
        <p:spPr>
          <a:xfrm rot="2234400">
            <a:off x="6587640" y="3760920"/>
            <a:ext cx="2390760" cy="309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사진02"/>
          <p:cNvPicPr/>
          <p:nvPr/>
        </p:nvPicPr>
        <p:blipFill>
          <a:blip r:embed="rId3"/>
          <a:stretch/>
        </p:blipFill>
        <p:spPr>
          <a:xfrm>
            <a:off x="4140360" y="4809960"/>
            <a:ext cx="2571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1:17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55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