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AFB-4F16-41F0-9509-FBAAA053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204-A5EA-4588-A26C-D704E31E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3DA-E617-471B-9DDD-690A62E1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64E-338D-4BB5-9A18-277E2835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2A2-C9EE-4082-9772-010DE003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454-73C8-48D1-8CFB-36C0E67C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388-9DC9-4A24-9A49-5953DABF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4F9-5864-4591-ADAA-C979B1E7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356-80E6-4B55-BD61-F64107C0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AE8-A647-452A-9AE2-161B9CB5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880-3B72-4614-B8D0-19668796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C49-26D9-4CFF-B973-F5F5063B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4822-5B83-46DE-9A4E-7C13514EF9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29F1-1395-425B-959F-2F589BE402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xx-in-health-state-of-women-in-healthcare-2013-by-xxinhealth-1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0600" y="293688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现代欧美风紫色商务决策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xx-in-health-state-of-women-in-healthcare-2013-by-xxinhealth-10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xx-in-health-state-of-women-in-healthcare-2013-by-xxinhealth-11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xx-in-health-state-of-women-in-healthcare-2013-by-xxinhealth-12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xx-in-health-state-of-women-in-healthcare-2013-by-xxinhealth-13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xx-in-health-state-of-women-in-healthcare-2013-by-xxinhealth-14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760" y="19224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xx-in-health-state-of-women-in-healthcare-2013-by-xxinhealth-15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xx-in-health-state-of-women-in-healthcare-2013-by-xxinhealth-16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xx-in-health-state-of-women-in-healthcare-2013-by-xxinhealth-17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xx-in-health-state-of-women-in-healthcare-2013-by-xxinhealth-18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xx-in-health-state-of-women-in-healthcare-2013-by-xxinhealth-19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xx-in-health-state-of-women-in-healthcare-2013-by-xxinhealth-2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xx-in-health-state-of-women-in-healthcare-2013-by-xxinhealth-20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xx-in-health-state-of-women-in-healthcare-2013-by-xxinhealth-21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xx-in-health-state-of-women-in-healthcare-2013-by-xxinhealth-22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xx-in-health-state-of-women-in-healthcare-2013-by-xxinhealth-23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xx-in-health-state-of-women-in-healthcare-2013-by-xxinhealth-24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xx-in-health-state-of-women-in-healthcare-2013-by-xxinhealth-25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xx-in-health-state-of-women-in-healthcare-2013-by-xxinhealth-26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xx-in-health-state-of-women-in-healthcare-2013-by-xxinhealth-27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xx-in-health-state-of-women-in-healthcare-2013-by-xxinhealth-28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xx-in-health-state-of-women-in-healthcare-2013-by-xxinhealth-29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xx-in-health-state-of-women-in-healthcare-2013-by-xxinhealth-3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F6B-FF3C-4AFF-B799-0CB0D239AF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xx-in-health-state-of-women-in-healthcare-2013-by-xxinhealth-30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xx-in-health-state-of-women-in-healthcare-2013-by-xxinhealth-4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xx-in-health-state-of-women-in-healthcare-2013-by-xxinhealth-5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xx-in-health-state-of-women-in-healthcare-2013-by-xxinhealth-6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xx-in-health-state-of-women-in-healthcare-2013-by-xxinhealth-7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xx-in-health-state-of-women-in-healthcare-2013-by-xxinhealth-8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xx-in-health-state-of-women-in-healthcare-2013-by-xxinhealth-9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03:1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2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