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061-67ED-4272-872F-668A4D3C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E0A-84B0-4052-8231-CFE9CAF9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8E1-2D97-4817-89B9-2E4EB8FD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73B-EF78-4678-8873-1D2FC2A7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AE6-0C12-47E2-AADB-B4EA5708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759-DF59-46E5-8621-E7BFAF37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1C6-01D2-4691-98AE-628DCB50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F80-F731-4555-9B28-56B72CAB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C1D-C8BA-42E1-8030-6051D8C2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D28-4A33-4215-A041-F6F93BCD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DD0-B9F4-46E1-AB81-FD7D40E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332-6006-4F36-A1A5-CD4D1700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9725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6E45-D2E1-4645-8E2C-E73898149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未标题-1.png"/>
          <p:cNvPicPr/>
          <p:nvPr/>
        </p:nvPicPr>
        <p:blipFill>
          <a:blip r:embed="rId2"/>
          <a:stretch/>
        </p:blipFill>
        <p:spPr>
          <a:xfrm>
            <a:off x="-642960" y="714240"/>
            <a:ext cx="6858000" cy="54295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未标题-2.png"/>
          <p:cNvPicPr/>
          <p:nvPr/>
        </p:nvPicPr>
        <p:blipFill>
          <a:blip r:embed="rId3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8880" y="1125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歡度五一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458-7BB1-4613-A6EA-C4D2EF7AD1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1:17Z</dcterms:modified>
  <cp:revision>3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