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310-ACDB-442E-924D-8104947C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33C9-2918-4A12-9C56-9C9AC2D8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7871-B6F8-484E-833C-BD1D6557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A5E-3B80-44F3-AD58-13B303BE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D099-B5D1-4303-8F8D-5D856EFE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E0EC-1121-4C47-A40E-903A1229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3F93-CA02-422A-B229-0D4DA1B3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9A72-3EEA-4DB4-B675-36118FE0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A40-5045-4DEB-B5F9-9D4C8415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0B89-CA59-4024-A24D-EE3FD2C4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4F1B-CDA2-4185-8B41-E07197D0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EE2A-D0DC-49D6-B270-04C3B76E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2FFF-2299-4E08-94EF-C0F0253E107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1306-B977-4E42-BFB8-76C8FB0C5BD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0" t="0" r="10711" b="0"/>
          <a:stretch/>
        </p:blipFill>
        <p:spPr>
          <a:xfrm>
            <a:off x="-34920" y="0"/>
            <a:ext cx="917892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TextBox 5"/>
          <p:cNvSpPr/>
          <p:nvPr/>
        </p:nvSpPr>
        <p:spPr>
          <a:xfrm>
            <a:off x="252360" y="3718080"/>
            <a:ext cx="753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德彪钢笔行书字库"/>
                <a:ea typeface="德彪钢笔行书字库"/>
              </a:rPr>
              <a:t>写好年终总结的</a:t>
            </a:r>
            <a:r>
              <a:rPr b="1" lang="en-US" sz="9600" spc="-1" strike="noStrike">
                <a:solidFill>
                  <a:srgbClr val="ffffff"/>
                </a:solidFill>
                <a:latin typeface="德彪钢笔行书字库"/>
                <a:ea typeface="德彪钢笔行书字库"/>
              </a:rPr>
              <a:t>7</a:t>
            </a:r>
            <a:r>
              <a:rPr b="0" lang="zh-CN" sz="5400" spc="-1" strike="noStrike">
                <a:solidFill>
                  <a:srgbClr val="ffffff"/>
                </a:solidFill>
                <a:latin typeface="德彪钢笔行书字库"/>
                <a:ea typeface="德彪钢笔行书字库"/>
              </a:rPr>
              <a:t>个关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4"/>
          <p:cNvSpPr/>
          <p:nvPr/>
        </p:nvSpPr>
        <p:spPr>
          <a:xfrm>
            <a:off x="539640" y="5072040"/>
            <a:ext cx="7093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rcRect l="3994" t="0" r="6718" b="0"/>
          <a:stretch/>
        </p:blipFill>
        <p:spPr>
          <a:xfrm>
            <a:off x="-34920" y="1116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784080" y="2362320"/>
            <a:ext cx="78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其实写总结不难，难的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5932440" y="6021360"/>
            <a:ext cx="27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@</a:t>
            </a:r>
            <a:r>
              <a:rPr b="0" lang="zh-CN" sz="28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秋叶语录  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4"/>
          <p:cNvSpPr/>
          <p:nvPr/>
        </p:nvSpPr>
        <p:spPr>
          <a:xfrm>
            <a:off x="971640" y="3301920"/>
            <a:ext cx="757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900000" y="3301920"/>
            <a:ext cx="789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没业绩怎么写出好总结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2432880" y="1012500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rcRect l="0" t="26080" r="11069" b="0"/>
          <a:stretch/>
        </p:blipFill>
        <p:spPr>
          <a:xfrm>
            <a:off x="0" y="1787400"/>
            <a:ext cx="9144000" cy="5070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rcRect l="0" t="0" r="11069" b="73925"/>
          <a:stretch/>
        </p:blipFill>
        <p:spPr>
          <a:xfrm>
            <a:off x="0" y="0"/>
            <a:ext cx="9144000" cy="17874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155520" y="130320"/>
            <a:ext cx="837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、明确定位：你给谁写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 rot="20751600">
            <a:off x="2334960" y="2627280"/>
            <a:ext cx="33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习书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 rot="20811600">
            <a:off x="4950720" y="3943440"/>
            <a:ext cx="380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穿西装不打领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果然很幸福</a:t>
            </a:r>
            <a:r>
              <a:rPr b="1" lang="en-US" sz="32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27000" y="1052640"/>
            <a:ext cx="915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给上级写材料，学会从领导角度来思考问题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9"/>
          <p:cNvSpPr/>
          <p:nvPr/>
        </p:nvSpPr>
        <p:spPr>
          <a:xfrm>
            <a:off x="155520" y="1052640"/>
            <a:ext cx="880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19890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6710-8982-46EE-B7B0-AC7767B576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a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>
            <a:grayscl/>
          </a:blip>
          <a:srcRect l="0" t="0" r="91797" b="0"/>
          <a:stretch/>
        </p:blipFill>
        <p:spPr>
          <a:xfrm>
            <a:off x="0" y="1787400"/>
            <a:ext cx="4532400" cy="5070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>
            <a:grayscl/>
          </a:blip>
          <a:srcRect l="0" t="3237" r="0" b="14374"/>
          <a:stretch/>
        </p:blipFill>
        <p:spPr>
          <a:xfrm>
            <a:off x="4529160" y="1787400"/>
            <a:ext cx="4614840" cy="5070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3"/>
          <a:srcRect l="0" t="0" r="11069" b="73925"/>
          <a:stretch/>
        </p:blipFill>
        <p:spPr>
          <a:xfrm>
            <a:off x="0" y="0"/>
            <a:ext cx="9144000" cy="17874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155520" y="130320"/>
            <a:ext cx="837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、明确类型：你写哪种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-34920" y="2205000"/>
            <a:ext cx="691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工作汇报：没有功劳晒苦劳，比份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经营分析：没有业绩凑亮点，拼深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战略规划：没有愿景画大饼，抢高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98280" y="1052640"/>
            <a:ext cx="886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基层忙编材料，中层忙做提炼，高层忙着许愿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9"/>
          <p:cNvSpPr/>
          <p:nvPr/>
        </p:nvSpPr>
        <p:spPr>
          <a:xfrm>
            <a:off x="155520" y="1052640"/>
            <a:ext cx="880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812880"/>
            <a:ext cx="9144000" cy="607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rcRect l="0" t="0" r="11069" b="73925"/>
          <a:stretch/>
        </p:blipFill>
        <p:spPr>
          <a:xfrm>
            <a:off x="0" y="0"/>
            <a:ext cx="9144000" cy="178740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155520" y="130320"/>
            <a:ext cx="837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3</a:t>
            </a:r>
            <a:r>
              <a:rPr b="0" lang="zh-CN" sz="54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、明确目的：为何要写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3887640" y="517212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年终盘点，如何总结得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预判风险，哪里寻求对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通盘规划，何处争取资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98280" y="1052640"/>
            <a:ext cx="886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好总结不是比谁写得多，而是比谁看得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9"/>
          <p:cNvSpPr/>
          <p:nvPr/>
        </p:nvSpPr>
        <p:spPr>
          <a:xfrm>
            <a:off x="155520" y="1052640"/>
            <a:ext cx="880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6099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rcRect l="0" t="0" r="11069" b="73925"/>
          <a:stretch/>
        </p:blipFill>
        <p:spPr>
          <a:xfrm>
            <a:off x="0" y="0"/>
            <a:ext cx="9144000" cy="178740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155520" y="130320"/>
            <a:ext cx="837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4</a:t>
            </a:r>
            <a:r>
              <a:rPr b="0" lang="zh-CN" sz="54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、明确基调：何种写法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0" y="2205000"/>
            <a:ext cx="406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你觉得这样的总结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老板们会相信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我还有一个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98280" y="1052640"/>
            <a:ext cx="92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屡战屡败还是屡败屡战？一无所获还是积累经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9"/>
          <p:cNvSpPr/>
          <p:nvPr/>
        </p:nvSpPr>
        <p:spPr>
          <a:xfrm>
            <a:off x="155520" y="1052640"/>
            <a:ext cx="880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http://distribute.quanjing.com/ibldbn00872971.jpg?seid=AwjSzgjUmda4nZi5nZf8AwjYBtaWn3WXmNX8FhX8mZaWFdiWmtiTmtiTmtaGmty6mte6ntn8mhW%3d07e2b5c9096ea70ef3ac28262ce3f166"/>
          <p:cNvPicPr/>
          <p:nvPr/>
        </p:nvPicPr>
        <p:blipFill>
          <a:blip r:embed="rId1"/>
          <a:stretch/>
        </p:blipFill>
        <p:spPr>
          <a:xfrm>
            <a:off x="0" y="795240"/>
            <a:ext cx="9144000" cy="6089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rcRect l="0" t="0" r="11069" b="73925"/>
          <a:stretch/>
        </p:blipFill>
        <p:spPr>
          <a:xfrm>
            <a:off x="0" y="0"/>
            <a:ext cx="9144000" cy="1787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155520" y="130320"/>
            <a:ext cx="837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5</a:t>
            </a:r>
            <a:r>
              <a:rPr b="0" lang="zh-CN" sz="54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、明确结构：何种框架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8280" y="1052640"/>
            <a:ext cx="92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以点带面还是面面俱到？一分为二还是抓大放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9"/>
          <p:cNvSpPr/>
          <p:nvPr/>
        </p:nvSpPr>
        <p:spPr>
          <a:xfrm>
            <a:off x="155520" y="1052640"/>
            <a:ext cx="880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-252360" y="2816280"/>
            <a:ext cx="93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工作汇报：越琐碎，越要证明和重要工作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经营分析：越宏观，越要分析和微观数据的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公司愿景：越抽象，越要讲述和伟大故事的干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http://distribute.quanjing.com/gwc113004.jpg?seid=z3DJmteZmda0FgDSB3CWmdf8mtj8FhX8FdmWmhWYmdeYlteYlteWide2oJi1oJa2Fdb8ee3e3c8e2ade51dfd0b7d2a86b971138"/>
          <p:cNvPicPr/>
          <p:nvPr/>
        </p:nvPicPr>
        <p:blipFill>
          <a:blip r:embed="rId1"/>
          <a:stretch/>
        </p:blipFill>
        <p:spPr>
          <a:xfrm>
            <a:off x="0" y="765000"/>
            <a:ext cx="9163080" cy="6093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rcRect l="0" t="0" r="11069" b="73925"/>
          <a:stretch/>
        </p:blipFill>
        <p:spPr>
          <a:xfrm>
            <a:off x="0" y="0"/>
            <a:ext cx="9144000" cy="178740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155520" y="130320"/>
            <a:ext cx="837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6</a:t>
            </a:r>
            <a:r>
              <a:rPr b="0" lang="zh-CN" sz="54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、明确数据：定性定量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2627280" y="462744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A:</a:t>
            </a:r>
            <a:r>
              <a:rPr b="1" lang="zh-CN" sz="36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全年任务基本完成</a:t>
            </a:r>
            <a:r>
              <a:rPr b="1" lang="en-US" sz="36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B:</a:t>
            </a:r>
            <a:r>
              <a:rPr b="1" lang="zh-CN" sz="36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全年任务完成了</a:t>
            </a:r>
            <a:r>
              <a:rPr b="1" lang="en-US" sz="36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92.1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C:</a:t>
            </a:r>
            <a:r>
              <a:rPr b="1" lang="zh-CN" sz="36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全年任务全面达成</a:t>
            </a:r>
            <a:r>
              <a:rPr b="1" lang="en-US" sz="36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98280" y="1052640"/>
            <a:ext cx="92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知道哪些不该说和知道如何把事说明白一样重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9"/>
          <p:cNvSpPr/>
          <p:nvPr/>
        </p:nvSpPr>
        <p:spPr>
          <a:xfrm>
            <a:off x="155520" y="1052640"/>
            <a:ext cx="880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758880"/>
            <a:ext cx="9144000" cy="612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rcRect l="0" t="0" r="11069" b="73925"/>
          <a:stretch/>
        </p:blipFill>
        <p:spPr>
          <a:xfrm>
            <a:off x="0" y="0"/>
            <a:ext cx="9144000" cy="178740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155520" y="130320"/>
            <a:ext cx="837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7</a:t>
            </a:r>
            <a:r>
              <a:rPr b="0" lang="zh-CN" sz="54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、明确风格：求新求稳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195640" y="3290760"/>
            <a:ext cx="70088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德彪钢笔行书字库"/>
                <a:ea typeface="德彪钢笔行书字库"/>
              </a:rPr>
              <a:t>也许是此时不博，更待何时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德彪钢笔行书字库"/>
                <a:ea typeface="德彪钢笔行书字库"/>
              </a:rPr>
              <a:t>也许是不求出彩，但求无过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98280" y="1052640"/>
            <a:ext cx="92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创新形式和形式主义只有一步之遥</a:t>
            </a:r>
            <a:r>
              <a:rPr b="1" lang="en-US" sz="3200" spc="-1" strike="noStrike">
                <a:solidFill>
                  <a:srgbClr val="000000"/>
                </a:solidFill>
                <a:latin typeface="德彪钢笔行书字库"/>
                <a:ea typeface="德彪钢笔行书字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9"/>
          <p:cNvSpPr/>
          <p:nvPr/>
        </p:nvSpPr>
        <p:spPr>
          <a:xfrm>
            <a:off x="155520" y="1052640"/>
            <a:ext cx="880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9C43-1D4D-427E-BE5D-EA1923A213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eeppt.com</dc:creator>
  <dc:description>www.eeppt.com</dc:description>
  <cp:keywords>www.eeppt.com</cp:keywords>
  <dc:language>en-US</dc:language>
  <cp:lastModifiedBy>YANGS</cp:lastModifiedBy>
  <dcterms:modified xsi:type="dcterms:W3CDTF">2015-09-18T13:16:30Z</dcterms:modified>
  <cp:revision>2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