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6E5-211D-4A4E-989C-ADEACF32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B2A-937A-40AC-8BF0-51A8E01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895-9B11-4A45-B2CD-F5D6B753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1D9-F7E2-4020-88BA-E4999A45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98E1-2C54-4A88-81C7-D575514E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7DFD-0A68-439C-B18E-62A8291F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E1A-2994-47B5-85D1-793BD3EF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726-4B2F-46E2-A5C9-EC4A331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1846-763B-409D-B749-0A21242E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CDC5-2D3A-479A-911D-97EE664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ABE-94EB-446A-B86E-DB7BC1C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8B1-BFD7-46E7-940A-84C59790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723-8EA5-417B-8FD1-CFC1B98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DD0-521F-4115-BFB4-50011AE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D873-EA31-449E-978B-D35415C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8F86-F54A-4E13-BEA4-5D7B9847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9B9-B1DD-4C26-816B-15161122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FE88-2113-4581-BE06-2954E586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5500-E289-4EF7-825F-CE4DD263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D830-B441-4DA3-BF25-3561E001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19A5-08C2-4FAD-AEFB-1BF3F77F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434A-147B-42D6-AB23-C1010D87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A8C-22C0-40B9-AB87-C7A164D3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9F91-0B32-49EF-8A4D-A655278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98D0-BD1E-45BB-B9CA-FAF37B0E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1347-EA1B-4CCA-818E-BEB63DE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81C1-72F3-46BC-A1F1-4CAE17C3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3C98-835D-449B-B89F-5017658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DE33-687F-4D5F-BEF6-4C6AC69F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BE09-60E2-4791-9820-0622E70B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3F0C-679A-43E7-BF78-C6C62C54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71CC-5D61-49E2-8B6D-6F7EF637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E23E-3FBD-407E-B2B9-67E67527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0AF-BB98-4213-908E-27A6FD56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BAD1-AA58-48E1-A27C-EFD90262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1F7D-F26A-4FF6-A1BF-777E07D8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1CB4-9505-4BCB-85DD-13FB2275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0FBC-65D1-40FD-87F8-5894A43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5E75-B720-40F8-B3E1-5389BA2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6D46-DF1A-4769-8A48-2ABCAF2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4ECB-9875-4BD9-A442-7B74D15D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BA2A-E529-412F-9D3C-DEEFE84B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A0D0-7E8F-4FCE-A08D-F95AF551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CEB-AC08-41C2-8D01-2E31D25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0D7-4CAF-4979-9578-BC7CC19A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333-7C1C-4DB7-A9E5-E4B241C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68E-0602-4723-AB24-DF34BAF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B30-EA72-4E27-ABEF-50DB3AA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FE1-5B05-45E1-843C-AA65308932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801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DC6F-082A-4D09-8D13-5789514F131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rcRect l="0" t="0" r="0" b="623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D39A-57C2-4D05-8EC1-744759AE4D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2"/>
          <a:srcRect l="143" t="7783" r="397" b="59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7" name="矩形 7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0" y="604800"/>
            <a:ext cx="9144000" cy="4270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62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B5E-2FBC-4A99-98E7-505033E9F8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272960" y="9158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绚丽线条工作汇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2964600" y="173988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告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: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宝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流程图: 文档 8"/>
          <p:cNvSpPr/>
          <p:nvPr/>
        </p:nvSpPr>
        <p:spPr>
          <a:xfrm>
            <a:off x="344520" y="771480"/>
            <a:ext cx="8510400" cy="3870360"/>
          </a:xfrm>
          <a:prstGeom prst="flowChartDocumen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477720" y="915840"/>
            <a:ext cx="8237520" cy="35578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1642680" y="5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63400" y="985680"/>
            <a:ext cx="8066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思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坚持“积思广益  横翔杰出”的服务理念，为客户提供“白金标准 钻石品质”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制作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近年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以其制作周期短、表现形式多样化、成本低、应用范围广、修改方便、软件安装率高等优点，越来越成为大家首选的多媒体表现形式，所以思翔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思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在以下领域广泛应用：工作汇报、公司宣传、产品推介、竞标演示、方案演示、展览展示、规划设计、课题研讨、竞聘演说、咨询报告、领导讲话、培训课件、婚庆礼仪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1852560" y="863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1852560" y="13953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1852560" y="19288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1850760" y="24620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852560" y="29941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720" y="3868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矩形 8"/>
          <p:cNvGrpSpPr/>
          <p:nvPr/>
        </p:nvGrpSpPr>
        <p:grpSpPr>
          <a:xfrm>
            <a:off x="-6480" y="1700280"/>
            <a:ext cx="5834160" cy="604800"/>
            <a:chOff x="-6480" y="1700280"/>
            <a:chExt cx="5834160" cy="604800"/>
          </a:xfrm>
        </p:grpSpPr>
        <p:pic>
          <p:nvPicPr>
            <p:cNvPr id="188" name="矩形 8" descr=""/>
            <p:cNvPicPr/>
            <p:nvPr/>
          </p:nvPicPr>
          <p:blipFill>
            <a:blip r:embed="rId1"/>
            <a:stretch/>
          </p:blipFill>
          <p:spPr>
            <a:xfrm>
              <a:off x="-6480" y="1700280"/>
              <a:ext cx="583416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1708200"/>
              <a:ext cx="58244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37920" y="5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2049840" y="1494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1773720" y="174312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c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微软雅黑"/>
              </a:rPr>
              <a:t>点击此处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6864480" y="1608120"/>
            <a:ext cx="1955520" cy="1955880"/>
            <a:chOff x="6864480" y="1608120"/>
            <a:chExt cx="1955520" cy="1955880"/>
          </a:xfrm>
        </p:grpSpPr>
        <p:sp>
          <p:nvSpPr>
            <p:cNvPr id="197" name="Freeform 3"/>
            <p:cNvSpPr/>
            <p:nvPr/>
          </p:nvSpPr>
          <p:spPr>
            <a:xfrm>
              <a:off x="7549920" y="2293920"/>
              <a:ext cx="583920" cy="584280"/>
            </a:xfrm>
            <a:prstGeom prst="pie">
              <a:avLst/>
            </a:prstGeom>
            <a:solidFill>
              <a:srgbClr val="40404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7321320" y="2065320"/>
              <a:ext cx="1041120" cy="1041480"/>
            </a:xfrm>
            <a:prstGeom prst="pie">
              <a:avLst/>
            </a:prstGeom>
            <a:solidFill>
              <a:srgbClr val="40404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7092720" y="1836720"/>
              <a:ext cx="1498320" cy="1498680"/>
            </a:xfrm>
            <a:prstGeom prst="pie">
              <a:avLst/>
            </a:prstGeom>
            <a:solidFill>
              <a:srgbClr val="40404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6864480" y="1608120"/>
              <a:ext cx="1955520" cy="1955880"/>
            </a:xfrm>
            <a:prstGeom prst="pie">
              <a:avLst/>
            </a:prstGeom>
            <a:solidFill>
              <a:srgbClr val="40404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2"/>
          <p:cNvSpPr/>
          <p:nvPr/>
        </p:nvSpPr>
        <p:spPr>
          <a:xfrm>
            <a:off x="717480" y="2376360"/>
            <a:ext cx="7129440" cy="432000"/>
          </a:xfrm>
          <a:prstGeom prst="rightArrow">
            <a:avLst>
              <a:gd name="adj1" fmla="val 38231"/>
              <a:gd name="adj2" fmla="val 63798"/>
            </a:avLst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57456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619128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338292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1978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4786200" y="2449440"/>
            <a:ext cx="287280" cy="284400"/>
          </a:xfrm>
          <a:prstGeom prst="ellipse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 rot="2700000">
            <a:off x="32796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 rot="18900000">
            <a:off x="1683000" y="1153080"/>
            <a:ext cx="1521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 rot="18900000">
            <a:off x="4571280" y="1191240"/>
            <a:ext cx="15210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 rot="2700000">
            <a:off x="3067200" y="331668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 rot="2700000">
            <a:off x="5873040" y="3317040"/>
            <a:ext cx="1648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192720" y="588960"/>
            <a:ext cx="2951280" cy="42879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480000" y="789120"/>
            <a:ext cx="230364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63640" y="727200"/>
            <a:ext cx="4559400" cy="4797360"/>
            <a:chOff x="863640" y="727200"/>
            <a:chExt cx="4559400" cy="4797360"/>
          </a:xfrm>
        </p:grpSpPr>
        <p:sp>
          <p:nvSpPr>
            <p:cNvPr id="217" name="Oval 11"/>
            <p:cNvSpPr/>
            <p:nvPr/>
          </p:nvSpPr>
          <p:spPr>
            <a:xfrm>
              <a:off x="863640" y="3767400"/>
              <a:ext cx="4559400" cy="17571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"/>
            <p:cNvSpPr/>
            <p:nvPr/>
          </p:nvSpPr>
          <p:spPr>
            <a:xfrm>
              <a:off x="1096920" y="2103480"/>
              <a:ext cx="2048040" cy="254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1779480" y="727200"/>
              <a:ext cx="2730600" cy="13762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3144960" y="2103480"/>
              <a:ext cx="2047680" cy="254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"/>
            <p:cNvSpPr/>
            <p:nvPr/>
          </p:nvSpPr>
          <p:spPr>
            <a:xfrm>
              <a:off x="2462400" y="3275280"/>
              <a:ext cx="1365120" cy="119196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2462400" y="2103480"/>
              <a:ext cx="1363680" cy="1352520"/>
            </a:xfrm>
            <a:prstGeom prst="pie">
              <a:avLst/>
            </a:prstGeom>
            <a:gradFill rotWithShape="0">
              <a:gsLst>
                <a:gs pos="0">
                  <a:srgbClr val="ff64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1779480" y="1920960"/>
              <a:ext cx="1365480" cy="135432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3144960" y="1920960"/>
              <a:ext cx="1365120" cy="1354320"/>
            </a:xfrm>
            <a:prstGeom prst="pie">
              <a:avLst/>
            </a:pr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1822320" y="1967040"/>
              <a:ext cx="1256040" cy="47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3210120" y="1949400"/>
              <a:ext cx="1253880" cy="49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2583000" y="2146320"/>
              <a:ext cx="1122120" cy="67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2516400" y="3337200"/>
              <a:ext cx="1274760" cy="53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1101600" y="2179800"/>
              <a:ext cx="1116000" cy="99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4068720" y="2181240"/>
              <a:ext cx="1122480" cy="99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2516400" y="990720"/>
              <a:ext cx="419040" cy="41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6"/>
            <p:cNvSpPr/>
            <p:nvPr/>
          </p:nvSpPr>
          <p:spPr>
            <a:xfrm>
              <a:off x="4108320" y="32673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2003760" y="2197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8"/>
            <p:cNvSpPr/>
            <p:nvPr/>
          </p:nvSpPr>
          <p:spPr>
            <a:xfrm>
              <a:off x="3582000" y="2157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2738520" y="2786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1442880" y="34340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1"/>
            <p:cNvSpPr/>
            <p:nvPr/>
          </p:nvSpPr>
          <p:spPr>
            <a:xfrm>
              <a:off x="2655720" y="13874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2"/>
            <p:cNvSpPr/>
            <p:nvPr/>
          </p:nvSpPr>
          <p:spPr>
            <a:xfrm>
              <a:off x="2738520" y="35258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1943280" y="763560"/>
              <a:ext cx="2412720" cy="80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直接连接符 11"/>
          <p:cNvSpPr/>
          <p:nvPr/>
        </p:nvSpPr>
        <p:spPr>
          <a:xfrm>
            <a:off x="1461960" y="155520"/>
            <a:ext cx="0" cy="289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1892160" y="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1582560" y="386856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582560" y="314784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82560" y="2427120"/>
            <a:ext cx="6409080" cy="358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582560" y="170820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582560" y="987480"/>
            <a:ext cx="6409080" cy="3585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303640" y="386856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022560" y="350820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743280" y="314784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464000" y="2787480"/>
            <a:ext cx="720720" cy="35892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183280" y="242892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6264360" y="1708200"/>
            <a:ext cx="72072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5904000" y="206856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983280" y="134784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7343640" y="987480"/>
            <a:ext cx="36036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582560" y="4229280"/>
            <a:ext cx="721080" cy="358560"/>
          </a:xfrm>
          <a:prstGeom prst="rect">
            <a:avLst/>
          </a:prstGeom>
          <a:gradFill rotWithShape="0">
            <a:gsLst>
              <a:gs pos="0">
                <a:srgbClr val="ffc800"/>
              </a:gs>
              <a:gs pos="100000">
                <a:srgbClr val="ff64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3"/>
          <p:cNvGrpSpPr/>
          <p:nvPr/>
        </p:nvGrpSpPr>
        <p:grpSpPr>
          <a:xfrm>
            <a:off x="1584360" y="700200"/>
            <a:ext cx="6443640" cy="3889080"/>
            <a:chOff x="1584360" y="700200"/>
            <a:chExt cx="6443640" cy="3889080"/>
          </a:xfrm>
        </p:grpSpPr>
        <p:sp>
          <p:nvSpPr>
            <p:cNvPr id="258" name="Freeform 23"/>
            <p:cNvSpPr/>
            <p:nvPr/>
          </p:nvSpPr>
          <p:spPr>
            <a:xfrm>
              <a:off x="1584360" y="700200"/>
              <a:ext cx="6443640" cy="3887640"/>
            </a:xfrm>
            <a:prstGeom prst="pie">
              <a:avLst/>
            </a:prstGeom>
            <a:noFill/>
            <a:ln w="25560">
              <a:solidFill>
                <a:srgbClr val="26262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4"/>
            <p:cNvSpPr/>
            <p:nvPr/>
          </p:nvSpPr>
          <p:spPr>
            <a:xfrm>
              <a:off x="1584360" y="422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5"/>
            <p:cNvSpPr/>
            <p:nvPr/>
          </p:nvSpPr>
          <p:spPr>
            <a:xfrm>
              <a:off x="1584360" y="386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1584360" y="350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1584360" y="314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8"/>
            <p:cNvSpPr/>
            <p:nvPr/>
          </p:nvSpPr>
          <p:spPr>
            <a:xfrm>
              <a:off x="1584360" y="27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1584360" y="242892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1584360" y="206856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1"/>
            <p:cNvSpPr/>
            <p:nvPr/>
          </p:nvSpPr>
          <p:spPr>
            <a:xfrm>
              <a:off x="1584360" y="170820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2"/>
            <p:cNvSpPr/>
            <p:nvPr/>
          </p:nvSpPr>
          <p:spPr>
            <a:xfrm>
              <a:off x="1584360" y="134964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>
              <a:off x="1584360" y="989280"/>
              <a:ext cx="640872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4"/>
            <p:cNvSpPr/>
            <p:nvPr/>
          </p:nvSpPr>
          <p:spPr>
            <a:xfrm flipV="1">
              <a:off x="19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5"/>
            <p:cNvSpPr/>
            <p:nvPr/>
          </p:nvSpPr>
          <p:spPr>
            <a:xfrm flipV="1">
              <a:off x="23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6"/>
            <p:cNvSpPr/>
            <p:nvPr/>
          </p:nvSpPr>
          <p:spPr>
            <a:xfrm flipV="1">
              <a:off x="26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7"/>
            <p:cNvSpPr/>
            <p:nvPr/>
          </p:nvSpPr>
          <p:spPr>
            <a:xfrm flipV="1">
              <a:off x="30243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8"/>
            <p:cNvSpPr/>
            <p:nvPr/>
          </p:nvSpPr>
          <p:spPr>
            <a:xfrm flipV="1">
              <a:off x="338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9"/>
            <p:cNvSpPr/>
            <p:nvPr/>
          </p:nvSpPr>
          <p:spPr>
            <a:xfrm flipV="1">
              <a:off x="374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0"/>
            <p:cNvSpPr/>
            <p:nvPr/>
          </p:nvSpPr>
          <p:spPr>
            <a:xfrm flipV="1">
              <a:off x="410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1"/>
            <p:cNvSpPr/>
            <p:nvPr/>
          </p:nvSpPr>
          <p:spPr>
            <a:xfrm flipV="1">
              <a:off x="446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2"/>
            <p:cNvSpPr/>
            <p:nvPr/>
          </p:nvSpPr>
          <p:spPr>
            <a:xfrm flipV="1">
              <a:off x="48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3"/>
            <p:cNvSpPr/>
            <p:nvPr/>
          </p:nvSpPr>
          <p:spPr>
            <a:xfrm flipV="1">
              <a:off x="51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44"/>
            <p:cNvSpPr/>
            <p:nvPr/>
          </p:nvSpPr>
          <p:spPr>
            <a:xfrm flipV="1">
              <a:off x="55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5"/>
            <p:cNvSpPr/>
            <p:nvPr/>
          </p:nvSpPr>
          <p:spPr>
            <a:xfrm flipV="1">
              <a:off x="59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6"/>
            <p:cNvSpPr/>
            <p:nvPr/>
          </p:nvSpPr>
          <p:spPr>
            <a:xfrm flipV="1">
              <a:off x="626256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7"/>
            <p:cNvSpPr/>
            <p:nvPr/>
          </p:nvSpPr>
          <p:spPr>
            <a:xfrm flipV="1">
              <a:off x="662292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8"/>
            <p:cNvSpPr/>
            <p:nvPr/>
          </p:nvSpPr>
          <p:spPr>
            <a:xfrm flipV="1">
              <a:off x="698328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9"/>
            <p:cNvSpPr/>
            <p:nvPr/>
          </p:nvSpPr>
          <p:spPr>
            <a:xfrm flipV="1">
              <a:off x="734364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0"/>
            <p:cNvSpPr/>
            <p:nvPr/>
          </p:nvSpPr>
          <p:spPr>
            <a:xfrm flipV="1">
              <a:off x="7704000" y="736200"/>
              <a:ext cx="0" cy="38530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2"/>
          <p:cNvGrpSpPr/>
          <p:nvPr/>
        </p:nvGrpSpPr>
        <p:grpSpPr>
          <a:xfrm>
            <a:off x="1752840" y="4602240"/>
            <a:ext cx="6140880" cy="276480"/>
            <a:chOff x="1752840" y="4602240"/>
            <a:chExt cx="6140880" cy="276480"/>
          </a:xfrm>
        </p:grpSpPr>
        <p:sp>
          <p:nvSpPr>
            <p:cNvPr id="287" name="Text Box 52"/>
            <p:cNvSpPr/>
            <p:nvPr/>
          </p:nvSpPr>
          <p:spPr>
            <a:xfrm>
              <a:off x="175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3"/>
            <p:cNvSpPr/>
            <p:nvPr/>
          </p:nvSpPr>
          <p:spPr>
            <a:xfrm>
              <a:off x="211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54"/>
            <p:cNvSpPr/>
            <p:nvPr/>
          </p:nvSpPr>
          <p:spPr>
            <a:xfrm>
              <a:off x="24642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55"/>
            <p:cNvSpPr/>
            <p:nvPr/>
          </p:nvSpPr>
          <p:spPr>
            <a:xfrm>
              <a:off x="28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56"/>
            <p:cNvSpPr/>
            <p:nvPr/>
          </p:nvSpPr>
          <p:spPr>
            <a:xfrm>
              <a:off x="3192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7"/>
            <p:cNvSpPr/>
            <p:nvPr/>
          </p:nvSpPr>
          <p:spPr>
            <a:xfrm>
              <a:off x="355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8"/>
            <p:cNvSpPr/>
            <p:nvPr/>
          </p:nvSpPr>
          <p:spPr>
            <a:xfrm>
              <a:off x="390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59"/>
            <p:cNvSpPr/>
            <p:nvPr/>
          </p:nvSpPr>
          <p:spPr>
            <a:xfrm>
              <a:off x="427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60"/>
            <p:cNvSpPr/>
            <p:nvPr/>
          </p:nvSpPr>
          <p:spPr>
            <a:xfrm>
              <a:off x="463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1"/>
            <p:cNvSpPr/>
            <p:nvPr/>
          </p:nvSpPr>
          <p:spPr>
            <a:xfrm>
              <a:off x="499140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2"/>
            <p:cNvSpPr/>
            <p:nvPr/>
          </p:nvSpPr>
          <p:spPr>
            <a:xfrm>
              <a:off x="53438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63"/>
            <p:cNvSpPr/>
            <p:nvPr/>
          </p:nvSpPr>
          <p:spPr>
            <a:xfrm>
              <a:off x="5712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64"/>
            <p:cNvSpPr/>
            <p:nvPr/>
          </p:nvSpPr>
          <p:spPr>
            <a:xfrm>
              <a:off x="6072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5"/>
            <p:cNvSpPr/>
            <p:nvPr/>
          </p:nvSpPr>
          <p:spPr>
            <a:xfrm>
              <a:off x="643104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66"/>
            <p:cNvSpPr/>
            <p:nvPr/>
          </p:nvSpPr>
          <p:spPr>
            <a:xfrm>
              <a:off x="678348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7"/>
            <p:cNvSpPr/>
            <p:nvPr/>
          </p:nvSpPr>
          <p:spPr>
            <a:xfrm>
              <a:off x="715176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8"/>
            <p:cNvSpPr/>
            <p:nvPr/>
          </p:nvSpPr>
          <p:spPr>
            <a:xfrm>
              <a:off x="7539120" y="4602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70"/>
          <p:cNvGrpSpPr/>
          <p:nvPr/>
        </p:nvGrpSpPr>
        <p:grpSpPr>
          <a:xfrm>
            <a:off x="1151280" y="700200"/>
            <a:ext cx="354600" cy="3854520"/>
            <a:chOff x="1151280" y="700200"/>
            <a:chExt cx="354600" cy="3854520"/>
          </a:xfrm>
        </p:grpSpPr>
        <p:sp>
          <p:nvSpPr>
            <p:cNvPr id="305" name="Text Box 70"/>
            <p:cNvSpPr/>
            <p:nvPr/>
          </p:nvSpPr>
          <p:spPr>
            <a:xfrm>
              <a:off x="1151280" y="427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71"/>
            <p:cNvSpPr/>
            <p:nvPr/>
          </p:nvSpPr>
          <p:spPr>
            <a:xfrm>
              <a:off x="1151280" y="39193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2"/>
            <p:cNvSpPr/>
            <p:nvPr/>
          </p:nvSpPr>
          <p:spPr>
            <a:xfrm>
              <a:off x="1151280" y="355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73"/>
            <p:cNvSpPr/>
            <p:nvPr/>
          </p:nvSpPr>
          <p:spPr>
            <a:xfrm>
              <a:off x="1151280" y="31968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74"/>
            <p:cNvSpPr/>
            <p:nvPr/>
          </p:nvSpPr>
          <p:spPr>
            <a:xfrm>
              <a:off x="1151280" y="28382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75"/>
            <p:cNvSpPr/>
            <p:nvPr/>
          </p:nvSpPr>
          <p:spPr>
            <a:xfrm>
              <a:off x="1151280" y="247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6"/>
            <p:cNvSpPr/>
            <p:nvPr/>
          </p:nvSpPr>
          <p:spPr>
            <a:xfrm>
              <a:off x="1151280" y="2118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77"/>
            <p:cNvSpPr/>
            <p:nvPr/>
          </p:nvSpPr>
          <p:spPr>
            <a:xfrm>
              <a:off x="1151280" y="17604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78"/>
            <p:cNvSpPr/>
            <p:nvPr/>
          </p:nvSpPr>
          <p:spPr>
            <a:xfrm>
              <a:off x="1151280" y="14000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79"/>
            <p:cNvSpPr/>
            <p:nvPr/>
          </p:nvSpPr>
          <p:spPr>
            <a:xfrm>
              <a:off x="1151280" y="1037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80"/>
            <p:cNvSpPr/>
            <p:nvPr/>
          </p:nvSpPr>
          <p:spPr>
            <a:xfrm>
              <a:off x="1151280" y="7002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  <a:ea typeface="Gulim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81"/>
          <p:cNvSpPr/>
          <p:nvPr/>
        </p:nvSpPr>
        <p:spPr>
          <a:xfrm>
            <a:off x="1943280" y="987480"/>
            <a:ext cx="2881080" cy="1441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2"/>
          <p:cNvSpPr/>
          <p:nvPr/>
        </p:nvSpPr>
        <p:spPr>
          <a:xfrm>
            <a:off x="2050920" y="1096920"/>
            <a:ext cx="25210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8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CFA8-96E8-4CC6-945B-0DA41257D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3"/>
          <p:cNvSpPr/>
          <p:nvPr/>
        </p:nvSpPr>
        <p:spPr>
          <a:xfrm>
            <a:off x="5692680" y="3076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谢谢您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6532200" y="390060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告人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宝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38:14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9-18T13:24:0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