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1DEB-5DD6-49CB-99F6-A0C2A305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209320" y="394848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55A4-960A-4DAA-B6CA-C2376781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4504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FA6-E03E-4CC2-9781-43D88CEAF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4808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48684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20932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4808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48684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5F4-765C-4408-93F2-2D2228AED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14A63-E5A3-416F-86DE-D913DA59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0F90-783C-44B6-A5DD-AA5E213B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22FBF-0CF0-407E-82C9-EAB99CCE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6966-4632-47F4-ACE8-DA72F628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4346-5049-48C7-8443-E181305C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123720" y="22824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CBDE-CCA5-4DCD-98F6-5FA9E124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D952-6EDC-4448-A3F6-BCA7F300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A531-DFC5-4347-B8D5-EFB133E6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4504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7A84E-3CCB-43DC-A248-1C653D5E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5083-44D1-4AF3-B63F-61EA65BE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209320" y="394848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9891-F5A2-44F0-9899-FA3592E2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4504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E26B-5D2C-4302-B243-AC321CCE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4808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86840" y="160020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220932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34808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486840" y="3948480"/>
            <a:ext cx="2036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8774-5F6C-4473-BAD4-C3D555D1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854E-BC34-4A8A-B984-C26F5B60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C2A-44BE-4E46-9975-78536AF7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EF4-12A6-4A15-ACEC-29163089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123720" y="228240"/>
            <a:ext cx="5410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421-44AB-4AC8-BC26-60B8B128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759E-706C-49B2-BE5C-A26406AF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450400" y="394848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53E-9677-4BEE-A481-02376245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50400" y="1600200"/>
            <a:ext cx="30862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3948480"/>
            <a:ext cx="632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F222-9F6B-45A3-8E01-E4A5D86E9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13160" indent="-274320" algn="r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097280" indent="-219240" algn="r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36120" indent="-219240" algn="r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1974960" indent="-219240" algn="r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1974960" indent="-219240" algn="r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1974960" indent="-219240" algn="r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9142-875A-4B48-8CBE-A703B90A0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307360" y="61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307360" y="6157800"/>
            <a:ext cx="9144000" cy="503280"/>
            <a:chOff x="8307360" y="6157800"/>
            <a:chExt cx="9144000" cy="503280"/>
          </a:xfrm>
        </p:grpSpPr>
        <p:sp>
          <p:nvSpPr>
            <p:cNvPr id="7" name=""/>
            <p:cNvSpPr/>
            <p:nvPr/>
          </p:nvSpPr>
          <p:spPr>
            <a:xfrm>
              <a:off x="8307360" y="615780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07360" y="6157800"/>
              <a:ext cx="914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940440" y="47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940440" y="4748040"/>
            <a:ext cx="9144000" cy="503280"/>
            <a:chOff x="6940440" y="4748040"/>
            <a:chExt cx="9144000" cy="503280"/>
          </a:xfrm>
        </p:grpSpPr>
        <p:sp>
          <p:nvSpPr>
            <p:cNvPr id="11" name=""/>
            <p:cNvSpPr/>
            <p:nvPr/>
          </p:nvSpPr>
          <p:spPr>
            <a:xfrm>
              <a:off x="6940440" y="474804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940440" y="4748040"/>
              <a:ext cx="914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6940440" y="42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6940440" y="4219560"/>
            <a:ext cx="9144000" cy="533520"/>
            <a:chOff x="6940440" y="4219560"/>
            <a:chExt cx="9144000" cy="533520"/>
          </a:xfrm>
        </p:grpSpPr>
        <p:sp>
          <p:nvSpPr>
            <p:cNvPr id="15" name=""/>
            <p:cNvSpPr/>
            <p:nvPr/>
          </p:nvSpPr>
          <p:spPr>
            <a:xfrm>
              <a:off x="6940440" y="421956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940440" y="421956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" name="heart_point" descr=""/>
          <p:cNvPicPr/>
          <p:nvPr/>
        </p:nvPicPr>
        <p:blipFill>
          <a:blip r:embed="rId3"/>
          <a:stretch/>
        </p:blipFill>
        <p:spPr>
          <a:xfrm>
            <a:off x="-762120" y="1523880"/>
            <a:ext cx="4148280" cy="5543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1640" y="914400"/>
            <a:ext cx="39625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24D8-027F-4B43-85ED-539717659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7360" y="615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8307360" y="6157800"/>
            <a:ext cx="9144000" cy="503280"/>
            <a:chOff x="8307360" y="6157800"/>
            <a:chExt cx="9144000" cy="503280"/>
          </a:xfrm>
        </p:grpSpPr>
        <p:sp>
          <p:nvSpPr>
            <p:cNvPr id="60" name=""/>
            <p:cNvSpPr/>
            <p:nvPr/>
          </p:nvSpPr>
          <p:spPr>
            <a:xfrm>
              <a:off x="8307360" y="615780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307360" y="6157800"/>
              <a:ext cx="914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6940440" y="47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940440" y="4748040"/>
            <a:ext cx="9144000" cy="503280"/>
            <a:chOff x="6940440" y="4748040"/>
            <a:chExt cx="9144000" cy="503280"/>
          </a:xfrm>
        </p:grpSpPr>
        <p:sp>
          <p:nvSpPr>
            <p:cNvPr id="64" name=""/>
            <p:cNvSpPr/>
            <p:nvPr/>
          </p:nvSpPr>
          <p:spPr>
            <a:xfrm>
              <a:off x="6940440" y="474804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0440" y="4748040"/>
              <a:ext cx="914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940440" y="42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940440" y="4219560"/>
            <a:ext cx="9144000" cy="533520"/>
            <a:chOff x="6940440" y="4219560"/>
            <a:chExt cx="9144000" cy="533520"/>
          </a:xfrm>
        </p:grpSpPr>
        <p:sp>
          <p:nvSpPr>
            <p:cNvPr id="68" name=""/>
            <p:cNvSpPr/>
            <p:nvPr/>
          </p:nvSpPr>
          <p:spPr>
            <a:xfrm>
              <a:off x="6940440" y="4219560"/>
              <a:ext cx="522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40440" y="4219560"/>
              <a:ext cx="91440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pulse_red_md_wht" descr=""/>
          <p:cNvPicPr/>
          <p:nvPr/>
        </p:nvPicPr>
        <p:blipFill>
          <a:blip r:embed="rId3"/>
          <a:stretch/>
        </p:blipFill>
        <p:spPr>
          <a:xfrm>
            <a:off x="5048280" y="6248520"/>
            <a:ext cx="1428840" cy="434880"/>
          </a:xfrm>
          <a:prstGeom prst="rect">
            <a:avLst/>
          </a:prstGeom>
          <a:ln w="0">
            <a:noFill/>
          </a:ln>
        </p:spPr>
      </p:pic>
      <p:pic>
        <p:nvPicPr>
          <p:cNvPr id="71" name="pulse_red_md_wht" descr=""/>
          <p:cNvPicPr/>
          <p:nvPr/>
        </p:nvPicPr>
        <p:blipFill>
          <a:blip r:embed="rId4"/>
          <a:stretch/>
        </p:blipFill>
        <p:spPr>
          <a:xfrm>
            <a:off x="6477120" y="6248520"/>
            <a:ext cx="1428480" cy="434880"/>
          </a:xfrm>
          <a:prstGeom prst="rect">
            <a:avLst/>
          </a:prstGeom>
          <a:ln w="0">
            <a:noFill/>
          </a:ln>
        </p:spPr>
      </p:pic>
      <p:pic>
        <p:nvPicPr>
          <p:cNvPr id="72" name="pulse_red_md_wht" descr=""/>
          <p:cNvPicPr/>
          <p:nvPr/>
        </p:nvPicPr>
        <p:blipFill>
          <a:blip r:embed="rId5"/>
          <a:stretch/>
        </p:blipFill>
        <p:spPr>
          <a:xfrm>
            <a:off x="7867800" y="6248520"/>
            <a:ext cx="1428480" cy="434880"/>
          </a:xfrm>
          <a:prstGeom prst="rect">
            <a:avLst/>
          </a:prstGeom>
          <a:ln w="0">
            <a:noFill/>
          </a:ln>
        </p:spPr>
      </p:pic>
      <p:pic>
        <p:nvPicPr>
          <p:cNvPr id="73" name="pulse_red_md_wht" descr=""/>
          <p:cNvPicPr/>
          <p:nvPr/>
        </p:nvPicPr>
        <p:blipFill>
          <a:blip r:embed="rId6"/>
          <a:stretch/>
        </p:blipFill>
        <p:spPr>
          <a:xfrm>
            <a:off x="3632040" y="6248520"/>
            <a:ext cx="1428840" cy="434880"/>
          </a:xfrm>
          <a:prstGeom prst="rect">
            <a:avLst/>
          </a:prstGeom>
          <a:ln w="0">
            <a:noFill/>
          </a:ln>
        </p:spPr>
      </p:pic>
      <p:pic>
        <p:nvPicPr>
          <p:cNvPr id="74" name="pulse_red_md_wht" descr=""/>
          <p:cNvPicPr/>
          <p:nvPr/>
        </p:nvPicPr>
        <p:blipFill>
          <a:blip r:embed="rId7"/>
          <a:stretch/>
        </p:blipFill>
        <p:spPr>
          <a:xfrm>
            <a:off x="2209680" y="6248520"/>
            <a:ext cx="142884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pulse_red_md_wht" descr=""/>
          <p:cNvPicPr/>
          <p:nvPr/>
        </p:nvPicPr>
        <p:blipFill>
          <a:blip r:embed="rId8"/>
          <a:stretch/>
        </p:blipFill>
        <p:spPr>
          <a:xfrm>
            <a:off x="781200" y="6248520"/>
            <a:ext cx="1428480" cy="434880"/>
          </a:xfrm>
          <a:prstGeom prst="rect">
            <a:avLst/>
          </a:prstGeom>
          <a:ln w="0">
            <a:noFill/>
          </a:ln>
        </p:spPr>
      </p:pic>
      <p:pic>
        <p:nvPicPr>
          <p:cNvPr id="76" name="pulse_red_md_wht" descr=""/>
          <p:cNvPicPr/>
          <p:nvPr/>
        </p:nvPicPr>
        <p:blipFill>
          <a:blip r:embed="rId9"/>
          <a:stretch/>
        </p:blipFill>
        <p:spPr>
          <a:xfrm>
            <a:off x="-609480" y="6248520"/>
            <a:ext cx="1428480" cy="434880"/>
          </a:xfrm>
          <a:prstGeom prst="rect">
            <a:avLst/>
          </a:prstGeom>
          <a:ln w="0">
            <a:noFill/>
          </a:ln>
        </p:spPr>
      </p:pic>
      <p:pic>
        <p:nvPicPr>
          <p:cNvPr id="77" name="heart_doctor" descr=""/>
          <p:cNvPicPr/>
          <p:nvPr/>
        </p:nvPicPr>
        <p:blipFill>
          <a:blip r:embed="rId10"/>
          <a:stretch/>
        </p:blipFill>
        <p:spPr>
          <a:xfrm>
            <a:off x="0" y="228600"/>
            <a:ext cx="5133960" cy="640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3.jpeg"/><Relationship Id="rId5" Type="http://schemas.openxmlformats.org/officeDocument/2006/relationships/image" Target="../media/image1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1640" y="914400"/>
            <a:ext cx="396252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Heart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Impact"/>
              </a:rPr>
              <a:t>Doctor</a:t>
            </a:r>
            <a:endParaRPr b="0" lang="en-US" sz="6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1640" y="4648320"/>
            <a:ext cx="39625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lace Your Sub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itle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27000" y="635472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680" y="2332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心理医生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Impact"/>
              </a:rPr>
              <a:t>Your Main Point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Your Sub Poin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Your Sub Poin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Your Other Sub Point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23720" y="22824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09320" y="160020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070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heart_doctor_tr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3720" y="91404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Transition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Page</a:t>
            </a:r>
            <a:endParaRPr b="0" lang="en-US" sz="60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126" name="heart_carrots" descr=""/>
          <p:cNvPicPr/>
          <p:nvPr/>
        </p:nvPicPr>
        <p:blipFill>
          <a:blip r:embed="rId3"/>
          <a:stretch/>
        </p:blipFill>
        <p:spPr>
          <a:xfrm>
            <a:off x="-152280" y="152280"/>
            <a:ext cx="6242040" cy="678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Impact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Impac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Impact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Impact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47B5-3C67-48DF-99DD-33C7C0220E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heart_carrots" descr=""/>
          <p:cNvPicPr/>
          <p:nvPr/>
        </p:nvPicPr>
        <p:blipFill>
          <a:blip r:embed="rId1"/>
          <a:stretch/>
        </p:blipFill>
        <p:spPr>
          <a:xfrm>
            <a:off x="5921280" y="3124080"/>
            <a:ext cx="3222720" cy="3500640"/>
          </a:xfrm>
          <a:prstGeom prst="rect">
            <a:avLst/>
          </a:prstGeom>
          <a:ln w="0">
            <a:noFill/>
          </a:ln>
        </p:spPr>
      </p:pic>
      <p:pic>
        <p:nvPicPr>
          <p:cNvPr id="131" name="heart_doctor" descr=""/>
          <p:cNvPicPr/>
          <p:nvPr/>
        </p:nvPicPr>
        <p:blipFill>
          <a:blip r:embed="rId2"/>
          <a:stretch/>
        </p:blipFill>
        <p:spPr>
          <a:xfrm>
            <a:off x="3352680" y="3276720"/>
            <a:ext cx="2629080" cy="3276360"/>
          </a:xfrm>
          <a:prstGeom prst="rect">
            <a:avLst/>
          </a:prstGeom>
          <a:ln w="0">
            <a:noFill/>
          </a:ln>
        </p:spPr>
      </p:pic>
      <p:pic>
        <p:nvPicPr>
          <p:cNvPr id="132" name="heart_doctor_prt" descr=""/>
          <p:cNvPicPr/>
          <p:nvPr/>
        </p:nvPicPr>
        <p:blipFill>
          <a:blip r:embed="rId3"/>
          <a:stretch/>
        </p:blipFill>
        <p:spPr>
          <a:xfrm>
            <a:off x="1523880" y="152280"/>
            <a:ext cx="1828800" cy="1463760"/>
          </a:xfrm>
          <a:prstGeom prst="rect">
            <a:avLst/>
          </a:prstGeom>
          <a:ln w="0">
            <a:noFill/>
          </a:ln>
        </p:spPr>
      </p:pic>
      <p:pic>
        <p:nvPicPr>
          <p:cNvPr id="133" name="heart_doctor_sld3" descr=""/>
          <p:cNvPicPr/>
          <p:nvPr/>
        </p:nvPicPr>
        <p:blipFill>
          <a:blip r:embed="rId4"/>
          <a:stretch/>
        </p:blipFill>
        <p:spPr>
          <a:xfrm>
            <a:off x="3505320" y="152280"/>
            <a:ext cx="1828800" cy="1463760"/>
          </a:xfrm>
          <a:prstGeom prst="rect">
            <a:avLst/>
          </a:prstGeom>
          <a:ln w="0">
            <a:noFill/>
          </a:ln>
        </p:spPr>
      </p:pic>
      <p:pic>
        <p:nvPicPr>
          <p:cNvPr id="134" name="heart_doctor_trs" descr=""/>
          <p:cNvPicPr/>
          <p:nvPr/>
        </p:nvPicPr>
        <p:blipFill>
          <a:blip r:embed="rId5"/>
          <a:stretch/>
        </p:blipFill>
        <p:spPr>
          <a:xfrm>
            <a:off x="5486400" y="152280"/>
            <a:ext cx="1828800" cy="1463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52680" y="1828800"/>
            <a:ext cx="5410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Elements P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76640" y="6399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18:13:5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04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