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96E-0E40-4358-B790-3A827ACF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656-7DC6-4FB2-AEE0-04B5DD31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7EC-39F2-4AEE-A8A8-60EAD54A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4E9-8C3F-49E1-BA21-B93F280F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2FD-94D9-4ECA-B5F7-28065EF0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F66-87B7-4840-A846-C9B6CF07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FAB-DE40-450B-989E-2B5C6714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8A3-A5F9-4819-B337-EED03D35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53F-3056-465D-BDD6-F09AA61D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448-C9D3-4BE3-AA70-396E4256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A62-2C60-4674-9792-2D90145D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B39-0449-4E34-9CBF-1D2E311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86B2-F186-441A-94D9-B1C5AD3258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96B-5680-4C63-8734-1CBB0B717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08120" y="13096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清新活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665-B04D-4B41-BFD5-FAFE8F3D2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78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79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9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1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2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8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2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5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49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6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3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0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88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2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0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6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18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2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0760" y="5734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6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5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77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2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4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89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1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296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298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3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4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09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0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2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17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19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4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26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1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3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38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0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45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47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2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4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59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1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0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1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eeppt.com</dc:creator>
  <dc:description>www.eeppt.com</dc:description>
  <cp:keywords>www.eeppt.com</cp:keywords>
  <dc:language>en-US</dc:language>
  <cp:lastModifiedBy>bianxiaoxiang</cp:lastModifiedBy>
  <dcterms:modified xsi:type="dcterms:W3CDTF">2015-09-18T13:19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