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CFB-96C9-4A84-97A8-91379CEB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71240" y="583776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EC0-2F5F-4062-89A4-317A653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0256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43B-2735-4719-AFE2-FC618112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6740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6356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7124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76740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6356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F62-9014-4EED-ACD9-B982B0DB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352680" y="3276360"/>
            <a:ext cx="510552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5A8-EFD1-42C6-B080-C1F349C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0256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371240" y="583776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0256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6740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6356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37124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6740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6356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557-09A0-40EF-823D-C5747B04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11D-7934-4443-9802-309FBE94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F97-7013-4637-BB3C-82FB64E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352680" y="3276360"/>
            <a:ext cx="510552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29B-4C97-4CF5-91FF-B146827A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E92-AF79-47E9-879A-2327CC6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0256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833-372C-4183-8316-B56964B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A99-F856-4E44-B27A-F9E737B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efefe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4280" y="773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7240" y="64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72960" y="64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3000" y="64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50640" y="468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76000" y="64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715760" y="64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31760" y="64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79400" y="64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37840" y="152280"/>
              <a:ext cx="6984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98280" y="339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543040" y="777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758680" y="14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219120" y="339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19120" y="770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32" name="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467880" y="2160"/>
                <a:ext cx="0" cy="100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83880" y="2160"/>
                <a:ext cx="0" cy="100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3899880" y="0"/>
                <a:ext cx="0" cy="100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12524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79664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01264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6640" y="55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2280" y="773280"/>
              <a:ext cx="6984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43200" y="571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39960" y="14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29160" y="552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149160" y="2160"/>
                <a:ext cx="0" cy="100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65160" y="2160"/>
                <a:ext cx="0" cy="100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581160" y="0"/>
                <a:ext cx="0" cy="100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0652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7792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392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771960" y="433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57920" y="55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73920" y="773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546760" y="766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75520" y="568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24480" y="324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64240" y="324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80240" y="324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9360" y="611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6120" y="8128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29698d"/>
              </a:gs>
              <a:gs pos="100000">
                <a:srgbClr val="1230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69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69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9698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9698d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9698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9698d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9698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ED61-2120-4B0B-B71E-5F91A0F3BEA2}" type="slidenum">
              <a:rPr b="0" lang="zh-CN" sz="1400" spc="-1" strike="noStrike">
                <a:solidFill>
                  <a:srgbClr val="29698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84320" y="2227320"/>
              <a:ext cx="2516040" cy="4596840"/>
              <a:chOff x="184320" y="2227320"/>
              <a:chExt cx="2516040" cy="459684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184320" y="2227320"/>
                <a:ext cx="1187280" cy="4591800"/>
                <a:chOff x="184320" y="2227320"/>
                <a:chExt cx="1187280" cy="45918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28600" y="22316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68360" y="22316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84360" y="22316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00360" y="223812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16360" y="223812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332000" y="222732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3680" y="28126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0800" y="346032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50880" y="23871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0880" y="34635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79640" y="30351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79640" y="41302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95640" y="32508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3680" y="391752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0800" y="45352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8720" y="497484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48000" y="45604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301760" y="43416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7560" y="56368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84320" y="60688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82880" y="51922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4760" y="564012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1520" y="67276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298880" y="540684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67040" y="63082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1760" y="652752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513080" y="2231640"/>
                <a:ext cx="1187280" cy="4592520"/>
                <a:chOff x="1513080" y="2231640"/>
                <a:chExt cx="1187280" cy="45925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557360" y="223632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97120" y="223632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013120" y="223632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229120" y="22428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45120" y="22428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660760" y="22316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22440" y="2817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19560" y="346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79640" y="2391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979640" y="346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084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408400" y="4134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24400" y="3255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22440" y="392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19560" y="4539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527480" y="4979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976760" y="456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630520" y="4346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516320" y="5641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130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411640" y="5196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73520" y="56448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9702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764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395800" y="6312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630520" y="653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"/>
            <p:cNvGrpSpPr/>
            <p:nvPr/>
          </p:nvGrpSpPr>
          <p:grpSpPr>
            <a:xfrm>
              <a:off x="2843280" y="2232000"/>
              <a:ext cx="2516040" cy="4596840"/>
              <a:chOff x="2843280" y="2232000"/>
              <a:chExt cx="2516040" cy="459684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843280" y="2232000"/>
                <a:ext cx="1187280" cy="4591800"/>
                <a:chOff x="2843280" y="2232000"/>
                <a:chExt cx="1187280" cy="4591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887560" y="2236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27320" y="2236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343320" y="2236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559320" y="224280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775320" y="224280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990960" y="223200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852640" y="28173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49760" y="34650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09840" y="239184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309840" y="346824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38600" y="303984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38600" y="41349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54600" y="32554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852640" y="39222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849760" y="45399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857680" y="497952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306960" y="45651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0720" y="43462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846520" y="56415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43280" y="60735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41840" y="51969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03720" y="56448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300480" y="67323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957840" y="541152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26000" y="63129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60720" y="65322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172040" y="2236320"/>
                <a:ext cx="1187280" cy="4592520"/>
                <a:chOff x="4172040" y="2236320"/>
                <a:chExt cx="1187280" cy="45925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216320" y="224100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456080" y="224100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72080" y="224100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88080" y="2247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104080" y="2247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319720" y="2236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181400" y="2822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178520" y="3469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638600" y="2396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638600" y="3472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06736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067360" y="4139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83360" y="3260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181400" y="392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178520" y="4544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186440" y="4984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35720" y="456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89480" y="4350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175280" y="5646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17204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070600" y="5201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32480" y="5649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62924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660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054760" y="6317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89480" y="653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5508720" y="2232000"/>
              <a:ext cx="2516040" cy="4596840"/>
              <a:chOff x="5508720" y="2232000"/>
              <a:chExt cx="2516040" cy="4596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5508720" y="2232000"/>
                <a:ext cx="1187280" cy="4591800"/>
                <a:chOff x="5508720" y="2232000"/>
                <a:chExt cx="1187280" cy="45918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553000" y="2236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92760" y="2236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008760" y="2236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224760" y="224280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440760" y="224280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656400" y="2232000"/>
                  <a:ext cx="0" cy="458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18080" y="28173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15200" y="34650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75280" y="239184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75280" y="346824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404040" y="303984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404040" y="41349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620040" y="32554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518080" y="39222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515200" y="45399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523120" y="497952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72400" y="45651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26160" y="434628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511960" y="56415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508720" y="60735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407280" y="51969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69160" y="56448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965920" y="67323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623280" y="541152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91440" y="631296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26160" y="6532200"/>
                  <a:ext cx="69840" cy="6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837480" y="2236320"/>
                <a:ext cx="1187280" cy="4592520"/>
                <a:chOff x="6837480" y="2236320"/>
                <a:chExt cx="1187280" cy="45925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881760" y="224100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121520" y="224100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337520" y="2241000"/>
                  <a:ext cx="0" cy="4581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553520" y="2247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69520" y="2247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85160" y="2236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846840" y="2822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843960" y="3469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304040" y="2396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304040" y="3472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328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732800" y="4139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48800" y="3260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846840" y="392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843960" y="4544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851880" y="4984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301160" y="456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954920" y="4350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840720" y="5646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8374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736040" y="5201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297920" y="5649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2946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95204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720200" y="6317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54920" y="653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"/>
            <p:cNvSpPr/>
            <p:nvPr/>
          </p:nvSpPr>
          <p:spPr>
            <a:xfrm>
              <a:off x="8212320" y="224136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52080" y="224136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67720" y="224136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883720" y="224784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99720" y="224784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880" y="2565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60" y="3213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080" y="3878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080" y="4510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1800" y="4941720"/>
                <a:ext cx="9141840" cy="430200"/>
                <a:chOff x="1800" y="4941720"/>
                <a:chExt cx="9141840" cy="4302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680" y="4941720"/>
                  <a:ext cx="9137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20" y="5157000"/>
                  <a:ext cx="9137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800" y="5371920"/>
                  <a:ext cx="9137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0" y="5821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-4680" y="6276960"/>
                <a:ext cx="9139320" cy="431640"/>
                <a:chOff x="-4680" y="6276960"/>
                <a:chExt cx="9139320" cy="4316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-1440" y="627696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0" y="649296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-4680" y="6708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8177400" y="27511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634600" y="23256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634600" y="34020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77400" y="3855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70920" y="55753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628120" y="55785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23040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9698d"/>
                </a:solidFill>
                <a:latin typeface="Verdana"/>
              </a:rPr>
              <a:t>Click to edit the title text format</a:t>
            </a:r>
            <a:endParaRPr b="0" i="1" lang="en-US" sz="40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69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969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69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969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34920" y="3278160"/>
            <a:ext cx="662292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9698d"/>
                </a:solidFill>
                <a:latin typeface="Verdana"/>
                <a:ea typeface="宋体"/>
              </a:rPr>
              <a:t>学术报告</a:t>
            </a:r>
            <a:r>
              <a:rPr b="0" i="1" lang="en-US" sz="4000" spc="-1" strike="noStrike">
                <a:solidFill>
                  <a:srgbClr val="29698d"/>
                </a:solidFill>
                <a:latin typeface="Verdana"/>
                <a:ea typeface="宋体"/>
              </a:rPr>
              <a:t>PPT</a:t>
            </a:r>
            <a:r>
              <a:rPr b="0" i="1" lang="en-US" sz="4000" spc="-1" strike="noStrike">
                <a:solidFill>
                  <a:srgbClr val="29698d"/>
                </a:solidFill>
                <a:latin typeface="Verdana"/>
                <a:ea typeface="宋体"/>
              </a:rPr>
              <a:t>模板在线下载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PowerPoint</a:t>
            </a:r>
            <a:r>
              <a:rPr b="0" i="1" lang="en-US" sz="3200" spc="-1" strike="noStrike">
                <a:solidFill>
                  <a:srgbClr val="29698d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i="1" lang="en-US" sz="6600" spc="-1" strike="noStrike">
                <a:solidFill>
                  <a:srgbClr val="29698d"/>
                </a:solidFill>
                <a:latin typeface="Verdana"/>
                <a:ea typeface="宋体"/>
              </a:rPr>
              <a:t>Template</a:t>
            </a:r>
            <a:endParaRPr b="0" i="1" lang="en-US" sz="66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lick to add your text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698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9698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634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648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50000">
                    <a:srgbClr val="ff9933"/>
                  </a:gs>
                  <a:gs pos="100000">
                    <a:srgbClr val="75461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3a6a7"/>
                  </a:gs>
                  <a:gs pos="100000">
                    <a:srgbClr val="3c4c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3a6a7"/>
                  </a:gs>
                  <a:gs pos="100000">
                    <a:srgbClr val="a2bcb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b86e24"/>
                  </a:gs>
                  <a:gs pos="50000">
                    <a:srgbClr val="ff9933"/>
                  </a:gs>
                  <a:gs pos="100000">
                    <a:srgbClr val="b86e2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49393"/>
                  </a:gs>
                  <a:gs pos="50000">
                    <a:srgbClr val="33cccc"/>
                  </a:gs>
                  <a:gs pos="100000">
                    <a:srgbClr val="2493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63c0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1fa5d1"/>
                  </a:gs>
                  <a:gs pos="50000">
                    <a:srgbClr val="0099cc"/>
                  </a:gs>
                  <a:gs pos="100000">
                    <a:srgbClr val="1fa5d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98b5b6"/>
                  </a:gs>
                  <a:gs pos="50000">
                    <a:srgbClr val="83a6a7"/>
                  </a:gs>
                  <a:gs pos="100000">
                    <a:srgbClr val="98b5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684360" y="148428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698d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29698d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33cc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0099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50000">
                <a:srgbClr val="feb770"/>
              </a:gs>
              <a:gs pos="100000">
                <a:srgbClr val="ff9933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5b98e"/>
              </a:gs>
              <a:gs pos="100000">
                <a:srgbClr val="699d5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cc"/>
              </a:gs>
              <a:gs pos="50000">
                <a:srgbClr val="70dada"/>
              </a:gs>
              <a:gs pos="100000">
                <a:srgbClr val="33cccc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98d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98d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670" name=""/>
            <p:cNvSpPr/>
            <p:nvPr/>
          </p:nvSpPr>
          <p:spPr>
            <a:xfrm>
              <a:off x="297684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9144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516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24384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2248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683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510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370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63852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2276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693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7674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698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9136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447920" y="1619280"/>
            <a:ext cx="6933600" cy="4400640"/>
            <a:chOff x="1447920" y="1619280"/>
            <a:chExt cx="6933600" cy="4400640"/>
          </a:xfrm>
        </p:grpSpPr>
        <p:sp>
          <p:nvSpPr>
            <p:cNvPr id="710" name=""/>
            <p:cNvSpPr/>
            <p:nvPr/>
          </p:nvSpPr>
          <p:spPr>
            <a:xfrm>
              <a:off x="14479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4640" y="3505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3476520" y="3828960"/>
              <a:ext cx="1704600" cy="2028960"/>
              <a:chOff x="3476520" y="3828960"/>
              <a:chExt cx="1704600" cy="2028960"/>
            </a:xfrm>
          </p:grpSpPr>
          <p:sp>
            <p:nvSpPr>
              <p:cNvPr id="713" name=""/>
              <p:cNvSpPr/>
              <p:nvPr/>
            </p:nvSpPr>
            <p:spPr>
              <a:xfrm rot="20876400">
                <a:off x="3544560" y="5048280"/>
                <a:ext cx="143784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476520" y="3828960"/>
                <a:ext cx="170460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496680" y="3838320"/>
                <a:ext cx="166500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514320" y="385452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606480" y="3898800"/>
                <a:ext cx="140904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893760" y="44560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 rot="20826600">
              <a:off x="1701720" y="443844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625400" y="3448080"/>
              <a:ext cx="1370880" cy="1441080"/>
              <a:chOff x="1625400" y="3448080"/>
              <a:chExt cx="1370880" cy="1441080"/>
            </a:xfrm>
          </p:grpSpPr>
          <p:sp>
            <p:nvSpPr>
              <p:cNvPr id="721" name=""/>
              <p:cNvSpPr/>
              <p:nvPr/>
            </p:nvSpPr>
            <p:spPr>
              <a:xfrm>
                <a:off x="1625400" y="344808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643400" y="345636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563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28000" y="350640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90584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1523880" y="2076480"/>
              <a:ext cx="1099440" cy="1139760"/>
              <a:chOff x="1523880" y="2076480"/>
              <a:chExt cx="1099440" cy="1139760"/>
            </a:xfrm>
          </p:grpSpPr>
          <p:sp>
            <p:nvSpPr>
              <p:cNvPr id="727" name=""/>
              <p:cNvSpPr/>
              <p:nvPr/>
            </p:nvSpPr>
            <p:spPr>
              <a:xfrm>
                <a:off x="1523880" y="26830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599840" y="20764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12440" y="20811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23600" y="20923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677600" y="21178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796760" y="24256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2790720" y="1619280"/>
              <a:ext cx="803880" cy="762120"/>
              <a:chOff x="2790720" y="1619280"/>
              <a:chExt cx="803880" cy="762120"/>
            </a:xfrm>
          </p:grpSpPr>
          <p:sp>
            <p:nvSpPr>
              <p:cNvPr id="734" name=""/>
              <p:cNvSpPr/>
              <p:nvPr/>
            </p:nvSpPr>
            <p:spPr>
              <a:xfrm>
                <a:off x="2790720" y="2152800"/>
                <a:ext cx="68508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12760" y="1619280"/>
                <a:ext cx="68184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22120" y="1622520"/>
                <a:ext cx="66456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28600" y="1628640"/>
                <a:ext cx="63252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64960" y="1647720"/>
                <a:ext cx="56304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82600" y="18432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743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807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807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807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solidFill>
              <a:srgbClr val="ff9933"/>
            </a:soli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807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807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807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219320" y="2060640"/>
            <a:ext cx="2170080" cy="4034880"/>
            <a:chOff x="1219320" y="2060640"/>
            <a:chExt cx="2170080" cy="4034880"/>
          </a:xfrm>
        </p:grpSpPr>
        <p:sp>
          <p:nvSpPr>
            <p:cNvPr id="754" name=""/>
            <p:cNvSpPr/>
            <p:nvPr/>
          </p:nvSpPr>
          <p:spPr>
            <a:xfrm>
              <a:off x="1219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5280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70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0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258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0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1963800" y="2060640"/>
              <a:ext cx="642960" cy="642600"/>
              <a:chOff x="1963800" y="2060640"/>
              <a:chExt cx="642960" cy="642600"/>
            </a:xfrm>
          </p:grpSpPr>
          <p:sp>
            <p:nvSpPr>
              <p:cNvPr id="761" name=""/>
              <p:cNvSpPr/>
              <p:nvPr/>
            </p:nvSpPr>
            <p:spPr>
              <a:xfrm>
                <a:off x="19638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9702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9782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984680" y="20746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85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2103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956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581280" y="2060640"/>
            <a:ext cx="2166840" cy="4034880"/>
            <a:chOff x="3581280" y="2060640"/>
            <a:chExt cx="2166840" cy="4034880"/>
          </a:xfrm>
        </p:grpSpPr>
        <p:sp>
          <p:nvSpPr>
            <p:cNvPr id="769" name=""/>
            <p:cNvSpPr/>
            <p:nvPr/>
          </p:nvSpPr>
          <p:spPr>
            <a:xfrm>
              <a:off x="358128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1476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3204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3204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2576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32240" y="20649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40160" y="20682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46280" y="20746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81560" y="20905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658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57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8452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28800" y="52495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5937120" y="2060640"/>
            <a:ext cx="2170080" cy="4034880"/>
            <a:chOff x="5937120" y="2060640"/>
            <a:chExt cx="2170080" cy="4034880"/>
          </a:xfrm>
        </p:grpSpPr>
        <p:sp>
          <p:nvSpPr>
            <p:cNvPr id="783" name=""/>
            <p:cNvSpPr/>
            <p:nvPr/>
          </p:nvSpPr>
          <p:spPr>
            <a:xfrm>
              <a:off x="5943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7672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994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94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688080" y="2060640"/>
              <a:ext cx="642960" cy="642600"/>
              <a:chOff x="6688080" y="2060640"/>
              <a:chExt cx="642960" cy="642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688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94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702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708960" y="20746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742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6828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1956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3712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81400" y="52495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799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804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1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1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2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846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2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858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3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867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3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886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cxnSp>
            <p:nvCxnSpPr>
              <p:cNvPr id="890" name=""/>
              <p:cNvCxnSpPr>
                <a:stCxn id="886" idx="3"/>
                <a:endCxn id="887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91" name=""/>
              <p:cNvCxnSpPr>
                <a:stCxn id="887" idx="3"/>
                <a:endCxn id="888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92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Progress Diagram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895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33ccc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0099c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969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969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0099c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11280" y="1341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698d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29698d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33cc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Block Diagram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903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908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98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910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916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98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922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Table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838080" y="2286000"/>
          <a:ext cx="746748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9698d"/>
                      </a:solidFill>
                    </a:lnR>
                    <a:lnT>
                      <a:noFill/>
                    </a:lnT>
                    <a:lnB w="5760">
                      <a:solidFill>
                        <a:srgbClr val="2969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2969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Contents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bf0f0"/>
              </a:gs>
              <a:gs pos="50000">
                <a:srgbClr val="d6e1e2"/>
              </a:gs>
              <a:gs pos="100000">
                <a:srgbClr val="eb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33cccc">
                  <a:alpha val="56078"/>
                </a:srgbClr>
              </a:gs>
              <a:gs pos="100000">
                <a:srgbClr val="fefefe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405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412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419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426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433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636120" y="657000"/>
            <a:ext cx="7379280" cy="5581080"/>
            <a:chOff x="636120" y="657000"/>
            <a:chExt cx="7379280" cy="5581080"/>
          </a:xfrm>
        </p:grpSpPr>
        <p:sp>
          <p:nvSpPr>
            <p:cNvPr id="938" name=""/>
            <p:cNvSpPr/>
            <p:nvPr/>
          </p:nvSpPr>
          <p:spPr>
            <a:xfrm>
              <a:off x="2173320" y="4443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6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20601600">
              <a:off x="1447920" y="2329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dcdcd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20601600">
              <a:off x="1504440" y="216828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0601600">
              <a:off x="1420560" y="215388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2699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rot="20602200">
              <a:off x="1469880" y="21538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a8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20601600">
              <a:off x="1427760" y="21650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20602200">
              <a:off x="1438200" y="216360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878700"/>
                </a:gs>
                <a:gs pos="100000">
                  <a:srgbClr val="cccc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499000" y="3600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c87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20539200">
              <a:off x="1054440" y="15609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10080" y="3940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a965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20601600">
              <a:off x="2965320" y="2882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56240" y="3562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61360" y="2343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690160" y="2647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85240" y="3867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175560" y="4552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29080" y="415620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3cccc">
                    <a:alpha val="19215"/>
                  </a:srgbClr>
                </a:gs>
                <a:gs pos="100000">
                  <a:srgbClr val="76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20601600">
              <a:off x="3067200" y="313524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3-D Pie Chart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Block Diagram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959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587"/>
                </a:gs>
                <a:gs pos="50000">
                  <a:srgbClr val="0099cc"/>
                </a:gs>
                <a:gs pos="100000">
                  <a:srgbClr val="006587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96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a160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>
                <a:off x="1072800" y="4854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6781680" y="403884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1f28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955920" y="406404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3a6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6925320" y="4753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sp>
            <p:nvSpPr>
              <p:cNvPr id="975" name=""/>
              <p:cNvSpPr/>
              <p:nvPr/>
            </p:nvSpPr>
            <p:spPr>
              <a:xfrm>
                <a:off x="2819520" y="408312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a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994120" y="4108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4876920" y="403884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e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051160" y="40640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"/>
              <p:cNvSpPr/>
              <p:nvPr/>
            </p:nvSpPr>
            <p:spPr>
              <a:xfrm>
                <a:off x="4953240" y="47689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9698d"/>
                </a:solidFill>
                <a:latin typeface="Verdana"/>
              </a:rPr>
              <a:t>使用规范说明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9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69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AB7-A65D-44CD-A3CD-9D71508543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9698d"/>
                    </a:gs>
                    <a:gs pos="100000">
                      <a:srgbClr val="0099cc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9698d"/>
                  </a:gs>
                  <a:gs pos="100000">
                    <a:srgbClr val="0099cc"/>
                  </a:gs>
                </a:gsLst>
                <a:lin ang="1080000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Contents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106668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a short content slide page.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69516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  <a:ea typeface="宋体"/>
              </a:rPr>
              <a:t>Add your company slogan.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981080" y="2666880"/>
            <a:ext cx="5334120" cy="528480"/>
            <a:chOff x="1981080" y="2666880"/>
            <a:chExt cx="5334120" cy="528480"/>
          </a:xfrm>
        </p:grpSpPr>
        <p:grpSp>
          <p:nvGrpSpPr>
            <p:cNvPr id="444" name=""/>
            <p:cNvGrpSpPr/>
            <p:nvPr/>
          </p:nvGrpSpPr>
          <p:grpSpPr>
            <a:xfrm>
              <a:off x="1981080" y="2666880"/>
              <a:ext cx="5334120" cy="512640"/>
              <a:chOff x="1981080" y="2666880"/>
              <a:chExt cx="5334120" cy="5126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266688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8be67"/>
                  </a:gs>
                  <a:gs pos="100000">
                    <a:srgbClr val="bbe6c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26440" y="304308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2f094">
                      <a:alpha val="0"/>
                    </a:srgbClr>
                  </a:gs>
                  <a:gs pos="100000">
                    <a:srgbClr val="90f0a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026440" y="267804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ff9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895480" y="27273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2361960" y="2666880"/>
              <a:ext cx="533520" cy="528480"/>
              <a:chOff x="2361960" y="2666880"/>
              <a:chExt cx="533520" cy="528480"/>
            </a:xfrm>
          </p:grpSpPr>
          <p:sp>
            <p:nvSpPr>
              <p:cNvPr id="450" name=""/>
              <p:cNvSpPr/>
              <p:nvPr/>
            </p:nvSpPr>
            <p:spPr>
              <a:xfrm>
                <a:off x="2361960" y="266688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67360" y="267048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73840" y="2673720"/>
                <a:ext cx="504000" cy="49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379240" y="267840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407320" y="269136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2438280" y="267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981080" y="3390840"/>
            <a:ext cx="5334120" cy="528480"/>
            <a:chOff x="1981080" y="3390840"/>
            <a:chExt cx="5334120" cy="528480"/>
          </a:xfrm>
        </p:grpSpPr>
        <p:grpSp>
          <p:nvGrpSpPr>
            <p:cNvPr id="457" name=""/>
            <p:cNvGrpSpPr/>
            <p:nvPr/>
          </p:nvGrpSpPr>
          <p:grpSpPr>
            <a:xfrm>
              <a:off x="1981080" y="3403440"/>
              <a:ext cx="5334120" cy="512640"/>
              <a:chOff x="1981080" y="3403440"/>
              <a:chExt cx="5334120" cy="512640"/>
            </a:xfrm>
          </p:grpSpPr>
          <p:sp>
            <p:nvSpPr>
              <p:cNvPr id="458" name=""/>
              <p:cNvSpPr/>
              <p:nvPr/>
            </p:nvSpPr>
            <p:spPr>
              <a:xfrm>
                <a:off x="1981080" y="340344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26440" y="377964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ed8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26440" y="341460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ff9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895480" y="34639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2361960" y="3390840"/>
              <a:ext cx="533520" cy="528480"/>
              <a:chOff x="2361960" y="3390840"/>
              <a:chExt cx="533520" cy="528480"/>
            </a:xfrm>
          </p:grpSpPr>
          <p:sp>
            <p:nvSpPr>
              <p:cNvPr id="463" name=""/>
              <p:cNvSpPr/>
              <p:nvPr/>
            </p:nvSpPr>
            <p:spPr>
              <a:xfrm>
                <a:off x="2361960" y="339084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67360" y="339444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73840" y="3397680"/>
                <a:ext cx="504000" cy="49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79240" y="340236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407320" y="341532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2438280" y="3403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995480" y="4195800"/>
            <a:ext cx="5334120" cy="528480"/>
            <a:chOff x="1995480" y="4195800"/>
            <a:chExt cx="5334120" cy="528480"/>
          </a:xfrm>
        </p:grpSpPr>
        <p:grpSp>
          <p:nvGrpSpPr>
            <p:cNvPr id="470" name=""/>
            <p:cNvGrpSpPr/>
            <p:nvPr/>
          </p:nvGrpSpPr>
          <p:grpSpPr>
            <a:xfrm>
              <a:off x="1995480" y="4195800"/>
              <a:ext cx="5334120" cy="512640"/>
              <a:chOff x="1995480" y="4195800"/>
              <a:chExt cx="5334120" cy="512640"/>
            </a:xfrm>
          </p:grpSpPr>
          <p:sp>
            <p:nvSpPr>
              <p:cNvPr id="471" name=""/>
              <p:cNvSpPr/>
              <p:nvPr/>
            </p:nvSpPr>
            <p:spPr>
              <a:xfrm>
                <a:off x="1995480" y="419580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a82e8"/>
                  </a:gs>
                  <a:gs pos="100000">
                    <a:srgbClr val="d9d0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40840" y="457200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67e1">
                      <a:alpha val="0"/>
                    </a:srgbClr>
                  </a:gs>
                  <a:gs pos="100000">
                    <a:srgbClr val="9a79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40840" y="420696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ceefd"/>
                  </a:gs>
                  <a:gs pos="100000">
                    <a:srgbClr val="cbd0f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2909880" y="42562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376360" y="4195800"/>
              <a:ext cx="533520" cy="528480"/>
              <a:chOff x="2376360" y="4195800"/>
              <a:chExt cx="533520" cy="528480"/>
            </a:xfrm>
          </p:grpSpPr>
          <p:sp>
            <p:nvSpPr>
              <p:cNvPr id="476" name=""/>
              <p:cNvSpPr/>
              <p:nvPr/>
            </p:nvSpPr>
            <p:spPr>
              <a:xfrm>
                <a:off x="2376360" y="419580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381760" y="419940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388240" y="4202640"/>
                <a:ext cx="504000" cy="49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393640" y="420732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21720" y="422028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2452680" y="4208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981080" y="4952880"/>
            <a:ext cx="5334120" cy="528480"/>
            <a:chOff x="1981080" y="4952880"/>
            <a:chExt cx="5334120" cy="528480"/>
          </a:xfrm>
        </p:grpSpPr>
        <p:grpSp>
          <p:nvGrpSpPr>
            <p:cNvPr id="483" name=""/>
            <p:cNvGrpSpPr/>
            <p:nvPr/>
          </p:nvGrpSpPr>
          <p:grpSpPr>
            <a:xfrm>
              <a:off x="1981080" y="4952880"/>
              <a:ext cx="5334120" cy="512640"/>
              <a:chOff x="1981080" y="4952880"/>
              <a:chExt cx="5334120" cy="512640"/>
            </a:xfrm>
          </p:grpSpPr>
          <p:sp>
            <p:nvSpPr>
              <p:cNvPr id="484" name=""/>
              <p:cNvSpPr/>
              <p:nvPr/>
            </p:nvSpPr>
            <p:spPr>
              <a:xfrm>
                <a:off x="1981080" y="495288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d9e85"/>
                  </a:gs>
                  <a:gs pos="100000">
                    <a:srgbClr val="f7dad1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26440" y="532908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9e85">
                      <a:alpha val="0"/>
                    </a:srgbClr>
                  </a:gs>
                  <a:gs pos="100000">
                    <a:srgbClr val="eea9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026440" y="496404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dd5"/>
                  </a:gs>
                  <a:gs pos="100000">
                    <a:srgbClr val="ed9e8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2895480" y="50133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361960" y="4952880"/>
              <a:ext cx="533520" cy="528480"/>
              <a:chOff x="2361960" y="4952880"/>
              <a:chExt cx="533520" cy="528480"/>
            </a:xfrm>
          </p:grpSpPr>
          <p:sp>
            <p:nvSpPr>
              <p:cNvPr id="489" name=""/>
              <p:cNvSpPr/>
              <p:nvPr/>
            </p:nvSpPr>
            <p:spPr>
              <a:xfrm>
                <a:off x="2361960" y="495288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67360" y="495648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3840" y="4959720"/>
                <a:ext cx="504000" cy="49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9240" y="496440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407320" y="497736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438280" y="496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981080" y="1905120"/>
            <a:ext cx="5334120" cy="528480"/>
            <a:chOff x="1981080" y="1905120"/>
            <a:chExt cx="5334120" cy="528480"/>
          </a:xfrm>
        </p:grpSpPr>
        <p:grpSp>
          <p:nvGrpSpPr>
            <p:cNvPr id="496" name=""/>
            <p:cNvGrpSpPr/>
            <p:nvPr/>
          </p:nvGrpSpPr>
          <p:grpSpPr>
            <a:xfrm>
              <a:off x="1981080" y="1905120"/>
              <a:ext cx="5334120" cy="512640"/>
              <a:chOff x="1981080" y="1905120"/>
              <a:chExt cx="5334120" cy="512640"/>
            </a:xfrm>
          </p:grpSpPr>
          <p:sp>
            <p:nvSpPr>
              <p:cNvPr id="497" name=""/>
              <p:cNvSpPr/>
              <p:nvPr/>
            </p:nvSpPr>
            <p:spPr>
              <a:xfrm>
                <a:off x="1981080" y="190512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ac924"/>
                  </a:gs>
                  <a:gs pos="100000">
                    <a:srgbClr val="f6eaae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026440" y="228132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c924">
                      <a:alpha val="0"/>
                    </a:srgbClr>
                  </a:gs>
                  <a:gs pos="100000">
                    <a:srgbClr val="ebce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026440" y="191628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7ecb5"/>
                  </a:gs>
                  <a:gs pos="100000">
                    <a:srgbClr val="eac92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2895480" y="19656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361960" y="1905120"/>
              <a:ext cx="533520" cy="528480"/>
              <a:chOff x="2361960" y="1905120"/>
              <a:chExt cx="533520" cy="528480"/>
            </a:xfrm>
          </p:grpSpPr>
          <p:sp>
            <p:nvSpPr>
              <p:cNvPr id="502" name=""/>
              <p:cNvSpPr/>
              <p:nvPr/>
            </p:nvSpPr>
            <p:spPr>
              <a:xfrm>
                <a:off x="2361960" y="190512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367360" y="190872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73840" y="1911960"/>
                <a:ext cx="504000" cy="49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379240" y="191664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407320" y="192960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2438280" y="1917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Contents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510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511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9360">
                <a:solidFill>
                  <a:srgbClr val="2969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518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519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9360">
                <a:solidFill>
                  <a:srgbClr val="2969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526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527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9360">
                <a:solidFill>
                  <a:srgbClr val="2969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534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535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9360">
                <a:solidFill>
                  <a:srgbClr val="2969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Hot Tip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8840" y="1752480"/>
            <a:ext cx="7824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698d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29698d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29698d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29698d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29698d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2969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143000" y="3352680"/>
            <a:ext cx="2286000" cy="2666880"/>
            <a:chOff x="1143000" y="3352680"/>
            <a:chExt cx="2286000" cy="2666880"/>
          </a:xfrm>
        </p:grpSpPr>
        <p:sp>
          <p:nvSpPr>
            <p:cNvPr id="546" name=""/>
            <p:cNvSpPr/>
            <p:nvPr/>
          </p:nvSpPr>
          <p:spPr>
            <a:xfrm>
              <a:off x="114300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7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550" name=""/>
            <p:cNvGrpSpPr/>
            <p:nvPr/>
          </p:nvGrpSpPr>
          <p:grpSpPr>
            <a:xfrm>
              <a:off x="3048120" y="1628640"/>
              <a:ext cx="2998440" cy="1601280"/>
              <a:chOff x="3048120" y="1628640"/>
              <a:chExt cx="2998440" cy="160128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3048120" y="1771560"/>
                <a:ext cx="2998440" cy="1458360"/>
                <a:chOff x="3048120" y="1771560"/>
                <a:chExt cx="2998440" cy="14583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3080880" y="18180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6262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048120" y="17715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a3e7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3189240" y="16286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224160" y="16365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daec"/>
                  </a:gs>
                  <a:gs pos="100000">
                    <a:srgbClr val="0099c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251160" y="16491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48235"/>
                    </a:srgbClr>
                  </a:gs>
                  <a:gs pos="100000">
                    <a:srgbClr val="0078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82920" y="16761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562720" y="3352680"/>
            <a:ext cx="2286000" cy="2666880"/>
            <a:chOff x="5562720" y="3352680"/>
            <a:chExt cx="2286000" cy="2666880"/>
          </a:xfrm>
        </p:grpSpPr>
        <p:sp>
          <p:nvSpPr>
            <p:cNvPr id="560" name=""/>
            <p:cNvSpPr/>
            <p:nvPr/>
          </p:nvSpPr>
          <p:spPr>
            <a:xfrm>
              <a:off x="556272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15000" y="35812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ede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Cycle Diagram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565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6e1e2"/>
                </a:gs>
                <a:gs pos="100000">
                  <a:srgbClr val="f1f4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1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2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5a36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4c4f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100000">
                  <a:srgbClr val="2d39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47480" y="2443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79440" y="2654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8716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966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969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cxnSp>
          <p:nvCxnSpPr>
            <p:cNvPr id="583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9698d"/>
              </a:solidFill>
              <a:miter/>
            </a:ln>
          </p:spPr>
        </p:cxnSp>
        <p:sp>
          <p:nvSpPr>
            <p:cNvPr id="58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39640" y="1341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698d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29698d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33cc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58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26768">
                    <a:alpha val="12156"/>
                  </a:srgbClr>
                </a:gs>
                <a:gs pos="100000">
                  <a:srgbClr val="d6e1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6e1e2"/>
                </a:gs>
                <a:gs pos="100000">
                  <a:srgbClr val="62676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6e1e2"/>
                </a:gs>
                <a:gs pos="100000">
                  <a:srgbClr val="e4ebe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4ebeb">
                    <a:alpha val="12156"/>
                  </a:srgbClr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608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609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cc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1b6d6d"/>
                  </a:gs>
                  <a:gs pos="50000">
                    <a:srgbClr val="33cccc"/>
                  </a:gs>
                  <a:gs pos="100000">
                    <a:srgbClr val="1b6d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9948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9948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9948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974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5:12:2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1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