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84120" y="1341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线条明快的设计条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Impac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14600" y="7596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mpact"/>
                <a:ea typeface="宋体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8377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Impac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0T05:25:09Z</dcterms:created>
  <dc:creator>幻灯片之家：www.eeppt.com; www.eeppt.com</dc:creator>
  <dc:description>幻灯片之家：www.eeppt.com</dc:description>
  <cp:keywords>幻灯片之家：www.eeppt.com; www.eeppt.com</cp:keywords>
  <dc:language>en-US</dc:language>
  <cp:lastModifiedBy>Windows 用户</cp:lastModifiedBy>
  <dcterms:modified xsi:type="dcterms:W3CDTF">2015-09-18T13:24:00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