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7A6-54CD-4BE1-B923-0D06DED0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5029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03600"/>
            <a:ext cx="5029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E7F-B50A-44F9-BB26-875CAA20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034440" y="360360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B68A-0CF5-4D4F-A5E0-BD17E6B8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57840" y="129492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58480" y="129492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0360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57840" y="360360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858480" y="360360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49F-9D79-495B-9960-61146B56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2D74-3424-4084-B80E-74FED475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842C-3B5E-4F1A-8F81-5D44CE46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A189-98E8-4D4D-AE17-E1779CB7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9267-247A-4BAF-9A10-28ABF059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2D2C-DE8E-426E-BBE2-CD71759E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086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32EB-1DD8-48A5-8246-F4092536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F68E-23CB-4E6F-9505-308028D3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6D6-2C7A-4E47-8626-3C2A9F57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34440" y="360360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3205-17D4-4C53-8298-B13C29AF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5029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C8AF-F637-4A76-8EA4-6A342A67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5029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03600"/>
            <a:ext cx="5029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2709-85EB-41B1-897D-52779FC5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034440" y="360360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7CDD-68D4-4FDC-9795-85C10CA6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57840" y="129492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58480" y="129492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0360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57840" y="360360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858480" y="3603600"/>
            <a:ext cx="16192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D5FC-1CE0-4570-A809-BD7DA20D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1FD-F3CC-4036-8410-B161DA7D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02D-3FFF-41E8-BE41-92E1103A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214-B730-437F-808E-80DDBCBB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086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B70-6D8E-4795-B50B-6E49C283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F81-5928-4777-8B26-8D333287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34440" y="360360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5B7-7E77-47EA-8F21-F627C1AA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034440" y="1294920"/>
            <a:ext cx="2454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03600"/>
            <a:ext cx="5029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1BD-94E1-4B73-897C-2AC98084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55de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3D78-72BB-4C5A-A3CD-7F85AEF0A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5410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55de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CD28-EB80-4B8D-A5B4-0A7336B7A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eaeae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55de2"/>
                </a:solidFill>
                <a:latin typeface="Times New Roman"/>
                <a:ea typeface="宋体"/>
              </a:rPr>
              <a:t>运动类跑步</a:t>
            </a:r>
            <a:r>
              <a:rPr b="0" lang="zh-CN" sz="4000" spc="-1" strike="noStrike">
                <a:solidFill>
                  <a:srgbClr val="855de2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855de2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4648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Subtitle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55de2"/>
                </a:solidFill>
                <a:latin typeface="Times New Roman"/>
              </a:rPr>
              <a:t>YOUR TOPIC GOES HERE</a:t>
            </a: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55de2"/>
                </a:solidFill>
                <a:latin typeface="Times New Roman"/>
              </a:rPr>
              <a:t>YOUR TOPIC GOES HERE</a:t>
            </a: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467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RANSITIONAL PAGE</a:t>
            </a: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77336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55de2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FC9-EC6A-418E-B414-F82CE57ED6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Eurostile"/>
              </a:rPr>
              <a:t>Elements</a:t>
            </a:r>
            <a:endParaRPr b="0" lang="en-US" sz="4400" spc="-1" strike="noStrike">
              <a:solidFill>
                <a:srgbClr val="855de2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248520" y="4514760"/>
            <a:ext cx="2514600" cy="188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76720" y="2152800"/>
            <a:ext cx="2514600" cy="188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276720" y="4514760"/>
            <a:ext cx="2514600" cy="188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248520" y="2152800"/>
            <a:ext cx="2514600" cy="188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62120" y="2133720"/>
            <a:ext cx="1749240" cy="4343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22:19:0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40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