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911-9206-4CEF-956C-9FD2F0CC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F10-BFB4-43C0-BBB1-3B93967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C3A-A9FD-475D-986E-DA51155B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3848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0100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3848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0100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5AE-B0C2-433C-83ED-122551D3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919D-6B10-41B1-947F-D5CE3459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1E60-00AA-4061-ABF4-6B96431A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A78C-7654-47C4-A740-633B541D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FC3-AC07-4E9D-8C22-054DACEA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2935-5D41-4E50-BCC0-7349AFEF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2130120"/>
            <a:ext cx="3657600" cy="162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05B-A288-4356-B969-CBF0996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E193-7835-44C0-A6E8-02B7D42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51F-DFD6-4E32-85CC-1868D84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57AC-F3A4-485A-B5CE-19D741FF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BE00-E718-41DE-8CAE-FCC21F42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3F0B-79D5-441E-AA1C-3AA31E0E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C564-8A90-4113-805C-AD79D0F2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3848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0100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33848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60100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FF6C-1178-44BD-9763-E1CA9482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2CE-3E4A-4C0B-A529-24ACDF36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B66-9C0B-4210-B34D-FE0CF682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8B8-94C0-486D-B5A8-85E8A990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2130120"/>
            <a:ext cx="3657600" cy="162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588-4353-4831-951F-4E1E3717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53B-750A-4DF8-A059-787AE78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8F0-0862-4FFE-B1AA-DDFAE929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8D3-7DEF-463B-A8BD-B69D737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6E3-EC4D-4940-8A91-AB9451437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5A72-0387-4860-8655-78E90D29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PROBABLE</a:t>
            </a:r>
            <a:br>
              <a:rPr sz="4000"/>
            </a:b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OUTCOME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our Subtitle Goes He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12960" y="29718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F16-0A4E-4BE1-9985-4F18EE5C40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259092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TRANSITIONAL PAGE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22:03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